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952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4776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952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247760" y="1371600"/>
            <a:ext cx="7515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8864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2952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4776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8864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2952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47760" y="1371600"/>
            <a:ext cx="7515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47760" y="13716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1811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3951"/>
                </a:solidFill>
                <a:latin typeface="Arial"/>
              </a:defRPr>
            </a:lvl1pPr>
          </a:lstStyle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9. jaanuar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30532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Mihkel Servins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3816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47760" y="13716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2000. aastaga võrreldes vähenes töötuse määr 2006. aastal kõikides maakondades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116000" y="1989000"/>
          <a:ext cx="7632720" cy="41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89000"/>
                    <a:ext cx="763272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28440" y="838080"/>
            <a:ext cx="6953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Palgatöötaja kuukeskmine brutotulu, 2002–2006</a:t>
            </a:r>
            <a:r>
              <a:rPr b="1" lang="en-GB" sz="3200" spc="-1" strike="noStrike">
                <a:solidFill>
                  <a:srgbClr val="003951"/>
                </a:solidFill>
                <a:latin typeface="Arial"/>
                <a:ea typeface="Times New Roman"/>
              </a:rPr>
              <a:t>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8101080" cy="4284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72000" y="6270480"/>
            <a:ext cx="417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Allikas: Statistikaamet Maksu- ja Tolliameti andmete põhj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2571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Palgatöötaja kuukeskmine brutotulu Harju ja Ida-Viru maakonnas, 2002–2006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54240" y="1895400"/>
            <a:ext cx="659448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0" y="0"/>
            <a:ext cx="2362320" cy="6858000"/>
            <a:chOff x="0" y="0"/>
            <a:chExt cx="2362320" cy="6858000"/>
          </a:xfrm>
        </p:grpSpPr>
        <p:sp>
          <p:nvSpPr>
            <p:cNvPr id="105" name=""/>
            <p:cNvSpPr/>
            <p:nvPr/>
          </p:nvSpPr>
          <p:spPr>
            <a:xfrm>
              <a:off x="0" y="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66680" y="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47760" y="83808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Meeste kuukeskmine brutotulu omavalitsus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-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  <a:ea typeface="Times New Roman"/>
              </a:rPr>
              <a:t>üksustes, 2006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8147160" cy="52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0" y="129492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Analüütilised artiklid kogumikus:</a:t>
            </a:r>
            <a:br>
              <a:rPr sz="2200"/>
            </a:br>
            <a:endParaRPr b="1" lang="en-US" sz="2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76560" y="23623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Kohalike omavalitsuste investeeringud ja finants-võimekus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Mehed ja naised. Tööturg ja palk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Ettevõtluse demograafia Eesti piirkondades</a:t>
            </a:r>
            <a:br>
              <a:rPr sz="2000"/>
            </a:b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000" spc="-1" strike="noStrike">
                <a:solidFill>
                  <a:srgbClr val="003951"/>
                </a:solidFill>
                <a:latin typeface="Arial"/>
              </a:rPr>
              <a:t>Vanemaealiste ränne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3335400" cy="47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6920" y="907920"/>
            <a:ext cx="4881600" cy="13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Sotsiaalse sidususe piirkondlik areng – hõive ja brutotulu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26560" y="278136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Mihkel Servinski                          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Peaanalüütik                                   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Statistika levi osakond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Statistikaamet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86400" y="1341000"/>
            <a:ext cx="327672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Eesmärk: tutvustada kogumikku Linnad ja vallad arvudes. 2007. </a:t>
            </a:r>
            <a:r>
              <a:rPr b="1" i="1" lang="et-EE" sz="2400" spc="-1" strike="noStrike">
                <a:solidFill>
                  <a:srgbClr val="003951"/>
                </a:solidFill>
                <a:latin typeface="Arial"/>
              </a:rPr>
              <a:t>Cities and rural municipalities in figures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338940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142640" y="211104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7120" indent="-357120" algn="just">
              <a:lnSpc>
                <a:spcPct val="95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   </a:t>
            </a:r>
            <a:r>
              <a:rPr b="0" lang="fi-FI" sz="2000" spc="-1" strike="noStrike">
                <a:solidFill>
                  <a:srgbClr val="003951"/>
                </a:solidFill>
                <a:latin typeface="Arial"/>
              </a:rPr>
              <a:t>Kuigi sotsiaalse sidususe kontseptsioon on viimastel aastatel pälvinud suur tähelepanu nii uurijate kui poliitikute poolt, ei ole sotsiaalse sidususe kohta ühtset mõistet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7120" indent="0" algn="just">
              <a:lnSpc>
                <a:spcPct val="95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003951"/>
                </a:solidFill>
                <a:latin typeface="Arial"/>
              </a:rPr>
              <a:t> </a:t>
            </a:r>
            <a:br>
              <a:rPr sz="800"/>
            </a:br>
            <a:r>
              <a:rPr b="0" lang="fi-FI" sz="2000" spc="-1" strike="noStrike">
                <a:solidFill>
                  <a:srgbClr val="003951"/>
                </a:solidFill>
                <a:latin typeface="Arial"/>
              </a:rPr>
              <a:t>Euroopa Liidu kontekstis käsitletakse sotsiaalset sidusust kui mõistet, millega kirjeldatakse ebavõrdsuse määra ning sotsiaalsete suhete ja sidemete tugevus ühiskonnas. Sidususe saavutamiseks on kaks peamist eesmärki: esiteks, ühiskondliku kihistumise, ebavõrdsuse ja tõrjutuse vähendamine ja teiseks sotsiaalsete suhete, sidemete ja suhtlemise tugevdamine.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7120" indent="0" algn="just">
              <a:lnSpc>
                <a:spcPct val="95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marL="357120" indent="-357120" algn="just">
              <a:lnSpc>
                <a:spcPct val="105000"/>
              </a:lnSpc>
              <a:spcBef>
                <a:spcPts val="499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  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Sotsiaalne sidusus iseloomustab seda, kuivõrd hästi grupi liikmed omavahel läbi saavad ning üksteise seltsi naudivad.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marL="357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247400" y="1196640"/>
            <a:ext cx="6953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Sotsiaalne sidus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247760" y="1267920"/>
            <a:ext cx="7515360" cy="51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Sotsiaalsel sidususel on palju aspekte. Enamusel sotsiaalse sidususe aspektidel on piirkondlik mõõde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Töö olemasolu on tegur, mis mõjutab oluliselt sotsiaalset rahulolu ja selle kaudu sotsiaalset sidusus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Piisav sissetulek vähendab oluliselt sotsiaalse sidususe piirkondliku aspekti mõju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47760" y="13716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Sotsiaalse sidususe mõttes ideaalne tööturg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ga soovija peaks leidma endale töö ehk sotsiaalselt sidusas ühiskonnas ei tohiks olla töötuid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õik inimesed peaksid andma võimetekohase panuse ühiskonna arengusse, s.t sotsiaalselt sidusas ühiskonnas ei tohiks olla inimesi, kes elavad teiste kulul ega aita kaasa ühiskonna rikkuse tõstmisele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47760" y="13716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Aastast 2001 on sotsiaalne sidusus tööturul suurenenud</a:t>
            </a:r>
            <a:endParaRPr b="1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042920" y="1844640"/>
          <a:ext cx="7632720" cy="455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844640"/>
                    <a:ext cx="7632720" cy="45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47760" y="13716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Piirkondliku sotsiaalse sidususe muutumise hindamine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uidas igas maakonnas on olukord valitud mõõdikute järgi muutunud?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as maakondlikud erinevused on suurenenud või mitte?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Tööhõive määra alusel võib väita, et maakondade sotsiaalne sidusus on suurenenud v.a Saare maakond, kus olukord on püsinud suhteliselt stabiil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Maakondade tööhõive määra erinevused on aga kasvanud maakondade vaheline sidusus seega vähenen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1T10:30:13Z</dcterms:created>
  <dc:creator>uku</dc:creator>
  <dc:description/>
  <dc:language>en-US</dc:language>
  <cp:lastModifiedBy>indrekka</cp:lastModifiedBy>
  <cp:lastPrinted>2001-03-09T09:19:09Z</cp:lastPrinted>
  <dcterms:modified xsi:type="dcterms:W3CDTF">2008-01-10T12:04:30Z</dcterms:modified>
  <cp:revision>75</cp:revision>
  <dc:subject/>
  <dc:title>PowerPoint Presentation</dc:title>
</cp:coreProperties>
</file>