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9.0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trendid 4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Sotsiaalne sidusus Eestis ja Euroopa Liid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92428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Rahvastiku- ja sotsiaalstatistika osakonna juhataj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7760" y="18558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Kuidas kavatsetakse Euroopa Liidus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otsiaalset 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sidusust tõsta?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6175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601"/>
              </a:spcBef>
              <a:spcAft>
                <a:spcPts val="1199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dada vaesust ja sotsiaalset tõrjutu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spcAft>
                <a:spcPts val="1199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gada jätkusuutlikud pension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spcAft>
                <a:spcPts val="1199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gada kättesaadav, kvaliteetne ja jätkusuutlik tervishoid ning pikaajaline hoold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19" name="Rectangle 3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121" name="Picture 5" descr="log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1773360"/>
            <a:ext cx="78631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Sotsiaalkaitsekulutuste osatähtsus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KP-s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 jooksevhindades, 2000–2005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23" name="Picture 10" descr="5"/>
          <p:cNvPicPr/>
          <p:nvPr/>
        </p:nvPicPr>
        <p:blipFill>
          <a:blip r:embed="rId2"/>
          <a:stretch/>
        </p:blipFill>
        <p:spPr>
          <a:xfrm>
            <a:off x="1252440" y="2217600"/>
            <a:ext cx="61992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Riigid, kus sotsiaalkaitsekulutuste osatähtsus SKP-s on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25905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Alla 15 protsendi</a:t>
            </a:r>
            <a:br>
              <a:rPr sz="2000"/>
            </a:br>
            <a:r>
              <a:rPr b="1" lang="et-EE" sz="2000" spc="-1" strike="noStrike">
                <a:solidFill>
                  <a:srgbClr val="b22f16"/>
                </a:solidFill>
                <a:latin typeface="Arial"/>
              </a:rPr>
              <a:t>Eesti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Läti, Leedu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15–19 protsenti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iri, Küpros, Malta, T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š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hhi, Slovakk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20–24 protsent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spaania, Luksemburg, Ungari, Poola, Portugal, Slovee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25 ja enam protsenti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ksamaa, Prantsusmaa, Itaalia, Holland, Austria, Soome, Rootsi, Suurbritan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776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nsionikulutuste osatähtsus SKP-s jooksevhindades, 2000–2005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29" name="Picture 5" descr="1"/>
          <p:cNvPicPr/>
          <p:nvPr/>
        </p:nvPicPr>
        <p:blipFill>
          <a:blip r:embed="rId1"/>
          <a:stretch/>
        </p:blipFill>
        <p:spPr>
          <a:xfrm>
            <a:off x="1187280" y="2421000"/>
            <a:ext cx="61614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70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otsiaalkaitsekulutuste struktuur, 2004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2" name="Picture 7" descr="5"/>
          <p:cNvPicPr/>
          <p:nvPr/>
        </p:nvPicPr>
        <p:blipFill>
          <a:blip r:embed="rId1"/>
          <a:stretch/>
        </p:blipFill>
        <p:spPr>
          <a:xfrm>
            <a:off x="971640" y="2205000"/>
            <a:ext cx="8008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87393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otsiaalkaitsekulutuste struktuuris kulutused perekonnale ja lastele, 2000–2005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5" name="Picture 9" descr="6"/>
          <p:cNvPicPr/>
          <p:nvPr/>
        </p:nvPicPr>
        <p:blipFill>
          <a:blip r:embed="rId1"/>
          <a:stretch/>
        </p:blipFill>
        <p:spPr>
          <a:xfrm>
            <a:off x="1187280" y="2349360"/>
            <a:ext cx="61614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550"/>
              </a:spcBef>
              <a:spcAft>
                <a:spcPts val="964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esti on suutnud sotsiaalset sidusust parandada tööhõive kaudu. Pikaajalise töötuse, mitte-töötavate leibkondade ja 0–17-aastaste lastega mitte-töötavate leibkondade osatähtsus on vähenenud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spcBef>
                <a:spcPts val="550"/>
              </a:spcBef>
              <a:spcAft>
                <a:spcPts val="964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estis on sotsiaalkaitsekulutused sotsiaalse sidususe toetamiseks suhteliselt väikesed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3600" indent="0">
              <a:spcBef>
                <a:spcPts val="55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3) Eesti väärtustab perekonda ja lapsi ning sidustab ühiskonda jätkusuutlikkuse kaudu. Sotsiaalkaitsekulutuste struktuurist hõlmavad kulutused perekonnale ja lastele tähelepanuväärse osa, mida on suudetud paaril viimasel aastal säilitada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7400" y="1371600"/>
            <a:ext cx="764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Mis on sotsiaalne sidusus?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on käsitlenud sotsiaalset sidusust iga ühiskonnaliikme panuse ehk kaasatuse kaudu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hiskonna võimekus saavutatakse iga liikme heaoluga, minimeerides erinevusi ja suurendades ühtlustami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dus ühiskond on vastastikku toetav demokraatlik kogukond, kellel on ühised eesmärgi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71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Kuidas mõõdetakse sotsiaalset sidusust?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dalaima (I kvintiil) ja kõrgeima (V kvintiil) sissetulekukvintiili suh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ne ja pärast siirdeid allpool vaesuspiiri elava rahvastiku osatähts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üsivaesuse osatähts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anike osatähtsus mitte-töötavates leibkonda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dala haridustaseme osatähtsus (18–24-aastased noored, kes ei õpi ja kellel on põhi- või sellest madalam hari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ikaajalise töötuse osatähts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Siirete mõju vaesusest väljumiseks, 2000–2006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0" name="Picture 7" descr="1"/>
          <p:cNvPicPr/>
          <p:nvPr/>
        </p:nvPicPr>
        <p:blipFill>
          <a:blip r:embed="rId1"/>
          <a:stretch/>
        </p:blipFill>
        <p:spPr>
          <a:xfrm>
            <a:off x="1258920" y="2349360"/>
            <a:ext cx="616104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7400" y="1371600"/>
            <a:ext cx="764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3951"/>
                </a:solidFill>
                <a:latin typeface="Arial"/>
              </a:rPr>
              <a:t>Riigid, kus siirded aitavad vaesusest välja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Alla 6 protsendipunkti elanikkonnast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taalia, Leedu, Kreeka, Hispaa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6–9 protsendipunkti elanikkonnast</a:t>
            </a:r>
            <a:br>
              <a:rPr sz="2000"/>
            </a:br>
            <a:r>
              <a:rPr b="1" lang="et-EE" sz="2000" spc="-1" strike="noStrike">
                <a:solidFill>
                  <a:srgbClr val="b22f16"/>
                </a:solidFill>
                <a:latin typeface="Arial"/>
              </a:rPr>
              <a:t>Eesti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, Küpros, Läti, Malta, Poola, Portuga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lovakk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10–15 protsendipunkti elanikkonnast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uksemburg, T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š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hhi, Saksamaa, Iiri,  Prantsusmaa, Holland, Austria, Sloveenia, Suurbritan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16 ja enam protsendipunkti elanikkonnast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Ungari, Soome, Root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777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Madala haridustaseme osatähtsus </a:t>
            </a:r>
            <a:br>
              <a:rPr sz="3000"/>
            </a:b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18–24-aastaste hulgas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, 2000–2006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6" name="Picture 6" descr="2"/>
          <p:cNvPicPr/>
          <p:nvPr/>
        </p:nvPicPr>
        <p:blipFill>
          <a:blip r:embed="rId1"/>
          <a:stretch/>
        </p:blipFill>
        <p:spPr>
          <a:xfrm>
            <a:off x="1187280" y="2133720"/>
            <a:ext cx="61992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4842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Riigid, kus madala haridustaseme osatähtsus 18–24-aastaste hulgas on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349000"/>
            <a:ext cx="751536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Alla 10 protsendi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š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hhi, Austria, Poola, Sloveenia, Slovakkia, Soom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10–14 protsenti</a:t>
            </a:r>
            <a:br>
              <a:rPr sz="2000"/>
            </a:br>
            <a:r>
              <a:rPr b="1" lang="et-EE" sz="2000" spc="-1" strike="noStrike">
                <a:solidFill>
                  <a:srgbClr val="b22f16"/>
                </a:solidFill>
                <a:latin typeface="Arial"/>
              </a:rPr>
              <a:t>Eesti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, Belgia, Taani, Saksamaa, Iiri, Prantsusmaa, Küpros, Leedu, Ungari, Holland, Rootsi, Suurbritan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15–19 protsent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ti, Kreeka, Luksembur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20 ja enam protsent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ortugal, Malta, Hispaania, Itaal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02" name="Rectangle 5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104" name="Picture 7" descr="log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341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0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17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aastaste lastega mitte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töötavate leibkondade osatähtsus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, 2000–2006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6" name="Picture 10" descr="3"/>
          <p:cNvPicPr/>
          <p:nvPr/>
        </p:nvPicPr>
        <p:blipFill>
          <a:blip r:embed="rId2"/>
          <a:stretch/>
        </p:blipFill>
        <p:spPr>
          <a:xfrm>
            <a:off x="1187280" y="2279520"/>
            <a:ext cx="61898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9.01.2008</a:t>
            </a:r>
            <a:endParaRPr b="0" i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09" name="Rectangle 3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111" name="Picture 5" descr="log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993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gid, kus 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0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17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fi-FI" sz="3000" spc="-1" strike="noStrike">
                <a:solidFill>
                  <a:srgbClr val="003951"/>
                </a:solidFill>
                <a:latin typeface="Arial"/>
              </a:rPr>
              <a:t>aastaste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lastega </a:t>
            </a:r>
            <a:br>
              <a:rPr sz="3000"/>
            </a:b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mitte-töötavate leibkondade osatähtsus on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831708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Alla 5 protse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reeka, Küpros, Luksemburg, Sloveenia, Soome, Portuga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5–6 protsent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ani, Hispaania, Itaalia, Leedu, Hollan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7–8 protsent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b22f16"/>
                </a:solidFill>
                <a:latin typeface="Arial"/>
              </a:rPr>
              <a:t>Eesti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š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hhi, Läti, Malta, Austri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9 ja enam protsent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ksamaa, Iiri, Prantsusmaa, Ungari, Poola, Slovakkia,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uurbritanni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user</cp:lastModifiedBy>
  <cp:lastPrinted>2001-03-09T09:19:09Z</cp:lastPrinted>
  <dcterms:modified xsi:type="dcterms:W3CDTF">2008-01-10T08:39:37Z</dcterms:modified>
  <cp:revision>160</cp:revision>
  <dc:subject/>
  <dc:title>PowerPoint Presentation</dc:title>
</cp:coreProperties>
</file>