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BCBC60-7C1E-47BF-B118-A7A269703401}"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43120" y="762120"/>
            <a:ext cx="4983120" cy="3736800"/>
          </a:xfrm>
          <a:prstGeom prst="rect">
            <a:avLst/>
          </a:prstGeom>
          <a:ln w="0">
            <a:noFill/>
          </a:ln>
        </p:spPr>
      </p:sp>
      <p:sp>
        <p:nvSpPr>
          <p:cNvPr id="145" name="PlaceHolder 2"/>
          <p:cNvSpPr>
            <a:spLocks noGrp="1"/>
          </p:cNvSpPr>
          <p:nvPr>
            <p:ph type="body"/>
          </p:nvPr>
        </p:nvSpPr>
        <p:spPr>
          <a:xfrm>
            <a:off x="899640" y="4729320"/>
            <a:ext cx="4869000" cy="5088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ülastatavusstatistika kajastab hästi külastuste koguarvu, kuid ei erista korduvkülastusi, samuti ei näita see turistide osatähtsust. Küsitlusstatistika annab paremini aimu sellest, kui suur osa elanikkonnast ja kui tihti kultuuriüritustel käib. 2006. aasta sotsiaaluuringu järgi külastas viimase 12 kuu jooksul mõnd kultuuriasutust või -üritust 60% ja spordivõistlusi </a:t>
            </a:r>
            <a:br>
              <a:rPr sz="1200"/>
            </a:br>
            <a:r>
              <a:rPr b="0" lang="et-EE" sz="1200" spc="-1" strike="noStrike">
                <a:solidFill>
                  <a:srgbClr val="000000"/>
                </a:solidFill>
                <a:latin typeface="Arial"/>
              </a:rPr>
              <a:t>25% vähemalt 16-aastastest (joonis 2). Sagedasi külastajaid (vähemalt kord kvartalis) oli tunduvalt vähem — raamatukogusid külastanuid 30%, teatris ja kontserdil käinuid viiendik, kinos, muuseumites ja spordivõistlustel viibinuid veel poole vähem. Tõeliselt mitmekülgne kultuurielus osaleja (käis aasta jooksul nii kinos, raamatukogus, teatris/kontserdil kui ka muuseumis/näitusel) oli vaid iga viieteistküm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lased on suhteliselt kõrgetele piletihindadele vaatamata ühed aktiivsemad kultuuriasutuste külastajad Euroopas, torkab joonisel 2 siiski silma aasta jooksul mitte kordagi kultuuriüritustel käinute suur osatähtsus. Kaks kolmandikku elanikkonnast </a:t>
            </a:r>
            <a:br>
              <a:rPr sz="1200"/>
            </a:br>
            <a:r>
              <a:rPr b="0" lang="et-EE" sz="1200" spc="-1" strike="noStrike">
                <a:solidFill>
                  <a:srgbClr val="000000"/>
                </a:solidFill>
                <a:latin typeface="Arial"/>
              </a:rPr>
              <a:t>ei külastanud aasta jooksul kordagi kino, muuseumit, raamatukogu või näitust, ligi pool ei käinud ühelgi teatrietendusel või kontserd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i elanikud on üsna aktiivsed kultuurielus kaasalööjad, olid sotsiaal-demograafilised erinevused üpris suured. Eriti terav oli lõhe kultuuriteenustele ligipääsus 1990ndate algul (Järve 1999), kuid eestlaste ja mitte-eestlaste, jõukamate ja vaesemate, linna- ja maaelanike erinevused on siiani märgatava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43120" y="762120"/>
            <a:ext cx="4983120" cy="3736800"/>
          </a:xfrm>
          <a:prstGeom prst="rect">
            <a:avLst/>
          </a:prstGeom>
          <a:ln w="0">
            <a:noFill/>
          </a:ln>
        </p:spPr>
      </p:sp>
      <p:sp>
        <p:nvSpPr>
          <p:cNvPr id="147" name="PlaceHolder 2"/>
          <p:cNvSpPr>
            <a:spLocks noGrp="1"/>
          </p:cNvSpPr>
          <p:nvPr>
            <p:ph type="body"/>
          </p:nvPr>
        </p:nvSpPr>
        <p:spPr>
          <a:xfrm>
            <a:off x="899640" y="4729320"/>
            <a:ext cx="4869000" cy="4100400"/>
          </a:xfrm>
          <a:prstGeom prst="rect">
            <a:avLst/>
          </a:prstGeom>
          <a:noFill/>
          <a:ln w="0">
            <a:noFill/>
          </a:ln>
        </p:spPr>
        <p:txBody>
          <a:bodyPr lIns="45648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2006. aasta sotsiaaluuringu järgi käis viimase 12 kuu jooksul kultuuriasutuses või </a:t>
            </a:r>
            <a:br>
              <a:rPr sz="1000"/>
            </a:br>
            <a:r>
              <a:rPr b="0" lang="et-EE" sz="1000" spc="-1" strike="noStrike">
                <a:solidFill>
                  <a:srgbClr val="000000"/>
                </a:solidFill>
                <a:latin typeface="Arial"/>
              </a:rPr>
              <a:t>-üritusel kaks kolmandikku eestlastest, kuid vaid pool mitte-eestlastest. Joonisel ilmneb, et eestlased osalesid kultuurielus aktiivsemalt ka kõigi kultuuriliikide järgi. Mitte-eestlaste seas oli viimase 12 kuu jooksul vähemalt korra teatris, kontserdil, muuseumis, näitusel või kinos käinuid umbes veerandi võrra vähem kui eestlasi — spordivõistlustel käinute puhul oli vahe veelgi suur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Mitte-eestlaste väiksem osavõtt kultuuriüritustest oli suuresti seotud venekeelsele elanikkonnale suunatud kultuuriteenuste väiksema kättesaadavusega (ka 2004. aasta uuringus väitsid mitte-eestlased mitme kultuuriliigi puhul eestlastest sagedamini, et vastavates asutustes pakutav ei meeldi neile). Üheteistkümnest riigi- ja linnateatrist on vene publikule suunatud vaid Vene Teater Tallinnas, peale selle toetab riik regulaarselt veel kolme Ida-Virumaa teatristuudiot, kuid nende publikunumbrid on riigiteatritest mitu korda väiksemad (Eesti … 2007). Kinoteenuste puhul koheldakse eesti- ja venekeelset elanikkonda üsna võrdselt, sest Eestis on tavaks panna filmidele kakskeelsed subtiitrid. Vene keeles kõnelejad on aga rohkem harjunud filmidele pealelugemisega — neil ei ole eestlastele omast subtiitrite lugemise kommet. Siiski võib arvata, et muulaste kinoskäimise aktiivsust suurendab kobarkino avamine 2006. aastal Narv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Kuigi uuringud viitavad mitte-eestlaste suhteliselt suurele lugemishuvile, on raamatukogude raamatuvalik suunatud rohkem eestikeelsele elanikkonnale. Samal ajal on venekeelsed raamatud tänu suurele idaturule sageli odavamad ja nende valik üsna suur (Lõhmus, Lauristin, Salupere 2004; Kultuuritarbimise … 2006).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43120" y="762120"/>
            <a:ext cx="4983120" cy="3736800"/>
          </a:xfrm>
          <a:prstGeom prst="rect">
            <a:avLst/>
          </a:prstGeom>
          <a:ln w="0">
            <a:noFill/>
          </a:ln>
        </p:spPr>
      </p:sp>
      <p:sp>
        <p:nvSpPr>
          <p:cNvPr id="149" name="PlaceHolder 2"/>
          <p:cNvSpPr>
            <a:spLocks noGrp="1"/>
          </p:cNvSpPr>
          <p:nvPr>
            <p:ph type="body"/>
          </p:nvPr>
        </p:nvSpPr>
        <p:spPr>
          <a:xfrm>
            <a:off x="899640" y="4729320"/>
            <a:ext cx="4869000" cy="13809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te-eestlaste seas oli 2004. aasta uuringu järgi väiksem ka nende osatähtsus, kes ise mõnd kultuuriala harrastavad (või olid kunagi harrastanud). Laulmise puhul oli vahe koguni kahekordne (eestlastest tegeles või oli sellega tegelenud viiendik, mitte-eestlastest kümnendik), üllatavalt ilmnes sama suur erinevus ka tantsimises.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43120" y="762120"/>
            <a:ext cx="4983120" cy="3736800"/>
          </a:xfrm>
          <a:prstGeom prst="rect">
            <a:avLst/>
          </a:prstGeom>
          <a:ln w="0">
            <a:noFill/>
          </a:ln>
        </p:spPr>
      </p:sp>
      <p:sp>
        <p:nvSpPr>
          <p:cNvPr id="151" name="PlaceHolder 2"/>
          <p:cNvSpPr>
            <a:spLocks noGrp="1"/>
          </p:cNvSpPr>
          <p:nvPr>
            <p:ph type="body"/>
          </p:nvPr>
        </p:nvSpPr>
        <p:spPr>
          <a:xfrm>
            <a:off x="899640" y="4728960"/>
            <a:ext cx="4869000" cy="45410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Aktiivne kultuurielu on seotud linnaliku eluviisiga, sest enamik kultuuriinstitutsioone on koondunud linnadesse, kultuuriüritusi toimub seal rohkem ja külastamine on mugavam. Tallinnas asub pidevalt tegutsevast 12 kinost neli ja 2006. aastal hõlmasid need </a:t>
            </a:r>
            <a:br>
              <a:rPr sz="1200"/>
            </a:br>
            <a:r>
              <a:rPr b="0" lang="et-EE" sz="1200" spc="-1" strike="noStrike">
                <a:solidFill>
                  <a:srgbClr val="000000"/>
                </a:solidFill>
                <a:latin typeface="Arial"/>
              </a:rPr>
              <a:t>neli viiendikku kõigist kinokülastustest (</a:t>
            </a:r>
            <a:r>
              <a:rPr b="0" i="1" lang="et-EE" sz="1200" spc="-1" strike="noStrike">
                <a:solidFill>
                  <a:srgbClr val="000000"/>
                </a:solidFill>
                <a:latin typeface="Arial"/>
              </a:rPr>
              <a:t>Facts … 2007</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eatrivõrgustik on veelgi Tallinna-kesksem — 11 riigi- ja linnateatrist asub seal koguni kuus. Kui 1990ndate lõpus tõusis külalisetenduste, st väljaspool statsionaari antud etenduste osatähtsus, jõudes aastatuhande algul 30%-ni, siis viimastel aastatel tegid riigiteatrid neid jälle vähem. 2005. aastal andsid riigi- ja linnateatrid väljaspool teatrilinnu (Tallinn, Tartu, Pärnu, Viljandi, Rakvere, Kuressaare) vaid iga üheksanda etenduse (Eesti …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st on regionaalselt paremini esindatud muuseumid ja raamatukogud. Kui muuseume tekkis valdades (enamasti eraalgatusel) pigem juurde, siis raamatukogude arv vähenes 1995.–2006. aastal maapiirkondades 26 võrra. Raamatukoguvõrgu ümber­korraldamine oli paljuski möödapääsmatu protsess, mis oli seotud elanikkonna vähenemise ja raamatukogude tehniliste nõuete suurenemisega. Maaelanikkond vähenes nii kiiresti, et vaatamata raamatukogude sulgemisele kahanes elanike arv raamatukogu kohta enamikus maakondades ikkag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43120" y="762120"/>
            <a:ext cx="4983120" cy="3736800"/>
          </a:xfrm>
          <a:prstGeom prst="rect">
            <a:avLst/>
          </a:prstGeom>
          <a:ln w="0">
            <a:noFill/>
          </a:ln>
        </p:spPr>
      </p:sp>
      <p:sp>
        <p:nvSpPr>
          <p:cNvPr id="153" name="PlaceHolder 2"/>
          <p:cNvSpPr>
            <a:spLocks noGrp="1"/>
          </p:cNvSpPr>
          <p:nvPr>
            <p:ph type="body"/>
          </p:nvPr>
        </p:nvSpPr>
        <p:spPr>
          <a:xfrm>
            <a:off x="899640" y="4728960"/>
            <a:ext cx="4869000" cy="36284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ebavõrdne regionaalne jaotus kajastub ka külastajanumbrites (joonis 4). Viimase aasta jooksul oli vähemalt korra kinos käinud 32% linlastest ja 23% maaelanikest. Samalaadne vahe avaldus ka teatri, kontsertide, muuseumite ja näituste külastamises. Vaid raamatukogus ja spordivõistlusel käis maaelanikest linnarahvaga võrreldes isegi suurem osa. Raamatukogude roll on maal sageli oluliselt suurem, sest nad kannavad ka kohtumiskoha, Interneti-punkti ja kultuuriasutuse funktsi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uuringus nimetasid maaelanikud peamise kultuuriüritustel käimist pärssiva põhjusena kultuuriasutuste kaugust elukohast. Et nad peavad üritustel osalemise nimel sageli kodust üsna kaugele sõitma, on tagajärjeks suurem aja- ja rahakulu, samuti transpordiproblee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harrastuses maaelanikud linlastele alla ei jää — laulu ja tantsu harrastajaid (harrastanuid) oli nende seas isegi kolmandiku võrra rohkem. Osaliselt aitavad kultuuriharrastused kindlasti kompenseerida ahtamaid teatri-, kino- ja kontserdivõimalusi.</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43120" y="762120"/>
            <a:ext cx="4983120" cy="3736800"/>
          </a:xfrm>
          <a:prstGeom prst="rect">
            <a:avLst/>
          </a:prstGeom>
          <a:ln w="0">
            <a:noFill/>
          </a:ln>
        </p:spPr>
      </p:sp>
      <p:sp>
        <p:nvSpPr>
          <p:cNvPr id="155" name="PlaceHolder 2"/>
          <p:cNvSpPr>
            <a:spLocks noGrp="1"/>
          </p:cNvSpPr>
          <p:nvPr>
            <p:ph type="body"/>
          </p:nvPr>
        </p:nvSpPr>
        <p:spPr>
          <a:xfrm>
            <a:off x="899640" y="4728960"/>
            <a:ext cx="4869000" cy="3206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l osalemise võimalused on olulisel määral seotud sissetulekuga. Kultuuri peale saavad vabamalt kulutada suurema sissetulekuga pered (Kreitzberg 2005). 2005. aasta leibkonna eelarve uuringu järgi erinesid jõukaimasse ja vaeseimasse tulukvintiili kuulunute keskmised kulutused vabale ajale rohkem kui viis korda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tööjõu-uuringust selgus ootuspäraselt, et jõukamates elanikkonnagruppides oli kultuuri­üritustel ja -asutustes käinuid rohkem, samuti oli tegemist üldiselt aktiivsemate kultuuri­harrastajatega. Joonisel võrreldakse kultuuriüritusi külastanute jõukaimat ja vaeseimat sissetulekugruppi — erinevus ilmnes kõigi kultuuriliikide puhul (suurim vahe oli kinoskäimise, väikseim raamatukogukülastuste puhul). Suur muuseumikülastuste erinevus näitab, et jõukamate ja vaesemate kultuuriline aktiivsus ei sõltu siiski ainult rahalistest võimalustest, sest muuseumite külastamine ei nõua üldiselt suuri väljaminekui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43120" y="762120"/>
            <a:ext cx="4983120" cy="3736800"/>
          </a:xfrm>
          <a:prstGeom prst="rect">
            <a:avLst/>
          </a:prstGeom>
          <a:ln w="0">
            <a:noFill/>
          </a:ln>
        </p:spPr>
      </p:sp>
      <p:sp>
        <p:nvSpPr>
          <p:cNvPr id="157" name="PlaceHolder 2"/>
          <p:cNvSpPr>
            <a:spLocks noGrp="1"/>
          </p:cNvSpPr>
          <p:nvPr>
            <p:ph type="body"/>
          </p:nvPr>
        </p:nvSpPr>
        <p:spPr>
          <a:xfrm>
            <a:off x="899640" y="4729320"/>
            <a:ext cx="4869000" cy="2784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liikmete kaasatus kultuuriellu soodustab sotsiaalset sidusust, see loob ja tugevdab ühiseid väärtusi, pakub võimalusi osalemiseks ja eneseteostuseks, tugevdab sotsiaalsed sidemed. Seetõttu on ka riik huvitatud inimeste aktiivsest kaasamisest kultuuriellu, kuid elanikkonna gruppides on kultuuriline aktiivsus üpris erinev. Paljuski on see tingitud kultuuriteenuste ebavõrdsest kättesaadavusest. 1990ndate alguses äärmiselt tugev olnud polariseerumine on ühiskonnagruppide puhul senini alles. Vaatamata jõukuse suurenemisele ei ole kultuuriteenused üldiselt kättesaadavamaks muutunud, maa–piirkondades on aga nende taset väheneva elanikkonna tõttu üha kallim hoida. Samal ajal näitavad hiljuti pinnale kerkinud rahvuspinged elanikkonnagruppide ühisesse väärtusteruumi kaasamise suurt vajadu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43120" y="762120"/>
            <a:ext cx="4983120" cy="3736800"/>
          </a:xfrm>
          <a:prstGeom prst="rect">
            <a:avLst/>
          </a:prstGeom>
          <a:ln w="0">
            <a:noFill/>
          </a:ln>
        </p:spPr>
      </p:sp>
      <p:sp>
        <p:nvSpPr>
          <p:cNvPr id="129" name="PlaceHolder 2"/>
          <p:cNvSpPr>
            <a:spLocks noGrp="1"/>
          </p:cNvSpPr>
          <p:nvPr>
            <p:ph type="body"/>
          </p:nvPr>
        </p:nvSpPr>
        <p:spPr>
          <a:xfrm>
            <a:off x="899640" y="4729320"/>
            <a:ext cx="4869000" cy="399348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 sidusust uuritakse sageli tööhõive kaudu. Samal ajal hõlmab täisväärtuslik elu ka kõiki tegevusi ja suhteid väljaspool tööd — pereelu, kultuurielus ja mitteformaalsetes võrgustikes osalem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uroopa Nõukogu definitsiooni järgi on sotsiaalne sidusus ühiskonna võime tagada kõigi liikmete heaolu (</a:t>
            </a:r>
            <a:r>
              <a:rPr b="0" i="1" lang="et-EE" sz="1200" spc="-1" strike="noStrike">
                <a:solidFill>
                  <a:srgbClr val="000000"/>
                </a:solidFill>
                <a:latin typeface="Arial"/>
              </a:rPr>
              <a:t>Concerted… 2005: 9</a:t>
            </a:r>
            <a:r>
              <a:rPr b="0" lang="et-EE" sz="1200" spc="-1" strike="noStrike">
                <a:solidFill>
                  <a:srgbClr val="000000"/>
                </a:solidFill>
                <a:latin typeface="Arial"/>
              </a:rPr>
              <a:t>). See põhineb inimeste heaolu edendavatel ühiskonnasidemetel ja sellega seonduvad järgmised mõisted: võrdne ligipääs, inimväärikuse austamine, autonoomia, vastutustundlik osalemine, isiklik areng, suhted, kuuluvustunne ja ühised väärtused. Sotsiaalne sidusus on nagu puu, mille juured on suhted, usaldus, väärtused, tunded, teadmised, st sotsiaalne ja kultuuriline kapital (</a:t>
            </a:r>
            <a:r>
              <a:rPr b="0" i="1" lang="et-EE" sz="1200" spc="-1" strike="noStrike">
                <a:solidFill>
                  <a:srgbClr val="000000"/>
                </a:solidFill>
                <a:latin typeface="Arial"/>
              </a:rPr>
              <a:t>Concerted… 2005: 43</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 on ühiste väärtuste looja ja hoidja — seega suurendavad kultuuri- ja sporditegevused seotust ühiskonna väärtuste ja hoiakutega. Need on sageli sotsiaalsed tegevused, mis aitavad vältida isolatsiooni ja tugevdada sotsiaalset võrgustikku. Kultuuriline eneseväljendus ja tegevus mängivad ka suurt rolli isiksuse arengus. Kokkuvõttes võib öelda, et ühiskonnaliikmete kultuuriline kapital mõjutab oluliselt ühiskonna stabiilsust ja sidusus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43120" y="762120"/>
            <a:ext cx="4983120" cy="3736800"/>
          </a:xfrm>
          <a:prstGeom prst="rect">
            <a:avLst/>
          </a:prstGeom>
          <a:ln w="0">
            <a:noFill/>
          </a:ln>
        </p:spPr>
      </p:sp>
      <p:sp>
        <p:nvSpPr>
          <p:cNvPr id="131" name="PlaceHolder 2"/>
          <p:cNvSpPr>
            <a:spLocks noGrp="1"/>
          </p:cNvSpPr>
          <p:nvPr>
            <p:ph type="body"/>
          </p:nvPr>
        </p:nvSpPr>
        <p:spPr>
          <a:xfrm>
            <a:off x="899640" y="4729320"/>
            <a:ext cx="4869000" cy="496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ärgnevalt käsitletakse kultuuri ja spordi rolli ühiskonna sidususe soodustajana nii teenuste kättesaadavuse kui ka ühiskonnagruppide kultuurielus osalemise aktiivsuse kaudu. </a:t>
            </a:r>
            <a:r>
              <a:rPr b="0" lang="fi-FI" sz="1200" spc="-1" strike="noStrike">
                <a:solidFill>
                  <a:srgbClr val="000000"/>
                </a:solidFill>
                <a:latin typeface="Arial"/>
              </a:rPr>
              <a:t>Kättesaadavust kirjeldatakse kultuuriteenuste pakkumise abil, nõudlust kajastab kultuurielus osalemise määr. </a:t>
            </a:r>
            <a:r>
              <a:rPr b="0" lang="et-EE" sz="1200" spc="-1" strike="noStrike">
                <a:solidFill>
                  <a:srgbClr val="000000"/>
                </a:solidFill>
                <a:latin typeface="Arial"/>
              </a:rPr>
              <a:t>(</a:t>
            </a:r>
            <a:r>
              <a:rPr b="0" lang="fi-FI" sz="1200" spc="-1" strike="noStrike">
                <a:solidFill>
                  <a:srgbClr val="000000"/>
                </a:solidFill>
                <a:latin typeface="Arial"/>
              </a:rPr>
              <a:t>Samuti on vaadeldud ühiskonnaelus osalemist kultuuriühendustesse kuulumise järgi.</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s osalemise eeltingimus on selle mitmekesisus ja hästitoimivus ühiskonnas ehk kultuurikaupade ja -teenuste piisav pakku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biilsuse tagamisel on tähtis kaasata kõiki elanikke. Ühiskonnaelus osalemise mõttes kipuvad halvemas olukorras olema teatud elanikkonnagrupid, nagu ääremaade elanikud, mitte-eestlased, vaesed ja lastega 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pakkumist vaadeldes peab arvestama, et kultuuris ja spordis ei taga turumajandus vastavate teenuste-kaupade piisavat kättesaadavust kõigis ühiskonnagruppides — seetõttu toetab seda riik. Et kodanike osalemine kultuurielus on ühiskonnale kasulik, soosib riik kultuuri puhul nii pakkumist (nt käibemaksusoodustus) kui ka osalemist (nt riiklikult plaanitavad kooliõpilaste ekskursioonid Peterburi ja Pariisi). Pakkumine ja nõudlus ei ole otseselt seotud, sest kultuuritegevused kuuluvad elustiili valdkonda ja vabas ühiskonnas on igal indiviidil õigus see ise valida. Piltlikult öeldes ei astuks suur hulk inimesi iialgi näitusesaali isegi siis, kui see asuks nende koduteel ja piletiraha ei küsi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43120" y="762120"/>
            <a:ext cx="4983120" cy="3736800"/>
          </a:xfrm>
          <a:prstGeom prst="rect">
            <a:avLst/>
          </a:prstGeom>
          <a:ln w="0">
            <a:noFill/>
          </a:ln>
        </p:spPr>
      </p:sp>
      <p:sp>
        <p:nvSpPr>
          <p:cNvPr id="133"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 ja -teenuste kättesaadavuse ajatrendide väljatoomiseks on kasutatud riiklikku statistikat. Kultuurielus osalemise aktiivsust vaadeldakse Eesti tööjõu-uuringu (2004) ja sotsiaaluuringu (2006) kultuuriteemaliste lisamoodulite andmete põhjal. Tööjõu-uuringu valim katab tööealist elanikkonda (15–74-aastased), sotsiaaluuringus osalesid vähemalt 16-aastased Eesti elanik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43120" y="762120"/>
            <a:ext cx="4983120" cy="3736800"/>
          </a:xfrm>
          <a:prstGeom prst="rect">
            <a:avLst/>
          </a:prstGeom>
          <a:ln w="0">
            <a:noFill/>
          </a:ln>
        </p:spPr>
      </p:sp>
      <p:sp>
        <p:nvSpPr>
          <p:cNvPr id="135" name="PlaceHolder 2"/>
          <p:cNvSpPr>
            <a:spLocks noGrp="1"/>
          </p:cNvSpPr>
          <p:nvPr>
            <p:ph type="body"/>
          </p:nvPr>
        </p:nvSpPr>
        <p:spPr>
          <a:xfrm>
            <a:off x="899640" y="4728960"/>
            <a:ext cx="4869000" cy="44730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 võrgustikus toimusid suurimad muudatused 1990ndate alguses koos ühiskonna murranguliste ümberkorraldustega. Paljude riiklike kultuuriasutuse töö korraldati ümber ja tekkis hulganisti eraorganisatsioone. Nüüdseks hakkab olukord stabiliseer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inosid oli 1990ndate keskpaigaks alles vaid kümmekond, statsionaarne kino oli </a:t>
            </a:r>
            <a:br>
              <a:rPr sz="1200"/>
            </a:br>
            <a:r>
              <a:rPr b="0" lang="et-EE" sz="1200" spc="-1" strike="noStrike">
                <a:solidFill>
                  <a:srgbClr val="000000"/>
                </a:solidFill>
                <a:latin typeface="Arial"/>
              </a:rPr>
              <a:t>15 maakonnast kuues. Eesti kinoturgu muutis oluliselt 2001. aastal Tallinnas avatud esimene kobarkino, mis oma 11 saaliga muutis kinomaastiku veelgi pealinnakesksem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mekesisemaks muutus ka teatrimaastik. Riigiteatrite arv jäi iseseisvusajal samaks (9), kuid linnateatritest lisandus Tallinna Linnateatrile 1999. aastal Kuressaare Linnateater. Oma koha leidsid ka mitmed erateatrid ja hulgaliselt tekkis statsionaarse mängupaigata teatriühendusi ning ühekordseid proj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uuseumite arv on 10 aastaga oluliselt kasvanud ja koosseis tunduvalt mitmekülgsemaks muutunud. Suurte riigimuuseumite kõrval suurenes peamiselt valla- ja talumuuseumite arv, aga oma muuseumi tegid ka paljud firmad, asutused ja ko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Rahvaraamatukogude võrku optimeeriti ja seetõttu vähenes nende koguarv uuel aastatuhandel märgatavalt. Enamasti ei suletud raamatukogusid siiski täielikult, vaid ühendati ühise juhtimise all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43120" y="762120"/>
            <a:ext cx="4983120" cy="3736800"/>
          </a:xfrm>
          <a:prstGeom prst="rect">
            <a:avLst/>
          </a:prstGeom>
          <a:ln w="0">
            <a:noFill/>
          </a:ln>
        </p:spPr>
      </p:sp>
      <p:sp>
        <p:nvSpPr>
          <p:cNvPr id="137" name="PlaceHolder 2"/>
          <p:cNvSpPr>
            <a:spLocks noGrp="1"/>
          </p:cNvSpPr>
          <p:nvPr>
            <p:ph type="body"/>
          </p:nvPr>
        </p:nvSpPr>
        <p:spPr>
          <a:xfrm>
            <a:off x="899640" y="4728960"/>
            <a:ext cx="4869000" cy="32634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Linastunud filmide arv on viimase viie aastaga jõudsalt suurenenud — 2006.</a:t>
            </a:r>
            <a:r>
              <a:rPr b="0" lang="fi-FI" sz="1200" spc="-1" strike="noStrike">
                <a:solidFill>
                  <a:srgbClr val="000000"/>
                </a:solidFill>
                <a:latin typeface="Arial"/>
              </a:rPr>
              <a:t> </a:t>
            </a:r>
            <a:r>
              <a:rPr b="0" lang="et-EE" sz="1200" spc="-1" strike="noStrike">
                <a:solidFill>
                  <a:srgbClr val="000000"/>
                </a:solidFill>
                <a:latin typeface="Arial"/>
              </a:rPr>
              <a:t>aastal ületas see 250 piiri (tabel 2). Endiselt on ülekaalus USA filmitoodang, kuid peale Euroopa Liitu astumist jõuab ekraanile ka märksa rohkem Euroopa, Venemaa ja Aasia filme. Viimastel aastatel on ka järjest enam Eesti filme — seda nii hoogustunud tootmise kui ka paremate levitingimuste (nt Kinobuss) tõt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Oma koha leidsid ka mitmed erateatrid ja hulgaliselt tekkis statsionaarse mängupaigata teatriühendusi ning ühekordseid projekte. Suurem osa teatritükke toodi lavale siiski riigi- ja linnateatrites — viimasel kümnendil umbes 250 lavastust ja 3500 etendust aas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ontserdikorraldus muutus vaadeldud ajavahemikul üsna killustatuks (sellega tegelesid kontsertagentuurid, kolmas sektor, omavalitsused), oli riigile kuuluv Eesti Kontsert endiselt suurim korraldaja. Eesti Kontserdi muusikastiilide valik avardus ja ürituste arv suurenes 10 aastaga ligi poole võr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43120" y="762120"/>
            <a:ext cx="4983120" cy="3736800"/>
          </a:xfrm>
          <a:prstGeom prst="rect">
            <a:avLst/>
          </a:prstGeom>
          <a:ln w="0">
            <a:noFill/>
          </a:ln>
        </p:spPr>
      </p:sp>
      <p:sp>
        <p:nvSpPr>
          <p:cNvPr id="139" name="PlaceHolder 2"/>
          <p:cNvSpPr>
            <a:spLocks noGrp="1"/>
          </p:cNvSpPr>
          <p:nvPr>
            <p:ph type="body"/>
          </p:nvPr>
        </p:nvSpPr>
        <p:spPr>
          <a:xfrm>
            <a:off x="899640" y="4728960"/>
            <a:ext cx="4869000" cy="30236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 piletihinnad on viimase 10 aastaga mitu korda kallinenud. Kui 1995. aastal pääses kinno veel 16 krooniga ja teatrisse 25 krooniga, siis 2006. aastal maksid piletid üle nelja korda rohkem. Kuigi inflatsioon vähendas raha reaalväärtust selle ajaga ligi kaks korda, on kallinemine siiski märkimisväärne. Kinopileti keskmine hind oli vaadeldaval perioodil teatripileti omast küll tunduvalt odavam, kuid seda mõjutas maakinode ja Kinobussi soodsam teenus. Suurima külastatavusega Coca Cola Plazas tuli 2006. aastal õhtuse seansi eest maksta juba teatripiletiga võrreldav summa — 120 kr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a muuseumipiletite hinnad tõusid vaadeldud perioodil märgatavalt, olid need teiste kultuuriasutustega võrreldes märksa taskukohasemad. Piletihindade skaala oli siiski üsna lai: kui paljude väikemuuseumite külastamine oli tasuta, siis KUMUsse pääsemine maksis 75 krooni.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43120" y="762120"/>
            <a:ext cx="4983120" cy="3736800"/>
          </a:xfrm>
          <a:prstGeom prst="rect">
            <a:avLst/>
          </a:prstGeom>
          <a:ln w="0">
            <a:noFill/>
          </a:ln>
        </p:spPr>
      </p:sp>
      <p:sp>
        <p:nvSpPr>
          <p:cNvPr id="141"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suhtelist kättesaadavust näitab absoluuthindadest paremini võrdlus keskmise palgaga. Siin on suundumused kultuuriliigiti erinevad (joonis 1). Teatripileti hind kallines viimase 10 aastaga keskmise brutopalga suhtes umbes viiendiku, muuseumipilet rohkem kui poole võ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teatripileti keskmine hind oli kogu perioodi jooksul rohkem kui 1% keskmisest kuupalgast, siis kinopileti hinna suhe palka kasvas järsult kuni 1998. aastani, ületades samuti 1% piiri. Uuel aastatuhandel tõusid palgad kinopileti keskmisest hinnast kiiremini, muutes kinoskäimise taas taskukohasemaks. Muuseumipileti hinna suhe keskmisesse brutokuupalka püsis vaadeldaval perioodil üsna stabiilsena, jäädes 0,1% juu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43120" y="762120"/>
            <a:ext cx="4983120" cy="3736800"/>
          </a:xfrm>
          <a:prstGeom prst="rect">
            <a:avLst/>
          </a:prstGeom>
          <a:ln w="0">
            <a:noFill/>
          </a:ln>
        </p:spPr>
      </p:sp>
      <p:sp>
        <p:nvSpPr>
          <p:cNvPr id="143"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1990ndate algusaastatel langes kultuuriasutuste külastatavus järsult, siis viimasel kümnel aastal see pigem kasvas pidevalt. Teatrikülastusi oli 2006. aastal ligi miljon, kinoskäike üle pooleteise miljoni ja muuseumikülastusi veelgi rohkem. Laenutuste arv rahvaraamatukogudest vähenes viimastel aastatel pisut, kuid see oli seotud peamiselt </a:t>
            </a:r>
            <a:br>
              <a:rPr sz="1200"/>
            </a:br>
            <a:r>
              <a:rPr b="0" lang="et-EE" sz="1200" spc="-1" strike="noStrike">
                <a:solidFill>
                  <a:srgbClr val="000000"/>
                </a:solidFill>
                <a:latin typeface="Arial"/>
              </a:rPr>
              <a:t>e-teenuste arengu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äikeses kultuuriruumis võivad üksikud kultuurisündmused külastusnumbreid märgatavalt mõjutada. See ilmneb eriti selgelt kinokülastuste puhul — 2002. ja 2006. aastal linastunud hittfilmid tõid kinno tavapärasest tunduvalt suurema vaatajaskon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Kultuuri ja spordi roll sotsiaalses sidusus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38600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3951"/>
                </a:solidFill>
                <a:latin typeface="Arial"/>
              </a:rPr>
              <a:t>Kultuuri ja spordi roll ühiskonna sidususes</a:t>
            </a:r>
            <a:endParaRPr b="0" lang="en-US" sz="3000" spc="-1" strike="noStrike">
              <a:solidFill>
                <a:srgbClr val="003951"/>
              </a:solidFill>
              <a:latin typeface="Arial"/>
            </a:endParaRPr>
          </a:p>
        </p:txBody>
      </p:sp>
      <p:sp>
        <p:nvSpPr>
          <p:cNvPr id="88" name="PlaceHolder 2"/>
          <p:cNvSpPr>
            <a:spLocks noGrp="1"/>
          </p:cNvSpPr>
          <p:nvPr>
            <p:ph type="subTitle"/>
          </p:nvPr>
        </p:nvSpPr>
        <p:spPr>
          <a:xfrm>
            <a:off x="914400" y="2468520"/>
            <a:ext cx="449568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Yngve Rosenbla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Rahvastiku- ja sotsiaalstatistika osakonna analüütik</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üritusi ja -asutusi külastanud, 2006</a:t>
            </a:r>
            <a:endParaRPr b="1" lang="en-US" sz="3200" spc="-1" strike="noStrike">
              <a:solidFill>
                <a:srgbClr val="003951"/>
              </a:solidFill>
              <a:latin typeface="Arial"/>
            </a:endParaRPr>
          </a:p>
        </p:txBody>
      </p:sp>
      <p:pic>
        <p:nvPicPr>
          <p:cNvPr id="112" name="" descr=""/>
          <p:cNvPicPr/>
          <p:nvPr/>
        </p:nvPicPr>
        <p:blipFill>
          <a:blip r:embed="rId1"/>
          <a:stretch/>
        </p:blipFill>
        <p:spPr>
          <a:xfrm>
            <a:off x="1187280" y="2349360"/>
            <a:ext cx="7437600" cy="41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rahvuse järgi, 2006</a:t>
            </a:r>
            <a:endParaRPr b="1" lang="en-US" sz="3200" spc="-1" strike="noStrike">
              <a:solidFill>
                <a:srgbClr val="003951"/>
              </a:solidFill>
              <a:latin typeface="Arial"/>
            </a:endParaRPr>
          </a:p>
        </p:txBody>
      </p:sp>
      <p:pic>
        <p:nvPicPr>
          <p:cNvPr id="114" name="" descr=""/>
          <p:cNvPicPr/>
          <p:nvPr/>
        </p:nvPicPr>
        <p:blipFill>
          <a:blip r:embed="rId1"/>
          <a:stretch/>
        </p:blipFill>
        <p:spPr>
          <a:xfrm>
            <a:off x="1035000" y="2581200"/>
            <a:ext cx="7713720" cy="387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lade harrastajad (harrastanud) rahvuse järgi, 2004</a:t>
            </a:r>
            <a:endParaRPr b="1" lang="en-US" sz="3200" spc="-1" strike="noStrike">
              <a:solidFill>
                <a:srgbClr val="003951"/>
              </a:solidFill>
              <a:latin typeface="Arial"/>
            </a:endParaRPr>
          </a:p>
        </p:txBody>
      </p:sp>
      <p:pic>
        <p:nvPicPr>
          <p:cNvPr id="116" name="" descr=""/>
          <p:cNvPicPr/>
          <p:nvPr/>
        </p:nvPicPr>
        <p:blipFill>
          <a:blip r:embed="rId1"/>
          <a:stretch/>
        </p:blipFill>
        <p:spPr>
          <a:xfrm>
            <a:off x="1258920" y="2693880"/>
            <a:ext cx="7372440" cy="361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elus osalemine elukoha järgi</a:t>
            </a: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otud linnaliku eluviisiga</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llinnas…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2 kinost 4</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¾ kinokülastustest</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1 riigi- ja linnateatrist 6</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vaid iga 9. teatrietendus väljaspool teatrilinn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gionaalselt on paremini esindatud muuseumid ja raamatukogu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elukoha järgi, 2006</a:t>
            </a:r>
            <a:endParaRPr b="1" lang="en-US" sz="3200" spc="-1" strike="noStrike">
              <a:solidFill>
                <a:srgbClr val="003951"/>
              </a:solidFill>
              <a:latin typeface="Arial"/>
            </a:endParaRPr>
          </a:p>
        </p:txBody>
      </p:sp>
      <p:pic>
        <p:nvPicPr>
          <p:cNvPr id="120" name="" descr=""/>
          <p:cNvPicPr/>
          <p:nvPr/>
        </p:nvPicPr>
        <p:blipFill>
          <a:blip r:embed="rId1"/>
          <a:stretch/>
        </p:blipFill>
        <p:spPr>
          <a:xfrm>
            <a:off x="1042920" y="2637000"/>
            <a:ext cx="7894800" cy="41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47760" y="187632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sissetuleku järgi, 2004</a:t>
            </a:r>
            <a:endParaRPr b="1" lang="en-US" sz="3200" spc="-1" strike="noStrike">
              <a:solidFill>
                <a:srgbClr val="003951"/>
              </a:solidFill>
              <a:latin typeface="Arial"/>
            </a:endParaRPr>
          </a:p>
        </p:txBody>
      </p:sp>
      <p:pic>
        <p:nvPicPr>
          <p:cNvPr id="122" name="" descr=""/>
          <p:cNvPicPr/>
          <p:nvPr/>
        </p:nvPicPr>
        <p:blipFill>
          <a:blip r:embed="rId1"/>
          <a:stretch/>
        </p:blipFill>
        <p:spPr>
          <a:xfrm>
            <a:off x="1187280" y="2637000"/>
            <a:ext cx="7504200" cy="38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kkuvõtteks</a:t>
            </a:r>
            <a:endParaRPr b="1" lang="en-US" sz="3200" spc="-1" strike="noStrike">
              <a:solidFill>
                <a:srgbClr val="003951"/>
              </a:solidFill>
              <a:latin typeface="Arial"/>
            </a:endParaRPr>
          </a:p>
        </p:txBody>
      </p:sp>
      <p:sp>
        <p:nvSpPr>
          <p:cNvPr id="124"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asatus kultuuriellu soodustab sotsiaalset sidusust</a:t>
            </a:r>
            <a:endParaRPr b="0" lang="en-US" sz="2400" spc="-1" strike="noStrike">
              <a:solidFill>
                <a:srgbClr val="003951"/>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ob ja tugevdab ühiseid väärtusi</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akub võimalusi osalemiseks ja eneseteostuseks</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gevdab sotsiaalsed sidemed</a:t>
            </a:r>
            <a:endParaRPr b="0" lang="en-US" sz="2400" spc="-1" strike="noStrike">
              <a:solidFill>
                <a:srgbClr val="000000"/>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nikkonna gruppides on kultuuriline aktiivsus üsna erinev</a:t>
            </a:r>
            <a:endParaRPr b="0" lang="en-US" sz="2400" spc="-1" strike="noStrike">
              <a:solidFill>
                <a:srgbClr val="003951"/>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used on tingitud paljuski kultuuriteenuste ebavõrdsest kättesaadavusest</a:t>
            </a:r>
            <a:endParaRPr b="0" lang="en-US" sz="2400" spc="-1" strike="noStrike">
              <a:solidFill>
                <a:srgbClr val="003951"/>
              </a:solidFill>
              <a:latin typeface="Arial"/>
            </a:endParaRPr>
          </a:p>
          <a:p>
            <a:pPr marL="36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27"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 sidususe aluseks on suhted, usaldus, väärtused, tunded, teadmised</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 ja sotsiaalne sidusus</a:t>
            </a:r>
            <a:endParaRPr b="1" lang="en-US" sz="3200" spc="-1" strike="noStrike">
              <a:solidFill>
                <a:srgbClr val="003951"/>
              </a:solidFill>
              <a:latin typeface="Arial"/>
            </a:endParaRPr>
          </a:p>
        </p:txBody>
      </p:sp>
      <p:sp>
        <p:nvSpPr>
          <p:cNvPr id="91" name=""/>
          <p:cNvSpPr/>
          <p:nvPr/>
        </p:nvSpPr>
        <p:spPr>
          <a:xfrm>
            <a:off x="1258920" y="3284640"/>
            <a:ext cx="7515360" cy="4267080"/>
          </a:xfrm>
          <a:prstGeom prst="rect">
            <a:avLst/>
          </a:prstGeom>
          <a:noFill/>
          <a:ln w="0">
            <a:noFill/>
          </a:ln>
        </p:spPr>
        <p:style>
          <a:lnRef idx="0"/>
          <a:fillRef idx="0"/>
          <a:effectRef idx="0"/>
          <a:fontRef idx="minor"/>
        </p:style>
        <p:txBody>
          <a:bodyPr lIns="0" rIns="0" tIns="0" bIns="0" anchor="t">
            <a:normAutofit/>
          </a:bodyPr>
          <a:p>
            <a:pPr marL="361800" indent="-361800">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 roll:</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histe väärtuste loomine ja hoid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olatsiooni vältimine, sotsiaalse võrgustiku tugevda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suse areng</a:t>
            </a:r>
            <a:endParaRPr b="0" lang="en-US" sz="2400" spc="-1" strike="noStrike">
              <a:solidFill>
                <a:srgbClr val="000000"/>
              </a:solidFill>
              <a:latin typeface="Arial"/>
            </a:endParaRPr>
          </a:p>
          <a:p>
            <a:pPr marL="36180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 roll sidususes …</a:t>
            </a:r>
            <a:endParaRPr b="1" lang="en-US" sz="3200" spc="-1" strike="noStrike">
              <a:solidFill>
                <a:srgbClr val="003951"/>
              </a:solidFill>
              <a:latin typeface="Arial"/>
            </a:endParaRPr>
          </a:p>
        </p:txBody>
      </p:sp>
      <p:sp>
        <p:nvSpPr>
          <p:cNvPr id="93" name="PlaceHolder 2"/>
          <p:cNvSpPr>
            <a:spLocks noGrp="1"/>
          </p:cNvSpPr>
          <p:nvPr>
            <p:ph/>
          </p:nvPr>
        </p:nvSpPr>
        <p:spPr>
          <a:xfrm>
            <a:off x="1247760" y="2133720"/>
            <a:ext cx="3036960" cy="12952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pakku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teenuste kättesaadavus</a:t>
            </a:r>
            <a:endParaRPr b="0" lang="en-US" sz="2400" spc="-1" strike="noStrike">
              <a:solidFill>
                <a:srgbClr val="003951"/>
              </a:solidFill>
              <a:latin typeface="Arial"/>
            </a:endParaRPr>
          </a:p>
        </p:txBody>
      </p:sp>
      <p:sp>
        <p:nvSpPr>
          <p:cNvPr id="94" name="PlaceHolder 3"/>
          <p:cNvSpPr>
            <a:spLocks noGrp="1"/>
          </p:cNvSpPr>
          <p:nvPr>
            <p:ph/>
          </p:nvPr>
        </p:nvSpPr>
        <p:spPr>
          <a:xfrm>
            <a:off x="4643280" y="2133720"/>
            <a:ext cx="3888000" cy="1295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nõud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elus osalemise aktiivsus eri ühiskonnagruppides</a:t>
            </a:r>
            <a:endParaRPr b="0" lang="en-US" sz="2400" spc="-1" strike="noStrike">
              <a:solidFill>
                <a:srgbClr val="003951"/>
              </a:solidFill>
              <a:latin typeface="Arial"/>
            </a:endParaRPr>
          </a:p>
        </p:txBody>
      </p:sp>
      <p:sp>
        <p:nvSpPr>
          <p:cNvPr id="95" name=""/>
          <p:cNvSpPr/>
          <p:nvPr/>
        </p:nvSpPr>
        <p:spPr>
          <a:xfrm>
            <a:off x="1258920" y="3986280"/>
            <a:ext cx="3036960" cy="174636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umajandus ei taga ühtlast pakkumist, seetõttu riik soodustab seda</a:t>
            </a:r>
            <a:endParaRPr b="0" lang="en-US" sz="2400" spc="-1" strike="noStrike">
              <a:solidFill>
                <a:srgbClr val="000000"/>
              </a:solidFill>
              <a:latin typeface="Arial"/>
            </a:endParaRPr>
          </a:p>
        </p:txBody>
      </p:sp>
      <p:sp>
        <p:nvSpPr>
          <p:cNvPr id="96" name=""/>
          <p:cNvSpPr/>
          <p:nvPr/>
        </p:nvSpPr>
        <p:spPr>
          <a:xfrm>
            <a:off x="4643280" y="3986280"/>
            <a:ext cx="3961080" cy="210672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salemine sõltub küll pakkumisest, aga samavõrd ka inimese huvidest ja elustii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likad</a:t>
            </a: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iiklik kultuuristatistika</a:t>
            </a:r>
            <a:endParaRPr b="0" lang="en-US" sz="2400" spc="-1" strike="noStrike">
              <a:solidFill>
                <a:srgbClr val="003951"/>
              </a:solidFill>
              <a:latin typeface="Arial"/>
            </a:endParaRPr>
          </a:p>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uuringute kultuuriteemalised lisaküsimustikud:</a:t>
            </a:r>
            <a:endParaRPr b="0" lang="en-US" sz="2400" spc="-1" strike="noStrike">
              <a:solidFill>
                <a:srgbClr val="003951"/>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uuring 2004</a:t>
            </a:r>
            <a:endParaRPr b="0" lang="en-US" sz="2400" spc="-1" strike="noStrike">
              <a:solidFill>
                <a:srgbClr val="000000"/>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uuring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ed</a:t>
            </a:r>
            <a:endParaRPr b="1" lang="en-US" sz="3200" spc="-1" strike="noStrike">
              <a:solidFill>
                <a:srgbClr val="003951"/>
              </a:solidFill>
              <a:latin typeface="Arial"/>
            </a:endParaRPr>
          </a:p>
        </p:txBody>
      </p:sp>
      <p:graphicFrame>
        <p:nvGraphicFramePr>
          <p:cNvPr id="100" name=""/>
          <p:cNvGraphicFramePr/>
          <p:nvPr/>
        </p:nvGraphicFramePr>
        <p:xfrm>
          <a:off x="1258920" y="2133720"/>
          <a:ext cx="7200720" cy="4132080"/>
        </p:xfrm>
        <a:graphic>
          <a:graphicData uri="http://schemas.openxmlformats.org/drawingml/2006/table">
            <a:tbl>
              <a:tblPr/>
              <a:tblGrid>
                <a:gridCol w="3600360"/>
                <a:gridCol w="1873440"/>
                <a:gridCol w="1584360"/>
                <a:gridCol w="142560"/>
              </a:tblGrid>
              <a:tr h="71892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0</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42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Statsionaariga teatr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d (sh filiaalid</a:t>
                      </a:r>
                      <a:r>
                        <a:rPr b="0" lang="et-EE" sz="2400" spc="-1" strike="noStrike">
                          <a:solidFill>
                            <a:srgbClr val="003951"/>
                          </a:solidFill>
                          <a:latin typeface="Arial"/>
                          <a:ea typeface="Arial"/>
                        </a:rPr>
                        <a: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3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Rahvaraamatukogu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0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6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1125360"/>
            <a:ext cx="7515360" cy="7034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üritused</a:t>
            </a:r>
            <a:endParaRPr b="1" lang="en-US" sz="3200" spc="-1" strike="noStrike">
              <a:solidFill>
                <a:srgbClr val="003951"/>
              </a:solidFill>
              <a:latin typeface="Arial"/>
            </a:endParaRPr>
          </a:p>
        </p:txBody>
      </p:sp>
      <p:graphicFrame>
        <p:nvGraphicFramePr>
          <p:cNvPr id="102" name=""/>
          <p:cNvGraphicFramePr/>
          <p:nvPr/>
        </p:nvGraphicFramePr>
        <p:xfrm>
          <a:off x="1247760" y="2133720"/>
          <a:ext cx="7211880" cy="3965400"/>
        </p:xfrm>
        <a:graphic>
          <a:graphicData uri="http://schemas.openxmlformats.org/drawingml/2006/table">
            <a:tbl>
              <a:tblPr/>
              <a:tblGrid>
                <a:gridCol w="3324240"/>
                <a:gridCol w="1224000"/>
                <a:gridCol w="1224000"/>
                <a:gridCol w="1295280"/>
                <a:gridCol w="144360"/>
              </a:tblGrid>
              <a:tr h="74124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1</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799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inastunud filmi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avastuse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4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9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7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tendused </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6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6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28</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esti Kontserd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ontserd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5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850</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 078</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103" name=""/>
          <p:cNvSpPr/>
          <p:nvPr/>
        </p:nvSpPr>
        <p:spPr>
          <a:xfrm>
            <a:off x="7596360" y="6219360"/>
            <a:ext cx="158400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ª</a:t>
            </a:r>
            <a:r>
              <a:rPr b="0" lang="et-EE" sz="2000" spc="-1" strike="noStrike">
                <a:solidFill>
                  <a:srgbClr val="003951"/>
                </a:solidFill>
                <a:latin typeface="Arial"/>
              </a:rPr>
              <a:t>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teenuste hinnad, krooni</a:t>
            </a:r>
            <a:endParaRPr b="1" lang="en-US" sz="3200" spc="-1" strike="noStrike">
              <a:solidFill>
                <a:srgbClr val="003951"/>
              </a:solidFill>
              <a:latin typeface="Arial"/>
            </a:endParaRPr>
          </a:p>
        </p:txBody>
      </p:sp>
      <p:graphicFrame>
        <p:nvGraphicFramePr>
          <p:cNvPr id="105" name=""/>
          <p:cNvGraphicFramePr/>
          <p:nvPr/>
        </p:nvGraphicFramePr>
        <p:xfrm>
          <a:off x="1247760" y="2133720"/>
          <a:ext cx="7211880" cy="3743280"/>
        </p:xfrm>
        <a:graphic>
          <a:graphicData uri="http://schemas.openxmlformats.org/drawingml/2006/table">
            <a:tbl>
              <a:tblPr/>
              <a:tblGrid>
                <a:gridCol w="2976480"/>
                <a:gridCol w="1341360"/>
                <a:gridCol w="1339920"/>
                <a:gridCol w="1339920"/>
                <a:gridCol w="214200"/>
              </a:tblGrid>
              <a:tr h="8222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5</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v</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9716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1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9763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Arial"/>
                        </a:rPr>
                        <a:t>Teatripilet</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6</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6x</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9730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0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106" name=""/>
          <p:cNvSpPr/>
          <p:nvPr/>
        </p:nvSpPr>
        <p:spPr>
          <a:xfrm>
            <a:off x="1258920" y="6003360"/>
            <a:ext cx="309564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Arial"/>
              </a:rPr>
              <a:t>ª</a:t>
            </a:r>
            <a:r>
              <a:rPr b="0" lang="et-EE" sz="2000" spc="-1" strike="noStrike">
                <a:solidFill>
                  <a:srgbClr val="003951"/>
                </a:solidFill>
                <a:latin typeface="Arial"/>
              </a:rPr>
              <a:t> Riigi- ja linnateatr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eskmine piletihind</a:t>
            </a:r>
            <a:endParaRPr b="1" lang="en-US" sz="3200" spc="-1" strike="noStrike">
              <a:solidFill>
                <a:srgbClr val="003951"/>
              </a:solidFill>
              <a:latin typeface="Arial"/>
            </a:endParaRPr>
          </a:p>
        </p:txBody>
      </p:sp>
      <p:pic>
        <p:nvPicPr>
          <p:cNvPr id="108" name="" descr=""/>
          <p:cNvPicPr/>
          <p:nvPr/>
        </p:nvPicPr>
        <p:blipFill>
          <a:blip r:embed="rId1"/>
          <a:stretch/>
        </p:blipFill>
        <p:spPr>
          <a:xfrm>
            <a:off x="1187280" y="2085840"/>
            <a:ext cx="6999480" cy="386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te külastatavus</a:t>
            </a:r>
            <a:endParaRPr b="1" lang="en-US" sz="3200" spc="-1" strike="noStrike">
              <a:solidFill>
                <a:srgbClr val="003951"/>
              </a:solidFill>
              <a:latin typeface="Arial"/>
            </a:endParaRPr>
          </a:p>
        </p:txBody>
      </p:sp>
      <p:pic>
        <p:nvPicPr>
          <p:cNvPr id="110" name="" descr=""/>
          <p:cNvPicPr/>
          <p:nvPr/>
        </p:nvPicPr>
        <p:blipFill>
          <a:blip r:embed="rId1"/>
          <a:stretch/>
        </p:blipFill>
        <p:spPr>
          <a:xfrm>
            <a:off x="1187280" y="2068560"/>
            <a:ext cx="673272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Yngve Rosenblad</cp:lastModifiedBy>
  <cp:lastPrinted>2001-03-09T09:19:09Z</cp:lastPrinted>
  <dcterms:modified xsi:type="dcterms:W3CDTF">2008-01-09T09:01:26Z</dcterms:modified>
  <cp:revision>49</cp:revision>
  <dc:subject/>
  <dc:title>PowerPoint Presentation</dc:title>
</cp:coreProperties>
</file>