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&lt;footer&gt;</a:t>
            </a: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2.09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ajanduskasvu arvestuse põhimõ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1833480"/>
            <a:ext cx="518472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ajanduskasvu arvestuse põhimõtted</a:t>
            </a:r>
            <a:br>
              <a:rPr sz="3200"/>
            </a:b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48243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õnu Mertsin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Rahvamajanduse arvepidamise talituse juhataja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abetund ajakirjanikel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2. september 2008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Uued mõist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Panus SKP kasvu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utatakse kõikide SKP komponentide puhul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kõige tarvis selliste näitajate korral, mida esineb aegreas erimärgiliste (nii negatiivsete kui ka positiivsete) väärtustena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nus SKP kasvu on arvutatava komponendi muutuse ja selle osatähtsuse SKP-s korruti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3951"/>
                </a:solidFill>
                <a:latin typeface="Arial"/>
              </a:rPr>
              <a:t>Mis on baasaasta ja mis referentsaasta?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990000"/>
                </a:solidFill>
                <a:latin typeface="Arial"/>
              </a:rPr>
              <a:t>Baasaasta: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arvestusperioodile eelnenud aasta (t-1), mille hinnad võetakse arvestusperioodide baasi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990000"/>
                </a:solidFill>
                <a:latin typeface="Arial"/>
              </a:rPr>
              <a:t>Referentsaasta: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tinglik aasta (praegu 2000), mida kasutatakse alusena aheldatud näitajate esitamisel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Indeksite seerias see aasta = 100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Referentsaastat võib teatud aja möödudes edasi nihutada (nt 2000-lt 2005-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e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Sellega muutuvad küll ahelindeksid ja aheldatud väärtused, kuid aheldatud kasvud jäävad täpselt sama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mise aasta hindades arvest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2880" y="1936440"/>
            <a:ext cx="800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rvestused eelmise aasta keskmistes hindade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n 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nual overlap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— AOL)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jooksva aasta kvartalite näitajad arvutatakse eelmise aasta (t-1) keskmiste hindade baasi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3880" y="3700440"/>
            <a:ext cx="4968360" cy="2752920"/>
            <a:chOff x="1523880" y="3700440"/>
            <a:chExt cx="4968360" cy="2752920"/>
          </a:xfrm>
        </p:grpSpPr>
        <p:sp>
          <p:nvSpPr>
            <p:cNvPr id="107" name=""/>
            <p:cNvSpPr/>
            <p:nvPr/>
          </p:nvSpPr>
          <p:spPr>
            <a:xfrm>
              <a:off x="5014800" y="3912120"/>
              <a:ext cx="147744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4800" y="4547160"/>
              <a:ext cx="147744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4800" y="5182560"/>
              <a:ext cx="145944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I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14800" y="5817960"/>
              <a:ext cx="145476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V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52880" y="4335480"/>
              <a:ext cx="1861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52880" y="4970880"/>
              <a:ext cx="1861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52880" y="4970880"/>
              <a:ext cx="1861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52880" y="4970880"/>
              <a:ext cx="1861920" cy="12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0360" y="49708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41600" y="3912120"/>
              <a:ext cx="144504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2160" y="4547160"/>
              <a:ext cx="143028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2160" y="5182560"/>
              <a:ext cx="141912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II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2160" y="5817960"/>
              <a:ext cx="144324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200" spc="-1" strike="noStrike">
                  <a:solidFill>
                    <a:srgbClr val="003951"/>
                  </a:solidFill>
                  <a:latin typeface="Arial"/>
                </a:rPr>
                <a:t>IV kva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52880" y="3700440"/>
              <a:ext cx="1800" cy="27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3880" y="3700440"/>
              <a:ext cx="0" cy="27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6453360"/>
              <a:ext cx="16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83840" y="3700440"/>
              <a:ext cx="0" cy="268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47640" y="3284640"/>
            <a:ext cx="165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3141720"/>
            <a:ext cx="165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2767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12408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87360" y="1171440"/>
            <a:ext cx="522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vestuskäik AOL tehnikaga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04640" y="2204640"/>
            <a:ext cx="7515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rvutatakse absoluutväärtused eelmise aasta hindade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eejärel leitakse vastava kvartali mahu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366"/>
                </a:solidFill>
                <a:latin typeface="Arial"/>
              </a:rPr>
              <a:t>eelmise aasta hindades leitud näitaja jagatakse t‑1 aasta keskmise kvartali väärtusega jooksevhi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kvartali mahuindeksite järgi arvutatakse ahelindeksi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helindeksite kaudu ja referentsaasta näitajate põhjal arvutatakse aheldatud absoluutväärt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heldatud kasvud leitakse vastavate ahelindeksite kasvude (või aheldatud väärtuste) põhjal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57150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2578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2494080"/>
            <a:ext cx="0" cy="431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718080"/>
            <a:ext cx="0" cy="431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4365720"/>
            <a:ext cx="0" cy="431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302080"/>
            <a:ext cx="0" cy="432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kasvu korrigeerimine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korrigeeris esimese etapina SKP reaalkasvusid aheldamise meetodil alates 2001. aastast. Avaldame 8. septembri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heldamise meetodil tehtud arvestused aastate 1995–1999 kohta avaldab Statistikaamet tänavu detsemb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heldamise meetodil leitud SKP reaalkasv alates 2001. aastast on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üldjuhul mõnevõrra madalam fikseeritud baasaasta järgi arvutatud SKP kasvust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rinevused kahe metoodika järgi arvutatud SKP kvartali kasvudes jäävad vahemikku -1,6 kuni +0,2 protsendipunkti.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3360" y="1557360"/>
            <a:ext cx="629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heldamise ja fikseeritud baasaasta kasvude erinevuste põhj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01560"/>
            <a:ext cx="7885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ikseeritud baasaasta järgi arvestustes on baasaastaks fix </a:t>
            </a:r>
            <a:br>
              <a:rPr sz="2000"/>
            </a:b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baasaasta hindade struktuur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heldamise metoodika arvestustes on aluseks pidevalt edasinihutatud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eelmise aasta hindade struktuur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rinevate metoodikate järgi leitud kasvude erinevus on seda suur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mida volatiilsem on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hindade muutus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aegre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mida rohkem muutub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toodete struktuur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erinevatel arvestusperioodi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8840" y="1171440"/>
            <a:ext cx="591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heldamisega seotud probleemi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4520" y="1932120"/>
            <a:ext cx="7935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990000"/>
                </a:solidFill>
                <a:latin typeface="Arial"/>
              </a:rPr>
              <a:t>Üksikute aheldatud absoluutväärtuste summa ei võrdu sama agregeeritud näitajaga</a:t>
            </a: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990000"/>
                </a:solidFill>
                <a:latin typeface="Arial"/>
              </a:rPr>
              <a:t>(mitteaditiivsus, ingl k </a:t>
            </a:r>
            <a:r>
              <a:rPr b="0" i="1" lang="et-EE" sz="1800" spc="-1" strike="noStrike">
                <a:solidFill>
                  <a:srgbClr val="990000"/>
                </a:solidFill>
                <a:latin typeface="Arial"/>
              </a:rPr>
              <a:t>non-additivity</a:t>
            </a:r>
            <a:r>
              <a:rPr b="0" lang="et-EE" sz="18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70e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võrdub vaid referentsaastal ja sellele järgneval aast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70e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mida kaugemale referentsaastast, seda suuremaks erinevused lähev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70e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Põhjuse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51"/>
              </a:spcBef>
              <a:buClr>
                <a:srgbClr val="070e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aheldatud väärtused leitakse nii agregaatnäitaja kui ka iga selle komponendi eraldi ekstrapoleerimiseg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51"/>
              </a:spcBef>
              <a:buClr>
                <a:srgbClr val="070e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erinevate perioodide arvestustes kasutatakse erinevaid (eelmise aasta) kaalus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990000"/>
                </a:solidFill>
                <a:latin typeface="Arial"/>
              </a:rPr>
              <a:t>Põhjus on puhtalt matemaatiline ega viita arvestuste halvale kvaliteedile.</a:t>
            </a:r>
            <a:r>
              <a:rPr b="0" lang="et-EE" sz="1800" spc="-1" strike="noStrike">
                <a:solidFill>
                  <a:srgbClr val="070e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Mitteaditiivsuse näide: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aheldamise meetodi kasutamisel leitud eratarbimise kulugruppide summa ja vastava agregaatnäitaja võrdlus, 2000–2004, mln kr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47760" y="2133720"/>
          <a:ext cx="7194600" cy="4267080"/>
        </p:xfrm>
        <a:graphic>
          <a:graphicData uri="http://schemas.openxmlformats.org/drawingml/2006/table">
            <a:tbl>
              <a:tblPr/>
              <a:tblGrid>
                <a:gridCol w="3168720"/>
                <a:gridCol w="549360"/>
                <a:gridCol w="868320"/>
                <a:gridCol w="869760"/>
                <a:gridCol w="868320"/>
                <a:gridCol w="870120"/>
              </a:tblGrid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lugru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it ja alkoholita joog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3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oholjoogid, tuba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5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2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õivad ja jalats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4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uase, vesi, elekter, ga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sustus, kodutarb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6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9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visho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ond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9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4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ba aeg ja kultu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0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id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ranid ja hotell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9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mesugused kaubad ja teen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5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atarbimiskulutused kok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3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4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9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1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lugruppide sum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9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3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9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10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0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4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2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36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6922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00"/>
                </a:solidFill>
                <a:latin typeface="Arial"/>
              </a:rPr>
              <a:t>Mitteaditiivsuse näide: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alkoholita jookide kulugrupi arv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73000" y="1577880"/>
          <a:ext cx="7515360" cy="4659120"/>
        </p:xfrm>
        <a:graphic>
          <a:graphicData uri="http://schemas.openxmlformats.org/drawingml/2006/table">
            <a:tbl>
              <a:tblPr/>
              <a:tblGrid>
                <a:gridCol w="482760"/>
                <a:gridCol w="1452240"/>
                <a:gridCol w="766800"/>
                <a:gridCol w="766800"/>
                <a:gridCol w="768600"/>
                <a:gridCol w="765000"/>
                <a:gridCol w="768240"/>
                <a:gridCol w="766800"/>
                <a:gridCol w="978120"/>
              </a:tblGrid>
              <a:tr h="10954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oksev-hindades, mln 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 baasaasta püsiv-hindades, mln 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lmise aasta hindades </a:t>
                      </a:r>
                      <a:r>
                        <a:rPr b="0" i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O meetodil), </a:t>
                      </a: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n 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ks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el- indeksid, 2000 =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heldatud väärtused referents-aasta 2000 järgi, mln 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teaditiivsuse mõ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oholita joog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vi, tee, kak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alvesi, mah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oholita joog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vi, tee, kak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alvesi, mah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oholita joog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vi, tee, kak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alvesi, mah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oholita joog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vi, tee, kak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alvesi, mah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tteaditiivsuse näide, IV kvartal 2004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58920" y="3068640"/>
          <a:ext cx="3179520" cy="2518920"/>
        </p:xfrm>
        <a:graphic>
          <a:graphicData uri="http://schemas.openxmlformats.org/drawingml/2006/table">
            <a:tbl>
              <a:tblPr/>
              <a:tblGrid>
                <a:gridCol w="2213640"/>
                <a:gridCol w="965880"/>
              </a:tblGrid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kto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te-finantsettevõ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tssek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tsemissek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sumit mittetaotlevad institu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umajapidam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9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gulisandväär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a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716360" y="3068640"/>
          <a:ext cx="3681360" cy="1368360"/>
        </p:xfrm>
        <a:graphic>
          <a:graphicData uri="http://schemas.openxmlformats.org/drawingml/2006/table">
            <a:tbl>
              <a:tblPr/>
              <a:tblGrid>
                <a:gridCol w="2874960"/>
                <a:gridCol w="806400"/>
              </a:tblGrid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upade im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enuste im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9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upade ja teenuste im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va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258920" y="2204640"/>
            <a:ext cx="73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66"/>
                </a:solidFill>
                <a:latin typeface="Arial"/>
              </a:rPr>
              <a:t>Referentsaasta järgi aheldatud väärtused, mln 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ajanduse koguprodukti (SKP) arvestus aheldamise meetod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iks Statistikaamet korrigeerib SKP kasvu?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KP sesoonne ja tööpäevade arvuga korrig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atused Statistikaameti andmebaas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06440" y="1171440"/>
            <a:ext cx="686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heldatud arvestuste avald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17240" y="2015640"/>
            <a:ext cx="80074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(SKP ja selle komponendid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700" spc="-1" strike="noStrike">
                <a:solidFill>
                  <a:srgbClr val="990000"/>
                </a:solidFill>
                <a:latin typeface="Arial"/>
              </a:rPr>
              <a:t>Enne avaldasime</a:t>
            </a: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SKP jooksevhindades (mln EEK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SKP osatähtsus jooksevhinnas (%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SKP 2000. aasta püsivhindades (mln EEK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3951"/>
                </a:solidFill>
                <a:latin typeface="Arial"/>
              </a:rPr>
              <a:t>SKP muutus püsivhindades (%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700" spc="-1" strike="noStrike">
                <a:solidFill>
                  <a:srgbClr val="990000"/>
                </a:solidFill>
                <a:latin typeface="Arial"/>
              </a:rPr>
              <a:t>Alates 8. septembrist avaldame</a:t>
            </a: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SKP jooksevhindades (mln EEK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SKP osatähtsus jooksevhindades (%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SKP ahelindeksid, 2000 = 100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SKP aheldatud väärtused referentsaasta (2000) järgi (mln EEK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SKP muutus aheldamise meetodil (%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425"/>
              </a:spcBef>
              <a:buClr>
                <a:srgbClr val="0027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700" spc="-1" strike="noStrike">
                <a:solidFill>
                  <a:srgbClr val="002736"/>
                </a:solidFill>
                <a:latin typeface="Arial"/>
              </a:rPr>
              <a:t>Panus SKP kasvu (protsendipunkti)</a:t>
            </a: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7760" y="12430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heldatud arvestuste aval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47760" y="1989000"/>
          <a:ext cx="7515360" cy="4267440"/>
        </p:xfrm>
        <a:graphic>
          <a:graphicData uri="http://schemas.openxmlformats.org/drawingml/2006/table">
            <a:tbl>
              <a:tblPr/>
              <a:tblGrid>
                <a:gridCol w="701640"/>
                <a:gridCol w="422280"/>
                <a:gridCol w="933480"/>
                <a:gridCol w="931680"/>
                <a:gridCol w="932040"/>
                <a:gridCol w="797040"/>
                <a:gridCol w="931680"/>
                <a:gridCol w="933480"/>
                <a:gridCol w="932040"/>
              </a:tblGrid>
              <a:tr h="1090800">
                <a:tc gridSpan="2" row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Jooksev-hin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elmise aasta hindades (AOL tehnikag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hu-indeks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hel-indeksi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heldatud referents</a:t>
                      </a: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aasta 2000 järg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Kasv võrreldes eelmise kvartali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Kasv võrreldes eelmise aasta sama perioodi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ln.kr. 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n.kr. E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000 =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ln 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5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5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 Unicode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43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38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8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89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48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648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535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8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0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82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8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280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1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2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50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14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2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87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3041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5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70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88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270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2137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8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11056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Panus SKP kasvu, protsendipunkt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47760" y="2133720"/>
          <a:ext cx="3755880" cy="4267080"/>
        </p:xfrm>
        <a:graphic>
          <a:graphicData uri="http://schemas.openxmlformats.org/drawingml/2006/table">
            <a:tbl>
              <a:tblPr/>
              <a:tblGrid>
                <a:gridCol w="2819520"/>
                <a:gridCol w="936360"/>
              </a:tblGrid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4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atarbimiskulut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itsemissektori lõpptarbimiskulut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MKTI lõpptarbimiskulut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itali kogumahutus põhivar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ude muu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semajanduse nõud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upade ja teenuste ek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upade ja teenuste im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istiline va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P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regulaarne revideeri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janduskasvu arvutamisel kasutatavate andmete laekumise kiiruse ning sellega seotud andmete kvaliteedi muutumise tõttu tuleb SKP arvestusi regulaarselt uuendada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KP arvestuste regulaarne uuendamine on enamike arenenud riikide rahvamajanduse arvepidamise praktika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järgitakse Eurostati poolt seatud üldisi SKP revideerimise põhimõttei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60360" y="206064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Kiirhinnang t+44 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inult tootmise meetod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valdatakse SKP ka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Täpsustatud/esialgne kvartaliarvestus t+70 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rvestatakse ja avaldatakse tootmise, tarbimise ja sissetulekute meetod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Jooksevhinnas ja püsivhinnas (alates 2008 II kv eelmise aasta hindades ja ahelda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lates 2000 on erinevus kiirhinnanguga ja kompleksse kvartaliarvestusega arvestatud SKP kasvude vahel 0,2 protsendipunkti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19320" y="103644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regulaarne revideerimine: etapi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84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09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3.  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ttevõtete kompleksse majandusaasta aruannete (EKOMAR-i) järgi korrigeerimine t+21 ku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valdame septemb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Pakkumise ja kasutamise tabelite järgi korrigeerimine t+45 ku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Lõplik S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53352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valdame septemb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112536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regulaarne revideerimine: etapi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3720" y="6922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ootavad SKP revisjonid (mitteregulaarsed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00000" y="1844640"/>
          <a:ext cx="7515360" cy="4266720"/>
        </p:xfrm>
        <a:graphic>
          <a:graphicData uri="http://schemas.openxmlformats.org/drawingml/2006/table">
            <a:tbl>
              <a:tblPr/>
              <a:tblGrid>
                <a:gridCol w="2479320"/>
                <a:gridCol w="2263320"/>
                <a:gridCol w="1835640"/>
                <a:gridCol w="937080"/>
              </a:tblGrid>
              <a:tr h="381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j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õ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ähta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hekordne deflateeri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odang ja vahetarbimine deflateeritakse eraldi. Nende vahena leitakse lisandväärt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P korrigeerimine püsivhin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gevusalade uus klassifitseeri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gevusalade  klassifitseerimise muudatus: osad tegevusalad paigutatakse ümber teistesse tegevusalade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gevusalade jooksev- ja püsivhinna arvestused, sh kasvud muutuv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A 95 revisj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P arvestusmetoodika muudat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õju veel teadmata, kuid metoodika muudatus toob tõenäoliselt kaasa ka SKP korrektsioon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7760" y="15685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sesoonne ja tööpäevade arvuga korrigeeri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7760" y="233028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KP-d korrigeeritakse nii sesoonselt kui ka tööpäevade arvu järgi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i korrigeeritud kui ka korrigeerimata väärtuste aegrea põhjal arvutatakse SKP kasvud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egridade sesoonne korrigeerimine on protsess, mille eesmärk on hooajaliste tegurite mõju kindlakstegemine ja elimineerimine, et saada selgem pilt majandusprotsessidest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äevade arvuga korrigeerimisel on eemaldatud erinevused võrreldavate perioodide tööpäevade arvus </a:t>
            </a: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(riiklikud pühad).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elleks kasutatakse vastavat mude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341360"/>
            <a:ext cx="7885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rrigeerimata ning sesoonselt ja tööpäevade arvuga korrigeeritud SKP kasvu (eelmise kvartali suhtes) võrdl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93760" y="1989000"/>
            <a:ext cx="80582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47760" y="15685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sesoonne ja tööpäevade arvuga korrigeeri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47760" y="233028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korrigeeritud aegrea põhjal leitud SKP ühe kvartali kasv erineval avaldamise ajal erineb peamiselt korrigeerimiseks kasutatava mudeli eripära ehk nn 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time consistency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ingimuste tõttu,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t sesoonselt ja tööpäevade arvuga korrigeeritud aegrea kvartalite summa kroonides peab andma aasta absoluutväärtuse kroonides.</a:t>
            </a:r>
            <a:r>
              <a:rPr b="0" lang="et-E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7993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ajanduskasvu arvestuse üldpõhimõtted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44160" y="213336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KP-d arvutatakse nii jooksev- kui ka püsivhindade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janduskasvu hindamiseks on vaja tagada SKP võrreldavus teiste perioodidega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Jooksevhindades esitatud SKP sisaldab ka hindade muutust (inflatsiooni) ja ei näita seega tootmismahu muutust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ks, et võrrelda SKP muutumist ajas ning saada teavet selle reaalse kasvu kohta,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tuleb kõrvaldada hinnamuutuste mõju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7760" y="15318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KP sesoonne ja tööpäevade arvuga korrigeeri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soonne korrigeerimine on eriti oluline kahe üksteisele vahetult järgneva kvartali majanduskasvu jälgimisel,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sest nt IV ja I kvartali võrdlemisel on sesoonsus tu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Kvartali aastakasvude (kasv võrreldes eelmise aasta sama kvartaliga) võrdlemisel võib kasutada nii korrigeerimata kui korrigeeritud SKP kasvu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urostati 1. pressiteates (SKP kiirhinnang) avaldatakse Eesti SKP korrigeeri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urostati 2. pressiteates (esialgne täpsustatud SKP) avaldatakse Eesti SKP korrigeeri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urostati 3. pressiteates (teine täpsustatud SKP) avaldatakse Eesti SKP sesoonselt ja tööpäevade arvuga korrigeerit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00400" y="1880640"/>
            <a:ext cx="356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Tänan kuulama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7169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ajanduskasvu arvestuse üldpõhimõtted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KP reaalse kasvu hindamiseks arvutatakse selle komponendid baasaasta keskmiste hindade aluse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SKP püsivhinna arvestustes kasutati varem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fikseeritud baasaastana 2000. aastat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navu II kvartalist alates arvutab Statistikaamet SKP reaalkasvu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eelmise aasta hindade baasil ja aheldamise meetodi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4520" y="11764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Fikseeritud baasaasta probleem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04640" y="2257200"/>
            <a:ext cx="7515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aastate kaugenedes baasaastast peegeldab viimase hinna- ja toodete struktuur üha ebatäpsemalt arvestusaasta tegelikku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etõttu tuleb baasaastat teatud ajavahemiku (tavaliselt iga 5 a) järel edasi tõsta ning SKP andmed selle järgi ümber arves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 u="sng">
                <a:solidFill>
                  <a:srgbClr val="990000"/>
                </a:solidFill>
                <a:uFillTx/>
                <a:latin typeface="Arial"/>
              </a:rPr>
              <a:t>Seega, mida lähemal asub konkreetne arvestusaasta baasaastale, seda täpsemad on püsivhinna arvest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4800" y="1459080"/>
            <a:ext cx="628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366"/>
                </a:solidFill>
                <a:latin typeface="Arial"/>
              </a:rPr>
              <a:t>Üleminek arvestustele aheldamise meetodi järg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751536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3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heldamise meetodi puhul ei ole </a:t>
            </a:r>
            <a:r>
              <a:rPr b="0" lang="et-EE" sz="2000" spc="-1" strike="noStrike" u="sng">
                <a:solidFill>
                  <a:srgbClr val="003366"/>
                </a:solidFill>
                <a:uFillTx/>
                <a:latin typeface="Arial"/>
              </a:rPr>
              <a:t>fikseeritud</a:t>
            </a: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 baasaasta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7720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baasina kasutatakse arvestusperioodile eelnenud aasta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7720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arvestused tuleb teha eelmise aasta hindad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080" indent="-27720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võimaldab mõõta reaalseid muutusi täpsemalt.</a:t>
            </a:r>
            <a:r>
              <a:rPr b="0" lang="et-EE" sz="2000" spc="-1" strike="noStrike">
                <a:solidFill>
                  <a:srgbClr val="070e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79640" y="3645000"/>
          <a:ext cx="5832360" cy="273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645000"/>
                    <a:ext cx="58323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366"/>
                </a:solidFill>
                <a:latin typeface="Arial"/>
              </a:rPr>
              <a:t>Aheldamise meetodi kasutamise kohus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elmise aasta hindades arvestuste ja aheldamise nõu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366"/>
                </a:solidFill>
                <a:latin typeface="Arial"/>
              </a:rPr>
              <a:t>Euroopa Parlamendi ja Nõukogu 2007. aasta 13. novembri määrus 1392/2007, mis täiendab Nõukogu määrust 2223/96 rahvamajanduse arvepidamise andmeedastuse koht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4428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70e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70e33"/>
                </a:solidFill>
                <a:latin typeface="Arial"/>
              </a:rPr>
              <a:t>SKP komponentide reaalkasv arvutatakse kõige uuema hinnastruktuuri baasi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70e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70e33"/>
                </a:solidFill>
                <a:latin typeface="Arial"/>
              </a:rPr>
              <a:t>seetõttu peegeldavad kasvumäärad majandusolukorra muutust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täpsemalt</a:t>
            </a:r>
            <a:r>
              <a:rPr b="0" lang="et-EE" sz="2000" spc="-1" strike="noStrike">
                <a:solidFill>
                  <a:srgbClr val="070e33"/>
                </a:solidFill>
                <a:latin typeface="Arial"/>
              </a:rPr>
              <a:t>, seda isegi referentsaastast kaugene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70e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70e33"/>
                </a:solidFill>
                <a:latin typeface="Arial"/>
              </a:rPr>
              <a:t>SKP ja selle komponentide kasvu </a:t>
            </a: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parem rahvusvaheline võrreldav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eaaegu kõik EL ja enamik maailma arenenud riike (nt USA, Kanada, Jaapan, Norra, Šveits) kasutavad SKP reaalkasvu arvutamisel aheldamise meet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258920" y="1163520"/>
            <a:ext cx="599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heldamise meetodi eelised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Uued mõist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04640" y="2133360"/>
            <a:ext cx="7515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Väärtused eelmise aasta hindades: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mise aasta keskmiste hindade põhjal arvutatud (deflateeritud) arvestusperioodi kvartalite näitaja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Ahelindeks: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una eelmise aasta hindades leitud SKP komponentide väärtused ei ole aastati võrreldavad, arvutatakse järjestikuste perioodide aheldamiseks vastavad indeksi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990000"/>
                </a:solidFill>
                <a:latin typeface="Arial"/>
              </a:rPr>
              <a:t>Aheldatud väärtused referentsaasta järgi: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ferentsaasta järgi ahelindeksiga arvutatud väärtused (referentsaasta väärtus korrutatud arvestusperioodi ahelindeksi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anuo</cp:lastModifiedBy>
  <cp:lastPrinted>2001-03-09T09:19:09Z</cp:lastPrinted>
  <dcterms:modified xsi:type="dcterms:W3CDTF">2008-09-02T12:16:33Z</dcterms:modified>
  <cp:revision>140</cp:revision>
  <dc:subject/>
  <dc:title>PowerPoint Presentation</dc:title>
</cp:coreProperties>
</file>