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7.11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otsiaaluuringute partneripäe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914400" indent="517680" algn="ctr">
              <a:spcBef>
                <a:spcPts val="4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3" marL="1371600" indent="603360" algn="ctr">
              <a:spcBef>
                <a:spcPts val="499"/>
              </a:spcBef>
              <a:buClr>
                <a:srgbClr val="00395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4" marL="1828800" indent="554040" algn="ctr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5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lvl="6" marL="1828800" indent="554040">
              <a:spcBef>
                <a:spcPts val="499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7.11.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otsiaaluuringute partneripäev</a:t>
            </a:r>
            <a:endParaRPr b="0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83" name="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3951"/>
                </a:solidFill>
                <a:latin typeface="Arial"/>
              </a:rPr>
              <a:t>Elukestev õpe Eestis ja Euroopas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971640" y="2565360"/>
            <a:ext cx="4495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Tiiu-Liisa Rummo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3951"/>
                </a:solidFill>
                <a:latin typeface="Arial"/>
              </a:rPr>
              <a:t>nalüütik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58560" y="1483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25–64-aastaste elukestvas õppes osalemine nelja viimase nädala jooksul, 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3068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lukestvas õppes osales 50 000 inimest ehk 7%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eist umbes pool õppis formaalharidussüsteemis ja pool osales koolitustel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58560" y="1483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5–64-aastaste koolitusel osalemine nelja viimase nädala jooksul, 2007 (protsent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247760" y="2852640"/>
          <a:ext cx="7427880" cy="2808360"/>
        </p:xfrm>
        <a:graphic>
          <a:graphicData uri="http://schemas.openxmlformats.org/drawingml/2006/table">
            <a:tbl>
              <a:tblPr/>
              <a:tblGrid>
                <a:gridCol w="6243480"/>
                <a:gridCol w="1184400"/>
              </a:tblGrid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Osales koolitusel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..tööalane täiendus- või ümberõppekursus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..tööalane konverents või seminar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60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..huviala või harrastusega seotud koolitus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..muu koolitus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0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58560" y="69336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lukestvas õppes osalenud nelja viimase nädala jooksul soo järgi, 2007 (protsenti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417600" y="1844640"/>
          <a:ext cx="8237520" cy="4267080"/>
        </p:xfrm>
        <a:graphic>
          <a:graphicData uri="http://schemas.openxmlformats.org/drawingml/2006/table">
            <a:tbl>
              <a:tblPr/>
              <a:tblGrid>
                <a:gridCol w="1455480"/>
                <a:gridCol w="2260800"/>
                <a:gridCol w="2260440"/>
                <a:gridCol w="2260800"/>
              </a:tblGrid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Mehed ja nais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Meh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Nais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5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EL 2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0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EL 1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1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0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2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Eest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Küpros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8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Leed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Lät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7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9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Malta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6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Poola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lovakkia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Sloveenia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4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3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16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Tšehh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5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Ungar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  <a:ea typeface="Times New Roman"/>
                        </a:rPr>
                        <a:t>4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47760" y="549360"/>
            <a:ext cx="751536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Nelja viimase nädala jooksul </a:t>
            </a:r>
            <a:br>
              <a:rPr sz="2800"/>
            </a:b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25–64-aastaste koolitustel osaletud keskmine tundide arv, 2003–2007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95280" y="2133720"/>
          <a:ext cx="8362800" cy="2057400"/>
        </p:xfrm>
        <a:graphic>
          <a:graphicData uri="http://schemas.openxmlformats.org/drawingml/2006/table">
            <a:tbl>
              <a:tblPr/>
              <a:tblGrid>
                <a:gridCol w="1393920"/>
                <a:gridCol w="1393560"/>
                <a:gridCol w="1393920"/>
                <a:gridCol w="1393920"/>
                <a:gridCol w="1393920"/>
                <a:gridCol w="1393560"/>
              </a:tblGrid>
              <a:tr h="48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098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ehed ja naised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8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5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24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eh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3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2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82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Nais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1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8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4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oolitustel osalemine kestuse järgi, 2000 ja 2007 (protsent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295280" y="1844640"/>
          <a:ext cx="5585040" cy="3638520"/>
        </p:xfrm>
        <a:graphic>
          <a:graphicData uri="http://schemas.openxmlformats.org/drawingml/2006/table">
            <a:tbl>
              <a:tblPr/>
              <a:tblGrid>
                <a:gridCol w="1876680"/>
                <a:gridCol w="1487520"/>
                <a:gridCol w="25200"/>
                <a:gridCol w="2195640"/>
              </a:tblGrid>
              <a:tr h="599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0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0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ähem kui 1 nädal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237960"/>
                          <a:tab algn="l" pos="476280"/>
                          <a:tab algn="l" pos="714240"/>
                          <a:tab algn="l" pos="952560"/>
                          <a:tab algn="l" pos="1190520"/>
                          <a:tab algn="l" pos="1428840"/>
                          <a:tab algn="l" pos="1666800"/>
                          <a:tab algn="l" pos="1905120"/>
                          <a:tab algn="l" pos="2143080"/>
                          <a:tab algn="l" pos="2381400"/>
                          <a:tab algn="l" pos="2619360"/>
                          <a:tab algn="l" pos="2857680"/>
                          <a:tab algn="l" pos="3095640"/>
                          <a:tab algn="l" pos="3333600"/>
                          <a:tab algn="l" pos="3571920"/>
                          <a:tab algn="l" pos="3809880"/>
                          <a:tab algn="l" pos="4048200"/>
                          <a:tab algn="l" pos="4286160"/>
                          <a:tab algn="l" pos="4524480"/>
                          <a:tab algn="l" pos="476244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1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3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 nädal kuni 1 ku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 kuu kuni 3 kuud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 kuud kuni 1 aasta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4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Üle 1 aasta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47760" y="692280"/>
            <a:ext cx="751536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5–64-aastaste hariduse omandamine (tasemeharidus ja koolitused) </a:t>
            </a:r>
            <a:br>
              <a:rPr sz="3200"/>
            </a:b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12 viimase kuu jooksul, 2007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111320" y="2149560"/>
            <a:ext cx="7688160" cy="3584520"/>
            <a:chOff x="1111320" y="2149560"/>
            <a:chExt cx="7688160" cy="3584520"/>
          </a:xfrm>
        </p:grpSpPr>
        <p:pic>
          <p:nvPicPr>
            <p:cNvPr id="334" name="" descr=""/>
            <p:cNvPicPr/>
            <p:nvPr/>
          </p:nvPicPr>
          <p:blipFill>
            <a:blip r:embed="rId1"/>
            <a:stretch/>
          </p:blipFill>
          <p:spPr>
            <a:xfrm>
              <a:off x="1111320" y="2149560"/>
              <a:ext cx="7061040" cy="35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101080" y="5232240"/>
              <a:ext cx="69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247760" y="763200"/>
            <a:ext cx="751536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25–64-aastaste hariduse omandamine (tasemeharidus ja koolitused) </a:t>
            </a:r>
            <a:br>
              <a:rPr sz="2800"/>
            </a:b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12 viimase kuu jooksul soo järgi, 2007 (protsenti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1284120" y="2568600"/>
          <a:ext cx="6264360" cy="3381480"/>
        </p:xfrm>
        <a:graphic>
          <a:graphicData uri="http://schemas.openxmlformats.org/drawingml/2006/table">
            <a:tbl>
              <a:tblPr/>
              <a:tblGrid>
                <a:gridCol w="906480"/>
                <a:gridCol w="1887840"/>
                <a:gridCol w="1734840"/>
                <a:gridCol w="1735200"/>
              </a:tblGrid>
              <a:tr h="5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eh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Nais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KK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63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est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6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6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2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oome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8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1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5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63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oots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0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6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3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ät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5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9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2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63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ed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8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8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3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47760" y="907560"/>
            <a:ext cx="751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25–64-aastaste hariduse omandamine (tasemeharidus ja koolitused) 12 viimase kuu jooksul vanuseti, 2007 (protsenti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95280" y="2565360"/>
          <a:ext cx="8278920" cy="348948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5640"/>
                <a:gridCol w="1655640"/>
                <a:gridCol w="165600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5892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5–34-aastas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5–54-aastas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7144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5–64-aastas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KK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est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2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2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7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2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oome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6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8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7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5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74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oots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1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6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0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3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ät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9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4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2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ed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2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5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3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920" y="907560"/>
            <a:ext cx="751536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5–64-aastaste hariduse omandamine (tasemeharidus ja koolitused) </a:t>
            </a:r>
            <a:br>
              <a:rPr sz="3200"/>
            </a:b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12 viimase kuu jooksul hariduse järgi, 2007 (protsent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95280" y="2565360"/>
          <a:ext cx="8278920" cy="3537000"/>
        </p:xfrm>
        <a:graphic>
          <a:graphicData uri="http://schemas.openxmlformats.org/drawingml/2006/table">
            <a:tbl>
              <a:tblPr/>
              <a:tblGrid>
                <a:gridCol w="1655640"/>
                <a:gridCol w="1656000"/>
                <a:gridCol w="1655640"/>
                <a:gridCol w="1655640"/>
                <a:gridCol w="1656000"/>
              </a:tblGrid>
              <a:tr h="122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simese taseme haridus või madalam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eise taseme haridus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4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lmanda taseme haridus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KK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6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est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5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0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2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oome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5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1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2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5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6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oots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5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2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9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3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ät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7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8,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2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6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ed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1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3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58920" y="907920"/>
            <a:ext cx="751536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25–64-aastaste hariduse omandamine (tasemeharidus ja koolitused) 12 viimase kuu jooksul hõiveseisundi järgi, 2007 (protsenti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417600" y="2565360"/>
          <a:ext cx="8258040" cy="3335400"/>
        </p:xfrm>
        <a:graphic>
          <a:graphicData uri="http://schemas.openxmlformats.org/drawingml/2006/table">
            <a:tbl>
              <a:tblPr/>
              <a:tblGrid>
                <a:gridCol w="1650960"/>
                <a:gridCol w="1652400"/>
                <a:gridCol w="1651320"/>
                <a:gridCol w="1652400"/>
                <a:gridCol w="1650960"/>
              </a:tblGrid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  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Hõivatu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öötu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7460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itte-aktiivs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KK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est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9,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4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2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oome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2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4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5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574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oots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9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8,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1,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3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ät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,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,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2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21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ed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3,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,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3,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lukestev õp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1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ermin “elukestev õpe” annab edasi selle n-ö hällist hauani perspektiivi, mille kohaselt toimub õppimine kõigil eluetappidel, lugematul erineval moel ning paljudes erinevates situatsioonide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199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s loetakse elukestvaks õppeks õppimist formaalharidussüsteemis (tasemehariduses) või osalemist koolitustel, täiendus- või ümberõppekursustel, konverentsidel, seminaridel, töötute koolitustel ning huvialakursustel. Uuritakse täiskasvanud õppija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04640" y="939600"/>
            <a:ext cx="7515000" cy="68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25–64-aastaste hõivatute hariduse omandamine (tasemeharidus ja koolitused) 12 viimase kuu jooksul ameti järgi, 2007 (protsenti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17600" y="2565360"/>
          <a:ext cx="8258040" cy="3627360"/>
        </p:xfrm>
        <a:graphic>
          <a:graphicData uri="http://schemas.openxmlformats.org/drawingml/2006/table">
            <a:tbl>
              <a:tblPr/>
              <a:tblGrid>
                <a:gridCol w="877680"/>
                <a:gridCol w="2421000"/>
                <a:gridCol w="1647720"/>
                <a:gridCol w="1424160"/>
                <a:gridCol w="1887480"/>
              </a:tblGrid>
              <a:tr h="1373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Juhid, spetsialistid, tehnikud, kõrgemad ametnikud 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ISCO</a:t>
                      </a: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 1–3)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metnikud, teenindus- ja müügitöötajad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ISCO</a:t>
                      </a: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 4–5)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Oskus- ja käsitöölised (</a:t>
                      </a:r>
                      <a:r>
                        <a:rPr b="1" i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ISCO</a:t>
                      </a: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 6–7)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eadme- ja masina-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operaatorid, lihttöölised (</a:t>
                      </a:r>
                      <a:r>
                        <a:rPr b="1" i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ISCO</a:t>
                      </a: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 8–9)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est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8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0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,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,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oome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3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5,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3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3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oots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1,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7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4,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7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ät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4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4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,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45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edu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9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2,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8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04640" y="981000"/>
            <a:ext cx="7515000" cy="68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25–64-aastaste hariduse omandamine (tasemeharidus ja koolitused) 12 viimase kuu jooksul tundide järgi, 2007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800424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67690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25–64-aastaste koolitustel käimise põhjused, 2007 (protsent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17600" y="1484280"/>
          <a:ext cx="8256600" cy="4537080"/>
        </p:xfrm>
        <a:graphic>
          <a:graphicData uri="http://schemas.openxmlformats.org/drawingml/2006/table">
            <a:tbl>
              <a:tblPr/>
              <a:tblGrid>
                <a:gridCol w="3216240"/>
                <a:gridCol w="1008000"/>
                <a:gridCol w="1008000"/>
                <a:gridCol w="1008000"/>
                <a:gridCol w="1008360"/>
                <a:gridCol w="1008000"/>
              </a:tblGrid>
              <a:tr h="303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est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oome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oots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ät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edu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1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eha tööd paremin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0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5,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1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4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6,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aada tunnistus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2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7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5,3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1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hata uusi inimes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,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8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,3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,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äiendada teadmisi huvipakkuval alal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1,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8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9,3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3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3,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03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äiendada teadmisi eluks vajalikul alal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8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1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8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6,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lustada oma är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,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,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0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Parandada võimalusi leida uus töö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5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4,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48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ähendada võimalust kaotada töö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5,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7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6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01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Olin kohustatud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,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3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6,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3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2,3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3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uu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04640" y="939600"/>
            <a:ext cx="7515000" cy="61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25–64-aastaste hariduse mitteomandamine (tasemeharidus ja koolitused) 12 viimase kuu jooksul põhjuste järgi, 2007 (protsenti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417600" y="2565360"/>
          <a:ext cx="8256600" cy="3456000"/>
        </p:xfrm>
        <a:graphic>
          <a:graphicData uri="http://schemas.openxmlformats.org/drawingml/2006/table">
            <a:tbl>
              <a:tblPr/>
              <a:tblGrid>
                <a:gridCol w="3057480"/>
                <a:gridCol w="1039680"/>
                <a:gridCol w="1040040"/>
                <a:gridCol w="1039680"/>
                <a:gridCol w="1039680"/>
                <a:gridCol w="1040040"/>
              </a:tblGrid>
              <a:tr h="31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est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oome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Roots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ät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eedu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6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i olnud eeldus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iiga kallis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0,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1,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1,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0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5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6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ööandja ei toetanud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3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3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8,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9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ööajaga ei sobinud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2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1,3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6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8,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9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Ajapuudus pere tõttu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6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,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2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,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4,3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auguse tõttu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2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1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,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60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i taha enam tagasi koolipinki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,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Tervis või vanus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,1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2,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,9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3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31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Muu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0,2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0,7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,8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,4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3,5</a:t>
                      </a:r>
                      <a:endParaRPr b="0" lang="en-US" sz="18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okkuvõt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2/3 Eesti ettevõtetest pakub oma töötajatele koolitu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12 viimase kuu jooksul osales elukestvas õppes 42% 25–64-aastastest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aised õpivad rohkem kui mehe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oored õpivad rohkem kui vana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õrgelt haritud õpivad rohkem kui madalalt haritu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õrgematel ametipostidel töötavad täiskasvanud õpivad rohkem kui madalamatel ametipostidel töötavad täiskasvanud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täh tähelepanu e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lukestvat õpet käsitlevad uuringu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ti tööjõu uuring — iga-aasta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äiskasvanute koolitus ettevõtetes — 2000, 2006, 2011 j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äiskasvanute koolituse uuring — 1997, 2007, 2011 j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3951"/>
                </a:solidFill>
                <a:latin typeface="Arial"/>
              </a:rPr>
              <a:t>Koolitust pakkuvad ettevõtted Euroopa Liidu riikides, 2005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81040" y="1330200"/>
            <a:ext cx="802332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1295280" y="3141720"/>
            <a:ext cx="5940720" cy="311040"/>
          </a:xfrm>
          <a:prstGeom prst="rect">
            <a:avLst/>
          </a:prstGeom>
          <a:solidFill>
            <a:srgbClr val="cfe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95280" y="3789360"/>
            <a:ext cx="5940720" cy="311040"/>
          </a:xfrm>
          <a:prstGeom prst="rect">
            <a:avLst/>
          </a:prstGeom>
          <a:solidFill>
            <a:srgbClr val="cfe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5280" y="4486320"/>
            <a:ext cx="5940720" cy="311040"/>
          </a:xfrm>
          <a:prstGeom prst="rect">
            <a:avLst/>
          </a:prstGeom>
          <a:solidFill>
            <a:srgbClr val="cfe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295280" y="5133960"/>
            <a:ext cx="5940720" cy="311040"/>
          </a:xfrm>
          <a:prstGeom prst="rect">
            <a:avLst/>
          </a:prstGeom>
          <a:solidFill>
            <a:srgbClr val="cfe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95280" y="5781600"/>
            <a:ext cx="5940720" cy="311400"/>
          </a:xfrm>
          <a:prstGeom prst="rect">
            <a:avLst/>
          </a:prstGeom>
          <a:solidFill>
            <a:srgbClr val="cfe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95280" y="1844640"/>
            <a:ext cx="5940720" cy="841320"/>
          </a:xfrm>
          <a:prstGeom prst="rect">
            <a:avLst/>
          </a:prstGeom>
          <a:solidFill>
            <a:srgbClr val="cfee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Koolitust pakkunud ettevõtted Euroopas koolitusviisi järgi, 2005 (protsent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295280" y="1862280"/>
          <a:ext cx="5437440" cy="45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62280"/>
                    <a:ext cx="54374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4920" y="475920"/>
            <a:ext cx="6953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äienduskoolitust korraldanud ettevõtted suuruse järgi, 1999, 2005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12800" y="2071800"/>
            <a:ext cx="7905960" cy="3548880"/>
            <a:chOff x="712800" y="2071800"/>
            <a:chExt cx="7905960" cy="3548880"/>
          </a:xfrm>
        </p:grpSpPr>
        <p:sp>
          <p:nvSpPr>
            <p:cNvPr id="260" name=""/>
            <p:cNvSpPr/>
            <p:nvPr/>
          </p:nvSpPr>
          <p:spPr>
            <a:xfrm>
              <a:off x="1766880" y="2071800"/>
              <a:ext cx="5762520" cy="323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76688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234324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291924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49560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07196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64832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22432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580068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37704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95340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7529400" y="2071800"/>
              <a:ext cx="0" cy="3233520"/>
            </a:xfrm>
            <a:prstGeom prst="line">
              <a:avLst/>
            </a:prstGeom>
            <a:ln w="324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66880" y="4767120"/>
              <a:ext cx="3573360" cy="441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766880" y="4325760"/>
              <a:ext cx="3343320" cy="441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66880" y="3689280"/>
              <a:ext cx="4840200" cy="439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66880" y="3247920"/>
              <a:ext cx="4898880" cy="441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66880" y="2610000"/>
              <a:ext cx="5532480" cy="44100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766880" y="2170080"/>
              <a:ext cx="5475240" cy="441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684440" y="5305320"/>
              <a:ext cx="28440" cy="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84440" y="4227480"/>
              <a:ext cx="28440" cy="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684440" y="3149640"/>
              <a:ext cx="28440" cy="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84440" y="2071800"/>
              <a:ext cx="28440" cy="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76688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4324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291924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49560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407196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464832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522432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80068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637704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695340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7529400" y="5359320"/>
              <a:ext cx="0" cy="28800"/>
            </a:xfrm>
            <a:prstGeom prst="line">
              <a:avLst/>
            </a:prstGeom>
            <a:ln w="6480">
              <a:solidFill>
                <a:srgbClr val="004f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1712880" y="2071800"/>
              <a:ext cx="0" cy="3233520"/>
            </a:xfrm>
            <a:prstGeom prst="line">
              <a:avLst/>
            </a:prstGeom>
            <a:ln w="1908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66880" y="5359320"/>
              <a:ext cx="5762520" cy="0"/>
            </a:xfrm>
            <a:prstGeom prst="line">
              <a:avLst/>
            </a:prstGeom>
            <a:ln w="19080">
              <a:solidFill>
                <a:srgbClr val="0039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58760" y="4579920"/>
              <a:ext cx="587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10–49 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töötajat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00440" y="3500280"/>
              <a:ext cx="6454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50–249 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töötajat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94960" y="2408400"/>
              <a:ext cx="753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Vähemalt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800" y="2610000"/>
              <a:ext cx="93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250 töötajat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15400" y="54072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240640" y="540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817000" y="540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93360" y="540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69720" y="540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45720" y="540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22080" y="540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98440" y="540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7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274440" y="540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8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0800" y="540720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9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75680" y="54072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842240" y="2637000"/>
              <a:ext cx="254160" cy="25380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21680" y="26622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842240" y="2093760"/>
              <a:ext cx="254160" cy="25560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21680" y="2119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59640" y="5062680"/>
              <a:ext cx="1038240" cy="3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610400" y="5151600"/>
              <a:ext cx="1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951"/>
                  </a:solidFill>
                  <a:latin typeface="Arial"/>
                </a:rPr>
                <a:t>%</a:t>
              </a:r>
              <a:endParaRPr b="0" lang="en-US" sz="1400" spc="-1" strike="noStrike">
                <a:solidFill>
                  <a:srgbClr val="00395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nim oma töötajatele kursusi pakkuvad ettevõtted, 2005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16000" y="25905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nantsvahendusettev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ostside- ja telekommunikatsiooniettev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innisvara-, rentimise- ja äritegevusega ning muu ühiskonna-, sotsiaal- ja isikuteenindusega tegelevad ettevõtte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2560" y="1341000"/>
            <a:ext cx="810108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äienduskoolituse puudumise põhjused ettevõttes, 2005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042920" y="25905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olitus on liiga kallis (51%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tajate olemasolevad oskused vastavad ettevõtte vajadustele (50%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rvatud on vajalike oskustega töötajad (42%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obiva koolituse puudumine turul (21%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tajad on liiga hõivatud, pole aega koolituse jaoks (17%)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Ettevõtete koolituspoliitika ettevõtte suurusklassi järgi, 2005 (protsenti)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417600" y="1844640"/>
          <a:ext cx="8254800" cy="4206960"/>
        </p:xfrm>
        <a:graphic>
          <a:graphicData uri="http://schemas.openxmlformats.org/drawingml/2006/table">
            <a:tbl>
              <a:tblPr/>
              <a:tblGrid>
                <a:gridCol w="1490400"/>
                <a:gridCol w="1811520"/>
                <a:gridCol w="1650960"/>
                <a:gridCol w="1650960"/>
                <a:gridCol w="1650960"/>
              </a:tblGrid>
              <a:tr h="1220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ttevõtte suurusklass töötajate arvu järgi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daspidist tööjõuvajadust hindavad ettevõtt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olitus-kavaga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ttevõtt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olitus-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elarvega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ettevõtt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olitus-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eskusega ettevõtted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4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0–49 töötajat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7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50–249 töötajat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7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  <a:tr h="745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50 ja enam töötajat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4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KOKKU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feea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user</cp:lastModifiedBy>
  <dcterms:modified xsi:type="dcterms:W3CDTF">2008-11-26T07:56:56Z</dcterms:modified>
  <cp:revision>45</cp:revision>
  <dc:subject/>
  <dc:title>Slide 1</dc:title>
</cp:coreProperties>
</file>