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7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3951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Times New Roman"/>
              </a:rPr>
              <a:t>27.11.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0532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Sotsiaaluuringute partneripäev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89856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914400" indent="517680" algn="ctr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3" marL="1371600" indent="603360" algn="ctr">
              <a:spcBef>
                <a:spcPts val="499"/>
              </a:spcBef>
              <a:buClr>
                <a:srgbClr val="00395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4" marL="1828800" indent="554040" algn="ctr">
              <a:spcBef>
                <a:spcPts val="499"/>
              </a:spcBef>
              <a:buClr>
                <a:srgbClr val="00395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5" marL="1828800" indent="554040">
              <a:spcBef>
                <a:spcPts val="499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6" marL="1828800" indent="554040">
              <a:spcBef>
                <a:spcPts val="499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3951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Times New Roman"/>
              </a:rPr>
              <a:t>27.11.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2436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Sotsiaaluuringute partneripäev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83" name="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7968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ftr" idx="3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3951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Times New Roman"/>
              </a:rPr>
              <a:t>01.01.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0532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Presentatsiooni pealkiri või esitaja nimi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040" y="89856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ftr" idx="4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3951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Times New Roman"/>
              </a:rPr>
              <a:t>01.01.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0532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Presentatsiooni pealkiri või esitaja nimi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323" name="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325" name="" descr="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99640" y="1341000"/>
            <a:ext cx="4498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Elamistingimused linnas ja maal</a:t>
            </a:r>
            <a:endParaRPr b="0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899640" y="270828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Marin Randoj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Analüütik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Eluruumi omandivorm, 2007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1211400" y="1773360"/>
            <a:ext cx="71056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31640" y="90792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Mugavused eluruumis, 2007 (%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1247760" y="2179800"/>
          <a:ext cx="7139160" cy="3811320"/>
        </p:xfrm>
        <a:graphic>
          <a:graphicData uri="http://schemas.openxmlformats.org/drawingml/2006/table">
            <a:tbl>
              <a:tblPr/>
              <a:tblGrid>
                <a:gridCol w="3378240"/>
                <a:gridCol w="1700280"/>
                <a:gridCol w="1700280"/>
                <a:gridCol w="360360"/>
              </a:tblGrid>
              <a:tr h="317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Linn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Maa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309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Jooksev vesi või kraan 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6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Kanalisatsioonivõrk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328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Vesiklosett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Soe vesi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65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Vannituba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Saun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Tsentraalne keskküte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Kohalik keskküte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Ahiküte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67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Elektriküte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Eluruumi seisund, 2007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1090440" y="1733400"/>
            <a:ext cx="6961320" cy="43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Leibkonnad püsikaupade olemasolu järgi, 2007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351000" y="1768320"/>
            <a:ext cx="8037360" cy="36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Eluruumi keskmine kaugus asutustest, 2007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21844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Probleemid eluruumiga, 2007 (1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512640" y="1700280"/>
            <a:ext cx="802008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Probleemid eluruumiga, 2007 (2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1066680" y="1700280"/>
            <a:ext cx="746604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885080" cy="64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Leibkonnad sotsiaalse grupi järgi, 2007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820872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Leibkonna eelarv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15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2007. aastal oli leibkonnaliikme kuukeskmine sissetulek 5300 krooni ja väljaminek 4400 krooni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5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Maaleibkonna kuukeskmine sissetulek oli 4800 ja väljaminek 4200 krooni liikme kohta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5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Linnaleibkonnas oli sissetulek 14% ja väljaminek 6% suurem kui maaleibkonna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5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Võrreldes 2006. aastaga suurenesid nii sissetulekud kui väljaminekud 2007. aastal rohkem maaleibkondade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issetuleku struktuur, 2007 (%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1247760" y="2179800"/>
          <a:ext cx="7139160" cy="4289400"/>
        </p:xfrm>
        <a:graphic>
          <a:graphicData uri="http://schemas.openxmlformats.org/drawingml/2006/table">
            <a:tbl>
              <a:tblPr/>
              <a:tblGrid>
                <a:gridCol w="3378240"/>
                <a:gridCol w="1700280"/>
                <a:gridCol w="1700280"/>
                <a:gridCol w="360360"/>
              </a:tblGrid>
              <a:tr h="317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Linn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Maa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309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Netosissetulek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6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Sissetulek palgatööst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71,5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64,5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488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Tulu individuaalsest töisest tegevusest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3,6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6,0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Omanditulu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0,8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Siirded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3,3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6,7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…</a:t>
                      </a: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pensionid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6,9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8,9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…</a:t>
                      </a: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lastetoetus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,5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,2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…</a:t>
                      </a: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haigusraha, raseduspuhkuse raha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0,4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…</a:t>
                      </a: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alimendid ja toetusrahad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0,4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…</a:t>
                      </a: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sotsiaalabi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…</a:t>
                      </a: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muud siirded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3,6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3,5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Muud tulud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,1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,0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Uuringu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15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Leibkonna eelarve uuring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5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esti sotsiaaluuring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5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lamumajand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Kulutuste struktuur, 2007 (%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1247760" y="2189160"/>
          <a:ext cx="7140600" cy="4264200"/>
        </p:xfrm>
        <a:graphic>
          <a:graphicData uri="http://schemas.openxmlformats.org/drawingml/2006/table">
            <a:tbl>
              <a:tblPr/>
              <a:tblGrid>
                <a:gridCol w="3467160"/>
                <a:gridCol w="1596960"/>
                <a:gridCol w="1701720"/>
                <a:gridCol w="374760"/>
              </a:tblGrid>
              <a:tr h="283680"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Linn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Maa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283680"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Väljaminekud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Toit ja mittealkohoolsed joogid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4,3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5,2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283680"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Alkohoolsed joogid ja tubakas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,8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3,6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Riided ja jalanõud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7,4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5,6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283680"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Eluase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5,7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1,8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Majapidamiskulud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5,5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6,7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285480"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Tervishoid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4,0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,9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Transport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1,8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8,2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283680"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Side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5,5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5,5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Vaba aeg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9,4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8,0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284040"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Haridus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,3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0,8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Hotellid, kohvikud, restoranid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3,6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3,7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284040"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Mitmesugused kaubad ja teenused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6,2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5,6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Muud kulutused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,6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,5</a:t>
                      </a:r>
                      <a:endParaRPr b="0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1800" indent="-361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uhtelise vaesuse määr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15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Suhtelise vaesuse määr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on isikute osatähtsus, kelle ekvivalentnetosissetulek on suhtelise vaesuse piirist madalam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5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uhtelise vaesuse piir oli 2006. aastal 41 800 krooni ja suhtelise vaesuse määr 19,5%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5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Maal elas 25,9% ja linnas 16,6% inimestest vaesuse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Elanikud sissetulekukvintiili järgi, 2006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971640" y="1492200"/>
            <a:ext cx="610380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Kokkuvõt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318240" indent="-318240">
              <a:lnSpc>
                <a:spcPct val="80000"/>
              </a:lnSpc>
              <a:spcBef>
                <a:spcPts val="9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Maal on eluruumid suuremad kui linna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lnSpc>
                <a:spcPct val="80000"/>
              </a:lnSpc>
              <a:spcBef>
                <a:spcPts val="9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namik linnaleibkondi elab kortermajas, maal elab kortermajas vaid iga kolmas leibkond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lnSpc>
                <a:spcPct val="80000"/>
              </a:lnSpc>
              <a:spcBef>
                <a:spcPts val="9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Linna eluruumid on paremas seisundis, seal on rohkem mugavusi kui maal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lnSpc>
                <a:spcPct val="80000"/>
              </a:lnSpc>
              <a:spcBef>
                <a:spcPts val="9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Võrreldes linnaga asuvad eluruumid maal erinevatest asutustest kaugemal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lnSpc>
                <a:spcPct val="80000"/>
              </a:lnSpc>
              <a:spcBef>
                <a:spcPts val="9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Peamisteks eluruumiga seotud probleemideks linnas on eluruumi kallidus, liiga väike eluruum, piirkonna kärarikkus, ebaturvalisus ja saastatu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lnSpc>
                <a:spcPct val="80000"/>
              </a:lnSpc>
              <a:spcBef>
                <a:spcPts val="9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Peamisteks eluruumiga seotud probleemideks maal on eluruumi kehv seisund, puuduvad mugavused, kaugus keskusest ja kallidu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lnSpc>
                <a:spcPct val="80000"/>
              </a:lnSpc>
              <a:spcBef>
                <a:spcPts val="9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Linnas on nii sissetulekud kui väljaminekud suuremad ja tõenäosus langeda vaesusesse väiksem kui maal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Mõist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32640" indent="-332640">
              <a:spcBef>
                <a:spcPts val="15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Leibkond 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n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 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ühises põhieluruumis (ühisel aadressil) elavate isikute rühm, kes kasutab ühiseid raha- ja/või toiduressursse ja kelle liikmed ka ise tunnistavad, et on ühes leibkonnas. Leibkond võib olla ka üksikisik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spcBef>
                <a:spcPts val="15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Põhiline eluruum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 on eluruum, kus isik veedab / on pikema aja jooksul veetnud suurema osa aastast või suurema osa töö-/õpinguvabast ajast. Abielus või vabaabielus isiku põhiline eluruum on see, kus ta veedab suurema osa partneri või/ja lastega koosoldud ajas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spcBef>
                <a:spcPts val="15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Linnalised asulad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on linn, vallasisene linn ja alev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spcBef>
                <a:spcPts val="15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Maa-asulad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n alevik ja küla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Leibkonnad linnas ja maal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15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2007. aastal elas Eestis 583 700 leibkonda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5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Neist 69% elas linnas ja 31% maal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5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Maal on leibkonnad suuremad: maaleibkonnas on keskmiselt 2,5 liiget, linnaleibkonnas 2,2 liiget. Iga neljas maaleibkond on vähemalt neljaliikmeline, linnaleibkondadest on nii suur vaid iga seitsme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5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Maal on leibkonnas rohkem lapsi: maaleibkonnas on keskmiselt 0,6 last, linnaleibkonnas 0,4 last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705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Linna- ja maaleibkonnad maakonniti, 2007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1258920" y="1498680"/>
            <a:ext cx="7122960" cy="43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Leibkonnad tüübi järgi, 2007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406440" y="1413000"/>
            <a:ext cx="783756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705800" cy="64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Eluruumide arv ja keskmine pind, 1994–2008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1222200" y="1341360"/>
            <a:ext cx="658980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Eluruumi suur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15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Keskmine tubade arv linnas on 2,5 ja maal 3,2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5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Liikme kohta on linnas 1,1 ja maal 1,2 tuba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5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Keskmine eluruumi suurus on linnas 55 m</a:t>
            </a:r>
            <a:r>
              <a:rPr b="0" lang="en-US" sz="2400" spc="-1" strike="noStrike" baseline="30000">
                <a:solidFill>
                  <a:srgbClr val="003951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ja maal 76 m</a:t>
            </a:r>
            <a:r>
              <a:rPr b="0" lang="en-US" sz="2400" spc="-1" strike="noStrike" baseline="30000">
                <a:solidFill>
                  <a:srgbClr val="003951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5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Liikme kohta on linnas kasulikku pinda 26 m</a:t>
            </a:r>
            <a:r>
              <a:rPr b="0" lang="en-US" sz="2400" spc="-1" strike="noStrike" baseline="30000">
                <a:solidFill>
                  <a:srgbClr val="003951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ja maal 30 m</a:t>
            </a:r>
            <a:r>
              <a:rPr b="0" lang="en-US" sz="2400" spc="-1" strike="noStrike" baseline="30000">
                <a:solidFill>
                  <a:srgbClr val="003951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Eluruumi tüüp, 2007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1224000" y="1762200"/>
            <a:ext cx="669456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user</cp:lastModifiedBy>
  <dcterms:modified xsi:type="dcterms:W3CDTF">2008-11-26T07:51:04Z</dcterms:modified>
  <cp:revision>90</cp:revision>
  <dc:subject/>
  <dc:title>Slide 1</dc:title>
</cp:coreProperties>
</file>