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7.11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otsiaaluuringute partneripä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898200"/>
            <a:ext cx="44989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Statistikaameti sotsiaaluuringud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99640" y="285228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rle Paat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otsiaaluuringute talituse juhataj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idevuuringud: sotsiaaluuring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93620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04. aasta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esimene ja ainus paneeluuring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takse Eesti alalist elanikkonda ja leibkondi. Praegu küsitletakse 13 400 inimest ja 5700 leibkonda aasta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nguga saadavad põhitulemused on järgmi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valiseeritud aastanetosissetulek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se tõrjutuse näitajad: suhtelise vaesuse piir, suhtelise vaesuse määr, vaesuse sügavus, ajas ankurdatud vaesuse määr, sissetuleku hajuvus vaesuspiiri ümber, püsivaesuse määr, Gini koefitsient, sissetulekukvintiilide suhte kordaja.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765000"/>
            <a:ext cx="69530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Pidevuuringud: leibkonna eelarve uuring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93620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büdžetiuurimus Eestis tehti 1925. aastal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ng toimus aastatel 1996–2007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8–2009 toimub uuringu uuenda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ti Eestis elavaid tavaleibkondi, 2007. aastal küsitleti 3500 leibkonda aasta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ga tehti intervjuud ja eelarve andmeid koguti päevikute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nguga saadud põhitulemused olid järgmi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 üldandmed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uu kulutused ja sissetulek liikme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0920" y="404640"/>
            <a:ext cx="6953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idevuuringud: turismiuuringu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813780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Väliskülastajate küsitlus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iiripunktides küsitletakse Eestist lahkuvaid välismaa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üsitletakse suvel (juuli – aug) ja sügisel (okt – no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vootvalim 6000. Vastajaid üle 4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Eestlaste välisreisid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lanikkonna mooduluuringu mood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üsitletakse kord kvartalis, eelmise kvartali välisre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alim 10 000, vastab üle 6000 ini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Piiriloendus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õik piiriületajad suunal Eestist vä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Piiriületajate üldkogumi määramiseks, küsitletakse üle 5000 inimese kvart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10920" y="404640"/>
            <a:ext cx="6953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idevuuringud: moodul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13780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Tööjõu-uuring (ETU)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korraldus, tervis ja töövõime, elukestev õppimine, töö ja pereelu, töölt pensionile, tööõnnetused, migrandid tööturul, koolist tööle, elukohamuutused, pikaajaline töötus, kultuuritarbimine, turism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Sotsiaaluuring (ESU)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põlvkondlik vaesus, sotsiaalne osalemine, elamistingimused, pangandus, materiaalne kitsikus, leibkonnasisesed ressursid, perehoiakud, kuritegevus, rahvuslik integratsioon, koolist tööle, ametiühingud ja kollektiivleping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Leibkonna eelarve uuring (LEU)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urism, energia tarbimine, tervishoiu kulutuse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0920" y="404640"/>
            <a:ext cx="6953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hekordsed uuringu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93620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Doktorite karjääriuuring (2007) — doktorikraadi omandanute karjäär, teadustöö ning rahvusvaheline mobiilsu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skasvanute koolituse uuring (2006. aastal ettevõtte ja 2007. aastal isiku tasemel) — saada teavet täiskasvanute koolituse võimalustest, nõudlusest, korraldusest ja rahulolust nii tööandja kui ka koolituses osalenu vaatenurga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mmigrantrahvastiku uuring (2008) — hindamaks  Eestisse elama asunud välismaalaste ja nende järeltulijate olukorda Eesti tööturu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6953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hekordsed uuringu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93620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rvalisuse uuring (2008–2009) — ülevaade, kui tihti ja milliste kuritegude ohvriks inimesed langevad, sõltumata sellest, kas neist teatatakse politseisse või mitt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elu-uuring ettevõtte ja töötaja tasemel (2009) —käsitletakse töökorraldust, töö- ja puhkeaega, suhteid töökohal, töötajate kaasamist, kollektiivset töösuhet, töötervishoidu ja -ohutust, tasustamist ning töötajate oskusi ja teadmisi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kasutuse uuring (2009–2010) — saab teada, kui palju aega kulutavad inimesed tööle ja vabale ajale olenevalt soost, haridusest, vanusest, elukohast jm näitajatest. Ainult selle uuringuga on võimalik hinnata tasustamata töö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Harmon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rit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rahvusvahelises konteksti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a) samad klassifikaatorid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b) tugineb üldtunnustatud definitsioonidel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c) rahvusvaheliselt harmoniseeritud metoodik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Uuringutevaheline harmoneerit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a) metoodika ja definitsioonid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b) harmoneeritud tausttunnuse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258920" y="981000"/>
            <a:ext cx="69530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giuuringute harmoneeri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urostati töögrupi harmoneerimise ettepaneku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Demograafilised tunnused: 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ugu, vanus,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ünniriik,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dakondsus, perekonnaseis, leibkonnatüüp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Geograafilised tunnused: 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lukoht,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gioon,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innastumise ta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otsiaalmajanduslikud tunnused: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ööalane aktiivsus ja seisund,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met ja tegevusala,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õrgeim lõpetatud haridustase, netosissetulek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58920" y="981000"/>
            <a:ext cx="69530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tuumiktunn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58920" y="1905120"/>
            <a:ext cx="751536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lukoht detailsemal tasem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Hinnang tervi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lamistingimused ja hinnang toimetuleku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Rahvus ja kodune ke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Detailsemad hinnangud põhitöö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mandatud ja õpitav haridusta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142640" y="914400"/>
            <a:ext cx="69534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tikesksed tuumiktunnused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58920" y="1828800"/>
            <a:ext cx="7515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Riigiuuringute korrald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valitee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—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säilitamine ja para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aindlikku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—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kiirem ja paindlikum protse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jakohasu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—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aktuaalsete valdkondade 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arbijakesksu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—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tellimustööde mahu suurene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Riigiuuringute harmoneerit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val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395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austtunnuste loet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58920" y="1099800"/>
            <a:ext cx="69530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ulevikusuundum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giuuringute korral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uuringud tuginevad Eurostati määrustele ja soovitustele ning kinnitatakse Eesti Vabariigi Valitsuse korralduseg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uuringud on valikuuringud — valim võetakse Eesti alalisest rahvastiku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bjekt on isik ja/või leibkond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kogumise viis on peamiselt küsitlusintervjuu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ringumaterjal on küsitlusmaterjal, küsitleja juhend ja muu metoodiline materjal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tlusmaterjal koosneb põhiankeedist ja moodulite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iankeeti püütakse võimalikult vähe muut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oodulid vahetuvad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499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toodika tugineb rahvusvahelistele nõuetel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7961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tlusstatistika — hõlmab kogu leibkonna- ja isikuandmete kogumise protsess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b küsitlusmaterjali ja metoodika väljatöötamisega ning lõpeb andmete avaldamise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üsitlusstatistika protses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2392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486400"/>
            <a:ext cx="7900920" cy="7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E, ETTEPANEK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METOOD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ESKONNA KOO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01000" y="5181480"/>
            <a:ext cx="836640" cy="78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76520" y="4724280"/>
            <a:ext cx="6310080" cy="7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SIMIN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ÜSITLEMINE JA ESMANE KONTR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METE EDASTA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4038480"/>
            <a:ext cx="4572000" cy="70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METE KONTROL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ÄPSUSTA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77120" y="3505320"/>
            <a:ext cx="861840" cy="941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76720" y="3357720"/>
            <a:ext cx="274320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OODILISED TÖÖ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ÜÜ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51640" y="3068640"/>
            <a:ext cx="750600" cy="74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5638680"/>
            <a:ext cx="2090520" cy="52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TEVALMIS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191120"/>
            <a:ext cx="1368720" cy="814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ÄLITÖÖ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505320"/>
            <a:ext cx="1709640" cy="41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KKUVÕ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086600" y="4191120"/>
            <a:ext cx="9810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58920" y="1557360"/>
            <a:ext cx="75153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hiankeedi koostamisel lähtutakse Eurostati etteantud või soovitatud tunnuste loetelust ja Eesti riigi vajadust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odulitega kogutakse põhjalikumat infot kindlal teemal lühikese ajaperioodi vältel. Peale Eurostati moodulite saab neid lisada ka tarbijate ettepaneku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odulite lisamisel on aluseks järgmised põhimõtted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) ainulaads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b) võimalikk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c) ajast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d) mah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) olulis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58920" y="836280"/>
            <a:ext cx="6953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koos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920" y="1789200"/>
            <a:ext cx="751536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Lõplik andmevajad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ärgmiseks aastaks (eelneva aasta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15.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ärtsik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 —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 tunnused/ankeet, juhendmaterjal, definitsioonid, metoodika kirjeldu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äbi tuleb rääkida üldine mooduli korraldus — metoodika, küsitlemine, sisestamine, täpsustamise ja andmete kontroll ning soovitud väljun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Mooduli tulemus antakse üle kas individuaalandmefailina vastavalt soovile (SAS, SPSS või muu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orm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) või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äljundtabeliten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7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58920" y="1066680"/>
            <a:ext cx="69530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oodulite lis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515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ide riigiuuringute metoodika on avalik — küsitlusmaterjal on kättesaadav Statistikaameti veebilehel, samuti avaldatakse metoodilisi ülevaat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ide riigiuuringute hinnangud avaldatakse Statistikaameti statistika andmebaasis ja teemakesksetes kogumik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atakse kõikidele tarbijate päringutele riigiuuringute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uuringuteks on teadusasutustel võimalik taotleda kõikide riigiuuringute algandmebaaside kasutami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258920" y="981000"/>
            <a:ext cx="69530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äljun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94920" y="1980720"/>
            <a:ext cx="7380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kogude perioodil baseerus sotsiaalstatistika institutsionaalsel statistikal (suhteliselt piiratud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idi läbi ühte leibkonnauuringut (perebüdžett) — statistika institutsioonil oli oma küsitlusvõrk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994. aastal alustati eluolu-uuringuga, järgnesid tööjõu-uuring, leibkonna eelarve uuring, terviseuuring tellimustööna, täiskasvanute koolituse uuring j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b22f1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aegu töötab Statistikaamet 9 uuringu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47400" y="121896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agasivaa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6000" y="475920"/>
            <a:ext cx="6953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idevuuringu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93620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Tööjõu-uuring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— 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ülevaade Eesti elanike  tööhõivest, töötusest, tööoludest ja tööturu muutustes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Sotsiaaluuring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— 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info Eesti  elanike sissetuleku, ebavõrdsuse ja vaesuse ning elamistingimust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anikkonna mooduluuring — 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teave Eesti elanike  reisimise kohta Eestis ja välismaal. Vajadusel lisatakse  uuringusse ka teisi küsimusi riigile oluliste teemade 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Leibkonna eelarve uuring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— info 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Eesti leibkondade eelarve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ta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 (kulutused ja sissetulek).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iiriloendus — info piiriületajate koguarvu kohta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iskülastajate uuring — </a:t>
            </a:r>
            <a:r>
              <a:rPr b="0" lang="en-AU" sz="2400" spc="-1" strike="noStrike">
                <a:solidFill>
                  <a:srgbClr val="003951"/>
                </a:solidFill>
                <a:latin typeface="Arial"/>
              </a:rPr>
              <a:t>teave välismaalaste Eesti-reisid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idevuuringud: tööjõu-uuring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93620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1995. aasta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tööealine elanikkond (15–74-aastased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tletakse 19 000 inimest aasta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nguga saadavad põhitulemused on järgmised: 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liku aktiivsuse näitajad (hõiveseisund, tööjõus osalemise määr, heitunud isikud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hõive näitajad (tööhõive määr, hõive struktuur, täis- ja osaajaga töötamine, kaugtöötamine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tuse näitajad (töötuse määr, pikaajalise töötuse määr, töötuseelne seisund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iduse näitajad (tööealiste haridustase, elukestev õppimine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Merle Paats</cp:lastModifiedBy>
  <cp:lastPrinted>2001-03-09T09:19:09Z</cp:lastPrinted>
  <dcterms:modified xsi:type="dcterms:W3CDTF">2008-11-26T07:13:26Z</dcterms:modified>
  <cp:revision>54</cp:revision>
  <dc:subject/>
  <dc:title>PowerPoint Presentation</dc:title>
</cp:coreProperties>
</file>