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3D6-41A8-4956-87EE-1253243E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876-59DA-47F0-ACE6-B88EBD87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122-B26C-4649-AA78-37AC9369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EB3-1D07-455C-91F8-FED6FEF5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A6B1-BC48-45D7-A45D-BB4844F4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B99-B7CA-4B57-98A2-751E5AA8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7FC-6500-4778-8DBC-DC1AEF11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5A5-2997-465F-999A-8942EF9C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295-3E40-47E8-ADEC-A7B3C6FC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31C-CEB3-454C-87B4-5E8B3D91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45E-1ED1-44B6-86BE-7CA61ED0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C8E-B9EF-45F1-8CDD-5F4EF733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tausta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7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49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97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9865-2A36-4220-BC78-6A899A8E3707}" type="slidenum">
              <a:rPr b="0" lang="en-US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Lastepäevahoiu regionaalsed erinevused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4974"/>
                </a:solidFill>
                <a:latin typeface="Arial"/>
              </a:rPr>
              <a:t>Mare Ainsaar</a:t>
            </a:r>
            <a:endParaRPr b="0" lang="en-US" sz="36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rahvastikuministri nõunik, TÜ teadur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Statistikaameti kogumike esitlus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4. veebruar 2009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5476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Vanemad maksavad </a:t>
            </a:r>
            <a:br>
              <a:rPr sz="4000"/>
            </a:b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suhteliselt rohkem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jõukamate inimestega kohalikes omavalitsustes,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ma rahvaarvuga kohalikes omavalitsustes,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ma laste arvuga kohalikes omavalitsustes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Regionaalsed erinevused vanema osaluse poolest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98508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Eesti tublimad KOVid</a:t>
            </a:r>
            <a:br>
              <a:rPr sz="4000"/>
            </a:b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päevahoiu alal, 2007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aivara, Koonga vald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59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Päevahoiu olemasolu mõjutab </a:t>
            </a:r>
            <a:br>
              <a:rPr sz="3500"/>
            </a:b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otsust laps saada</a:t>
            </a:r>
            <a:endParaRPr b="0" lang="en-US" sz="35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96360" y="1052640"/>
            <a:ext cx="1547640" cy="9921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355760" y="1695600"/>
            <a:ext cx="6150960" cy="4663800"/>
            <a:chOff x="1355760" y="1695600"/>
            <a:chExt cx="6150960" cy="4663800"/>
          </a:xfrm>
        </p:grpSpPr>
        <p:sp>
          <p:nvSpPr>
            <p:cNvPr id="48" name=""/>
            <p:cNvSpPr/>
            <p:nvPr/>
          </p:nvSpPr>
          <p:spPr>
            <a:xfrm>
              <a:off x="1841400" y="1712880"/>
              <a:ext cx="5399280" cy="438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184140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516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91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6568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54032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521496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891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566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724068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41400" y="5962680"/>
              <a:ext cx="10112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2640" y="5962680"/>
              <a:ext cx="84456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41400" y="5805360"/>
              <a:ext cx="8762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17640" y="5805360"/>
              <a:ext cx="10810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41400" y="5648400"/>
              <a:ext cx="1112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54160" y="5648400"/>
              <a:ext cx="118116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41400" y="5492880"/>
              <a:ext cx="8431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84520" y="5492880"/>
              <a:ext cx="1249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41400" y="5335560"/>
              <a:ext cx="9781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19520" y="5335560"/>
              <a:ext cx="13158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41400" y="5178600"/>
              <a:ext cx="158616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27560" y="5178600"/>
              <a:ext cx="141732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41400" y="5021280"/>
              <a:ext cx="104472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86120" y="5021280"/>
              <a:ext cx="141912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41400" y="486576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9160" y="4865760"/>
              <a:ext cx="14176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41400" y="4708440"/>
              <a:ext cx="9097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51120" y="4708440"/>
              <a:ext cx="14526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41400" y="4551480"/>
              <a:ext cx="161928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60680" y="4551480"/>
              <a:ext cx="145116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1400" y="4395960"/>
              <a:ext cx="165276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4160" y="4395960"/>
              <a:ext cx="158580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41400" y="423864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59160" y="4238640"/>
              <a:ext cx="1620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41400" y="4081320"/>
              <a:ext cx="1382760" cy="1177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24160" y="4081320"/>
              <a:ext cx="1620720" cy="1177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41400" y="392580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9160" y="3925800"/>
              <a:ext cx="1654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41400" y="3768840"/>
              <a:ext cx="14511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92560" y="3768840"/>
              <a:ext cx="16873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41400" y="3611520"/>
              <a:ext cx="155268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94080" y="3611520"/>
              <a:ext cx="182088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41400" y="3456000"/>
              <a:ext cx="15861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7560" y="3456000"/>
              <a:ext cx="18889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41400" y="3298680"/>
              <a:ext cx="188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30680" y="3298680"/>
              <a:ext cx="2025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41400" y="3143160"/>
              <a:ext cx="188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30680" y="3143160"/>
              <a:ext cx="212724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41400" y="2986200"/>
              <a:ext cx="1754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95680" y="2986200"/>
              <a:ext cx="21258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41400" y="2828880"/>
              <a:ext cx="18226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64080" y="2828880"/>
              <a:ext cx="21589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1400" y="2673360"/>
              <a:ext cx="215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0680" y="2673360"/>
              <a:ext cx="219384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41400" y="2516040"/>
              <a:ext cx="23288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0240" y="2516040"/>
              <a:ext cx="2194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41400" y="2359080"/>
              <a:ext cx="192420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65600" y="2359080"/>
              <a:ext cx="22273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41400" y="2203560"/>
              <a:ext cx="199080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32200" y="2203560"/>
              <a:ext cx="2295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41400" y="2046240"/>
              <a:ext cx="215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00680" y="2046240"/>
              <a:ext cx="23968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41400" y="1889280"/>
              <a:ext cx="202428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65680" y="1889280"/>
              <a:ext cx="243036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41400" y="1733400"/>
              <a:ext cx="24973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8720" y="1733400"/>
              <a:ext cx="27334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92440" y="60991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92440" y="59421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92440" y="57848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92440" y="56293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92440" y="54720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92440" y="53150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2440" y="51577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92440" y="50022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92440" y="48448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92440" y="46879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92440" y="45324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92440" y="43750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2440" y="42181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92440" y="40622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92440" y="39052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92440" y="37479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92440" y="35924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92440" y="34354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92440" y="32781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92440" y="31226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440" y="29653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92440" y="28083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92440" y="26528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92440" y="24955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92440" y="23400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92440" y="21826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92440" y="20257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92440" y="18702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92440" y="17128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84140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516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91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86568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4032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21496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891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566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24068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819440" y="1712880"/>
              <a:ext cx="0" cy="438624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41400" y="6124680"/>
              <a:ext cx="5399280" cy="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59960" y="592452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F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4880" y="57675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N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92280" y="5611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B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2200" y="54547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83640" y="52974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F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37200" y="51418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03800" y="498492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P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92280" y="48276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69240" y="46720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M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92280" y="45147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82200" y="43592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93000" y="42022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H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1760" y="404496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I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93360" y="38894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60680" y="373212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4880" y="35751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93720" y="341964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A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92280" y="326232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55760" y="310500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300" spc="-1" strike="noStrike">
                  <a:solidFill>
                    <a:srgbClr val="003951"/>
                  </a:solidFill>
                  <a:latin typeface="Arial"/>
                </a:rPr>
                <a:t>EES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61760" y="2949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3800" y="279252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91560" y="26352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C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58080" y="247968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R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3880" y="232236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-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11720" y="2165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80040" y="20098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93720" y="18525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P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03800" y="169560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41400" y="61610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7356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4820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2428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9928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072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0536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000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5464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89520" y="5105520"/>
              <a:ext cx="1192320" cy="7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99040" y="5165640"/>
              <a:ext cx="236520" cy="2383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57240" y="518940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Me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99040" y="5522760"/>
              <a:ext cx="236520" cy="2365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56880" y="5546880"/>
              <a:ext cx="430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Nai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59840" y="590544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25</a:t>
            </a:r>
            <a:r>
              <a:rPr b="0" lang="et-EE" sz="3500" spc="-1" strike="noStrike">
                <a:solidFill>
                  <a:srgbClr val="004974"/>
                </a:solidFill>
                <a:latin typeface="Arial"/>
                <a:ea typeface="Arial"/>
              </a:rPr>
              <a:t>–</a:t>
            </a: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54-aastased pere tõttu </a:t>
            </a:r>
            <a:br>
              <a:rPr sz="3500"/>
            </a:b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kodus olevad naised</a:t>
            </a: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4974"/>
                </a:solidFill>
                <a:latin typeface="Arial"/>
              </a:rPr>
              <a:t>(Eurostat)</a:t>
            </a:r>
            <a:endParaRPr b="0" lang="en-US" sz="2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596360" y="1125360"/>
            <a:ext cx="1547640" cy="992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551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547640" cy="992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õimalik loota sõprade, kolleegide </a:t>
            </a:r>
            <a:br>
              <a:rPr sz="3200"/>
            </a:b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ja naabrite abile</a:t>
            </a: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4974"/>
                </a:solidFill>
                <a:latin typeface="Arial"/>
              </a:rPr>
              <a:t>(Eurobarometer 2006)</a:t>
            </a:r>
            <a:endParaRPr b="0" lang="en-US" sz="2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116000" y="1838160"/>
            <a:ext cx="6540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Päevahoiu monitooring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2008</a:t>
            </a:r>
            <a:r>
              <a:rPr b="0" lang="et-EE" sz="3200" spc="-1" strike="noStrike">
                <a:solidFill>
                  <a:srgbClr val="004974"/>
                </a:solidFill>
                <a:latin typeface="Arial"/>
                <a:ea typeface="Arial"/>
              </a:rPr>
              <a:t> </a:t>
            </a: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rahvastikuministri büroo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kõik omavalitsused 2007. aasta ja 2008. aasta algus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Päevahoid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õimalused muutuvad mitmekesisemaks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95%-l on oma päevahoid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nenud on eralasteaedade arv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Alternatiivsed võimalused on mõeldud järjekordade vähendamiseks (korrelatsioon)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Lasteaia järjekorrad on 41% omavalitsustes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54200" y="1341360"/>
            <a:ext cx="84261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472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4974"/>
                </a:solidFill>
                <a:latin typeface="Arial"/>
              </a:rPr>
              <a:t>Omavalitsuse panus lasteaedadesse on suurem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linnades, kus on jõukam elanikkond,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valdades, kus on suurem rahvaarv, suurem lasteaialaste</a:t>
            </a:r>
            <a:r>
              <a:rPr b="0" lang="et-E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osatähtsus ja rohkem KOV vahendeid inimese kohta (korrelatsioonanalüüs). 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763640" y="-171360"/>
            <a:ext cx="73803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720" y="5381280"/>
            <a:ext cx="94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Vanema osa varieerub 0 kroonist 900 kroonini lapse </a:t>
            </a:r>
            <a:br>
              <a:rPr sz="2800"/>
            </a:b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kohta kuus, keskmiselt on see 425 krooni kuus.</a:t>
            </a:r>
            <a:br>
              <a:rPr sz="2800"/>
            </a:b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2:09:05Z</dcterms:created>
  <dc:creator>Peeter</dc:creator>
  <dc:description/>
  <dc:language>en-US</dc:language>
  <cp:lastModifiedBy>KairitP</cp:lastModifiedBy>
  <dcterms:modified xsi:type="dcterms:W3CDTF">2009-01-26T12:26:06Z</dcterms:modified>
  <cp:revision>51</cp:revision>
  <dc:subject/>
  <dc:title>Pealkiri</dc:title>
</cp:coreProperties>
</file>