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D764-F32F-4ADE-A440-7CF422A14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958A-1C51-4F46-9B6E-CAEB5051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4C22-3CEC-4113-B487-A5A1BB988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3252-81AA-44A4-AACA-14AF5DAEE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2A4D-0C51-47D8-ACEE-0521DA20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E97A-0B4F-48DC-AFAA-11C2AF73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554F-D32E-4637-8D49-69A79F6D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445E-436E-4780-829E-D314D411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AABC-A4A8-4456-BB9C-F7ABBEA3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ABCE-0D8F-4019-9A83-BDA501B4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900C-0F3F-4B13-806C-F86D6758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C9BD-8995-4B36-A4C4-2D8BF078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taustaid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97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49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49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49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97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1CC4-3ED3-4181-99E2-563D7D59C77F}" type="slidenum">
              <a:rPr b="0" lang="en-US" sz="1400" spc="-1" strike="noStrike">
                <a:solidFill>
                  <a:srgbClr val="00497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4974"/>
                </a:solidFill>
                <a:latin typeface="Arial"/>
              </a:rPr>
              <a:t>Lastepäevahoiu regionaalsed erinevused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00000" y="388620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4974"/>
                </a:solidFill>
                <a:latin typeface="Arial"/>
              </a:rPr>
              <a:t>Mare Ainsaar</a:t>
            </a:r>
            <a:endParaRPr b="0" lang="en-US" sz="3600" spc="-1" strike="noStrike">
              <a:solidFill>
                <a:srgbClr val="004974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rahvastikuministri nõunik, TÜ teadur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Statistikaameti kogumike esitlus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4. veebruar 2009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596360" y="907920"/>
            <a:ext cx="15476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Vanemad maksavad </a:t>
            </a:r>
            <a:br>
              <a:rPr sz="4000"/>
            </a:b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suhteliselt rohkem</a:t>
            </a:r>
            <a:endParaRPr b="0" lang="en-US" sz="40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jõukamate inimestega kohalikes omavalitsustes,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suurema rahvaarvuga kohalikes omavalitsustes,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suurema laste arvuga kohalikes omavalitsustes.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Regionaalsed erinevused vanema osaluse poolest</a:t>
            </a:r>
            <a:endParaRPr b="0" lang="en-US" sz="40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698508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Eesti tublimad KOVid</a:t>
            </a:r>
            <a:br>
              <a:rPr sz="4000"/>
            </a:b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päevahoiu alal, 2007</a:t>
            </a:r>
            <a:endParaRPr b="0" lang="en-US" sz="40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Vaivara, Koonga vald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59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500" spc="-1" strike="noStrike">
                <a:solidFill>
                  <a:srgbClr val="004974"/>
                </a:solidFill>
                <a:latin typeface="Arial"/>
              </a:rPr>
              <a:t>Päevahoiu olemasolu mõjutab </a:t>
            </a:r>
            <a:br>
              <a:rPr sz="3500"/>
            </a:br>
            <a:r>
              <a:rPr b="0" lang="et-EE" sz="3500" spc="-1" strike="noStrike">
                <a:solidFill>
                  <a:srgbClr val="004974"/>
                </a:solidFill>
                <a:latin typeface="Arial"/>
              </a:rPr>
              <a:t>otsust laps saada</a:t>
            </a:r>
            <a:endParaRPr b="0" lang="en-US" sz="35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96360" y="1052640"/>
            <a:ext cx="1547640" cy="99216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1355760" y="1695600"/>
            <a:ext cx="6150960" cy="4663800"/>
            <a:chOff x="1355760" y="1695600"/>
            <a:chExt cx="6150960" cy="4663800"/>
          </a:xfrm>
        </p:grpSpPr>
        <p:sp>
          <p:nvSpPr>
            <p:cNvPr id="48" name=""/>
            <p:cNvSpPr/>
            <p:nvPr/>
          </p:nvSpPr>
          <p:spPr>
            <a:xfrm>
              <a:off x="1841400" y="1712880"/>
              <a:ext cx="5399280" cy="438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184140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251604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9104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386568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454032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521496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89104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56604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724068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41400" y="5962680"/>
              <a:ext cx="101124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52640" y="5962680"/>
              <a:ext cx="84456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41400" y="5805360"/>
              <a:ext cx="87624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717640" y="5805360"/>
              <a:ext cx="108108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41400" y="5648400"/>
              <a:ext cx="111276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54160" y="5648400"/>
              <a:ext cx="118116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41400" y="5492880"/>
              <a:ext cx="84312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84520" y="5492880"/>
              <a:ext cx="124920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41400" y="5335560"/>
              <a:ext cx="97812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19520" y="5335560"/>
              <a:ext cx="131580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41400" y="5178600"/>
              <a:ext cx="1586160" cy="11556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27560" y="5178600"/>
              <a:ext cx="1417320" cy="11556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41400" y="5021280"/>
              <a:ext cx="1044720" cy="11736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86120" y="5021280"/>
              <a:ext cx="1419120" cy="11736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41400" y="4865760"/>
              <a:ext cx="151776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9160" y="4865760"/>
              <a:ext cx="141768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41400" y="4708440"/>
              <a:ext cx="90972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51120" y="4708440"/>
              <a:ext cx="145260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41400" y="4551480"/>
              <a:ext cx="1619280" cy="11736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60680" y="4551480"/>
              <a:ext cx="1451160" cy="11736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41400" y="4395960"/>
              <a:ext cx="1652760" cy="11556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94160" y="4395960"/>
              <a:ext cx="1585800" cy="11556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841400" y="4238640"/>
              <a:ext cx="151776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359160" y="4238640"/>
              <a:ext cx="162072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41400" y="4081320"/>
              <a:ext cx="1382760" cy="1177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24160" y="4081320"/>
              <a:ext cx="1620720" cy="1177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841400" y="3925800"/>
              <a:ext cx="151776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59160" y="3925800"/>
              <a:ext cx="165420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41400" y="3768840"/>
              <a:ext cx="145116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92560" y="3768840"/>
              <a:ext cx="168732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841400" y="3611520"/>
              <a:ext cx="1552680" cy="11736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94080" y="3611520"/>
              <a:ext cx="1820880" cy="11736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41400" y="3456000"/>
              <a:ext cx="158616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27560" y="3456000"/>
              <a:ext cx="188892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41400" y="3298680"/>
              <a:ext cx="188928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730680" y="3298680"/>
              <a:ext cx="202572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41400" y="3143160"/>
              <a:ext cx="188928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730680" y="3143160"/>
              <a:ext cx="212724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41400" y="2986200"/>
              <a:ext cx="175428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95680" y="2986200"/>
              <a:ext cx="212580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41400" y="2828880"/>
              <a:ext cx="182268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64080" y="2828880"/>
              <a:ext cx="215892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41400" y="2673360"/>
              <a:ext cx="215928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00680" y="2673360"/>
              <a:ext cx="219384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41400" y="2516040"/>
              <a:ext cx="232884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70240" y="2516040"/>
              <a:ext cx="219420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41400" y="2359080"/>
              <a:ext cx="192420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765600" y="2359080"/>
              <a:ext cx="222732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41400" y="2203560"/>
              <a:ext cx="199080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32200" y="2203560"/>
              <a:ext cx="229572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41400" y="2046240"/>
              <a:ext cx="215928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00680" y="2046240"/>
              <a:ext cx="239688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41400" y="1889280"/>
              <a:ext cx="2024280" cy="11556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65680" y="1889280"/>
              <a:ext cx="2430360" cy="11556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41400" y="1733400"/>
              <a:ext cx="249732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38720" y="1733400"/>
              <a:ext cx="273348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92440" y="60991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92440" y="594216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92440" y="578484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92440" y="56293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92440" y="547200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92440" y="531504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92440" y="51577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92440" y="500220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92440" y="484488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92440" y="46879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92440" y="453240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92440" y="437508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92440" y="42181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792440" y="406224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92440" y="390528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92440" y="374796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92440" y="359244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92440" y="343548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92440" y="327816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92440" y="312264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92440" y="29653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92440" y="280836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92440" y="265284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92440" y="24955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92440" y="234000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92440" y="218268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92440" y="20257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92440" y="187020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92440" y="171288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84140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251604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9104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386568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454032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521496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589104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656604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724068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1819440" y="1712880"/>
              <a:ext cx="0" cy="438624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41400" y="6124680"/>
              <a:ext cx="5399280" cy="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59960" y="5924520"/>
              <a:ext cx="14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F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04880" y="5767560"/>
              <a:ext cx="21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N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92280" y="561168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B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82200" y="545472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D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83640" y="529740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F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37200" y="514188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D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03800" y="4984920"/>
              <a:ext cx="201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P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92280" y="482760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S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569240" y="467208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M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92280" y="45147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S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82200" y="435924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D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93000" y="420228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H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61760" y="404496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I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93360" y="388944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U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60680" y="3732120"/>
              <a:ext cx="14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04880" y="3575160"/>
              <a:ext cx="21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L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93720" y="3419640"/>
              <a:ext cx="21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A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92280" y="326232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55760" y="3105000"/>
              <a:ext cx="47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t-EE" sz="1300" spc="-1" strike="noStrike">
                  <a:solidFill>
                    <a:srgbClr val="003951"/>
                  </a:solidFill>
                  <a:latin typeface="Arial"/>
                </a:rPr>
                <a:t>EEST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61760" y="294948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S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3800" y="2792520"/>
              <a:ext cx="201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E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91560" y="263520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CZ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58080" y="247968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R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23880" y="232236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D-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11720" y="216540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L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80040" y="200988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C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593720" y="1852560"/>
              <a:ext cx="21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P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03800" y="1695600"/>
              <a:ext cx="201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LV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41400" y="616104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73560" y="6161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48200" y="6161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4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24280" y="6161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6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99280" y="6161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8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30720" y="616104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1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05360" y="616104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1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80000" y="616104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14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54640" y="616104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16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89520" y="5105520"/>
              <a:ext cx="1192320" cy="71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99040" y="5165640"/>
              <a:ext cx="236520" cy="2383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57240" y="5189400"/>
              <a:ext cx="403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Me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99040" y="5522760"/>
              <a:ext cx="236520" cy="2365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56880" y="5546880"/>
              <a:ext cx="430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Nain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59840" y="5905440"/>
              <a:ext cx="14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500" spc="-1" strike="noStrike">
                <a:solidFill>
                  <a:srgbClr val="004974"/>
                </a:solidFill>
                <a:latin typeface="Arial"/>
              </a:rPr>
              <a:t>25</a:t>
            </a:r>
            <a:r>
              <a:rPr b="0" lang="et-EE" sz="3500" spc="-1" strike="noStrike">
                <a:solidFill>
                  <a:srgbClr val="004974"/>
                </a:solidFill>
                <a:latin typeface="Arial"/>
                <a:ea typeface="Arial"/>
              </a:rPr>
              <a:t>–</a:t>
            </a:r>
            <a:r>
              <a:rPr b="0" lang="et-EE" sz="3500" spc="-1" strike="noStrike">
                <a:solidFill>
                  <a:srgbClr val="004974"/>
                </a:solidFill>
                <a:latin typeface="Arial"/>
              </a:rPr>
              <a:t>54-aastased pere tõttu </a:t>
            </a:r>
            <a:br>
              <a:rPr sz="3500"/>
            </a:br>
            <a:r>
              <a:rPr b="0" lang="et-EE" sz="3500" spc="-1" strike="noStrike">
                <a:solidFill>
                  <a:srgbClr val="004974"/>
                </a:solidFill>
                <a:latin typeface="Arial"/>
              </a:rPr>
              <a:t>kodus olevad naised</a:t>
            </a: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4974"/>
                </a:solidFill>
                <a:latin typeface="Arial"/>
              </a:rPr>
              <a:t>(Eurostat)</a:t>
            </a:r>
            <a:endParaRPr b="0" lang="en-US" sz="20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596360" y="1125360"/>
            <a:ext cx="1547640" cy="9925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116000" y="1844640"/>
            <a:ext cx="65516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596360" y="907920"/>
            <a:ext cx="1547640" cy="9921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6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Võimalik loota sõprade, kolleegide </a:t>
            </a:r>
            <a:br>
              <a:rPr sz="3200"/>
            </a:b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ja naabrite abile</a:t>
            </a: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4974"/>
                </a:solidFill>
                <a:latin typeface="Arial"/>
              </a:rPr>
              <a:t>(Eurobarometer 2006)</a:t>
            </a:r>
            <a:endParaRPr b="0" lang="en-US" sz="20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116000" y="1838160"/>
            <a:ext cx="65404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4974"/>
                </a:solidFill>
                <a:latin typeface="Arial"/>
              </a:rPr>
              <a:t>Päevahoiu monitooring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2008</a:t>
            </a:r>
            <a:r>
              <a:rPr b="0" lang="et-EE" sz="3200" spc="-1" strike="noStrike">
                <a:solidFill>
                  <a:srgbClr val="004974"/>
                </a:solidFill>
                <a:latin typeface="Arial"/>
                <a:ea typeface="Arial"/>
              </a:rPr>
              <a:t> </a:t>
            </a: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rahvastikuministri büroo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kõik omavalitsused 2007. aasta ja 2008. aasta algus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4974"/>
                </a:solidFill>
                <a:latin typeface="Arial"/>
              </a:rPr>
              <a:t>Päevahoid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Võimalused muutuvad mitmekesisemaks.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95%-l on oma päevahoid.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Suurenenud on eralasteaedade arv.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Alternatiivsed võimalused on mõeldud järjekordade vähendamiseks (korrelatsioon).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1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Lasteaia järjekorrad on 41% omavalitsustes</a:t>
            </a:r>
            <a:endParaRPr b="0" lang="en-US" sz="40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54200" y="1341360"/>
            <a:ext cx="842616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0" y="4723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4974"/>
                </a:solidFill>
                <a:latin typeface="Arial"/>
              </a:rPr>
              <a:t>Omavalitsuse panus lasteaedadesse on suurem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linnades, kus on jõukam elanikkond,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valdades, kus on suurem rahvaarv, suurem lasteaialaste</a:t>
            </a:r>
            <a:r>
              <a:rPr b="0" lang="et-EE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osatähtsus ja rohkem KOV vahendeid inimese kohta (korrelatsioonanalüüs). 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763640" y="-171360"/>
            <a:ext cx="738036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720" y="5381280"/>
            <a:ext cx="94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t-EE" sz="2800" spc="-1" strike="noStrike">
                <a:solidFill>
                  <a:srgbClr val="004974"/>
                </a:solidFill>
                <a:latin typeface="Arial"/>
              </a:rPr>
              <a:t>Vanema osa varieerub 0 kroonist 900 kroonini lapse </a:t>
            </a:r>
            <a:br>
              <a:rPr sz="2800"/>
            </a:br>
            <a:r>
              <a:rPr b="0" lang="et-EE" sz="2800" spc="-1" strike="noStrike">
                <a:solidFill>
                  <a:srgbClr val="004974"/>
                </a:solidFill>
                <a:latin typeface="Arial"/>
              </a:rPr>
              <a:t>kohta kuus, keskmiselt on see 425 krooni kuus.</a:t>
            </a:r>
            <a:br>
              <a:rPr sz="2800"/>
            </a:br>
            <a:endParaRPr b="0" lang="en-US" sz="28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12:09:05Z</dcterms:created>
  <dc:creator>Peeter</dc:creator>
  <dc:description/>
  <dc:language>en-US</dc:language>
  <cp:lastModifiedBy>KairitP</cp:lastModifiedBy>
  <dcterms:modified xsi:type="dcterms:W3CDTF">2009-01-26T12:26:06Z</dcterms:modified>
  <cp:revision>51</cp:revision>
  <dc:subject/>
  <dc:title>Pealkiri</dc:title>
</cp:coreProperties>
</file>