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82E-9093-47F2-860B-59D05CAA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D9B-BF91-4A9D-A0CF-A7FEEFE5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C37-F604-4819-A463-89EE5D7C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4CE-3024-47F9-A5F0-F76F9E19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B98-7C0F-4D5A-B467-15B793D3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7FE-DF14-490C-B1F2-3ADBB101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D5C-0D88-41B3-9699-DE90A271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758-12E1-4432-A507-2A4343D3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E6B-4C34-425A-BB75-8C3BBAD5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4A7-E9A5-4FED-9392-3775C9D1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7DC-087B-4A07-8305-BDDDD12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18C-14C3-4EA3-90D6-789952E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austa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9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57C-7CCE-40DE-919C-998870DCB089}" type="slidenum">
              <a:rPr b="0" lang="en-US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Lastepäevahoiu regionaalsed erinevuse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4974"/>
                </a:solidFill>
                <a:latin typeface="Arial"/>
              </a:rPr>
              <a:t>Mare Ainsaar</a:t>
            </a:r>
            <a:endParaRPr b="0" lang="en-US" sz="36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rahvastikuministri nõunik, TÜ teadur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Statistikaameti kogumike esitlus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4. veebruar 2009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Vanemad maksavad 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suhteliselt rohkem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õukamate inimeste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rahvaarvu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laste arvuga kohalikes omavalitsuste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Regionaalsed erinevused vanema osaluse poolest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985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Eesti tublimad KOVid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päevahoiu alal, 2007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aivara, Koonga val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59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Päevahoiu olemasolu mõjutab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otsust laps saada</a:t>
            </a:r>
            <a:endParaRPr b="0" lang="en-US" sz="35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1052640"/>
            <a:ext cx="1547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355760" y="1695600"/>
            <a:ext cx="6150960" cy="4663800"/>
            <a:chOff x="1355760" y="1695600"/>
            <a:chExt cx="6150960" cy="4663800"/>
          </a:xfrm>
        </p:grpSpPr>
        <p:sp>
          <p:nvSpPr>
            <p:cNvPr id="48" name=""/>
            <p:cNvSpPr/>
            <p:nvPr/>
          </p:nvSpPr>
          <p:spPr>
            <a:xfrm>
              <a:off x="1841400" y="1712880"/>
              <a:ext cx="5399280" cy="438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84140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51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65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4032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1496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8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6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240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41400" y="5962680"/>
              <a:ext cx="1011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2640" y="5962680"/>
              <a:ext cx="8445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805360"/>
              <a:ext cx="876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17640" y="5805360"/>
              <a:ext cx="10810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41400" y="5648400"/>
              <a:ext cx="1112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4160" y="5648400"/>
              <a:ext cx="11811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41400" y="5492880"/>
              <a:ext cx="843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4520" y="5492880"/>
              <a:ext cx="1249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1400" y="5335560"/>
              <a:ext cx="978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19520" y="5335560"/>
              <a:ext cx="131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41400" y="5178600"/>
              <a:ext cx="15861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7560" y="5178600"/>
              <a:ext cx="141732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400" y="5021280"/>
              <a:ext cx="104472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6120" y="5021280"/>
              <a:ext cx="141912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41400" y="486576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9160" y="4865760"/>
              <a:ext cx="14176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1400" y="4708440"/>
              <a:ext cx="9097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708440"/>
              <a:ext cx="14526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41400" y="4551480"/>
              <a:ext cx="16192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0680" y="4551480"/>
              <a:ext cx="145116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1400" y="4395960"/>
              <a:ext cx="16527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4160" y="4395960"/>
              <a:ext cx="158580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400" y="423864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9160" y="4238640"/>
              <a:ext cx="1620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1400" y="4081320"/>
              <a:ext cx="1382760" cy="1177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4160" y="4081320"/>
              <a:ext cx="1620720" cy="1177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1400" y="392580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9160" y="3925800"/>
              <a:ext cx="165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41400" y="3768840"/>
              <a:ext cx="1451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2560" y="3768840"/>
              <a:ext cx="168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41400" y="3611520"/>
              <a:ext cx="15526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94080" y="3611520"/>
              <a:ext cx="182088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1400" y="3456000"/>
              <a:ext cx="1586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7560" y="3456000"/>
              <a:ext cx="188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1400" y="329868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0680" y="3298680"/>
              <a:ext cx="202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1400" y="314316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0680" y="3143160"/>
              <a:ext cx="21272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41400" y="2986200"/>
              <a:ext cx="1754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986200"/>
              <a:ext cx="212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41400" y="2828880"/>
              <a:ext cx="18226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4080" y="2828880"/>
              <a:ext cx="215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1400" y="267336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0680" y="2673360"/>
              <a:ext cx="21938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1400" y="2516040"/>
              <a:ext cx="23288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0240" y="2516040"/>
              <a:ext cx="219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1400" y="2359080"/>
              <a:ext cx="19242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65600" y="2359080"/>
              <a:ext cx="222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1400" y="2203560"/>
              <a:ext cx="19908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203560"/>
              <a:ext cx="229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41400" y="204624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2046240"/>
              <a:ext cx="23968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1400" y="1889280"/>
              <a:ext cx="202428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5680" y="1889280"/>
              <a:ext cx="243036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1400" y="1733400"/>
              <a:ext cx="24973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8720" y="1733400"/>
              <a:ext cx="27334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440" y="6099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440" y="5942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440" y="5784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92440" y="5629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440" y="5472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440" y="53150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440" y="5157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2440" y="5002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2440" y="4844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2440" y="46879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440" y="45324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2440" y="43750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440" y="4218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2440" y="40622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440" y="39052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440" y="37479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440" y="35924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440" y="34354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440" y="3278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440" y="31226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440" y="2965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440" y="28083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440" y="2652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440" y="24955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440" y="2340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440" y="21826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440" y="2025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440" y="1870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440" y="1712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84140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1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65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4032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1496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56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40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819440" y="1712880"/>
              <a:ext cx="0" cy="4386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1400" y="6124680"/>
              <a:ext cx="539928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9960" y="59245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4880" y="5767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2280" y="5611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2200" y="5454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3640" y="5297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7200" y="5141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49849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2280" y="48276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9240" y="46720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92280" y="45147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2200" y="435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000" y="4202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H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760" y="40449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3360" y="3889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0680" y="37321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4880" y="35751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3720" y="341964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A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2280" y="326232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5760" y="3105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300" spc="-1" strike="noStrike">
                  <a:solidFill>
                    <a:srgbClr val="003951"/>
                  </a:solidFill>
                  <a:latin typeface="Arial"/>
                </a:rPr>
                <a:t>EES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1760" y="2949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3800" y="27925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1560" y="26352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080" y="24796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2322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11720" y="2165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0040" y="2009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3720" y="1852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3800" y="16956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6161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356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820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9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0536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000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5464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9520" y="5105520"/>
              <a:ext cx="119232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99040" y="5165640"/>
              <a:ext cx="236520" cy="2383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7240" y="51894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e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9040" y="5522760"/>
              <a:ext cx="236520" cy="2365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56880" y="5546880"/>
              <a:ext cx="43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a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59840" y="59054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25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  <a:ea typeface="Arial"/>
              </a:rPr>
              <a:t>–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54-aastased pere tõttu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kodus olevad naised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stat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96360" y="1125360"/>
            <a:ext cx="1547640" cy="992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551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ik loota sõprade, kolleegide </a:t>
            </a:r>
            <a:br>
              <a:rPr sz="32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a naabrite abile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barometer 2006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116000" y="1838160"/>
            <a:ext cx="654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u monitooring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2008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  <a:ea typeface="Arial"/>
              </a:rPr>
              <a:t> 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ahvastikuministri büroo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õik omavalitsused 2007. aasta ja 2008. aasta alg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used muutuvad mitmekesisemak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95%-l on oma päevahoid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nenud on eralasteaedade arv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lternatiivsed võimalused on mõeldud järjekordade vähendamiseks (korrelatsioon)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Lasteaia järjekorrad on 41% omavalitsustes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4200" y="1341360"/>
            <a:ext cx="84261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4974"/>
                </a:solidFill>
                <a:latin typeface="Arial"/>
              </a:rPr>
              <a:t>Omavalitsuse panus lasteaedadesse on suurem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linnades, kus on jõukam elanikkond,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aldades, kus on suurem rahvaarv, suurem lasteaialaste</a:t>
            </a:r>
            <a:r>
              <a:rPr b="0" lang="et-E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osatähtsus ja rohkem KOV vahendeid inimese kohta (korrelatsioonanalüüs)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7380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720" y="5381280"/>
            <a:ext cx="94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Vanema osa varieerub 0 kroonist 900 kroonini lapse </a:t>
            </a: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ohta kuus, keskmiselt on see 425 krooni kuus.</a:t>
            </a:r>
            <a:br>
              <a:rPr sz="2800"/>
            </a:b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iritP</cp:lastModifiedBy>
  <dcterms:modified xsi:type="dcterms:W3CDTF">2009-01-26T12:26:06Z</dcterms:modified>
  <cp:revision>51</cp:revision>
  <dc:subject/>
  <dc:title>Pealkiri</dc:title>
</cp:coreProperties>
</file>