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DE6-C742-4E32-A4BC-DA3C8F9A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6442-B6F8-42E7-9D14-96028107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2B1E-20EE-4318-B025-7F9EA7EFC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0667-2EFC-4FEF-8F08-60397A1D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AA80-8CD3-47C2-B6DD-3373B88B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CAC-E818-4C76-AB0C-314A338A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0CE9-29D8-489E-B76F-A1535FCF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90E8-838E-470A-9439-9E90B5F7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EAEE-FE43-44FA-9FDC-DDDE871FF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A85-701D-475A-A48E-82A3B608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6D7-FA9C-4356-9406-6E51EFEE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243-E0FA-450C-8211-FB2C168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tausta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97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49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49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97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97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9DABB-6855-4FE7-9F9E-AC722266515A}" type="slidenum">
              <a:rPr b="0" lang="en-US" sz="1400" spc="-1" strike="noStrike">
                <a:solidFill>
                  <a:srgbClr val="00497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Lastepäevahoiu regionaalsed erinevuse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00000" y="3886200"/>
            <a:ext cx="7632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4974"/>
                </a:solidFill>
                <a:latin typeface="Arial"/>
              </a:rPr>
              <a:t>Mare Ainsaar</a:t>
            </a:r>
            <a:endParaRPr b="0" lang="en-US" sz="36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rahvastikuministri nõunik, TÜ teadur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Statistikaameti kogumike esitlus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4. veebruar 2009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Vanemad maksavad 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suhteliselt rohkem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õukamate inimeste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rahvaarvuga kohalikes omavalitsustes,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ma laste arvuga kohalikes omavalitsuste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Regionaalsed erinevused vanema osaluse poolest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98508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Eesti tublimad KOVid</a:t>
            </a:r>
            <a:br>
              <a:rPr sz="4000"/>
            </a:b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päevahoiu alal, 2007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aivara, Koonga vald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59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Päevahoiu olemasolu mõjutab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otsust laps saada</a:t>
            </a:r>
            <a:endParaRPr b="0" lang="en-US" sz="35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96360" y="1052640"/>
            <a:ext cx="1547640" cy="99216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355760" y="1695600"/>
            <a:ext cx="6150960" cy="4663800"/>
            <a:chOff x="1355760" y="1695600"/>
            <a:chExt cx="6150960" cy="4663800"/>
          </a:xfrm>
        </p:grpSpPr>
        <p:sp>
          <p:nvSpPr>
            <p:cNvPr id="48" name=""/>
            <p:cNvSpPr/>
            <p:nvPr/>
          </p:nvSpPr>
          <p:spPr>
            <a:xfrm>
              <a:off x="1841400" y="1712880"/>
              <a:ext cx="5399280" cy="438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184140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251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65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54032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521496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891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656604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7240680" y="1712880"/>
              <a:ext cx="0" cy="4386240"/>
            </a:xfrm>
            <a:prstGeom prst="line">
              <a:avLst/>
            </a:prstGeom>
            <a:ln cap="rnd" w="3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841400" y="5962680"/>
              <a:ext cx="1011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2640" y="5962680"/>
              <a:ext cx="8445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41400" y="5805360"/>
              <a:ext cx="8762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717640" y="5805360"/>
              <a:ext cx="10810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41400" y="5648400"/>
              <a:ext cx="1112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54160" y="5648400"/>
              <a:ext cx="118116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41400" y="5492880"/>
              <a:ext cx="843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84520" y="5492880"/>
              <a:ext cx="1249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41400" y="5335560"/>
              <a:ext cx="9781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19520" y="5335560"/>
              <a:ext cx="131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41400" y="5178600"/>
              <a:ext cx="15861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7560" y="5178600"/>
              <a:ext cx="141732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41400" y="5021280"/>
              <a:ext cx="104472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6120" y="5021280"/>
              <a:ext cx="141912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41400" y="486576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9160" y="4865760"/>
              <a:ext cx="14176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41400" y="4708440"/>
              <a:ext cx="9097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51120" y="4708440"/>
              <a:ext cx="14526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41400" y="4551480"/>
              <a:ext cx="16192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60680" y="4551480"/>
              <a:ext cx="145116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41400" y="4395960"/>
              <a:ext cx="165276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4160" y="4395960"/>
              <a:ext cx="158580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841400" y="423864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59160" y="4238640"/>
              <a:ext cx="1620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841400" y="4081320"/>
              <a:ext cx="1382760" cy="1177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4160" y="4081320"/>
              <a:ext cx="1620720" cy="1177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841400" y="3925800"/>
              <a:ext cx="15177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59160" y="3925800"/>
              <a:ext cx="165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41400" y="3768840"/>
              <a:ext cx="1451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92560" y="3768840"/>
              <a:ext cx="168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41400" y="3611520"/>
              <a:ext cx="1552680" cy="1173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94080" y="3611520"/>
              <a:ext cx="1820880" cy="1173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41400" y="3456000"/>
              <a:ext cx="158616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427560" y="3456000"/>
              <a:ext cx="188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841400" y="329868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730680" y="3298680"/>
              <a:ext cx="202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41400" y="3143160"/>
              <a:ext cx="188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30680" y="3143160"/>
              <a:ext cx="21272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41400" y="2986200"/>
              <a:ext cx="1754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95680" y="2986200"/>
              <a:ext cx="21258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41400" y="2828880"/>
              <a:ext cx="18226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64080" y="2828880"/>
              <a:ext cx="21589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41400" y="267336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000680" y="2673360"/>
              <a:ext cx="219384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41400" y="2516040"/>
              <a:ext cx="232884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170240" y="2516040"/>
              <a:ext cx="219420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41400" y="2359080"/>
              <a:ext cx="19242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65600" y="2359080"/>
              <a:ext cx="22273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41400" y="2203560"/>
              <a:ext cx="199080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32200" y="2203560"/>
              <a:ext cx="229572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841400" y="2046240"/>
              <a:ext cx="215928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00680" y="2046240"/>
              <a:ext cx="23968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841400" y="1889280"/>
              <a:ext cx="2024280" cy="11556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5680" y="1889280"/>
              <a:ext cx="2430360" cy="11556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41400" y="1733400"/>
              <a:ext cx="2497320" cy="1159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38720" y="1733400"/>
              <a:ext cx="2733480" cy="1159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440" y="6099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2440" y="5942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92440" y="5784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92440" y="5629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792440" y="5472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792440" y="53150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792440" y="5157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92440" y="5002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792440" y="4844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92440" y="46879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2440" y="45324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792440" y="43750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440" y="42181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792440" y="40622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92440" y="39052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92440" y="37479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92440" y="35924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440" y="34354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92440" y="32781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792440" y="31226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440" y="29653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92440" y="280836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792440" y="265284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792440" y="24955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792440" y="23400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92440" y="21826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92440" y="202572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92440" y="187020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2440" y="1712880"/>
              <a:ext cx="27000" cy="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184140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251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3865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54032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1496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891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656604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7240680" y="6124320"/>
              <a:ext cx="0" cy="27000"/>
            </a:xfrm>
            <a:prstGeom prst="line">
              <a:avLst/>
            </a:prstGeom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1819440" y="1712880"/>
              <a:ext cx="0" cy="438624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41400" y="6124680"/>
              <a:ext cx="5399280" cy="0"/>
            </a:xfrm>
            <a:prstGeom prst="line">
              <a:avLst/>
            </a:prstGeom>
            <a:ln cap="rnd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59960" y="59245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04880" y="5767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592280" y="561168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B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82200" y="545472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83640" y="52974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F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37200" y="514188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W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03800" y="49849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92280" y="48276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569240" y="46720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92280" y="451476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82200" y="43592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000" y="4202280"/>
              <a:ext cx="238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H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1760" y="404496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93360" y="388944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UK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60680" y="373212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4880" y="35751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U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93720" y="341964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A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92280" y="326232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355760" y="3105000"/>
              <a:ext cx="47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t-EE" sz="1300" spc="-1" strike="noStrike">
                  <a:solidFill>
                    <a:srgbClr val="003951"/>
                  </a:solidFill>
                  <a:latin typeface="Arial"/>
                </a:rPr>
                <a:t>EEST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61760" y="2949480"/>
              <a:ext cx="156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SI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3800" y="279252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E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91560" y="2635200"/>
              <a:ext cx="220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Z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58080" y="2479680"/>
              <a:ext cx="247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RO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523880" y="2322360"/>
              <a:ext cx="284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D-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11720" y="2165400"/>
              <a:ext cx="192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580040" y="2009880"/>
              <a:ext cx="229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C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593720" y="1852560"/>
              <a:ext cx="210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P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603800" y="1695600"/>
              <a:ext cx="201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LV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41400" y="6161040"/>
              <a:ext cx="9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47356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4820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24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99280" y="6161040"/>
              <a:ext cx="183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8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3072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0536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2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48000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4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154640" y="6161040"/>
              <a:ext cx="275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160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89520" y="5105520"/>
              <a:ext cx="119232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99040" y="5165640"/>
              <a:ext cx="236520" cy="238320"/>
            </a:xfrm>
            <a:prstGeom prst="rect">
              <a:avLst/>
            </a:prstGeom>
            <a:solidFill>
              <a:srgbClr val="003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357240" y="5189400"/>
              <a:ext cx="4032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Me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999040" y="5522760"/>
              <a:ext cx="236520" cy="236520"/>
            </a:xfrm>
            <a:prstGeom prst="rect">
              <a:avLst/>
            </a:prstGeom>
            <a:solidFill>
              <a:srgbClr val="bde3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56880" y="5546880"/>
              <a:ext cx="4305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Nain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59840" y="5905440"/>
              <a:ext cx="146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1300" spc="-1" strike="noStrike">
                  <a:solidFill>
                    <a:srgbClr val="003951"/>
                  </a:solidFill>
                  <a:latin typeface="Arial"/>
                </a:rPr>
                <a:t>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25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  <a:ea typeface="Arial"/>
              </a:rPr>
              <a:t>–</a:t>
            </a: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54-aastased pere tõttu </a:t>
            </a:r>
            <a:br>
              <a:rPr sz="3500"/>
            </a:br>
            <a:r>
              <a:rPr b="0" lang="et-EE" sz="3500" spc="-1" strike="noStrike">
                <a:solidFill>
                  <a:srgbClr val="004974"/>
                </a:solidFill>
                <a:latin typeface="Arial"/>
              </a:rPr>
              <a:t>kodus olevad naised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stat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596360" y="1125360"/>
            <a:ext cx="1547640" cy="992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6551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596360" y="907920"/>
            <a:ext cx="1547640" cy="992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ik loota sõprade, kolleegide </a:t>
            </a:r>
            <a:br>
              <a:rPr sz="3200"/>
            </a:b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ja naabrite abile</a:t>
            </a: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4974"/>
                </a:solidFill>
                <a:latin typeface="Arial"/>
              </a:rPr>
              <a:t>(Eurobarometer 2006)</a:t>
            </a:r>
            <a:endParaRPr b="0" lang="en-US" sz="2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116000" y="1838160"/>
            <a:ext cx="65404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u monitooring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2008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  <a:ea typeface="Arial"/>
              </a:rPr>
              <a:t> </a:t>
            </a: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rahvastikuministri büroo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kõik omavalitsused 2007. aasta ja 2008. aasta algus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4974"/>
                </a:solidFill>
                <a:latin typeface="Arial"/>
              </a:rPr>
              <a:t>Päevahoid</a:t>
            </a:r>
            <a:endParaRPr b="0" lang="en-US" sz="4400" spc="-1" strike="noStrike">
              <a:solidFill>
                <a:srgbClr val="004974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Võimalused muutuvad mitmekesisemaks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95%-l on oma päevahoid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Suurenenud on eralasteaedade arv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4974"/>
                </a:solidFill>
                <a:latin typeface="Arial"/>
              </a:rPr>
              <a:t>Alternatiivsed võimalused on mõeldud järjekordade vähendamiseks (korrelatsioon).</a:t>
            </a: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49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1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4974"/>
                </a:solidFill>
                <a:latin typeface="Arial"/>
              </a:rPr>
              <a:t>Lasteaia järjekorrad on 41% omavalitsustes</a:t>
            </a:r>
            <a:endParaRPr b="0" lang="en-US" sz="40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54200" y="1341360"/>
            <a:ext cx="8426160" cy="54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0" y="4723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4974"/>
                </a:solidFill>
                <a:latin typeface="Arial"/>
              </a:rPr>
              <a:t>Omavalitsuse panus lasteaedadesse on suurem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linnades, kus on jõukam elanikkond,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9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valdades, kus on suurem rahvaarv, suurem lasteaialaste</a:t>
            </a:r>
            <a:r>
              <a:rPr b="0" lang="et-EE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t-EE" sz="2400" spc="-1" strike="noStrike">
                <a:solidFill>
                  <a:srgbClr val="004974"/>
                </a:solidFill>
                <a:latin typeface="Arial"/>
              </a:rPr>
              <a:t>osatähtsus ja rohkem KOV vahendeid inimese kohta (korrelatsioonanalüüs). </a:t>
            </a: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63640" y="-171360"/>
            <a:ext cx="73803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-36720" y="5381280"/>
            <a:ext cx="94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Vanema osa varieerub 0 kroonist 900 kroonini lapse </a:t>
            </a:r>
            <a:br>
              <a:rPr sz="2800"/>
            </a:br>
            <a:r>
              <a:rPr b="0" lang="et-EE" sz="2800" spc="-1" strike="noStrike">
                <a:solidFill>
                  <a:srgbClr val="004974"/>
                </a:solidFill>
                <a:latin typeface="Arial"/>
              </a:rPr>
              <a:t>kohta kuus, keskmiselt on see 425 krooni kuus.</a:t>
            </a:r>
            <a:br>
              <a:rPr sz="2800"/>
            </a:br>
            <a:endParaRPr b="0" lang="en-US" sz="2800" spc="-1" strike="noStrike">
              <a:solidFill>
                <a:srgbClr val="004974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8459640" cy="55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12:09:05Z</dcterms:created>
  <dc:creator>Peeter</dc:creator>
  <dc:description/>
  <dc:language>en-US</dc:language>
  <cp:lastModifiedBy>KairitP</cp:lastModifiedBy>
  <dcterms:modified xsi:type="dcterms:W3CDTF">2009-01-26T12:26:06Z</dcterms:modified>
  <cp:revision>51</cp:revision>
  <dc:subject/>
  <dc:title>Pealkiri</dc:title>
</cp:coreProperties>
</file>