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4.02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Kristi Anni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81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Eesti välisränne </a:t>
            </a:r>
            <a:br>
              <a:rPr sz="3000"/>
            </a:b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aastatel 2000</a:t>
            </a: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2007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14400" y="1980720"/>
            <a:ext cx="4495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Kristi Anniste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Tartu Ülikool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2257200"/>
            <a:ext cx="7515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409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risti Ann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rtu Ülik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risti.anniste@ut.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Tänan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b2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stiku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2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dakondsus- ja Migratsiooniame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2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oomega toimub andmevahetus → parem kvalitee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247400" y="121896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dm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2362320" cy="6858000"/>
            <a:chOff x="0" y="0"/>
            <a:chExt cx="2362320" cy="68580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66680" y="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33360" y="1125000"/>
            <a:ext cx="751536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ändesaldo negatiiv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3680" y="298440"/>
            <a:ext cx="695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älisrä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17480" y="2000160"/>
            <a:ext cx="759960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st aastatel 2000–2007 teistesse riikidess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6 518 inimest: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2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hi 46%, naisi 54%;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2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eskmine vanus 34 aastat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2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eskharidusega (52%), alg- või põhiharidusega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(32%) ja kõrgharidusega (11%)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2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kodakondsus (81%), Vene kodakondsus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(11%)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2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lased (59%), venelased (27%), soomlased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(7%), ukrainlased (3%).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247400" y="121896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äljaränne Eesti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2362320" cy="6858000"/>
            <a:chOff x="0" y="0"/>
            <a:chExt cx="2362320" cy="6858000"/>
          </a:xfrm>
        </p:grpSpPr>
        <p:sp>
          <p:nvSpPr>
            <p:cNvPr id="94" name="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66680" y="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"/>
          <p:cNvSpPr/>
          <p:nvPr/>
        </p:nvSpPr>
        <p:spPr>
          <a:xfrm>
            <a:off x="1363680" y="298440"/>
            <a:ext cx="695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ihtriig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1120" y="1773360"/>
            <a:ext cx="819324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b2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ljarände hüppeline kasv pärast 2004. aast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2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ohkem nooremas tööeas inimes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b2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hem kõrghariduse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Väljaränne pärast EL-iga liitumist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statel 2000–2007 väljaränne vähenenud ligi kolm kord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nusjaotus hajutatum, keskmine vanus 42, suhteliselt palju üle 60-aastasei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enelasi, ukrainlasi, valgevenelasi kokku 91%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Väljaränne SRÜ riikidess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statel 2000–2007 rändas Eestisse 10 326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imest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eskmine vanus 35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kodakondsusega 43% (tagasirändajad), 15% Vene ja 5% Ukraina kodakondsusega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hi 54%, naisi 46%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amiselt Soomest (enamik tagasirändajad) ja Venemaalt, aga ka Ukrainast, Saksamaalt, Rootsist, Lätist ja Suurbritannias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isseränne Eestiss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b2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sti välisrändes on kaks põhijoont: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09800" indent="-533520">
              <a:lnSpc>
                <a:spcPct val="90000"/>
              </a:lnSpc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isrände ajaline muutumine (enne ja pärast Euroopa Liiduga liitumist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533520">
              <a:lnSpc>
                <a:spcPct val="90000"/>
              </a:lnSpc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da ja läänega seotud rändeerinev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b2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ääneriikidesse toimub valdavalt ajutine ränne (seotud nii lühiajalise välismaal õppimise kui ka töötamisega), mis kasvanud pärast EL-iga liitumist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b2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tta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ändamisel on teised põhjused (tagasirändamine kodumaale, perekonna taasühinemine vms), alates 2000. aastast pidevalt vähenenud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b2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isseränne on pärast 2004. aastat suurenenud (põhjus on Eesti majanduslik eduseis võrreldes lähteriigiga, vene keelekeskkonna olemasolu, Eesti on hea hüppelaud teistesse Euroopa Liidu riikidesse suundumisel)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okkuvõt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0:30:13Z</dcterms:created>
  <dc:creator>uku</dc:creator>
  <dc:description/>
  <dc:language>en-US</dc:language>
  <cp:lastModifiedBy>Oliver</cp:lastModifiedBy>
  <cp:lastPrinted>2001-03-09T09:19:09Z</cp:lastPrinted>
  <dcterms:modified xsi:type="dcterms:W3CDTF">2009-01-30T13:33:32Z</dcterms:modified>
  <cp:revision>18</cp:revision>
  <dc:subject/>
  <dc:title>PowerPoint Presentation</dc:title>
</cp:coreProperties>
</file>