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15138" cy="9953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04.02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0532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Helerin Rannala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914400" indent="517680" algn="ctr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3" marL="1371600" indent="603360" algn="ctr">
              <a:spcBef>
                <a:spcPts val="499"/>
              </a:spcBef>
              <a:buClr>
                <a:srgbClr val="00395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4" marL="1828800" indent="554040" algn="ctr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5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6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04.02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0532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Helerin Rannala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83" name="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3951"/>
                </a:solidFill>
                <a:latin typeface="Arial"/>
              </a:rPr>
              <a:t>Siserände suundumused 2000</a:t>
            </a:r>
            <a:r>
              <a:rPr b="0" lang="et-EE" sz="3000" spc="-1" strike="noStrike">
                <a:solidFill>
                  <a:srgbClr val="003951"/>
                </a:solidFill>
                <a:latin typeface="Arial"/>
                <a:ea typeface="Arial"/>
              </a:rPr>
              <a:t>–</a:t>
            </a:r>
            <a:r>
              <a:rPr b="0" lang="et-EE" sz="3000" spc="-1" strike="noStrike">
                <a:solidFill>
                  <a:srgbClr val="003951"/>
                </a:solidFill>
                <a:latin typeface="Arial"/>
              </a:rPr>
              <a:t>2007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899640" y="620280"/>
            <a:ext cx="4496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Helerin Rannal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Harju maakonna omavalitsusüksuste rändesaldo Tallinnaga, 2000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  <a:ea typeface="Arial"/>
              </a:rPr>
              <a:t>–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2007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9560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185" name="Kaart_14_Harju_maakonna_omavalitsuste_randesaldo_Tallinnaga" descr=""/>
          <p:cNvPicPr/>
          <p:nvPr/>
        </p:nvPicPr>
        <p:blipFill>
          <a:blip r:embed="rId1"/>
          <a:stretch/>
        </p:blipFill>
        <p:spPr>
          <a:xfrm>
            <a:off x="539640" y="1244520"/>
            <a:ext cx="812160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Maakondadevaheline rän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inus maakond, mille kaheksa aasta rändesaldo oli peaaegu kõigi teiste maakondadega positiivne, oli Harjumaa. Erand oli Raplamaa, mis veidi isegi võitis rahvastikku Harjumaal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arjumaa oli ühtlasi kõigi maakondade peamine väljarände sihtkoh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uremad sihtkohad peale Harjumaa olid ka Pärnu- ja Tartuma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änne asustusüksuste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sustusüksuse rändesaldo järgi saab järeldada, et toimub koondumine kindlatesse piirkondadess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eid üksusi, kus rahvaarv väheneb, on 67% ja kokku elab neis 50% elanikkonnas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egatiivse rändesaldoga on peamiselt maakonnakeskused ja maakondade ääreala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Järva maakonnas on kõigi asustusüksuste rändesaldo negatiivn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änne asustuse hierarhiatasemetel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heksa aastaga kasvas kaheksa maakonnakeskuse tagamaa ja kolme ääremaa rahvastik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oportsionaalselt kaotavad enim Paide, Jõgeva, Kärdla ja Võru linn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adates perioodi kahes osas, kulgeb esimene sarnaselt kaheksa aastaga, kuid perioodi teisel poolel on rändesaldo positiivne vaid üheksas üksuse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änne asustuse hierarhiatasemetel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oorte rändesaldo oli positiivne Tallinna ja Tartu linnaregioonis ning Pärnu ääremaa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ereealiste rändesaldo oli positiivne rohkemates asustuste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nemaealiste rändesaldo oli positiivne enamikus piirkondade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allinna napilt positiivset rändesaldot kompenseerib teiste rahvuste esindajate suur sisseränne sinn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ändesaldokordaja, 2000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  <a:ea typeface="Arial"/>
              </a:rPr>
              <a:t>–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200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9560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196" name="Kaart_6_saldokordaja_maakonnasiseses_hierarhias_00_07" descr=""/>
          <p:cNvPicPr/>
          <p:nvPr/>
        </p:nvPicPr>
        <p:blipFill>
          <a:blip r:embed="rId1"/>
          <a:stretch/>
        </p:blipFill>
        <p:spPr>
          <a:xfrm>
            <a:off x="609480" y="1417680"/>
            <a:ext cx="784872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kkuvõt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ände põhisuunad on püsinud 1990. aastatest stabiilsen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undi kinnitavad nii elukoha registreerimise andmed kui ka kinnisvaratehingute ja elamuehituse statistika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—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toimub eeslinnastumin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ur ränne on Tallinna regiooni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bsoluutarvudes on enim kaotanud Ida-Virumaa ja osatähtsuselt Järvama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794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änan kuulama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ttekande sisu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d ja metoodik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jalooline tau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iserände intensiivs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ände suun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änne maakonnasiseses hierarhia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akondade vaheline rän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änne asustusüksuste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änne asustuse hierarhiatasemet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dmed ja metood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58920" y="2185920"/>
            <a:ext cx="836784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e allikas on rahvastikuregister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alüüs toimub kolmel geograafilisel üldistustasemel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sustusüksused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akonnad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sustuse hierarhiataseme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d on Eesti haldus- ja asustusjaotuse 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lassifikaatori 2007. aasta lõpu piiride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eatutakse rändesaldol, rändesaldokordajal ja rändeintensiivsuse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jalooline tau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940. aastatel rännati peamiselt maalt Tallinn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970. aastate lõpus muutus suund Tallinnast Harjumaa maapiirkondadess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ates 1983. aastast muutus maarahvastiku rändesaldo positiivsek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ärast 1991. aastat toimus linnastumine asustuse hierarhia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iserände intensiivsus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47760" y="177300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statel 2000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–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07 oli Eesti rändeintensiivsus 208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‰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eskmine rändeintensiivsus aastas oli 26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‰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nim rändavad Eesti kodaniku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tlaste rändeintensiivsus on 223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‰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ja venelastel 110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‰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iserände intensiivsus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õige aktiivsemad elukohavahetajad on 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5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–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9-aastase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ukohavahetajate enamuse moodustavad 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–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34-aastase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statega on vanuse kõrgpunkt muutunud pisut vanemak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ene kodanike hulgas on üle 50-aastaste osatähtsus peaaegu poole suurem kui Eesti kodanike seas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ände suunad, (protsenti)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951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5286240"/>
            <a:ext cx="6934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heksa aastaga vähenes elanikkond 125 vallas ja 40 linnalises asulas ning kasvas 63 vallas ja 16 linnalises asula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91380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ände suunad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oored ja pereealised suunduvad peamiselt Tallinna ja selle tagamaal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nemad inimesed asuvad elama kõigisse keskuslinnadest väljapoole jäävatesse piirkondadess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änne maakonnasiseses hierarhia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47760" y="177300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õik keskuslinnad ei kaota rahvastikku oma maakonna valdadele ja linnadel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arju-, Ida-Viru- ja Tartumaal liigub maakonnasiseses rändes rahvastikku ka ääremaal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KairitP</cp:lastModifiedBy>
  <dcterms:modified xsi:type="dcterms:W3CDTF">2009-02-03T06:59:34Z</dcterms:modified>
  <cp:revision>72</cp:revision>
  <dc:subject/>
  <dc:title>Slide 1</dc:title>
</cp:coreProperties>
</file>