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4A5E-25A3-4A9F-A1EE-3736BCF8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B52B-D56A-4A38-949C-C306D2F4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DE0-EDD1-48B5-8762-A99B62C0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2D5-F8C4-4C27-9AE1-B10AB1819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862-6AC8-46DA-861F-7AF0E26F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230-CF45-4099-AC0B-6E47A86F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982-D865-44BB-9934-5BE2FF3F1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65F-FC02-4583-9903-F890B47C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978-54CE-404B-B953-A08DE42A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2EFA-45E4-4DCA-AD78-D0752969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E72-D05A-4E2D-ADCA-72CB8A12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68DA-925F-4F7B-953B-754F0EDD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C5AC-82B6-4EBE-A0E8-7A12B89E3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11080" y="191592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Etniliste vähemuste ränne Tallinnast ja Ida-Virumaa linnadest </a:t>
            </a:r>
            <a:br>
              <a:rPr sz="3200"/>
            </a:b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mujale Eestisse</a:t>
            </a:r>
            <a:br>
              <a:rPr sz="4000"/>
            </a:br>
            <a:br>
              <a:rPr sz="40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 Tammaru</a:t>
            </a: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artu Ülikooli Välis-Eesti uuringute kes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870160" y="6254640"/>
            <a:ext cx="264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600" spc="-1" strike="noStrike">
                <a:solidFill>
                  <a:srgbClr val="000000"/>
                </a:solidFill>
                <a:latin typeface="Arial"/>
              </a:rPr>
              <a:t>Tallinn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.–25. märts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eooria: rahvusvähemuste rän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1277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paiknemise </a:t>
            </a:r>
            <a:br>
              <a:rPr sz="4000"/>
            </a:b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sarnastu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6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349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9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902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5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349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75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Kinnistunud paik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21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764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7360" y="3014640"/>
            <a:ext cx="1844640" cy="1884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97520" y="3251160"/>
            <a:ext cx="23040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797520" y="3816360"/>
            <a:ext cx="230400" cy="23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50120" y="3816360"/>
            <a:ext cx="231840" cy="2350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243480" y="3816360"/>
            <a:ext cx="231840" cy="23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7520" y="4381560"/>
            <a:ext cx="230400" cy="23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635280" y="2924280"/>
            <a:ext cx="1800360" cy="1873080"/>
            <a:chOff x="3635280" y="2924280"/>
            <a:chExt cx="1800360" cy="1873080"/>
          </a:xfrm>
        </p:grpSpPr>
        <p:sp>
          <p:nvSpPr>
            <p:cNvPr id="93" name=""/>
            <p:cNvSpPr/>
            <p:nvPr/>
          </p:nvSpPr>
          <p:spPr>
            <a:xfrm>
              <a:off x="3635280" y="2924280"/>
              <a:ext cx="1800360" cy="1873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84440" y="367380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97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Teisesed koondumis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03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519360" y="3014640"/>
            <a:ext cx="1844640" cy="3080160"/>
            <a:chOff x="3519360" y="3014640"/>
            <a:chExt cx="1844640" cy="3080160"/>
          </a:xfrm>
        </p:grpSpPr>
        <p:sp>
          <p:nvSpPr>
            <p:cNvPr id="110" name=""/>
            <p:cNvSpPr/>
            <p:nvPr/>
          </p:nvSpPr>
          <p:spPr>
            <a:xfrm>
              <a:off x="3681720" y="5391000"/>
              <a:ext cx="159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Vähemu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t-EE" sz="2000" spc="-1" strike="noStrike">
                  <a:solidFill>
                    <a:srgbClr val="000000"/>
                  </a:solidFill>
                  <a:latin typeface="Arial Unicode MS"/>
                </a:rPr>
                <a:t>t</a:t>
              </a:r>
              <a:r>
                <a:rPr b="0" lang="et-EE" sz="1400" spc="-1" strike="noStrike">
                  <a:solidFill>
                    <a:srgbClr val="000000"/>
                  </a:solidFill>
                  <a:latin typeface="Arial Unicode MS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3519360" y="3014640"/>
              <a:ext cx="1844640" cy="1884240"/>
              <a:chOff x="3519360" y="3014640"/>
              <a:chExt cx="1844640" cy="1884240"/>
            </a:xfrm>
          </p:grpSpPr>
          <p:sp>
            <p:nvSpPr>
              <p:cNvPr id="112" name=""/>
              <p:cNvSpPr/>
              <p:nvPr/>
            </p:nvSpPr>
            <p:spPr>
              <a:xfrm>
                <a:off x="3519360" y="3014640"/>
                <a:ext cx="1844640" cy="1884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159080" y="3573360"/>
                <a:ext cx="196920" cy="2160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284720" y="3759120"/>
                <a:ext cx="315720" cy="327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022720" y="4292640"/>
                <a:ext cx="125640" cy="14292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18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120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4000" spc="-1" strike="noStrike">
                <a:solidFill>
                  <a:srgbClr val="000000"/>
                </a:solidFill>
                <a:latin typeface="Arial"/>
              </a:rPr>
              <a:t>Ruumilise koondumise süvenem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0528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81720" y="539100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Vähem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t</a:t>
            </a:r>
            <a:r>
              <a:rPr b="0" lang="et-EE" sz="1400" spc="-1" strike="noStrike">
                <a:solidFill>
                  <a:srgbClr val="000000"/>
                </a:solidFill>
                <a:latin typeface="Arial Unicode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65160" y="3763800"/>
            <a:ext cx="316080" cy="3272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19360" y="3014640"/>
            <a:ext cx="1844640" cy="1884240"/>
            <a:chOff x="3519360" y="3014640"/>
            <a:chExt cx="1844640" cy="1884240"/>
          </a:xfrm>
        </p:grpSpPr>
        <p:sp>
          <p:nvSpPr>
            <p:cNvPr id="125" name=""/>
            <p:cNvSpPr/>
            <p:nvPr/>
          </p:nvSpPr>
          <p:spPr>
            <a:xfrm>
              <a:off x="3519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84720" y="3759120"/>
              <a:ext cx="315720" cy="327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967360" y="3014640"/>
            <a:ext cx="1844640" cy="1884240"/>
            <a:chOff x="5967360" y="3014640"/>
            <a:chExt cx="1844640" cy="1884240"/>
          </a:xfrm>
        </p:grpSpPr>
        <p:sp>
          <p:nvSpPr>
            <p:cNvPr id="128" name=""/>
            <p:cNvSpPr/>
            <p:nvPr/>
          </p:nvSpPr>
          <p:spPr>
            <a:xfrm>
              <a:off x="5967360" y="3014640"/>
              <a:ext cx="1844640" cy="1884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797160" y="325044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79716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50120" y="3816720"/>
              <a:ext cx="230760" cy="234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43840" y="381528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797160" y="4381560"/>
              <a:ext cx="230760" cy="234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330600" y="5391000"/>
            <a:ext cx="113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 Unicode MS"/>
              </a:rPr>
              <a:t>En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116000" y="3014640"/>
            <a:ext cx="1800360" cy="1873440"/>
            <a:chOff x="1116000" y="3014640"/>
            <a:chExt cx="1800360" cy="1873440"/>
          </a:xfrm>
        </p:grpSpPr>
        <p:sp>
          <p:nvSpPr>
            <p:cNvPr id="136" name=""/>
            <p:cNvSpPr/>
            <p:nvPr/>
          </p:nvSpPr>
          <p:spPr>
            <a:xfrm>
              <a:off x="1116000" y="3014640"/>
              <a:ext cx="1800360" cy="1873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865160" y="3764520"/>
              <a:ext cx="315360" cy="327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1760" y="136008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eletuste põhitelg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2494080"/>
            <a:ext cx="867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loomine enamusrahvusega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sukohariigi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demete säilitamine rahvuskaaslaste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Andmed ja meetod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00000" y="1738440"/>
            <a:ext cx="8244000" cy="47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2000. aasta rahvaloenduse anonüümse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dividuaaland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nimeste elukoht 1989. ja 2000. aas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52360" y="1125360"/>
            <a:ext cx="9360000" cy="53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rahvastiku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 ja Ida-Virumaa linnade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50,94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 Eesti paikse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638,575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kku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41,087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Eestla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29,916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Muud rahvused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11,171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12720" y="1125360"/>
            <a:ext cx="9360000" cy="51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uritavad tunnus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artneri rahv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Põlvkon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ukeel, eesti keele osk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100" spc="-1" strike="noStrike">
                <a:solidFill>
                  <a:srgbClr val="000000"/>
                </a:solidFill>
                <a:latin typeface="Arial"/>
              </a:rPr>
              <a:t>Kodakonds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67140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ttekande ka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805040"/>
            <a:ext cx="8675640" cy="45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Sissejuh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eooria: rahvusvähemuste rä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Tallinnast ja Ida-Virumaa linnade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87440" y="2922480"/>
            <a:ext cx="5272200" cy="194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                                 =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k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(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k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22560" y="39337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58560" y="1671480"/>
            <a:ext cx="562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li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gressio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Tallinnast ja Ida-Virumaa linnadest väljarändaj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12720" y="1501920"/>
            <a:ext cx="936000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Väljarände intensiivs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Eestlased 171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  <a:ea typeface="Arial"/>
              </a:rPr>
              <a:t>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eised rahvused 41 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39640" y="289080"/>
            <a:ext cx="9360000" cy="21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äljarändajate rühm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576360" y="1128600"/>
          <a:ext cx="110520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1128600"/>
                    <a:ext cx="110520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611280" y="6697800"/>
            <a:ext cx="727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Väljarändajate sihtkoh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arv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rahvusvähem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allinnast lahkujad: eestl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1457280"/>
            <a:ext cx="827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okkuvõ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4632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Sissejuhatus: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Kas 2000 loendusandmestik</a:t>
            </a:r>
            <a:br>
              <a:rPr sz="4000"/>
            </a:b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on van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11080" y="1628280"/>
            <a:ext cx="7506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0000"/>
                </a:solidFill>
                <a:latin typeface="Arial"/>
              </a:rPr>
              <a:t>Tänan tähelepanu eest!</a:t>
            </a:r>
            <a:br>
              <a:rPr sz="4000"/>
            </a:br>
            <a:br>
              <a:rPr sz="2400"/>
            </a:br>
            <a:r>
              <a:rPr b="0" lang="et-EE" sz="2400" spc="-1" strike="noStrike">
                <a:solidFill>
                  <a:srgbClr val="000000"/>
                </a:solidFill>
                <a:latin typeface="Arial"/>
              </a:rPr>
              <a:t>Tiit.Tammaru@ut.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428760"/>
            <a:ext cx="336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esti Statistikaseltsi 21. konver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id ja rahvaloendu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5300640"/>
            <a:ext cx="504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Tänusõn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0000"/>
                </a:solidFill>
                <a:latin typeface="Arial"/>
              </a:rPr>
              <a:t>Kaardid valmistas Ülle Valgma Statistikaamet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459640" cy="8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Erinevad ülesandepüstitused ja andme-allik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2560" y="2440080"/>
            <a:ext cx="7664760" cy="39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irelt muutuvate nähtuste jälgimin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, valglinnastu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unnustevaheliste seoste uurim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tööpuuduse/rände erinev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rahvastikurühm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näiteks rahvusvähemuste rännet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tööpuudust mõjutavad tegu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31640" y="27705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värsk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Andmete usaldusväärsus ja kvalit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Võimalus vastata uut laadi uurimisküsimust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4920" y="1274400"/>
            <a:ext cx="84596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t-EE" sz="3600" spc="-1" strike="noStrike">
                <a:solidFill>
                  <a:srgbClr val="000000"/>
                </a:solidFill>
                <a:latin typeface="Arial"/>
              </a:rPr>
              <a:t>Andmeallika valiku kaalutlused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00340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4000" spc="-1" strike="noStrike">
                <a:solidFill>
                  <a:srgbClr val="000000"/>
                </a:solidFill>
                <a:latin typeface="Arial"/>
              </a:rPr>
              <a:t>Rahvusvähemuste paiknemine Eest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osakaal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1945–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57080" y="1989000"/>
            <a:ext cx="7344000" cy="4556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82920" y="658332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d: Statistikaam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4920" y="83664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(%)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00000" y="2017800"/>
            <a:ext cx="734544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838080"/>
            <a:ext cx="8785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600" spc="-1" strike="noStrike">
                <a:solidFill>
                  <a:srgbClr val="000000"/>
                </a:solidFill>
                <a:latin typeface="Tahoma"/>
              </a:rPr>
              <a:t>Rahvusvähemuste paiknemine Tallinnas ja Ida-Viru linna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5480" y="6526080"/>
            <a:ext cx="138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Allikas: REL 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116000" y="2227320"/>
          <a:ext cx="7128000" cy="401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27320"/>
                    <a:ext cx="7128000" cy="40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9:27:30Z</dcterms:created>
  <dc:creator>Tiit Tammaru</dc:creator>
  <dc:description/>
  <dc:language>en-US</dc:language>
  <cp:lastModifiedBy>Tiit Tammaru</cp:lastModifiedBy>
  <dcterms:modified xsi:type="dcterms:W3CDTF">2009-03-25T06:49:01Z</dcterms:modified>
  <cp:revision>25</cp:revision>
  <dc:subject/>
  <dc:title>Etniliste vähemuste ränne Tallinnast ja Ida-Virumaa linnadest  mujale Eestisse  Tiit Tammaru Tartu Ülikooli Välis-Eesti uuringute keskus</dc:title>
</cp:coreProperties>
</file>