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2902-D937-4F25-B531-4295B187C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46B4-48F9-4E32-BF3D-6901236CF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3F78-6290-4CE4-899A-540CE5A62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C9AE-A8FF-4ADE-B19F-9DC60399B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8240-C153-4531-9C18-FA6EDACE6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415E-77E6-447B-9223-2290A7B99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1CFB-75FA-4EA3-B076-66D53026E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0F36-7751-4549-ACC3-9F8444B0A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3479-FBB2-4B5C-82EE-AD0621584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3721-7773-471D-92E7-4F058F90F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5D84-905F-4360-BC96-1CD3FA704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B24D-C7AD-4316-B10B-DE0907549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36CD2-80E8-45E0-B869-BC41287D7E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11080" y="1915920"/>
            <a:ext cx="75060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Arial"/>
              </a:rPr>
              <a:t>Etniliste vähemuste ränne Tallinnast ja Ida-Virumaa linnadest </a:t>
            </a:r>
            <a:br>
              <a:rPr sz="3200"/>
            </a:br>
            <a:r>
              <a:rPr b="1" lang="et-EE" sz="3200" spc="-1" strike="noStrike">
                <a:solidFill>
                  <a:srgbClr val="000000"/>
                </a:solidFill>
                <a:latin typeface="Arial"/>
              </a:rPr>
              <a:t>mujale Eestisse</a:t>
            </a:r>
            <a:br>
              <a:rPr sz="4000"/>
            </a:br>
            <a:br>
              <a:rPr sz="4000"/>
            </a:b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Tiit Tammaru</a:t>
            </a:r>
            <a:br>
              <a:rPr sz="2400"/>
            </a:b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Tartu Ülikooli Välis-Eesti uuringute kesk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428760"/>
            <a:ext cx="336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esti Statistikaseltsi 21. konver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strid ja rahvaloendu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870160" y="6254640"/>
            <a:ext cx="264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Tallinn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.–25. märts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003400"/>
            <a:ext cx="9144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000" spc="-1" strike="noStrike">
                <a:solidFill>
                  <a:srgbClr val="000000"/>
                </a:solidFill>
                <a:latin typeface="Arial"/>
              </a:rPr>
              <a:t>Teooria: rahvusvähemuste rän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1277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000000"/>
                </a:solidFill>
                <a:latin typeface="Arial"/>
              </a:rPr>
              <a:t>Ruumilise paiknemise </a:t>
            </a:r>
            <a:br>
              <a:rPr sz="4000"/>
            </a:br>
            <a:r>
              <a:rPr b="0" lang="et-EE" sz="4000" spc="-1" strike="noStrike">
                <a:solidFill>
                  <a:srgbClr val="000000"/>
                </a:solidFill>
                <a:latin typeface="Arial"/>
              </a:rPr>
              <a:t>sarnastum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3519360" y="3014640"/>
            <a:ext cx="1844640" cy="1884240"/>
            <a:chOff x="3519360" y="3014640"/>
            <a:chExt cx="1844640" cy="1884240"/>
          </a:xfrm>
        </p:grpSpPr>
        <p:sp>
          <p:nvSpPr>
            <p:cNvPr id="65" name=""/>
            <p:cNvSpPr/>
            <p:nvPr/>
          </p:nvSpPr>
          <p:spPr>
            <a:xfrm>
              <a:off x="3519360" y="3014640"/>
              <a:ext cx="1844640" cy="1884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349160" y="3250440"/>
              <a:ext cx="230760" cy="234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9160" y="3816720"/>
              <a:ext cx="230760" cy="234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902120" y="3816720"/>
              <a:ext cx="230760" cy="234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795840" y="3815280"/>
              <a:ext cx="230760" cy="234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349160" y="4381560"/>
              <a:ext cx="230760" cy="234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1205280" y="5391000"/>
            <a:ext cx="159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 Unicode MS"/>
              </a:rPr>
              <a:t>Vähem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 Unicode MS"/>
              </a:rPr>
              <a:t>t</a:t>
            </a:r>
            <a:r>
              <a:rPr b="0" lang="et-EE" sz="1400" spc="-1" strike="noStrike">
                <a:solidFill>
                  <a:srgbClr val="000000"/>
                </a:solidFill>
                <a:latin typeface="Arial Unicode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681720" y="5391000"/>
            <a:ext cx="159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 Unicode MS"/>
              </a:rPr>
              <a:t>Vähem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 Unicode MS"/>
              </a:rPr>
              <a:t>t</a:t>
            </a:r>
            <a:r>
              <a:rPr b="0" lang="et-EE" sz="1400" spc="-1" strike="noStrike">
                <a:solidFill>
                  <a:srgbClr val="000000"/>
                </a:solidFill>
                <a:latin typeface="Arial Unicode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330600" y="5391000"/>
            <a:ext cx="113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 Unicode MS"/>
              </a:rPr>
              <a:t>Enam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1116000" y="3014640"/>
            <a:ext cx="1800360" cy="1873440"/>
            <a:chOff x="1116000" y="3014640"/>
            <a:chExt cx="1800360" cy="1873440"/>
          </a:xfrm>
        </p:grpSpPr>
        <p:sp>
          <p:nvSpPr>
            <p:cNvPr id="75" name=""/>
            <p:cNvSpPr/>
            <p:nvPr/>
          </p:nvSpPr>
          <p:spPr>
            <a:xfrm>
              <a:off x="1116000" y="3014640"/>
              <a:ext cx="1800360" cy="1873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865160" y="3764520"/>
              <a:ext cx="315360" cy="327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5967360" y="3014640"/>
            <a:ext cx="1844640" cy="1884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797520" y="3251160"/>
            <a:ext cx="230400" cy="23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97520" y="3816360"/>
            <a:ext cx="230400" cy="235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350120" y="3816360"/>
            <a:ext cx="231840" cy="23508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243480" y="3816360"/>
            <a:ext cx="231840" cy="23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797520" y="4381560"/>
            <a:ext cx="230400" cy="23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1206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000000"/>
                </a:solidFill>
                <a:latin typeface="Arial"/>
              </a:rPr>
              <a:t>Kinnistunud paiks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421280" y="5391000"/>
            <a:ext cx="159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 Unicode MS"/>
              </a:rPr>
              <a:t>Vähem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 Unicode MS"/>
              </a:rPr>
              <a:t>t</a:t>
            </a:r>
            <a:r>
              <a:rPr b="0" lang="et-EE" sz="1400" spc="-1" strike="noStrike">
                <a:solidFill>
                  <a:srgbClr val="000000"/>
                </a:solidFill>
                <a:latin typeface="Arial Unicode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797640" y="5391000"/>
            <a:ext cx="159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 Unicode MS"/>
              </a:rPr>
              <a:t>Vähem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 Unicode MS"/>
              </a:rPr>
              <a:t>t</a:t>
            </a:r>
            <a:r>
              <a:rPr b="0" lang="et-EE" sz="1400" spc="-1" strike="noStrike">
                <a:solidFill>
                  <a:srgbClr val="000000"/>
                </a:solidFill>
                <a:latin typeface="Arial Unicode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967360" y="3014640"/>
            <a:ext cx="1844640" cy="1884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797520" y="3251160"/>
            <a:ext cx="230400" cy="23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797520" y="3816360"/>
            <a:ext cx="230400" cy="235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50120" y="3816360"/>
            <a:ext cx="231840" cy="23508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243480" y="3816360"/>
            <a:ext cx="231840" cy="23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7520" y="4381560"/>
            <a:ext cx="230400" cy="23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635280" y="2924280"/>
            <a:ext cx="1800360" cy="1873080"/>
            <a:chOff x="3635280" y="2924280"/>
            <a:chExt cx="1800360" cy="1873080"/>
          </a:xfrm>
        </p:grpSpPr>
        <p:sp>
          <p:nvSpPr>
            <p:cNvPr id="93" name=""/>
            <p:cNvSpPr/>
            <p:nvPr/>
          </p:nvSpPr>
          <p:spPr>
            <a:xfrm>
              <a:off x="3635280" y="2924280"/>
              <a:ext cx="1800360" cy="1873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384440" y="3673800"/>
              <a:ext cx="315360" cy="327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6330600" y="5391000"/>
            <a:ext cx="113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 Unicode MS"/>
              </a:rPr>
              <a:t>Enam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116000" y="3014640"/>
            <a:ext cx="1800360" cy="1873440"/>
            <a:chOff x="1116000" y="3014640"/>
            <a:chExt cx="1800360" cy="1873440"/>
          </a:xfrm>
        </p:grpSpPr>
        <p:sp>
          <p:nvSpPr>
            <p:cNvPr id="97" name=""/>
            <p:cNvSpPr/>
            <p:nvPr/>
          </p:nvSpPr>
          <p:spPr>
            <a:xfrm>
              <a:off x="1116000" y="3014640"/>
              <a:ext cx="1800360" cy="1873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65160" y="3764520"/>
              <a:ext cx="315360" cy="327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206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000000"/>
                </a:solidFill>
                <a:latin typeface="Arial"/>
              </a:rPr>
              <a:t>Teisesed koondumiskoh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205280" y="5391000"/>
            <a:ext cx="159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 Unicode MS"/>
              </a:rPr>
              <a:t>Vähem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 Unicode MS"/>
              </a:rPr>
              <a:t>t</a:t>
            </a:r>
            <a:r>
              <a:rPr b="0" lang="et-EE" sz="1400" spc="-1" strike="noStrike">
                <a:solidFill>
                  <a:srgbClr val="000000"/>
                </a:solidFill>
                <a:latin typeface="Arial Unicode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865160" y="3763800"/>
            <a:ext cx="316080" cy="32724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5967360" y="3014640"/>
            <a:ext cx="1844640" cy="1884240"/>
            <a:chOff x="5967360" y="3014640"/>
            <a:chExt cx="1844640" cy="1884240"/>
          </a:xfrm>
        </p:grpSpPr>
        <p:sp>
          <p:nvSpPr>
            <p:cNvPr id="103" name=""/>
            <p:cNvSpPr/>
            <p:nvPr/>
          </p:nvSpPr>
          <p:spPr>
            <a:xfrm>
              <a:off x="5967360" y="3014640"/>
              <a:ext cx="1844640" cy="1884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797160" y="3250440"/>
              <a:ext cx="230760" cy="234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797160" y="3816720"/>
              <a:ext cx="230760" cy="234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350120" y="3816720"/>
              <a:ext cx="230760" cy="234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243840" y="3815280"/>
              <a:ext cx="230760" cy="234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797160" y="4381560"/>
              <a:ext cx="230760" cy="234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3519360" y="3014640"/>
            <a:ext cx="1844640" cy="3080160"/>
            <a:chOff x="3519360" y="3014640"/>
            <a:chExt cx="1844640" cy="3080160"/>
          </a:xfrm>
        </p:grpSpPr>
        <p:sp>
          <p:nvSpPr>
            <p:cNvPr id="110" name=""/>
            <p:cNvSpPr/>
            <p:nvPr/>
          </p:nvSpPr>
          <p:spPr>
            <a:xfrm>
              <a:off x="3681720" y="5391000"/>
              <a:ext cx="1593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2000" spc="-1" strike="noStrike">
                  <a:solidFill>
                    <a:srgbClr val="000000"/>
                  </a:solidFill>
                  <a:latin typeface="Arial Unicode MS"/>
                </a:rPr>
                <a:t>Vähemus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2000" spc="-1" strike="noStrike">
                  <a:solidFill>
                    <a:srgbClr val="000000"/>
                  </a:solidFill>
                  <a:latin typeface="Arial Unicode MS"/>
                </a:rPr>
                <a:t>t</a:t>
              </a:r>
              <a:r>
                <a:rPr b="0" lang="et-EE" sz="1400" spc="-1" strike="noStrike">
                  <a:solidFill>
                    <a:srgbClr val="000000"/>
                  </a:solidFill>
                  <a:latin typeface="Arial Unicode MS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3519360" y="3014640"/>
              <a:ext cx="1844640" cy="1884240"/>
              <a:chOff x="3519360" y="3014640"/>
              <a:chExt cx="1844640" cy="1884240"/>
            </a:xfrm>
          </p:grpSpPr>
          <p:sp>
            <p:nvSpPr>
              <p:cNvPr id="112" name=""/>
              <p:cNvSpPr/>
              <p:nvPr/>
            </p:nvSpPr>
            <p:spPr>
              <a:xfrm>
                <a:off x="3519360" y="3014640"/>
                <a:ext cx="1844640" cy="1884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159080" y="3573360"/>
                <a:ext cx="196920" cy="2160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284720" y="3759120"/>
                <a:ext cx="315720" cy="327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022720" y="4292640"/>
                <a:ext cx="125640" cy="14292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6" name=""/>
          <p:cNvSpPr/>
          <p:nvPr/>
        </p:nvSpPr>
        <p:spPr>
          <a:xfrm>
            <a:off x="6330600" y="5391000"/>
            <a:ext cx="113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 Unicode MS"/>
              </a:rPr>
              <a:t>Enam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116000" y="3014640"/>
            <a:ext cx="1800360" cy="1873440"/>
            <a:chOff x="1116000" y="3014640"/>
            <a:chExt cx="1800360" cy="1873440"/>
          </a:xfrm>
        </p:grpSpPr>
        <p:sp>
          <p:nvSpPr>
            <p:cNvPr id="118" name=""/>
            <p:cNvSpPr/>
            <p:nvPr/>
          </p:nvSpPr>
          <p:spPr>
            <a:xfrm>
              <a:off x="1116000" y="3014640"/>
              <a:ext cx="1800360" cy="1873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865160" y="3764520"/>
              <a:ext cx="315360" cy="327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206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000000"/>
                </a:solidFill>
                <a:latin typeface="Arial"/>
              </a:rPr>
              <a:t>Ruumilise koondumise süvenem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05280" y="5391000"/>
            <a:ext cx="159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 Unicode MS"/>
              </a:rPr>
              <a:t>Vähem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 Unicode MS"/>
              </a:rPr>
              <a:t>t</a:t>
            </a:r>
            <a:r>
              <a:rPr b="0" lang="et-EE" sz="1400" spc="-1" strike="noStrike">
                <a:solidFill>
                  <a:srgbClr val="000000"/>
                </a:solidFill>
                <a:latin typeface="Arial Unicode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681720" y="5391000"/>
            <a:ext cx="159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 Unicode MS"/>
              </a:rPr>
              <a:t>Vähem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 Unicode MS"/>
              </a:rPr>
              <a:t>t</a:t>
            </a:r>
            <a:r>
              <a:rPr b="0" lang="et-EE" sz="1400" spc="-1" strike="noStrike">
                <a:solidFill>
                  <a:srgbClr val="000000"/>
                </a:solidFill>
                <a:latin typeface="Arial Unicode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865160" y="3763800"/>
            <a:ext cx="316080" cy="32724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519360" y="3014640"/>
            <a:ext cx="1844640" cy="1884240"/>
            <a:chOff x="3519360" y="3014640"/>
            <a:chExt cx="1844640" cy="1884240"/>
          </a:xfrm>
        </p:grpSpPr>
        <p:sp>
          <p:nvSpPr>
            <p:cNvPr id="125" name=""/>
            <p:cNvSpPr/>
            <p:nvPr/>
          </p:nvSpPr>
          <p:spPr>
            <a:xfrm>
              <a:off x="3519360" y="3014640"/>
              <a:ext cx="1844640" cy="1884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84720" y="3759120"/>
              <a:ext cx="315720" cy="327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5967360" y="3014640"/>
            <a:ext cx="1844640" cy="1884240"/>
            <a:chOff x="5967360" y="3014640"/>
            <a:chExt cx="1844640" cy="1884240"/>
          </a:xfrm>
        </p:grpSpPr>
        <p:sp>
          <p:nvSpPr>
            <p:cNvPr id="128" name=""/>
            <p:cNvSpPr/>
            <p:nvPr/>
          </p:nvSpPr>
          <p:spPr>
            <a:xfrm>
              <a:off x="5967360" y="3014640"/>
              <a:ext cx="1844640" cy="1884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797160" y="3250440"/>
              <a:ext cx="230760" cy="234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797160" y="3816720"/>
              <a:ext cx="230760" cy="234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50120" y="3816720"/>
              <a:ext cx="230760" cy="234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43840" y="3815280"/>
              <a:ext cx="230760" cy="234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797160" y="4381560"/>
              <a:ext cx="230760" cy="234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6330600" y="5391000"/>
            <a:ext cx="113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 Unicode MS"/>
              </a:rPr>
              <a:t>Enam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116000" y="3014640"/>
            <a:ext cx="1800360" cy="1873440"/>
            <a:chOff x="1116000" y="3014640"/>
            <a:chExt cx="1800360" cy="1873440"/>
          </a:xfrm>
        </p:grpSpPr>
        <p:sp>
          <p:nvSpPr>
            <p:cNvPr id="136" name=""/>
            <p:cNvSpPr/>
            <p:nvPr/>
          </p:nvSpPr>
          <p:spPr>
            <a:xfrm>
              <a:off x="1116000" y="3014640"/>
              <a:ext cx="1800360" cy="1873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865160" y="3764520"/>
              <a:ext cx="315360" cy="327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1760" y="1360080"/>
            <a:ext cx="845964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Seletuste põhitelg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2494080"/>
            <a:ext cx="86756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Sidemete loomine enamusrahvusega/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asukohariigig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Sidemete säilitamine rahvuskaaslasteg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1773000"/>
            <a:ext cx="91440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000" spc="-1" strike="noStrike">
                <a:solidFill>
                  <a:srgbClr val="000000"/>
                </a:solidFill>
                <a:latin typeface="Arial"/>
              </a:rPr>
              <a:t>Andmed ja meetod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900000" y="1738440"/>
            <a:ext cx="8244000" cy="47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Andm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2000. aasta rahvaloenduse anonüümsed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individuaalandm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Inimeste elukoht 1989. ja 2000. aas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52360" y="1125360"/>
            <a:ext cx="9360000" cy="53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Uuritavad rahvastikurühm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Tallinna ja Ida-Virumaa linnade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paiksed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450,946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Muu Eesti paiksed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638,575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Tallinnast ja Ida-Virumaa linnadest väljarändajad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Kokku 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41,087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Eestlased 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29,916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Muud rahvused 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11,171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612720" y="1125360"/>
            <a:ext cx="9360000" cy="51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Uuritavad tunnus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Rahvu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Partneri rahvu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Põlvkon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Kodukeel, eesti keele osku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Kodakondsu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1760" y="671400"/>
            <a:ext cx="8459640" cy="8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Ettekande kava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8360" y="1805040"/>
            <a:ext cx="8675640" cy="45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Sissejuh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Rahvusvähemuste paiknemine Eest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Teooria: rahvusvähemuste ränn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Tallinnast ja Ida-Virumaa linnades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väljarändaj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Väljarändajate sihtkoh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Kokkuvõ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387440" y="2922480"/>
            <a:ext cx="5272200" cy="194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(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1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                                 =    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k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(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0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k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122560" y="393372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258560" y="1671480"/>
            <a:ext cx="562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sti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li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gressio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2003400"/>
            <a:ext cx="9144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000" spc="-1" strike="noStrike">
                <a:solidFill>
                  <a:srgbClr val="000000"/>
                </a:solidFill>
                <a:latin typeface="Arial"/>
              </a:rPr>
              <a:t>Tallinnast ja Ida-Virumaa linnadest väljarändaj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12720" y="1501920"/>
            <a:ext cx="9360000" cy="31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Väljarände intensiivs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Eestlased 171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  <a:ea typeface="Arial"/>
              </a:rPr>
              <a:t>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Teised rahvused 41 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539640" y="289080"/>
            <a:ext cx="9360000" cy="21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Väljarändajate rühm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576360" y="1128600"/>
          <a:ext cx="11052000" cy="575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6360" y="1128600"/>
                    <a:ext cx="11052000" cy="57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611280" y="6697800"/>
            <a:ext cx="727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2003400"/>
            <a:ext cx="9144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000" spc="-1" strike="noStrike">
                <a:solidFill>
                  <a:srgbClr val="000000"/>
                </a:solidFill>
                <a:latin typeface="Arial"/>
              </a:rPr>
              <a:t>Väljarändajate sihtkoh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Narvast lahkujad: rahvusvähem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68360" y="1457280"/>
            <a:ext cx="82789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Narvast lahkujad: eestl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68360" y="1457280"/>
            <a:ext cx="82789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Tallinnast lahkujad: rahvusvähem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68360" y="1457280"/>
            <a:ext cx="82789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Tallinnast lahkujad: eestl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68360" y="1457280"/>
            <a:ext cx="82789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2003400"/>
            <a:ext cx="9144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000" spc="-1" strike="noStrike">
                <a:solidFill>
                  <a:srgbClr val="000000"/>
                </a:solidFill>
                <a:latin typeface="Arial"/>
              </a:rPr>
              <a:t>Kokkuvõ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2146320"/>
            <a:ext cx="9144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000" spc="-1" strike="noStrike">
                <a:solidFill>
                  <a:srgbClr val="000000"/>
                </a:solidFill>
                <a:latin typeface="Arial"/>
              </a:rPr>
              <a:t>Sissejuhatus:</a:t>
            </a:r>
            <a:br>
              <a:rPr sz="4000"/>
            </a:br>
            <a:r>
              <a:rPr b="1" lang="et-EE" sz="4000" spc="-1" strike="noStrike">
                <a:solidFill>
                  <a:srgbClr val="000000"/>
                </a:solidFill>
                <a:latin typeface="Arial"/>
              </a:rPr>
              <a:t>Kas 2000 loendusandmestik</a:t>
            </a:r>
            <a:br>
              <a:rPr sz="4000"/>
            </a:br>
            <a:r>
              <a:rPr b="1" lang="et-EE" sz="4000" spc="-1" strike="noStrike">
                <a:solidFill>
                  <a:srgbClr val="000000"/>
                </a:solidFill>
                <a:latin typeface="Arial"/>
              </a:rPr>
              <a:t>on vana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11080" y="1628280"/>
            <a:ext cx="75060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Arial"/>
              </a:rPr>
              <a:t>Tänan tähelepanu eest!</a:t>
            </a:r>
            <a:br>
              <a:rPr sz="4000"/>
            </a:br>
            <a:br>
              <a:rPr sz="2400"/>
            </a:b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Tiit.Tammaru@ut.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68360" y="428760"/>
            <a:ext cx="336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esti Statistikaseltsi 21. konver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strid ja rahvaloendu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924360" y="5300640"/>
            <a:ext cx="504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Tänusõnad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Kaardid valmistas Ülle Valgma Statistikaamet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000" y="907920"/>
            <a:ext cx="8459640" cy="8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Erinevad ülesandepüstitused ja andme-allik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2560" y="2440080"/>
            <a:ext cx="7664760" cy="39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Kiirelt muutuvate nähtuste jälgimin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näiteks tööpuudus, valglinnastu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Tunnustevaheliste seoste uurim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näiteks tööpuuduse/rände erinev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rahvastikurühmi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näiteks rahvusvähemuste rännet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tööpuudust mõjutavad tegur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31640" y="2770560"/>
            <a:ext cx="8748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Andmete värsk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Arial"/>
              </a:rPr>
              <a:t>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Andmete usaldusväärsus ja kvalit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Võimalus vastata uut laadi uurimisküsimust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4920" y="1274400"/>
            <a:ext cx="845964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Andmeallika valiku kaalutlused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003400"/>
            <a:ext cx="9144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000" spc="-1" strike="noStrike">
                <a:solidFill>
                  <a:srgbClr val="000000"/>
                </a:solidFill>
                <a:latin typeface="Arial"/>
              </a:rPr>
              <a:t>Rahvusvähemuste paiknemine Eest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4920" y="83664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Tahoma"/>
              </a:rPr>
              <a:t>Rahvusvähemuste osakaal (%)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Tahoma"/>
              </a:rPr>
              <a:t>1945–20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57080" y="1989000"/>
            <a:ext cx="7344000" cy="45561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082920" y="6583320"/>
            <a:ext cx="167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Allikad: Statistikaam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4920" y="83664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Tahoma"/>
              </a:rPr>
              <a:t>Rahvusvähemuste paiknemine (%)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585480" y="6526080"/>
            <a:ext cx="138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Allikas: REL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00000" y="2017800"/>
            <a:ext cx="7345440" cy="45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79280" y="838080"/>
            <a:ext cx="878544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Tahoma"/>
              </a:rPr>
              <a:t>Rahvusvähemuste paiknemine Tallinnas ja Ida-Viru linna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585480" y="6526080"/>
            <a:ext cx="138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Allikas: REL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116000" y="2227320"/>
          <a:ext cx="7128000" cy="4010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227320"/>
                    <a:ext cx="7128000" cy="40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9:27:30Z</dcterms:created>
  <dc:creator>Tiit Tammaru</dc:creator>
  <dc:description/>
  <dc:language>en-US</dc:language>
  <cp:lastModifiedBy>Tiit Tammaru</cp:lastModifiedBy>
  <dcterms:modified xsi:type="dcterms:W3CDTF">2009-03-25T06:49:01Z</dcterms:modified>
  <cp:revision>25</cp:revision>
  <dc:subject/>
  <dc:title>Etniliste vähemuste ränne Tallinnast ja Ida-Virumaa linnadest  mujale Eestisse  Tiit Tammaru Tartu Ülikooli Välis-Eesti uuringute keskus</dc:title>
</cp:coreProperties>
</file>