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E47-D6B0-4D9B-A8ED-6A97220C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03A-F2CD-46DE-9F1A-9F820135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18B-0957-46DC-9B33-A0280B38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260-DCAC-4F0E-A299-0110507C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E07-554A-4992-8A5D-5EA796C0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338-3FAF-4E6F-B9D4-186E313C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EDA-B1CB-4274-804D-70E34EE9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40F-0867-4D8A-BB03-8E146E4D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5A3-0946-4E39-8B8C-5B7EBFE3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EDF-AE10-4F60-A15E-52E43224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4A0-CA13-4824-8EE7-41AA935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C20-D3A9-4F05-9019-7C3B0143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A169-2634-4DCB-A798-33685C5F3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1080" y="191592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Etniliste vähemuste ränne Tallinnast ja Ida-Virumaa linnadest </a:t>
            </a:r>
            <a:br>
              <a:rPr sz="3200"/>
            </a:b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mujale Eestisse</a:t>
            </a:r>
            <a:br>
              <a:rPr sz="4000"/>
            </a:br>
            <a:br>
              <a:rPr sz="40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 Tammaru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tu Ülikooli Välis-Eesti uuringute 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0160" y="625464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allinn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–25. märts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eooria: rahvusvähemuste rä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277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paiknemise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sarnastu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6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49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9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02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5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9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75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Kinnistunud paik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21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764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635280" y="2924280"/>
            <a:ext cx="1800360" cy="1873080"/>
            <a:chOff x="3635280" y="2924280"/>
            <a:chExt cx="1800360" cy="1873080"/>
          </a:xfrm>
        </p:grpSpPr>
        <p:sp>
          <p:nvSpPr>
            <p:cNvPr id="93" name=""/>
            <p:cNvSpPr/>
            <p:nvPr/>
          </p:nvSpPr>
          <p:spPr>
            <a:xfrm>
              <a:off x="3635280" y="2924280"/>
              <a:ext cx="1800360" cy="18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84440" y="367380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97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Teisesed koondumis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03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19360" y="3014640"/>
            <a:ext cx="1844640" cy="3080160"/>
            <a:chOff x="3519360" y="3014640"/>
            <a:chExt cx="1844640" cy="3080160"/>
          </a:xfrm>
        </p:grpSpPr>
        <p:sp>
          <p:nvSpPr>
            <p:cNvPr id="110" name=""/>
            <p:cNvSpPr/>
            <p:nvPr/>
          </p:nvSpPr>
          <p:spPr>
            <a:xfrm>
              <a:off x="3681720" y="539100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Vähem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t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519360" y="3014640"/>
              <a:ext cx="1844640" cy="1884240"/>
              <a:chOff x="3519360" y="3014640"/>
              <a:chExt cx="1844640" cy="1884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519360" y="3014640"/>
                <a:ext cx="1844640" cy="1884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9080" y="3573360"/>
                <a:ext cx="196920" cy="216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84720" y="3759120"/>
                <a:ext cx="315720" cy="327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2720" y="4292640"/>
                <a:ext cx="12564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18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koondumise süvene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12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720" y="3759120"/>
              <a:ext cx="315720" cy="32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28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36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136008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eletuste põhitel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494080"/>
            <a:ext cx="867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loomine enamusrahvusega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sukohariigi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säilitamine rahvuskaaslast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ndmed ja meeto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1738440"/>
            <a:ext cx="82440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000. aasta rahvaloenduse anonüüms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dividuaaland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te elukoht 1989. ja 2000. aa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2360" y="1125360"/>
            <a:ext cx="9360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rahvastiku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 ja Ida-Virumaa linnad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50,94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 Eesti 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638,57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kku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1,08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Eestla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29,91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d rahvu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11,17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2720" y="1125360"/>
            <a:ext cx="9360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tunn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rtneri 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õlvk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ukeel, eesti keele osk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akonds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67140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ttekande ka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805040"/>
            <a:ext cx="867564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ssejuh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eooria: rahvusvähemuste rä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allinnast ja Ida-Virumaa linnad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87440" y="2922480"/>
            <a:ext cx="5272200" cy="19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                                =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k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3933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560" y="1671480"/>
            <a:ext cx="56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ressio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2720" y="1501920"/>
            <a:ext cx="9360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e intensiiv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estlased 171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ised rahvused 41 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289080"/>
            <a:ext cx="93600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äljarändajate 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6360" y="1128600"/>
          <a:ext cx="110520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28600"/>
                    <a:ext cx="110520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11280" y="669780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4632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issejuhatus: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s 2000 loendusandmestik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on van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1080" y="162828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Tänan tähelepanu eest!</a:t>
            </a:r>
            <a:br>
              <a:rPr sz="4000"/>
            </a:b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.Tammaru@ut.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30064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änusõn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ardid valmistas Ülle Valgma Statistikaame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rinevad ülesandepüstitused ja andme-allik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440080"/>
            <a:ext cx="766476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irelt muutuvate nähtuste jälgim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, valglinnastu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unnustevaheliste seoste uuri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e/rände erinev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hvastikurühm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rahvusvähemuste rän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ööpuudust mõjutavad tegu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1640" y="27705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värsk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usaldusväärsus ja kvali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õimalus vastata uut laadi uurimisküsimus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27440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ndmeallika valiku kaalutlus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osakaal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1945–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7080" y="1989000"/>
            <a:ext cx="7344000" cy="455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82920" y="658332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d: Statistikaa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2017800"/>
            <a:ext cx="734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838080"/>
            <a:ext cx="8785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Tallinnas ja Ida-Viru linn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2227320"/>
          <a:ext cx="712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27320"/>
                    <a:ext cx="712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27:30Z</dcterms:created>
  <dc:creator>Tiit Tammaru</dc:creator>
  <dc:description/>
  <dc:language>en-US</dc:language>
  <cp:lastModifiedBy>Tiit Tammaru</cp:lastModifiedBy>
  <dcterms:modified xsi:type="dcterms:W3CDTF">2009-03-25T06:49:01Z</dcterms:modified>
  <cp:revision>25</cp:revision>
  <dc:subject/>
  <dc:title>Etniliste vähemuste ränne Tallinnast ja Ida-Virumaa linnadest  mujale Eestisse  Tiit Tammaru Tartu Ülikooli Välis-Eesti uuringute keskus</dc:title>
</cp:coreProperties>
</file>