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89F-204E-4EEB-A448-EE1E24F6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3DF-EA54-4F56-B477-9E46919E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560E-7B37-46FE-99D6-241F8F12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F0B-15CC-47BE-A8A5-E1FF950D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CC9D-725E-4A9C-A550-0CE6E6C6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B1BF-C7F7-4F1C-AD25-14B3BA15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0A7-208B-455F-8433-0D2B0BCE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021-1006-48F5-862F-FFBFEA4B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4B65-69E2-4F3F-A9BF-3D3C24D8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EFB-5AD1-4799-A7BB-44CB6423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AE5-BAF0-4009-B3AD-4D5F7D8B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E52B-C9C5-48E1-AB4F-14C3940D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B928-8639-4B9C-BE90-F581ECDC0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11080" y="1915920"/>
            <a:ext cx="750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Etniliste vähemuste ränne Tallinnast ja Ida-Virumaa linnadest </a:t>
            </a:r>
            <a:br>
              <a:rPr sz="3200"/>
            </a:b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mujale Eestisse</a:t>
            </a:r>
            <a:br>
              <a:rPr sz="4000"/>
            </a:br>
            <a:br>
              <a:rPr sz="4000"/>
            </a:b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iit Tammaru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artu Ülikooli Välis-Eesti uuringute kes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28760"/>
            <a:ext cx="336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sti Statistikaseltsi 21. konve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id ja rahvaloendu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70160" y="6254640"/>
            <a:ext cx="26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Tallinn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.–25. märts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Teooria: rahvusvähemuste rän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277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Ruumilise paiknemise </a:t>
            </a:r>
            <a:br>
              <a:rPr sz="4000"/>
            </a:b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sarnastu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519360" y="3014640"/>
            <a:ext cx="1844640" cy="1884240"/>
            <a:chOff x="3519360" y="3014640"/>
            <a:chExt cx="1844640" cy="1884240"/>
          </a:xfrm>
        </p:grpSpPr>
        <p:sp>
          <p:nvSpPr>
            <p:cNvPr id="65" name=""/>
            <p:cNvSpPr/>
            <p:nvPr/>
          </p:nvSpPr>
          <p:spPr>
            <a:xfrm>
              <a:off x="3519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349160" y="325044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916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0212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95840" y="381528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49160" y="438156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205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8172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75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967360" y="3014640"/>
            <a:ext cx="1844640" cy="188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97520" y="3251160"/>
            <a:ext cx="23040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97520" y="3816360"/>
            <a:ext cx="230400" cy="23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50120" y="3816360"/>
            <a:ext cx="231840" cy="2350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3480" y="3816360"/>
            <a:ext cx="23184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97520" y="4381560"/>
            <a:ext cx="230400" cy="23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20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Kinnistunud paik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21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764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67360" y="3014640"/>
            <a:ext cx="1844640" cy="188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97520" y="3251160"/>
            <a:ext cx="23040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97520" y="3816360"/>
            <a:ext cx="230400" cy="23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50120" y="3816360"/>
            <a:ext cx="231840" cy="2350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3480" y="3816360"/>
            <a:ext cx="23184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7520" y="4381560"/>
            <a:ext cx="230400" cy="23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635280" y="2924280"/>
            <a:ext cx="1800360" cy="1873080"/>
            <a:chOff x="3635280" y="2924280"/>
            <a:chExt cx="1800360" cy="1873080"/>
          </a:xfrm>
        </p:grpSpPr>
        <p:sp>
          <p:nvSpPr>
            <p:cNvPr id="93" name=""/>
            <p:cNvSpPr/>
            <p:nvPr/>
          </p:nvSpPr>
          <p:spPr>
            <a:xfrm>
              <a:off x="3635280" y="2924280"/>
              <a:ext cx="1800360" cy="187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84440" y="367380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97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20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Teisesed koondumiskoh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05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65160" y="3763800"/>
            <a:ext cx="316080" cy="32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967360" y="3014640"/>
            <a:ext cx="1844640" cy="1884240"/>
            <a:chOff x="5967360" y="3014640"/>
            <a:chExt cx="1844640" cy="1884240"/>
          </a:xfrm>
        </p:grpSpPr>
        <p:sp>
          <p:nvSpPr>
            <p:cNvPr id="103" name=""/>
            <p:cNvSpPr/>
            <p:nvPr/>
          </p:nvSpPr>
          <p:spPr>
            <a:xfrm>
              <a:off x="5967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97160" y="325044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9716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5012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43840" y="381528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97160" y="438156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519360" y="3014640"/>
            <a:ext cx="1844640" cy="3080160"/>
            <a:chOff x="3519360" y="3014640"/>
            <a:chExt cx="1844640" cy="3080160"/>
          </a:xfrm>
        </p:grpSpPr>
        <p:sp>
          <p:nvSpPr>
            <p:cNvPr id="110" name=""/>
            <p:cNvSpPr/>
            <p:nvPr/>
          </p:nvSpPr>
          <p:spPr>
            <a:xfrm>
              <a:off x="3681720" y="5391000"/>
              <a:ext cx="159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000" spc="-1" strike="noStrike">
                  <a:solidFill>
                    <a:srgbClr val="000000"/>
                  </a:solidFill>
                  <a:latin typeface="Arial Unicode MS"/>
                </a:rPr>
                <a:t>Vähemus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000" spc="-1" strike="noStrike">
                  <a:solidFill>
                    <a:srgbClr val="000000"/>
                  </a:solidFill>
                  <a:latin typeface="Arial Unicode MS"/>
                </a:rPr>
                <a:t>t</a:t>
              </a:r>
              <a:r>
                <a:rPr b="0" lang="et-EE" sz="1400" spc="-1" strike="noStrike">
                  <a:solidFill>
                    <a:srgbClr val="000000"/>
                  </a:solidFill>
                  <a:latin typeface="Arial Unicode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519360" y="3014640"/>
              <a:ext cx="1844640" cy="1884240"/>
              <a:chOff x="3519360" y="3014640"/>
              <a:chExt cx="1844640" cy="1884240"/>
            </a:xfrm>
          </p:grpSpPr>
          <p:sp>
            <p:nvSpPr>
              <p:cNvPr id="112" name=""/>
              <p:cNvSpPr/>
              <p:nvPr/>
            </p:nvSpPr>
            <p:spPr>
              <a:xfrm>
                <a:off x="3519360" y="3014640"/>
                <a:ext cx="1844640" cy="1884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59080" y="3573360"/>
                <a:ext cx="196920" cy="2160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84720" y="3759120"/>
                <a:ext cx="315720" cy="327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022720" y="4292640"/>
                <a:ext cx="125640" cy="142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118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20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Ruumilise koondumise süvene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05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8172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65160" y="3763800"/>
            <a:ext cx="316080" cy="32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19360" y="3014640"/>
            <a:ext cx="1844640" cy="1884240"/>
            <a:chOff x="3519360" y="3014640"/>
            <a:chExt cx="1844640" cy="1884240"/>
          </a:xfrm>
        </p:grpSpPr>
        <p:sp>
          <p:nvSpPr>
            <p:cNvPr id="125" name=""/>
            <p:cNvSpPr/>
            <p:nvPr/>
          </p:nvSpPr>
          <p:spPr>
            <a:xfrm>
              <a:off x="3519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84720" y="3759120"/>
              <a:ext cx="315720" cy="32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967360" y="3014640"/>
            <a:ext cx="1844640" cy="1884240"/>
            <a:chOff x="5967360" y="3014640"/>
            <a:chExt cx="1844640" cy="1884240"/>
          </a:xfrm>
        </p:grpSpPr>
        <p:sp>
          <p:nvSpPr>
            <p:cNvPr id="128" name=""/>
            <p:cNvSpPr/>
            <p:nvPr/>
          </p:nvSpPr>
          <p:spPr>
            <a:xfrm>
              <a:off x="5967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97160" y="325044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9716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5012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43840" y="381528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97160" y="438156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136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1760" y="1360080"/>
            <a:ext cx="84596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eletuste põhitelg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494080"/>
            <a:ext cx="8675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idemete loomine enamusrahvusega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asukohariigi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idemete säilitamine rahvuskaaslaste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ndmed ja meetod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00000" y="1738440"/>
            <a:ext cx="8244000" cy="47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ndm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000. aasta rahvaloenduse anonüümse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dividuaaland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imeste elukoht 1989. ja 2000. aa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2360" y="1125360"/>
            <a:ext cx="93600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uritavad rahvastikurühm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Tallinna ja Ida-Virumaa linnad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paikse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450,946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Muu Eesti paikse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638,575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Tallinnast ja Ida-Virumaa linnadest väljarändaja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Kokku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41,087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Eestlased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29,916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Muud rahvused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11,17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12720" y="1125360"/>
            <a:ext cx="936000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uritavad tunn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Rahv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Partneri rahv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Põlvko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Kodukeel, eesti keele osk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Kodakonds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671400"/>
            <a:ext cx="84596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Ettekande kav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805040"/>
            <a:ext cx="867564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issejuh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Rahvusvähemuste paiknemine Ees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Teooria: rahvusvähemuste rän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Tallinnast ja Ida-Virumaa linnade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väljarändaj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Väljarändajate sihtko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Kokkuvõ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87440" y="2922480"/>
            <a:ext cx="5272200" cy="194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                                 = 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k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k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2560" y="3933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8560" y="1671480"/>
            <a:ext cx="56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gressio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Tallinnast ja Ida-Virumaa linnadest väljarändaj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2720" y="1501920"/>
            <a:ext cx="936000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Väljarände intensiivs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estlased 171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eised rahvused 41 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9640" y="289080"/>
            <a:ext cx="9360000" cy="21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äljarändajate rühm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76360" y="1128600"/>
          <a:ext cx="11052000" cy="57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128600"/>
                    <a:ext cx="1105200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611280" y="6697800"/>
            <a:ext cx="72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Väljarändajate sihtkoh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arvast lahkujad: rahvusvähem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arvast lahkujad: eestl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allinnast lahkujad: rahvusvähem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allinnast lahkujad: eestl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Kokkuvõ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4632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Sissejuhatus:</a:t>
            </a:r>
            <a:br>
              <a:rPr sz="4000"/>
            </a:b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Kas 2000 loendusandmestik</a:t>
            </a:r>
            <a:br>
              <a:rPr sz="4000"/>
            </a:b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on van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11080" y="1628280"/>
            <a:ext cx="750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Tänan tähelepanu eest!</a:t>
            </a:r>
            <a:br>
              <a:rPr sz="4000"/>
            </a:b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iit.Tammaru@ut.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428760"/>
            <a:ext cx="336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sti Statistikaseltsi 21. konve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id ja rahvaloendu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5300640"/>
            <a:ext cx="50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änusõn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aardid valmistas Ülle Valgma Statistikaame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84596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Erinevad ülesandepüstitused ja andme-allik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2560" y="2440080"/>
            <a:ext cx="766476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irelt muutuvate nähtuste jälgimi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äiteks tööpuudus, valglinnastu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unnustevaheliste seoste uurim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äiteks tööpuuduse/rände erinev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ahvastikurühm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äiteks rahvusvähemuste rän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ööpuudust mõjutavad tegu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1640" y="2770560"/>
            <a:ext cx="87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ndmete värsk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ndmete usaldusväärsus ja kvali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õimalus vastata uut laadi uurimisküsimust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274400"/>
            <a:ext cx="84596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Andmeallika valiku kaalutluse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Rahvusvähemuste paiknemine Ees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920" y="8366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Rahvusvähemuste osakaal (%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1945–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7080" y="1989000"/>
            <a:ext cx="7344000" cy="4556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82920" y="6583320"/>
            <a:ext cx="167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Allikad: Statistikaa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920" y="8366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Rahvusvähemuste paiknemine (%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5480" y="6526080"/>
            <a:ext cx="138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Allikas: REL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2017800"/>
            <a:ext cx="73454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838080"/>
            <a:ext cx="8785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Rahvusvähemuste paiknemine Tallinnas ja Ida-Viru linn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5480" y="6526080"/>
            <a:ext cx="138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Allikas: REL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16000" y="2227320"/>
          <a:ext cx="712800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227320"/>
                    <a:ext cx="712800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9:27:30Z</dcterms:created>
  <dc:creator>Tiit Tammaru</dc:creator>
  <dc:description/>
  <dc:language>en-US</dc:language>
  <cp:lastModifiedBy>Tiit Tammaru</cp:lastModifiedBy>
  <dcterms:modified xsi:type="dcterms:W3CDTF">2009-03-25T06:49:01Z</dcterms:modified>
  <cp:revision>25</cp:revision>
  <dc:subject/>
  <dc:title>Etniliste vähemuste ränne Tallinnast ja Ida-Virumaa linnadest  mujale Eestisse  Tiit Tammaru Tartu Ülikooli Välis-Eesti uuringute keskus</dc:title>
</cp:coreProperties>
</file>