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C7DED-C428-40E0-B507-496AFCED3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0F380-2408-4A71-977B-CC0D56915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DC714-84E7-43C8-B9B3-C3C3283EF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DF018-AD92-4E9D-B9BB-2CD948771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F5D27-FD90-43B9-A4AC-BA75233B4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9AB84-0E3E-48E8-8419-329133013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82582-D09D-40B1-A14C-C9BE6FFDB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1D202-FE57-4FDB-91E1-6CF1E0058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3B2BD-B925-452D-B08C-715D4B109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F0E80-C5C8-41EE-954D-5A15A416D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EE446-D420-4156-9777-47662F572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E0134-ACE4-4AA3-9DE5-C350F9285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5597B-4B0D-45E5-BB86-E4B76E8A9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49FCE-5D4E-4E95-A367-8BE3A53E3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D579C-7EFC-463E-8846-51E1B192A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4AEB7-1A4D-4562-AA9A-07C595ADC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CF15B-ACB9-4029-BD3A-9F6BE04FC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61FC4-88FA-435E-8570-D29A3B16D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9686A-4818-4C20-B3EA-CC201012F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4F691-8036-4CD6-BB29-142B8F75A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4D2B-4D87-40A1-A724-BC558284E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EB96-1EA0-434E-9BE9-EED149AE5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6BCE6-61C7-4D04-BD8C-EDC457B82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F5C43-28A5-421F-84C6-5D91B3CD3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ECE2-1662-41DD-92B9-256AB8B508F9}"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09B5-7A1D-4720-AC97-2DE3C575063F}"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98080"/>
            <a:ext cx="8424720" cy="146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Rahvastikuteave ja selle hankimise teedest</a:t>
            </a:r>
            <a:br>
              <a:rPr sz="3200"/>
            </a:br>
            <a:r>
              <a:rPr b="0" lang="et-EE" sz="3200" spc="-1" strike="noStrike">
                <a:solidFill>
                  <a:srgbClr val="003366"/>
                </a:solidFill>
                <a:latin typeface="Arial"/>
              </a:rPr>
              <a:t>(Registrite ja vaatluste seostamisest)</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Kaljo Laa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Eesti Pensionäride Ühenduste Lii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125000"/>
            <a:ext cx="7924680" cy="597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aktuaalsus</a:t>
            </a:r>
            <a:endParaRPr b="1" lang="en-US" sz="3200" spc="-1" strike="noStrike">
              <a:solidFill>
                <a:srgbClr val="006666"/>
              </a:solidFill>
              <a:latin typeface="Arial"/>
            </a:endParaRPr>
          </a:p>
        </p:txBody>
      </p:sp>
      <p:sp>
        <p:nvSpPr>
          <p:cNvPr id="98" name="PlaceHolder 2"/>
          <p:cNvSpPr>
            <a:spLocks noGrp="1"/>
          </p:cNvSpPr>
          <p:nvPr>
            <p:ph/>
          </p:nvPr>
        </p:nvSpPr>
        <p:spPr>
          <a:xfrm>
            <a:off x="971280" y="2622600"/>
            <a:ext cx="7559640" cy="3463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2011.a. rahvaloendu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Riiklikud arengukava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vajadus</a:t>
            </a:r>
            <a:endParaRPr b="1" lang="en-US" sz="3200" spc="-1" strike="noStrike">
              <a:solidFill>
                <a:srgbClr val="006666"/>
              </a:solidFill>
              <a:latin typeface="Arial"/>
            </a:endParaRPr>
          </a:p>
        </p:txBody>
      </p:sp>
      <p:sp>
        <p:nvSpPr>
          <p:cNvPr id="100" name="PlaceHolder 2"/>
          <p:cNvSpPr>
            <a:spLocks noGrp="1"/>
          </p:cNvSpPr>
          <p:nvPr>
            <p:ph/>
          </p:nvPr>
        </p:nvSpPr>
        <p:spPr>
          <a:xfrm>
            <a:off x="900000" y="2492280"/>
            <a:ext cx="7786800" cy="410544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sik ja huvirühma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Dünaamika ja regionaalne võrdle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rognooside koos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ajandustegevuse korral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Sotsiaalse arengu kavan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adustöö</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Seega info vajadus on olemas. Kuidas seda hanki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hankimine</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4" name="PlaceHolder 2"/>
          <p:cNvSpPr>
            <a:spLocks noGrp="1"/>
          </p:cNvSpPr>
          <p:nvPr>
            <p:ph/>
          </p:nvPr>
        </p:nvSpPr>
        <p:spPr>
          <a:xfrm>
            <a:off x="826560" y="2781000"/>
            <a:ext cx="7704360" cy="3305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920520"/>
            <a:ext cx="7924680" cy="779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6" name="PlaceHolder 2"/>
          <p:cNvSpPr>
            <a:spLocks noGrp="1"/>
          </p:cNvSpPr>
          <p:nvPr>
            <p:ph/>
          </p:nvPr>
        </p:nvSpPr>
        <p:spPr>
          <a:xfrm>
            <a:off x="838080" y="2637000"/>
            <a:ext cx="7693200" cy="3449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itme elukoha olemasolu ja kasu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u ja töökoha paiknemine (haldusüksus, riik)</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makeel ja keelte osk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gelik perekonnaseis ja leibkonna suur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atusallika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Õppimi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2492280"/>
            <a:ext cx="7693200" cy="3594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 eesmärgiks ei saa 2011.aastal olla elanike arvu selgitamine. Rahvaloendus ei anna uut, senisest oluliselt täpsemat elanike arvu nii haldusüksustes, asulates kui ka riigis tervikuna. See peab tulenema rahvastiku registrist. Küll võimaldab loendus täpsustada ja korrigeerida registris olevaid andmeid.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ga saame aga muud vajalikud andmed, mis ei sõltu sellest, kas suudame loendada 80 või 95% loendusmomendil Eestis viibivatest isikutes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Järeldused</a:t>
            </a:r>
            <a:endParaRPr b="1" lang="en-US" sz="32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9:51:33Z</dcterms:created>
  <dc:creator>TL</dc:creator>
  <dc:description/>
  <dc:language>en-US</dc:language>
  <cp:lastModifiedBy>Ene</cp:lastModifiedBy>
  <dcterms:modified xsi:type="dcterms:W3CDTF">2009-03-23T02:23:45Z</dcterms:modified>
  <cp:revision>9</cp:revision>
  <dc:subject/>
  <dc:title>Rahvastikuteave ja selle hankimise teedest (Registrite ja vaatluste seostamisest)</dc:title>
</cp:coreProperties>
</file>