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B899F-C757-45EF-B0D0-EDF4968B9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C01E7-486B-4348-B2B6-1458EA29B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E3B42-11D9-4C97-97DC-B272B1134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474E4-6DFF-4080-9EBB-52DC6D87A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A1DFC2-746B-45C7-92F6-848929ABC2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E8316-24F3-4044-B514-9CAEE7D9A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2000F-D059-4C8D-8B4F-10F683592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919C1-DD33-44E9-847E-240909C03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949BB-0A39-4B5A-81BE-A7E07BA03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BE77D-C4DA-4E38-BCB2-822059246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5778F-9CC2-49CF-A65C-7A9538ACC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E8026-C005-42B4-8D37-30AB7B804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DDF35-A839-41DA-A39D-6E457CD9F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57085-8CC0-49EE-BA07-9F4F01B6E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28026-9499-4B6F-9287-1CE8C3835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8AF953-041C-472A-B6F9-7161E8C87C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D938EB-630D-4A60-9BB2-B3A360C9CA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CC05C-BD99-4807-AD46-BA5354516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54462-9884-4D72-8408-E0B59B948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FEE07-AF46-481D-853B-A0229AD7E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D7E42-81ED-4585-B11F-A52032B6C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B04A5-13B4-4285-AB37-951316A48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C7023-E446-4D1A-8A03-5808BD26A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7EBE8-1200-4516-8281-78AF20D5E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t-EE"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43C1C-288A-49AB-8FBF-0FAEB0F09604}" type="slidenum">
              <a:rPr b="1" lang="et-EE"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t-EE"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006E-864E-4F5F-8D55-2D40E96AD3BF}" type="slidenum">
              <a:rPr b="1" lang="et-EE"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1198080"/>
            <a:ext cx="8424720" cy="146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Rahvastikuteave ja selle hankimise teedest</a:t>
            </a:r>
            <a:br>
              <a:rPr sz="3200"/>
            </a:br>
            <a:r>
              <a:rPr b="0" lang="et-EE" sz="3200" spc="-1" strike="noStrike">
                <a:solidFill>
                  <a:srgbClr val="003366"/>
                </a:solidFill>
                <a:latin typeface="Arial"/>
              </a:rPr>
              <a:t>(Registrite ja vaatluste seostamisest)</a:t>
            </a: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6666"/>
                </a:solidFill>
                <a:latin typeface="Arial"/>
              </a:rPr>
              <a:t>Kaljo Laas</a:t>
            </a:r>
            <a:endParaRPr b="0" lang="en-US" sz="20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6666"/>
                </a:solidFill>
                <a:latin typeface="Arial"/>
              </a:rPr>
              <a:t>Eesti Pensionäride Ühenduste Liit</a:t>
            </a: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1125000"/>
            <a:ext cx="7924680" cy="597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Rahvastikuteabe aktuaalsus</a:t>
            </a:r>
            <a:endParaRPr b="1" lang="en-US" sz="3200" spc="-1" strike="noStrike">
              <a:solidFill>
                <a:srgbClr val="006666"/>
              </a:solidFill>
              <a:latin typeface="Arial"/>
            </a:endParaRPr>
          </a:p>
        </p:txBody>
      </p:sp>
      <p:sp>
        <p:nvSpPr>
          <p:cNvPr id="98" name="PlaceHolder 2"/>
          <p:cNvSpPr>
            <a:spLocks noGrp="1"/>
          </p:cNvSpPr>
          <p:nvPr>
            <p:ph/>
          </p:nvPr>
        </p:nvSpPr>
        <p:spPr>
          <a:xfrm>
            <a:off x="971280" y="2622600"/>
            <a:ext cx="7559640" cy="3463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2011.a. rahvaloendu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Riiklikud arengukava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980640"/>
            <a:ext cx="7924680" cy="716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Rahvastikuteabe vajadus</a:t>
            </a:r>
            <a:endParaRPr b="1" lang="en-US" sz="3200" spc="-1" strike="noStrike">
              <a:solidFill>
                <a:srgbClr val="006666"/>
              </a:solidFill>
              <a:latin typeface="Arial"/>
            </a:endParaRPr>
          </a:p>
        </p:txBody>
      </p:sp>
      <p:sp>
        <p:nvSpPr>
          <p:cNvPr id="100" name="PlaceHolder 2"/>
          <p:cNvSpPr>
            <a:spLocks noGrp="1"/>
          </p:cNvSpPr>
          <p:nvPr>
            <p:ph/>
          </p:nvPr>
        </p:nvSpPr>
        <p:spPr>
          <a:xfrm>
            <a:off x="900000" y="2492280"/>
            <a:ext cx="7786800" cy="4105440"/>
          </a:xfrm>
          <a:prstGeom prst="rect">
            <a:avLst/>
          </a:prstGeom>
          <a:noFill/>
          <a:ln w="0">
            <a:noFill/>
          </a:ln>
        </p:spPr>
        <p:txBody>
          <a:bodyPr lIns="90000" rIns="90000" tIns="46800" bIns="46800" anchor="t">
            <a:normAutofit/>
          </a:bodyPr>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Isik ja huvirühma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Dünaamika ja regionaalne võrdle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Prognooside koost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Majandustegevuse korrald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Sotsiaalse arengu kavand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Teadustöö</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366"/>
                </a:solidFill>
                <a:latin typeface="Arial"/>
              </a:rPr>
              <a:t>Seega info vajadus on olemas. Kuidas seda hankid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980640"/>
            <a:ext cx="7924680" cy="716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Rahvastikuteabe hankimine</a:t>
            </a:r>
            <a:endParaRPr b="1" lang="en-US" sz="32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irjalike allikate eelne perioo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roonikad ja reisikirjel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Loendused, revisjonid ja meetrika</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lassikalised rahvaloen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Plaanimajanduslik infosüsteem</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Infoühiskon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980640"/>
            <a:ext cx="7924680" cy="716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Teave, mida saame vaid loendustest</a:t>
            </a:r>
            <a:endParaRPr b="1" lang="en-US" sz="3200" spc="-1" strike="noStrike">
              <a:solidFill>
                <a:srgbClr val="006666"/>
              </a:solidFill>
              <a:latin typeface="Arial"/>
            </a:endParaRPr>
          </a:p>
        </p:txBody>
      </p:sp>
      <p:sp>
        <p:nvSpPr>
          <p:cNvPr id="104" name="PlaceHolder 2"/>
          <p:cNvSpPr>
            <a:spLocks noGrp="1"/>
          </p:cNvSpPr>
          <p:nvPr>
            <p:ph/>
          </p:nvPr>
        </p:nvSpPr>
        <p:spPr>
          <a:xfrm>
            <a:off x="826560" y="2781000"/>
            <a:ext cx="7704360" cy="33051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irjalike allikate eelne perioo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roonikad ja reisikirjel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Loendused, revisjonid ja meetrika</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lassikalised rahvaloen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Plaanimajanduslik infosüsteem</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Infoühiskon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920520"/>
            <a:ext cx="7924680" cy="779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Teave, mida saame vaid loendustest</a:t>
            </a:r>
            <a:endParaRPr b="1" lang="en-US" sz="3200" spc="-1" strike="noStrike">
              <a:solidFill>
                <a:srgbClr val="006666"/>
              </a:solidFill>
              <a:latin typeface="Arial"/>
            </a:endParaRPr>
          </a:p>
        </p:txBody>
      </p:sp>
      <p:sp>
        <p:nvSpPr>
          <p:cNvPr id="106" name="PlaceHolder 2"/>
          <p:cNvSpPr>
            <a:spLocks noGrp="1"/>
          </p:cNvSpPr>
          <p:nvPr>
            <p:ph/>
          </p:nvPr>
        </p:nvSpPr>
        <p:spPr>
          <a:xfrm>
            <a:off x="838080" y="2637000"/>
            <a:ext cx="7693200" cy="3449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Mitme elukoha olemasolu ja kasut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Elu ja töökoha paiknemine (haldusüksus, riik)</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Emakeel ja keelte oskus</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Tegelik perekonnaseis ja leibkonna suurus</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Elatusallikas</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Õppimin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838080" y="2492280"/>
            <a:ext cx="7693200" cy="35942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366"/>
                </a:solidFill>
                <a:latin typeface="Arial"/>
              </a:rPr>
              <a:t>	</a:t>
            </a:r>
            <a:r>
              <a:rPr b="0" lang="et-EE" sz="2200" spc="-1" strike="noStrike">
                <a:solidFill>
                  <a:srgbClr val="003366"/>
                </a:solidFill>
                <a:latin typeface="Arial"/>
              </a:rPr>
              <a:t>Loenduse eesmärgiks ei saa 2011.aastal olla elanike arvu selgitamine. Rahvaloendus ei anna uut, senisest oluliselt täpsemat elanike arvu nii haldusüksustes, asulates kui ka riigis tervikuna. See peab tulenema rahvastiku registrist. Küll võimaldab loendus täpsustada ja korrigeerida registris olevaid andmeid.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366"/>
                </a:solidFill>
                <a:latin typeface="Arial"/>
              </a:rPr>
              <a:t>	</a:t>
            </a:r>
            <a:r>
              <a:rPr b="0" lang="et-EE" sz="2200" spc="-1" strike="noStrike">
                <a:solidFill>
                  <a:srgbClr val="003366"/>
                </a:solidFill>
                <a:latin typeface="Arial"/>
              </a:rPr>
              <a:t>Loendusega saame aga muud vajalikud andmed, mis ei sõltu sellest, kas suudame loendada 80 või 95% loendusmomendil Eestis viibivatest isikutest</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Järeldused</a:t>
            </a:r>
            <a:endParaRPr b="1" lang="en-US" sz="3200" spc="-1" strike="noStrike">
              <a:solidFill>
                <a:srgbClr val="0066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09:51:33Z</dcterms:created>
  <dc:creator>TL</dc:creator>
  <dc:description/>
  <dc:language>en-US</dc:language>
  <cp:lastModifiedBy>Ene</cp:lastModifiedBy>
  <dcterms:modified xsi:type="dcterms:W3CDTF">2009-03-23T02:23:45Z</dcterms:modified>
  <cp:revision>9</cp:revision>
  <dc:subject/>
  <dc:title>Rahvastikuteave ja selle hankimise teedest (Registrite ja vaatluste seostamisest)</dc:title>
</cp:coreProperties>
</file>