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4.03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Registrite kasutamisest valikuuringutes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sti Statistikaseltsi 21. konverent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4-25.03.2009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stamismäär soo ja vanuse järg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080" y="2054160"/>
            <a:ext cx="7107120" cy="431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96920" y="2408400"/>
            <a:ext cx="60613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4290840"/>
            <a:ext cx="6061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6920" y="3821040"/>
            <a:ext cx="6061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6920" y="3349800"/>
            <a:ext cx="6061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96920" y="2878200"/>
            <a:ext cx="6061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96920" y="2408400"/>
            <a:ext cx="6061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6920" y="2408400"/>
            <a:ext cx="6061320" cy="23540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1760" y="3511440"/>
            <a:ext cx="295200" cy="125100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18040" y="3143160"/>
            <a:ext cx="293400" cy="161928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8120" y="3218040"/>
            <a:ext cx="293400" cy="154440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34040" y="3290760"/>
            <a:ext cx="293760" cy="147168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43160"/>
            <a:ext cx="293400" cy="161928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48600" y="3305160"/>
            <a:ext cx="295200" cy="145728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96960" y="3643200"/>
            <a:ext cx="293760" cy="111924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1440" y="3276720"/>
            <a:ext cx="279360" cy="148572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11520" y="3319560"/>
            <a:ext cx="295560" cy="144288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27800" y="3422520"/>
            <a:ext cx="293400" cy="133992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41920" y="3232080"/>
            <a:ext cx="281160" cy="15303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335400"/>
            <a:ext cx="293760" cy="142704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96920" y="2408400"/>
            <a:ext cx="1800" cy="235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0" y="47624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0" y="42908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2400" y="38210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22400" y="334980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22400" y="287820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2400" y="240840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96920" y="4762440"/>
            <a:ext cx="6061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96920" y="476208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011400" y="476208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1480" y="476208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27760" y="476208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41880" y="476208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43760" y="476208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058240" y="476208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11240" y="2112840"/>
            <a:ext cx="21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2960" y="4629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89400" y="415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89400" y="3687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89400" y="32180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89400" y="27464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56200" y="227484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46040" y="496872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5-6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61960" y="496872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5-7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440" y="496872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5-8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7960" y="496872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5-6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92440" y="496872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5-7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360" y="496872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5-8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1400" y="4762440"/>
            <a:ext cx="1800" cy="48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11480" y="4762440"/>
            <a:ext cx="1800" cy="48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1880" y="4762440"/>
            <a:ext cx="1800" cy="48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43760" y="4762440"/>
            <a:ext cx="1440" cy="48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440" y="5424480"/>
            <a:ext cx="73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eh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6880" y="5424480"/>
            <a:ext cx="75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ai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96920" y="4762440"/>
            <a:ext cx="1800" cy="9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58240" y="4762440"/>
            <a:ext cx="1440" cy="9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7760" y="4762440"/>
            <a:ext cx="1440" cy="9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70000" y="5865840"/>
            <a:ext cx="5959440" cy="485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6041880"/>
            <a:ext cx="147600" cy="14796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75880" y="5969160"/>
            <a:ext cx="1620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esti keskm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13360" y="6041880"/>
            <a:ext cx="146160" cy="1479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23960" y="5969160"/>
            <a:ext cx="258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arju ja Rapla maako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alude arvutamise esimesed etapid ei taga, et uuringuandmete jaotused vastaksid täpselt üldkogumi jaotu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alusid korrigeeritakse selliselt, et lõplikud kaalud vastaksid teatud etteantud tingim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libreerimise tingimused võib samuti saada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eks rahvaarvud soo ja vanuserühma ning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konna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libreer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7760" y="144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arv ja uuringu hinnangud, meh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905120"/>
            <a:ext cx="7407360" cy="455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79560" y="2401920"/>
            <a:ext cx="6399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79560" y="4444920"/>
            <a:ext cx="639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9560" y="4038480"/>
            <a:ext cx="639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79560" y="3633840"/>
            <a:ext cx="639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9560" y="3213000"/>
            <a:ext cx="639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9560" y="2806560"/>
            <a:ext cx="639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79560" y="2401920"/>
            <a:ext cx="639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9560" y="2401920"/>
            <a:ext cx="6399360" cy="244800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54080" y="2627280"/>
            <a:ext cx="150840" cy="222264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05160" y="2687760"/>
            <a:ext cx="164880" cy="216216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70280" y="2897280"/>
            <a:ext cx="150840" cy="195264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21000" y="2957400"/>
            <a:ext cx="165240" cy="189252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7920" y="3078000"/>
            <a:ext cx="149040" cy="177192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37200" y="3032280"/>
            <a:ext cx="166680" cy="181764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03760" y="3017880"/>
            <a:ext cx="149400" cy="183204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54480" y="3152880"/>
            <a:ext cx="149400" cy="169704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3362400"/>
            <a:ext cx="164880" cy="148752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70680" y="3724200"/>
            <a:ext cx="150840" cy="112572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21400" y="3678120"/>
            <a:ext cx="165240" cy="117180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6520" y="3994200"/>
            <a:ext cx="150840" cy="85572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37600" y="4233960"/>
            <a:ext cx="164880" cy="61596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04160" y="4579920"/>
            <a:ext cx="149400" cy="27000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04920" y="2462040"/>
            <a:ext cx="149400" cy="238788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70040" y="2806560"/>
            <a:ext cx="150840" cy="20433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21120" y="3122640"/>
            <a:ext cx="150840" cy="172728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86240" y="3138480"/>
            <a:ext cx="150840" cy="171144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36960" y="2971800"/>
            <a:ext cx="150840" cy="187812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03880" y="3062160"/>
            <a:ext cx="149040" cy="17877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3160" y="3062160"/>
            <a:ext cx="150480" cy="17877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03880" y="3182760"/>
            <a:ext cx="150840" cy="16671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70440" y="3108240"/>
            <a:ext cx="149400" cy="174168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1520" y="3573360"/>
            <a:ext cx="149040" cy="12765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86640" y="3708360"/>
            <a:ext cx="150840" cy="11415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37360" y="3963960"/>
            <a:ext cx="150840" cy="8859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2480" y="4233960"/>
            <a:ext cx="150840" cy="6159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53560" y="4624560"/>
            <a:ext cx="150480" cy="22536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9560" y="2401920"/>
            <a:ext cx="1800" cy="244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03240" y="4849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03240" y="44449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03240" y="403848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03240" y="363384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240" y="32130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03240" y="28065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3240" y="2401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79560" y="4849920"/>
            <a:ext cx="639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79560" y="484956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330280" y="484956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9576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4648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71160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162320" y="484956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2924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07852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2924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99616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44688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91200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62720" y="484956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827840" y="484956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278920" y="484956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79920" y="21160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uh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1640" y="471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66640" y="4309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66640" y="3903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6640" y="3498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6640" y="30780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66640" y="2671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6640" y="2266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178848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5-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225360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-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270432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-2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317124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0-3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362196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5-3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07124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0-4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53816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5-4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498888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0-5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545400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5-5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590472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-6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636984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5-6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82092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0-7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727164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5-7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7738560" y="5154480"/>
            <a:ext cx="61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80-8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68480" y="5902200"/>
            <a:ext cx="6445440" cy="54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95520" y="6097680"/>
            <a:ext cx="149400" cy="149040"/>
          </a:xfrm>
          <a:prstGeom prst="rect">
            <a:avLst/>
          </a:prstGeom>
          <a:solidFill>
            <a:srgbClr val="b22f1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7200" y="6021360"/>
            <a:ext cx="103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ahvaar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03760" y="6097680"/>
            <a:ext cx="149400" cy="149040"/>
          </a:xfrm>
          <a:prstGeom prst="rect">
            <a:avLst/>
          </a:prstGeom>
          <a:solidFill>
            <a:srgbClr val="00395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19400" y="6021360"/>
            <a:ext cx="317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uringust hinnatud isikute ar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puteerimist kasutatakse objekti või tunnuse kao kompenseeri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siku-uuringutes keeldutakse sagedamini sissetuleku küsimustele vastamis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vate väärtuste asendamiseks on võimalik kasutada näiteks Maksu- ja Tolliameti FIDEK andmei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jandusüksuste uuringutes on probleemiks suurte üksuste (oluliste tegijate) mittevastamine, mille kompenseerimiseks ei saa kasutada kaalude korrigeerim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urte majandusüksuste imputeerimiseks kasutatakse näiteks majandusaasta aruannete ja käibedeklaratsioonide andmei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47400" y="1295280"/>
            <a:ext cx="6953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Imputeerimine (asendamine, omistamine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d on disainitud hinnangute saamiseks suure üldkogumi (riigi) kohta tervikuna ja suuremates gruppid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este piirkondade (osakogumite) valimimahud jäävad sageli liiga väikesteks, et saada piisava täpsusega otseseid hinnanguid osakogumi jao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este osakogumite hindamiseks tuleb kasutada selliseid hinnanguid, mis “koguvad jõudu” kasutades abiinformatsiooni registritest ja teistest osakogumite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ikese piirkonna hindamin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746360" y="1368360"/>
            <a:ext cx="65595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47760" y="144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ööjõu näitajate hindamise võimalused KOV-d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bineerides uuringu ja registrite 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V tasemel tead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ar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eeritud töötute ar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maksjate ar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o-vanusstruktuu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st hinnangud KOV gruppi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õivatute ar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jõ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280" y="29242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andmete kasutamine valikuuringu erinevatel etappidel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reimi mood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mi võ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alude arv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mpu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ese piirkonna hi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-uuringud – Sotsiaaluuring, Tööjõu-uuring, Turvalisuse uu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üksuste uuringud – Palk, EKOMAR, Infotehnoloogi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like majapidamiste uuringud – Põllumajanduse struktuuriuuring, Loomakasv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ubavedu maantee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47400" y="1295280"/>
            <a:ext cx="6953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ikuuringute näiteid Statistikaame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s kasutatavad registr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 (RR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, Maksukohustuslaste register, RKOAR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Symbol"/>
                <a:ea typeface="Symbol"/>
              </a:rPr>
              <a:t>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majandusüksuste statistiline register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A, Maksukohustuslaste register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Symbol"/>
                <a:ea typeface="Symbol"/>
              </a:rPr>
              <a:t>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õllumajanduslike majapidamiste statistiline register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utoregistri kes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reimi moodus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 esitab RR-l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reimi koostamise tingim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sikud vanuses 15-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htide moodustamise tingim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akondade grupid (suured, väikesed, Hiium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mi suurused kihtid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nnuste nimekir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mi, aadress, emakeel jm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R moodustab freimi, võtab valimi süstemaatilise valiku teel ja edastab SA-le valimi nimekirja ning info kihtide suuruse kohta registr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imi võtmine RR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s puuduvad freimi moodustamiseks vajalikud tunn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äiteks immigrantrahvastiku uuringu freimi moodustamiseks on vajalik info isiku vanema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ünnikoha ko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stitutsioonide elanikke ei saa freimist eemal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s olev kontaktinfo ei vasta tegelikkusele – ebakorrektsed aadressid põhjustavad suurt kadu uuringu läbiviimi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freimi ja valimig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alude arvutamise etap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isainikaalude arvutamine – kaasamistõenäosuse pöördväär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o kompenseerimine – sarnase vastamis-tõenäosusega gruppide mood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libreerimine – kaalude korrigeerimine vastavalt üldkogumi jaotu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lude arvu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isainikaalude arvutamise aluseks on üldkogumi ja valimi suurus kihi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 info üldkogumi suuruse kohta kihtides saadakse registr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Disainikaalude arvu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845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o kompenseerimise üheks meetodiks on vastanute kaalude korrig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st väljajäänud isikute või majandusüksuste kohta on tavaliselt teada ainult registri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amistõenäosuse gruppide moodustamiseks kasutatakse registrist saadud infot – elukoht, sugu, vanus, tegevusala, suurusgrupp jm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 kaoga grupi kaalu korrigeeritakse suurema koefitsien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o kompenseer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Kaja Sõstra</cp:lastModifiedBy>
  <cp:lastPrinted>2001-03-09T09:19:09Z</cp:lastPrinted>
  <dcterms:modified xsi:type="dcterms:W3CDTF">2009-03-24T11:46:51Z</dcterms:modified>
  <cp:revision>45</cp:revision>
  <dc:subject/>
  <dc:title>PowerPoint Presentation</dc:title>
</cp:coreProperties>
</file>