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4796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572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1182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4796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2843A6-525D-4714-8EDE-DF0FFC8E8ED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Mainin ka sisendit järgnevasse ümarlau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C739-B6DC-42FD-8030-925E2513FED9}" type="datetime"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11640" y="6308640"/>
            <a:ext cx="446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gi andmekogud </a:t>
            </a:r>
            <a:r>
              <a:rPr b="0" i="1" lang="et-EE" sz="1000" spc="-1" strike="noStrike">
                <a:solidFill>
                  <a:srgbClr val="003951"/>
                </a:solidFill>
                <a:latin typeface="Arial"/>
              </a:rPr>
              <a:t>versus</a:t>
            </a: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 statistilised regist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541440" y="1341360"/>
            <a:ext cx="806472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Riigi andmekogud </a:t>
            </a:r>
            <a:br>
              <a:rPr sz="3600"/>
            </a:br>
            <a:r>
              <a:rPr b="1" i="1" lang="et-EE" sz="3600" spc="-1" strike="noStrike">
                <a:solidFill>
                  <a:srgbClr val="660033"/>
                </a:solidFill>
                <a:latin typeface="Arial"/>
              </a:rPr>
              <a:t>versus </a:t>
            </a:r>
            <a:br>
              <a:rPr sz="3600"/>
            </a:b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statistilised andmestikud</a:t>
            </a:r>
            <a:endParaRPr b="0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494136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5083920"/>
            <a:ext cx="25210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Heli Ja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Metoodika osak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24.03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515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RIH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700360" y="1989000"/>
          <a:ext cx="4324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89000"/>
                    <a:ext cx="4324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Statistilised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ndmestikud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ja RIH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2041200"/>
            <a:ext cx="820908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äiesti erinevad menetlusprotsessi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RIHA kooskõlastustsükkel ja riiklike vaatluste kava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d andmestikud erinevad avaldatavatest andmestikest 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sisendandmestikud erinevad  väljundandmestikest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te ja avaldatavate andmestike koosseis  muutub dünaamilisel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töö ja koosvõim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cc"/>
                </a:solidFill>
                <a:latin typeface="Arial"/>
              </a:rPr>
              <a:t>Andmekogudega toimub koostöö, ent mitte koosvõime. Miks?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2819520"/>
            <a:ext cx="77756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mus on napp. Mõeldakse registripõhiselt. Statistiline andmetöötlus on kardinaalselt erinev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Andmeanalüüs. Eelanalüü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a riigi infosüsteemi arhitektuur põhineb registripõhisel lähen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Registripõhine lähenemine toob kaasa suure koormuse andmekogule Statistikaamet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andmete väljastamisel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TÖIS juhtum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58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tatistilise tunnuse moodustamine mitme andmekogu baasil versus Isikuandmete kaitse seadu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Isikukoodi töötlemine eelanalüüsi faas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“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uperandmebaasi” tekkimise hirm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napp teadmus statistilistest arvutusmeetoditest. Statistiline otsus.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NB! Statistikaamet ei tegele andmekaevandusega (</a:t>
            </a:r>
            <a:r>
              <a:rPr b="0" i="1" lang="et-EE" sz="2000" spc="-1" strike="noStrike">
                <a:solidFill>
                  <a:srgbClr val="ff0000"/>
                </a:solidFill>
                <a:latin typeface="Arial"/>
              </a:rPr>
              <a:t>data mining)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Andmeanalüüsi keskkondade (andmeaida tüüpi lahenduste) kirjeldamise metoodika puud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andmeaida kirjeldamise surumine registri raamidesse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Statistikaameti kohatine suutmatus kirjeldada andmevajadust </a:t>
            </a: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tegelik andmekoosse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soodustavad tegurid </a:t>
            </a:r>
            <a:r>
              <a:rPr b="1" lang="et-EE" sz="32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848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 haldajate koostöövalmidus andmestike edastamisel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HA keskkonna tekkimine – andmekogude andmekoosseisude ja teenuste kirjeldamine koosvõimelisust tagaval moel. Põhiandmete defineeri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Dialoogi tekkimine MKM RISO, RIA, SA jt vahel andmeanalüüsi keskkondade reguleerimise vajaduse suht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Koosvõimet soodustavad tegurid (2) </a:t>
            </a:r>
            <a:r>
              <a:rPr b="1" lang="et-EE" sz="28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DS juuruta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lassifikaatorite laialdasem kasutuselevõt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Isikukood, äriregistrikood – hetkel ainsad usaldusvääsed andmed andmeanalüüsis kasutatavate andmestike seostamisek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Lõpetu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uidas lahendada kultuuridevahelisi probleeme?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David Vseviov: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3951"/>
                </a:solidFill>
                <a:latin typeface="Arial"/>
              </a:rPr>
              <a:t>Tuleb lõpetada mõtlemine “Meie ja Nemad” ning omandada suhtumine “Mina ja Sina”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08000" y="2061000"/>
            <a:ext cx="3672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8800" spc="-1" strike="noStrike">
                <a:solidFill>
                  <a:srgbClr val="ffffff"/>
                </a:solidFill>
                <a:latin typeface="Arial"/>
              </a:rPr>
              <a:t>Täna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660033"/>
                </a:solidFill>
                <a:latin typeface="Arial"/>
              </a:rPr>
              <a:t>Sissejuhat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Riigi Infosüsteemi Haldussüsteemi (RIHA) andmetel on Eestis ~300 andmekogu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Elektroonse andmetöötluse osakaalu suurenemise tulemus - andmekogusid asutatakse pidevalt juurd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riikliku statistika tegemise protsess on riigi infosüsteemi osa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praegune andmekogude kirjeldamise meetod on piisav tagamaks ideaali – riigi infosüsteemi kuuluvate andmekogude koosvõime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80280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Avaliku teabe seadus (AvTS)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Andmekogu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on riigi, kohaliku omavalitsuse või muu avalik-õigusliku isiku või avalikke ülesandeid täitva eraõigusliku isiku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infosüsteemis töödeldavate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korrastatud andmete kogum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mis asutatakse ja mida kasutatakse seaduses, selle alusel antud õigusaktis või rahvusvahelises lepingus sätestatud ülesannete täitmiseks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Andmekogus töödeldavate korrastatud andmete kogum võib koosneda ka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üksnes teistes andmekogudes sisalduvatest unikaalsetest andmetest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 (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2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83664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300" spc="-1" strike="noStrike">
                <a:solidFill>
                  <a:srgbClr val="990033"/>
                </a:solidFill>
                <a:latin typeface="Arial"/>
              </a:rPr>
              <a:t>Riikliku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ka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seadus (RSS)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e statistiliste vaatluste korraldamisel kasutatakse eelkõige riiklikesse ja teistesse andmekogudesse kogutud andmeid …” (§ 5 lg 1 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„… 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Statistikaametis riiklike statistiliste vaatluste korraldamisel moodustatavad andmestikud ei ole andmekogud avaliku teabe seaduse mõistes …” (3 lg 11)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51536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Riiklik statistika riigi infosüsteemi osan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276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 statistika kajastab Eesti majanduse, rahvastiku, sotsiaalvaldkonna ja keskkonna seisundit ning selles toimuvaid muutusi …”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(RSS § 2 lg 2)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1844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532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tatistilise andmestiku koguja, töötleja,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äilitaja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egread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enuse pakkuja - riikliku statistika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gemine ja avaldamine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valik andmebaas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Riigi andmekogude andmete (suur)tarbija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sisendandmed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Aruandekohustuslik Euroopa Liidu ees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EUROSTA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Vastutaval töötlemisel on riigi infosüsteemi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kindlustavad süsteemid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40 klassifikaatori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kaameti roll riigi infosüsteemi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vTS kehtiv nõu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0661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kuuluvad andmekogud,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mis on: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andmevahetuskihiga (X-tee) liidestatu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haldussüsteemis (RIHA) registreeritu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de pidamist kindlustavad süsteemid s.h klassifikaatorid (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lg 1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4160" y="1988640"/>
            <a:ext cx="77198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340000" y="1628640"/>
          <a:ext cx="502596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628640"/>
                    <a:ext cx="50259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28640" y="33336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1280" y="1197000"/>
          <a:ext cx="4667400" cy="51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97000"/>
                    <a:ext cx="466740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4000" y="6237360"/>
            <a:ext cx="425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Arial"/>
              </a:rPr>
              <a:t>Allikas:Euroopa statistika tegevusju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helija</cp:lastModifiedBy>
  <cp:lastPrinted>2001-03-09T09:19:09Z</cp:lastPrinted>
  <dcterms:modified xsi:type="dcterms:W3CDTF">2009-03-24T07:36:10Z</dcterms:modified>
  <cp:revision>26</cp:revision>
  <dc:subject/>
  <dc:title>PowerPoint Presentation</dc:title>
</cp:coreProperties>
</file>