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747960" y="-36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57200" rIns="9000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1182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747960" y="9686520"/>
            <a:ext cx="292104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2BA04A-4D22-4DE9-94C7-01D7A8D87B4F}" type="slidenum"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843120" y="762120"/>
            <a:ext cx="4983120" cy="37368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99640" y="4728960"/>
            <a:ext cx="4869000" cy="228600"/>
          </a:xfrm>
          <a:prstGeom prst="rect">
            <a:avLst/>
          </a:prstGeom>
          <a:noFill/>
          <a:ln w="0">
            <a:noFill/>
          </a:ln>
        </p:spPr>
        <p:txBody>
          <a:bodyPr lIns="45648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Arial"/>
              </a:rPr>
              <a:t>Mainin ka sisendit järgnevasse ümarlau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3951"/>
                </a:solidFill>
                <a:latin typeface="Times New Roman"/>
              </a:defRPr>
            </a:lvl1pPr>
          </a:lstStyle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55B1-2CEA-4FA4-8A0A-D1409F46E74C}" type="datetime">
              <a:rPr b="0" lang="et-EE" sz="1200" spc="-1" strike="noStrike">
                <a:solidFill>
                  <a:srgbClr val="003951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211640" y="6308640"/>
            <a:ext cx="4464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Riigi andmekogud </a:t>
            </a:r>
            <a:r>
              <a:rPr b="0" i="1" lang="et-EE" sz="1000" spc="-1" strike="noStrike">
                <a:solidFill>
                  <a:srgbClr val="003951"/>
                </a:solidFill>
                <a:latin typeface="Arial"/>
              </a:rPr>
              <a:t>versus</a:t>
            </a:r>
            <a:r>
              <a:rPr b="0" lang="et-EE" sz="1000" spc="-1" strike="noStrike">
                <a:solidFill>
                  <a:srgbClr val="003951"/>
                </a:solidFill>
                <a:latin typeface="Arial"/>
              </a:rPr>
              <a:t> statistilised registr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541440" y="1341360"/>
            <a:ext cx="8064720" cy="19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Riigi andmekogud </a:t>
            </a:r>
            <a:br>
              <a:rPr sz="3600"/>
            </a:br>
            <a:r>
              <a:rPr b="1" i="1" lang="et-EE" sz="3600" spc="-1" strike="noStrike">
                <a:solidFill>
                  <a:srgbClr val="660033"/>
                </a:solidFill>
                <a:latin typeface="Arial"/>
              </a:rPr>
              <a:t>versus </a:t>
            </a:r>
            <a:br>
              <a:rPr sz="3600"/>
            </a:br>
            <a:r>
              <a:rPr b="1" lang="et-EE" sz="3600" spc="-1" strike="noStrike">
                <a:solidFill>
                  <a:srgbClr val="660033"/>
                </a:solidFill>
                <a:latin typeface="Arial"/>
              </a:rPr>
              <a:t>statistilised andmestikud</a:t>
            </a:r>
            <a:endParaRPr b="0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26560" y="4941360"/>
            <a:ext cx="4496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708360" y="5083920"/>
            <a:ext cx="2521080" cy="15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Heli Ja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Metoodika osako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000" spc="-1" strike="noStrike">
                <a:solidFill>
                  <a:srgbClr val="660033"/>
                </a:solidFill>
                <a:latin typeface="Arial"/>
              </a:rPr>
              <a:t>24.03.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515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RIH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2700360" y="1989000"/>
          <a:ext cx="4324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989000"/>
                    <a:ext cx="4324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Statistilised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ndmestikud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ja RIHA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5280" y="2041200"/>
            <a:ext cx="8209080" cy="39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täiesti erinevad menetlusprotsessi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RIHA kooskõlastustsükkel ja riiklike vaatluste kava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d andmestikud erinevad avaldatavatest andmestikest 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(sisendandmestikud erinevad  väljundandmestikest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ogutavate ja avaldatavate andmestike koosseis  muutub dünaamilisel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600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töö ja koosvõim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708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cc"/>
                </a:solidFill>
                <a:latin typeface="Arial"/>
              </a:rPr>
              <a:t>Andmekogudega toimub koostöö, ent mitte koosvõime. Miks?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2819520"/>
            <a:ext cx="777564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1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Teadmus on napp. Mõeldakse registripõhiselt. Statistiline andmetöötlus on kardinaalselt erinev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(</a:t>
            </a:r>
            <a:r>
              <a:rPr b="0" i="1" lang="et-EE" sz="2400" spc="-1" strike="noStrike">
                <a:solidFill>
                  <a:srgbClr val="003951"/>
                </a:solidFill>
                <a:latin typeface="Arial"/>
              </a:rPr>
              <a:t>Andmeanalüüs. Eelanalüü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Ka riigi infosüsteemi arhitektuur põhineb registripõhisel lähen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Registripõhine lähenemine toob kaasa suure koormuse andmekogule Statistikaametil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andmete väljastamisel 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(TÖIS juhtum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takistavad tegurid (2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658280" cy="441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tatistilise tunnuse moodustamine mitme andmekogu baasil versus Isikuandmete kaitse seadus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Isikukoodi töötlemine eelanalüüsi faas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“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Superandmebaasi” tekkimise hirm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napp teadmus statistilistest arvutusmeetoditest. Statistiline otsus. </a:t>
            </a:r>
            <a:r>
              <a:rPr b="0" lang="et-EE" sz="2000" spc="-1" strike="noStrike">
                <a:solidFill>
                  <a:srgbClr val="ff0000"/>
                </a:solidFill>
                <a:latin typeface="Arial"/>
              </a:rPr>
              <a:t>NB! Statistikaamet ei tegele andmekaevandusega (</a:t>
            </a:r>
            <a:r>
              <a:rPr b="0" i="1" lang="et-EE" sz="2000" spc="-1" strike="noStrike">
                <a:solidFill>
                  <a:srgbClr val="ff0000"/>
                </a:solidFill>
                <a:latin typeface="Arial"/>
              </a:rPr>
              <a:t>data mining) 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Andmeanalüüsi keskkondade (andmeaida tüüpi lahenduste) kirjeldamise metoodika puud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andmeaida kirjeldamise surumine registri raamidesse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103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11034d"/>
                </a:solidFill>
                <a:latin typeface="Arial"/>
              </a:rPr>
              <a:t> </a:t>
            </a:r>
            <a:r>
              <a:rPr b="1" lang="et-EE" sz="2400" spc="-1" strike="noStrike">
                <a:solidFill>
                  <a:srgbClr val="11034d"/>
                </a:solidFill>
                <a:latin typeface="Arial"/>
              </a:rPr>
              <a:t>Statistikaameti kohatine suutmatus kirjeldada andmevajadust </a:t>
            </a:r>
            <a:r>
              <a:rPr b="0" lang="et-EE" sz="2000" spc="-1" strike="noStrike">
                <a:solidFill>
                  <a:srgbClr val="11034d"/>
                </a:solidFill>
                <a:latin typeface="Arial"/>
              </a:rPr>
              <a:t>(tegelik andmekoosseis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Koosvõimet soodustavad tegurid </a:t>
            </a:r>
            <a:r>
              <a:rPr b="1" lang="et-EE" sz="32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848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 haldajate koostöövalmidus andmestike edastamisel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HA keskkonna tekkimine – andmekogude andmekoosseisude ja teenuste kirjeldamine koosvõimelisust tagaval moel. Põhiandmete defineeri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Dialoogi tekkimine MKM RISO, RIA, SA jt vahel andmeanalüüsi keskkondade reguleerimise vajaduse suhte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87280" y="1052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Koosvõimet soodustavad tegurid (2) </a:t>
            </a:r>
            <a:r>
              <a:rPr b="1" lang="et-EE" sz="2800" spc="-1" strike="noStrike">
                <a:solidFill>
                  <a:srgbClr val="990033"/>
                </a:solidFill>
                <a:latin typeface="Wingdings"/>
                <a:ea typeface="Wingdings"/>
              </a:rPr>
              <a:t>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DS juurutamin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Klassifikaatorite laialdasem kasutuselevõtt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Isikukood, äriregistrikood – hetkel ainsad usaldusvääsed andmed andmeanalüüsis kasutatavate andmestike seostamiseks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Lõpetusek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55280" y="2133360"/>
            <a:ext cx="8209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spcBef>
                <a:spcPts val="79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Kuidas lahendada kultuuridevahelisi probleeme?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3200" spc="-1" strike="noStrike">
                <a:solidFill>
                  <a:srgbClr val="003951"/>
                </a:solidFill>
                <a:latin typeface="Arial"/>
              </a:rPr>
              <a:t>David Vseviov: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t-EE" sz="3200" spc="-1" strike="noStrike">
                <a:solidFill>
                  <a:srgbClr val="003951"/>
                </a:solidFill>
                <a:latin typeface="Arial"/>
              </a:rPr>
              <a:t>Tuleb lõpetada mõtlemine “Meie ja Nemad” ning omandada suhtumine “Mina ja Sina”</a:t>
            </a:r>
            <a:endParaRPr b="0" lang="en-US" sz="3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08000" y="2061000"/>
            <a:ext cx="36720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8800" spc="-1" strike="noStrike">
                <a:solidFill>
                  <a:srgbClr val="ffffff"/>
                </a:solidFill>
                <a:latin typeface="Arial"/>
              </a:rPr>
              <a:t>Tänan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660033"/>
                </a:solidFill>
                <a:latin typeface="Arial"/>
              </a:rPr>
              <a:t>Sissejuhatus 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Riigi Infosüsteemi Haldussüsteemi (RIHA) andmetel on Eestis ~300 andmekogu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Elektroonse andmetöötluse osakaalu suurenemise tulemus - andmekogusid asutatakse pidevalt juurde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riikliku statistika tegemise protsess on riigi infosüsteemi osa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Kas praegune andmekogude kirjeldamise meetod on piisav tagamaks ideaali – riigi infosüsteemi kuuluvate andmekogude koosvõime?</a:t>
            </a:r>
            <a:endParaRPr b="0" lang="en-US" sz="2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907920"/>
            <a:ext cx="8028000" cy="6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Avaliku teabe seadus (AvTS)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16000" y="2060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Andmekogu 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on riigi, kohaliku omavalitsuse või muu avalik-õigusliku isiku või avalikke ülesandeid täitva eraõigusliku isiku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infosüsteemis töödeldavate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200" spc="-1" strike="noStrike" u="sng">
                <a:solidFill>
                  <a:srgbClr val="3333cc"/>
                </a:solidFill>
                <a:uFillTx/>
                <a:latin typeface="Arial"/>
              </a:rPr>
              <a:t>korrastatud andmete kogum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 mis asutatakse ja mida kasutatakse seaduses, selle alusel antud õigusaktis või rahvusvahelises lepingus sätestatud ülesannete täitmiseks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  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1</a:t>
            </a: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200" spc="-1" strike="noStrike">
                <a:solidFill>
                  <a:srgbClr val="003951"/>
                </a:solidFill>
                <a:latin typeface="Arial"/>
              </a:rPr>
              <a:t>Andmekogus töödeldavate korrastatud andmete kogum võib koosneda ka</a:t>
            </a:r>
            <a:r>
              <a:rPr b="1" lang="et-E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t-EE" sz="2200" spc="-1" strike="noStrike">
                <a:solidFill>
                  <a:srgbClr val="3333cc"/>
                </a:solidFill>
                <a:latin typeface="Arial"/>
              </a:rPr>
              <a:t>üksnes teistes andmekogudes sisalduvatest unikaalsetest andmetest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 (</a:t>
            </a:r>
            <a:r>
              <a:rPr b="0" lang="et-EE" sz="2000" spc="-1" strike="noStrike">
                <a:solidFill>
                  <a:srgbClr val="003951"/>
                </a:solidFill>
                <a:latin typeface="Arial"/>
              </a:rPr>
              <a:t>(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1</a:t>
            </a:r>
            <a:r>
              <a:rPr b="1" lang="et-EE" sz="2400" spc="-1" strike="noStrike">
                <a:solidFill>
                  <a:srgbClr val="003951"/>
                </a:solidFill>
                <a:latin typeface="Arial"/>
              </a:rPr>
              <a:t> lg 2</a:t>
            </a:r>
            <a:r>
              <a:rPr b="1" lang="et-EE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8366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300" spc="-1" strike="noStrike">
                <a:solidFill>
                  <a:srgbClr val="990033"/>
                </a:solidFill>
                <a:latin typeface="Arial"/>
              </a:rPr>
              <a:t>Riikliku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ka</a:t>
            </a:r>
            <a:r>
              <a:rPr b="1" lang="et-EE" sz="3400" spc="-1" strike="noStrike">
                <a:solidFill>
                  <a:srgbClr val="990033"/>
                </a:solidFill>
                <a:latin typeface="Arial"/>
              </a:rPr>
              <a:t> seadus (RSS)</a:t>
            </a:r>
            <a:endParaRPr b="1" lang="en-US" sz="3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e statistiliste vaatluste korraldamisel kasutatakse eelkõige riiklikesse ja teistesse andmekogudesse kogutud andmeid …” (§ 5 lg 1 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„… </a:t>
            </a:r>
            <a:r>
              <a:rPr b="1" lang="et-EE" sz="3000" spc="-1" strike="noStrike">
                <a:solidFill>
                  <a:srgbClr val="003951"/>
                </a:solidFill>
                <a:latin typeface="Arial"/>
              </a:rPr>
              <a:t>Statistikaametis riiklike statistiliste vaatluste korraldamisel moodustatavad andmestikud ei ole andmekogud avaliku teabe seaduse mõistes …” (3 lg 11)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7515360" cy="7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Riiklik statistika riigi infosüsteemi osan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7280" y="227628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“…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klik statistika kajastab Eesti majanduse, rahvastiku, sotsiaalvaldkonna ja keskkonna seisundit ning selles toimuvaid muutusi …”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(RSS § 2 lg 2)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920" y="184464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5327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tatistilise andmestiku koguja, töötleja,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säilitaja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egread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enuse pakkuja - riikliku statistika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tegemine ja avaldamine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avalik andmebaas!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Riigi andmekogude andmete (suur)tarbija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sisendandmed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Aruandekohustuslik Euroopa Liidu ees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EUROSTA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Vastutaval töötlemisel on riigi infosüsteemi 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      </a:t>
            </a:r>
            <a:r>
              <a:rPr b="1" lang="et-EE" sz="2600" spc="-1" strike="noStrike">
                <a:solidFill>
                  <a:srgbClr val="003951"/>
                </a:solidFill>
                <a:latin typeface="Arial"/>
              </a:rPr>
              <a:t>kindlustavad süsteemid </a:t>
            </a:r>
            <a:r>
              <a:rPr b="1" lang="et-EE" sz="2600" spc="-1" strike="noStrike">
                <a:solidFill>
                  <a:srgbClr val="3333cc"/>
                </a:solidFill>
                <a:latin typeface="Arial"/>
              </a:rPr>
              <a:t>(40 klassifikaatorit)</a:t>
            </a:r>
            <a:endParaRPr b="0" lang="en-US" sz="2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kaameti roll riigi infosüsteemis (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9810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AvTS kehtiv nõu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6280"/>
            <a:ext cx="80661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kuuluvad andmekogud,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mis on: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andmevahetuskihiga (X-tee) liidestatud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riigi infosüsteemi haldussüsteemis (RIHA) registreeritu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395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andmekogude pidamist kindlustavad süsteemid s.h klassifikaatorid (§ 43</a:t>
            </a:r>
            <a:r>
              <a:rPr b="1" lang="et-EE" sz="1200" spc="-1" strike="noStrike">
                <a:solidFill>
                  <a:srgbClr val="003951"/>
                </a:solidFill>
                <a:latin typeface="Arial"/>
              </a:rPr>
              <a:t>2</a:t>
            </a:r>
            <a:r>
              <a:rPr b="1" lang="et-EE" sz="2800" spc="-1" strike="noStrike">
                <a:solidFill>
                  <a:srgbClr val="003951"/>
                </a:solidFill>
                <a:latin typeface="Arial"/>
              </a:rPr>
              <a:t> lg 1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90792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4160" y="1988640"/>
            <a:ext cx="77198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340000" y="1628640"/>
          <a:ext cx="502596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628640"/>
                    <a:ext cx="502596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28640" y="33336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000" spc="-1" strike="noStrike">
                <a:solidFill>
                  <a:srgbClr val="990033"/>
                </a:solidFill>
                <a:latin typeface="Arial"/>
              </a:rPr>
              <a:t>Statistilised andmestikud ja X-tee</a:t>
            </a:r>
            <a:endParaRPr b="1" lang="en-US" sz="30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411280" y="1197000"/>
          <a:ext cx="4667400" cy="51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197000"/>
                    <a:ext cx="4667400" cy="51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4000" y="6237360"/>
            <a:ext cx="425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t-EE" sz="1800" spc="-1" strike="noStrike">
                <a:solidFill>
                  <a:srgbClr val="000000"/>
                </a:solidFill>
                <a:latin typeface="Arial"/>
              </a:rPr>
              <a:t>Allikas:Euroopa statistika tegevusju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helija</cp:lastModifiedBy>
  <cp:lastPrinted>2001-03-09T09:19:09Z</cp:lastPrinted>
  <dcterms:modified xsi:type="dcterms:W3CDTF">2009-03-24T07:36:10Z</dcterms:modified>
  <cp:revision>26</cp:revision>
  <dc:subject/>
  <dc:title>PowerPoint Presentation</dc:title>
</cp:coreProperties>
</file>