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902825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t-EE" sz="13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780840" y="769680"/>
            <a:ext cx="5537160" cy="383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t-EE" sz="13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t-EE" sz="13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D6547FF-BD0E-488A-B211-916C553A1CFC}" type="slidenum"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C69E44F-28C6-4713-B5BB-5DA3BDE0D87F}" type="slidenum"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54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80C3-33B9-434D-A5AC-B34A561B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86080" y="480204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6B4E-B47B-4831-89AF-3A16EFBD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74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E406-74B7-4E15-BEFB-807D5F1E5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932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256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8608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932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256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7E3C-D77C-42FC-8A6E-B91E1BE0A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675E-81A2-4C89-A848-00853B36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DB9B-85BC-4D96-ABD7-16DB59A8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E863-E849-4869-9E34-284300BD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DA99-B12E-42B2-B46C-5CE27103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2A15-38EB-4DDA-A208-97A2084C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3040" y="2130120"/>
            <a:ext cx="8416800" cy="68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BC91-B90D-4A62-9F6B-F0D3A7A4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9CE0-DF31-4A0B-B63D-38933A0E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9B88-682A-430C-8AB7-ED147D05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74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7890-E39B-4A53-A49B-7673D33A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AA55-9A78-4ACD-9FC4-9A5C9CF4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86080" y="480204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EA7D-BB89-4469-90FE-B1689B1A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74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37C8-614E-4797-B262-62A97155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932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256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8608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932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256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0A94-E71D-4A0C-97BB-10F259425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0621-EBCF-4412-96F1-EF02F04F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5DDC-BE02-4506-8B54-CA2DA57E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AF1B-AD8C-4DA0-922D-2DB9A902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3040" y="2130120"/>
            <a:ext cx="8416800" cy="68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7A91-CBCD-4FD2-90ED-533BAB2F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8B5C-9BA7-4F8A-82FB-F45AD2FA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74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2626-026A-4BA5-90B4-AF019E75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F606-711F-497B-9408-169611D5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1484280"/>
            <a:ext cx="84168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2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776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5742-DC2B-4773-B406-25369357347F}" type="slidenum">
              <a:rPr b="0" lang="en-US" sz="1400" spc="-1" strike="noStrike">
                <a:solidFill>
                  <a:srgbClr val="000066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0976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382920" y="624492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97760" y="6244920"/>
            <a:ext cx="230976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AE30-0A8D-4223-8AE5-3862BA3C03DD}" type="slidenum">
              <a:rPr b="0" lang="en-US" sz="1400" spc="-1" strike="noStrike">
                <a:solidFill>
                  <a:srgbClr val="000066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hansa.ee/tudeng/images/id-kaart.gif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riik.ee/" TargetMode="External"/><Relationship Id="rId5" Type="http://schemas.openxmlformats.org/officeDocument/2006/relationships/hyperlink" Target="http://www.eesti.ee/" TargetMode="External"/><Relationship Id="rId6" Type="http://schemas.openxmlformats.org/officeDocument/2006/relationships/hyperlink" Target="http://www.riik.ee/arr/" TargetMode="External"/><Relationship Id="rId7" Type="http://schemas.openxmlformats.org/officeDocument/2006/relationships/hyperlink" Target="http://www.riik.ee/arr/" TargetMode="External"/><Relationship Id="rId8" Type="http://schemas.openxmlformats.org/officeDocument/2006/relationships/hyperlink" Target="http://www.riik.ee/arr/" TargetMode="Externa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margus.pyya@mkm.ee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47800" y="1233000"/>
            <a:ext cx="8416800" cy="244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Riigi infosüsteem – 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poliitika kujundamise ja teaduslike uuringute 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kulla-auk</a:t>
            </a:r>
            <a:r>
              <a:rPr b="0" lang="en-US" sz="4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Margus Püüa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66"/>
                </a:solidFill>
                <a:latin typeface="Trebuchet MS"/>
              </a:rPr>
              <a:t>Riigi infosüsteemide osakonna juhataja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66"/>
                </a:solidFill>
                <a:latin typeface="Trebuchet MS"/>
              </a:rPr>
              <a:t>Majandus- ja Kommunikatsiooniministeerium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625920" y="3789360"/>
            <a:ext cx="1596960" cy="2448000"/>
          </a:xfrm>
          <a:prstGeom prst="flowChartAlternateProcess">
            <a:avLst/>
          </a:prstGeom>
          <a:solidFill>
            <a:srgbClr val="cfe1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360" y="3789360"/>
            <a:ext cx="3430800" cy="2448000"/>
          </a:xfrm>
          <a:prstGeom prst="flowChartAlternateProcess">
            <a:avLst/>
          </a:prstGeom>
          <a:solidFill>
            <a:srgbClr val="cfe1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7360" y="333360"/>
            <a:ext cx="7407360" cy="2763720"/>
          </a:xfrm>
          <a:prstGeom prst="flowChartAlternateProcess">
            <a:avLst/>
          </a:prstGeom>
          <a:solidFill>
            <a:srgbClr val="cfe1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ublic sec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95760" y="1989000"/>
            <a:ext cx="0" cy="216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95760" y="2557440"/>
            <a:ext cx="0" cy="304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1440" y="793800"/>
            <a:ext cx="990720" cy="1590480"/>
          </a:xfrm>
          <a:prstGeom prst="can">
            <a:avLst>
              <a:gd name="adj" fmla="val 13856"/>
            </a:avLst>
          </a:prstGeom>
          <a:solidFill>
            <a:srgbClr val="fff7ff"/>
          </a:soli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opulation Registe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63680" y="793800"/>
            <a:ext cx="990720" cy="1590480"/>
          </a:xfrm>
          <a:prstGeom prst="can">
            <a:avLst>
              <a:gd name="adj" fmla="val 13856"/>
            </a:avLst>
          </a:prstGeom>
          <a:solidFill>
            <a:srgbClr val="fff7ef"/>
          </a:solidFill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Health Insuranc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Registe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57360" y="793800"/>
            <a:ext cx="989280" cy="1590480"/>
          </a:xfrm>
          <a:prstGeom prst="can">
            <a:avLst>
              <a:gd name="adj" fmla="val 13856"/>
            </a:avLst>
          </a:prstGeom>
          <a:solidFill>
            <a:srgbClr val="fffff3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National Pens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Insurance Register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82880" y="765000"/>
            <a:ext cx="989280" cy="1590840"/>
          </a:xfrm>
          <a:prstGeom prst="can">
            <a:avLst>
              <a:gd name="adj" fmla="val 13856"/>
            </a:avLst>
          </a:prstGeom>
          <a:solidFill>
            <a:srgbClr val="f7fff7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Vehicle Registe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68600" y="1628640"/>
            <a:ext cx="311400" cy="0"/>
          </a:xfrm>
          <a:prstGeom prst="line">
            <a:avLst/>
          </a:prstGeom>
          <a:ln w="2556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09960" y="0"/>
            <a:ext cx="33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66"/>
                </a:solidFill>
                <a:latin typeface="Arial"/>
              </a:rPr>
              <a:t>Databases / information system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1000" y="2600280"/>
            <a:ext cx="8571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42880" y="2600280"/>
            <a:ext cx="85752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33680" y="2600280"/>
            <a:ext cx="8589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49840" y="2571840"/>
            <a:ext cx="8571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02080" y="2565360"/>
            <a:ext cx="85752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34280" y="2565360"/>
            <a:ext cx="8571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00840" y="2349360"/>
            <a:ext cx="0" cy="216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02040" y="2384280"/>
            <a:ext cx="0" cy="216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9800" y="2384280"/>
            <a:ext cx="0" cy="216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1240" y="2384280"/>
            <a:ext cx="0" cy="216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00640" y="3789360"/>
            <a:ext cx="3197160" cy="2448000"/>
          </a:xfrm>
          <a:prstGeom prst="flowChartAlternateProcess">
            <a:avLst/>
          </a:prstGeom>
          <a:solidFill>
            <a:srgbClr val="cfe1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97560" y="4076640"/>
            <a:ext cx="70308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Central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 I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6360" y="5013360"/>
            <a:ext cx="70164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Central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 II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10240" y="4076640"/>
            <a:ext cx="8589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Central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monitoring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54720" y="4508640"/>
            <a:ext cx="70344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HelpDesk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9800" y="5661000"/>
            <a:ext cx="187164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X-road certification cent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69160" y="623736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X-road ce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419800" y="3573000"/>
            <a:ext cx="0" cy="2087640"/>
          </a:xfrm>
          <a:prstGeom prst="line">
            <a:avLst/>
          </a:prstGeom>
          <a:ln cap="rnd" w="2556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30840" y="3600360"/>
            <a:ext cx="0" cy="503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76960" y="3573360"/>
            <a:ext cx="0" cy="1440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64120" y="4437000"/>
            <a:ext cx="0" cy="57636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34280" y="3573360"/>
            <a:ext cx="0" cy="935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00840" y="3573360"/>
            <a:ext cx="1440" cy="503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94120" y="3213000"/>
            <a:ext cx="23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X-roa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655120" y="3789360"/>
            <a:ext cx="1247760" cy="2448000"/>
          </a:xfrm>
          <a:prstGeom prst="flowChartAlternateProcess">
            <a:avLst/>
          </a:prstGeom>
          <a:solidFill>
            <a:srgbClr val="cfe1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02480" y="333360"/>
            <a:ext cx="2183040" cy="2806560"/>
          </a:xfrm>
          <a:prstGeom prst="flowChartAlternateProcess">
            <a:avLst/>
          </a:prstGeom>
          <a:solidFill>
            <a:srgbClr val="cfe1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ivate sec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616960" y="3933720"/>
            <a:ext cx="1092240" cy="2081160"/>
          </a:xfrm>
          <a:prstGeom prst="flowChartAlternateProcess">
            <a:avLst/>
          </a:prstGeom>
          <a:solidFill>
            <a:srgbClr val="e7f0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ID – card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007560" y="3546360"/>
            <a:ext cx="0" cy="36036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318600" y="2384280"/>
            <a:ext cx="0" cy="87336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228160" y="2952720"/>
            <a:ext cx="0" cy="304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35760" y="2565360"/>
            <a:ext cx="8589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28160" y="2384280"/>
            <a:ext cx="0" cy="216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77200" y="627372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ertifica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e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850240" y="4149720"/>
            <a:ext cx="623880" cy="419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157560" y="3213000"/>
            <a:ext cx="148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546360"/>
            <a:ext cx="9902880" cy="0"/>
          </a:xfrm>
          <a:prstGeom prst="line">
            <a:avLst/>
          </a:prstGeom>
          <a:ln w="255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1240" y="2952720"/>
            <a:ext cx="0" cy="304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9800" y="2960640"/>
            <a:ext cx="0" cy="297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02040" y="2952720"/>
            <a:ext cx="0" cy="304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27560" y="2924280"/>
            <a:ext cx="0" cy="30456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32640" y="2917800"/>
            <a:ext cx="0" cy="304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00840" y="2917800"/>
            <a:ext cx="0" cy="304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257640"/>
            <a:ext cx="9902880" cy="0"/>
          </a:xfrm>
          <a:prstGeom prst="line">
            <a:avLst/>
          </a:prstGeom>
          <a:ln w="255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3680" y="5589720"/>
            <a:ext cx="1092240" cy="496800"/>
          </a:xfrm>
          <a:prstGeom prst="flowChartAlternateProcess">
            <a:avLst/>
          </a:prstGeom>
          <a:solidFill>
            <a:srgbClr val="bdd8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003300"/>
                </a:solidFill>
                <a:latin typeface="Arial"/>
              </a:rPr>
              <a:t>KIT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Citizen view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85920" y="5589720"/>
            <a:ext cx="1092240" cy="496800"/>
          </a:xfrm>
          <a:prstGeom prst="flowChartAlternateProcess">
            <a:avLst/>
          </a:prstGeom>
          <a:solidFill>
            <a:srgbClr val="d5ffd5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003300"/>
                </a:solidFill>
                <a:latin typeface="Arial"/>
              </a:rPr>
              <a:t>EIT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Enterpriser view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78160" y="5589720"/>
            <a:ext cx="1090440" cy="496800"/>
          </a:xfrm>
          <a:prstGeom prst="flowChartAlternateProcess">
            <a:avLst/>
          </a:prstGeom>
          <a:solidFill>
            <a:srgbClr val="ffe8c5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003300"/>
                </a:solidFill>
                <a:latin typeface="Arial"/>
              </a:rPr>
              <a:t>AIT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Public servant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view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3680" y="3986280"/>
            <a:ext cx="8589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19200" y="4076640"/>
            <a:ext cx="1949400" cy="21600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d4d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4d4d4"/>
                </a:solidFill>
                <a:latin typeface="Arial"/>
              </a:rPr>
              <a:t>::    …    ::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4280" y="3546360"/>
            <a:ext cx="0" cy="432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84280" y="4346640"/>
            <a:ext cx="0" cy="368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30400" y="3546360"/>
            <a:ext cx="0" cy="1150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31840" y="4286160"/>
            <a:ext cx="2336760" cy="22392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d4d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d4d4d4"/>
                </a:solidFill>
                <a:latin typeface="Arial"/>
              </a:rPr>
              <a:t>:: E-institution – institution view ::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1240" y="4510080"/>
            <a:ext cx="2727360" cy="21744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d4d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d4d4d4"/>
                </a:solidFill>
                <a:latin typeface="Arial"/>
              </a:rPr>
              <a:t>          </a:t>
            </a:r>
            <a:r>
              <a:rPr b="1" lang="et-EE" sz="1000" spc="-1" strike="noStrike">
                <a:solidFill>
                  <a:srgbClr val="d4d4d4"/>
                </a:solidFill>
                <a:latin typeface="Arial"/>
              </a:rPr>
              <a:t>:: E-county – county view ::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3680" y="4705200"/>
            <a:ext cx="3274920" cy="85752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:: Governmental Portal – Your Estonia ::</a:t>
            </a:r>
            <a:br>
              <a:rPr sz="1000"/>
            </a:b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Arial"/>
              </a:rPr>
              <a:t>Institutional view of            Thematic view of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00"/>
                </a:solidFill>
                <a:latin typeface="Arial"/>
              </a:rPr>
              <a:t>the state                           the stat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a50021"/>
                </a:solidFill>
                <a:uFillTx/>
                <a:latin typeface="Arial"/>
                <a:hlinkClick r:id="rId4"/>
              </a:rPr>
              <a:t>www.riik.ee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                     </a:t>
            </a:r>
            <a:r>
              <a:rPr b="0" lang="en-US" sz="1000" spc="-1" strike="noStrike" u="sng">
                <a:solidFill>
                  <a:srgbClr val="a50021"/>
                </a:solidFill>
                <a:uFillTx/>
                <a:latin typeface="Arial"/>
                <a:hlinkClick r:id="rId5"/>
              </a:rPr>
              <a:t>www.eesti.ee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46960" y="4365720"/>
            <a:ext cx="836640" cy="1646280"/>
          </a:xfrm>
          <a:prstGeom prst="can">
            <a:avLst>
              <a:gd name="adj" fmla="val 13856"/>
            </a:avLst>
          </a:prstGeom>
          <a:solidFill>
            <a:srgbClr val="e1ed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National Database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Register</a:t>
            </a:r>
            <a:br>
              <a:rPr sz="1400"/>
            </a:b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a50021"/>
                </a:solidFill>
                <a:uFillTx/>
                <a:latin typeface="Arial"/>
                <a:hlinkClick r:id="rId6"/>
              </a:rPr>
              <a:t>http://</a:t>
            </a:r>
            <a:r>
              <a:rPr b="0" lang="en-US" sz="1000" spc="-1" strike="noStrike" u="sng">
                <a:solidFill>
                  <a:srgbClr val="a50021"/>
                </a:solidFill>
                <a:uFillTx/>
                <a:latin typeface="Arial"/>
                <a:hlinkClick r:id="rId7"/>
              </a:rPr>
              <a:t>www.riik.ee/arr</a:t>
            </a:r>
            <a:r>
              <a:rPr b="0" lang="en-US" sz="1000" spc="-1" strike="noStrike" u="sng">
                <a:solidFill>
                  <a:srgbClr val="a50021"/>
                </a:solidFill>
                <a:uFillTx/>
                <a:latin typeface="Arial"/>
                <a:hlinkClick r:id="rId8"/>
              </a:rPr>
              <a:t>/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835760" y="3573360"/>
            <a:ext cx="0" cy="287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866000" y="4176720"/>
            <a:ext cx="0" cy="358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437600" y="3816360"/>
            <a:ext cx="8571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56520" y="730080"/>
            <a:ext cx="1025280" cy="1573560"/>
          </a:xfrm>
          <a:prstGeom prst="can">
            <a:avLst>
              <a:gd name="adj" fmla="val 13856"/>
            </a:avLst>
          </a:prstGeom>
          <a:solidFill>
            <a:srgbClr val="ffcc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ocuments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eposit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82040" y="765000"/>
            <a:ext cx="990360" cy="1590840"/>
          </a:xfrm>
          <a:prstGeom prst="can">
            <a:avLst>
              <a:gd name="adj" fmla="val 13856"/>
            </a:avLst>
          </a:prstGeom>
          <a:solidFill>
            <a:srgbClr val="fffff3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IS of infrastructur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enterprises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694720" y="765000"/>
            <a:ext cx="988920" cy="1590840"/>
          </a:xfrm>
          <a:prstGeom prst="can">
            <a:avLst>
              <a:gd name="adj" fmla="val 13856"/>
            </a:avLst>
          </a:prstGeom>
          <a:solidFill>
            <a:srgbClr val="f7fff7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Banks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31" idx="0"/>
            <a:endCxn id="189" idx="2"/>
          </p:cNvCxnSpPr>
          <p:nvPr/>
        </p:nvCxnSpPr>
        <p:spPr>
          <a:xfrm flipV="1">
            <a:off x="5730480" y="2361600"/>
            <a:ext cx="1080" cy="191160"/>
          </a:xfrm>
          <a:prstGeom prst="straightConnector1">
            <a:avLst/>
          </a:prstGeom>
          <a:ln w="25560">
            <a:solidFill>
              <a:srgbClr val="3366ff"/>
            </a:solidFill>
            <a:miter/>
          </a:ln>
        </p:spPr>
      </p:cxnSp>
      <p:cxnSp>
        <p:nvCxnSpPr>
          <p:cNvPr id="190" name=""/>
          <p:cNvCxnSpPr>
            <a:stCxn id="130" idx="0"/>
            <a:endCxn id="124" idx="3"/>
          </p:cNvCxnSpPr>
          <p:nvPr/>
        </p:nvCxnSpPr>
        <p:spPr>
          <a:xfrm flipV="1">
            <a:off x="4277880" y="2367720"/>
            <a:ext cx="1080" cy="191160"/>
          </a:xfrm>
          <a:prstGeom prst="straightConnector1">
            <a:avLst/>
          </a:prstGeom>
          <a:ln w="25560">
            <a:solidFill>
              <a:srgbClr val="3366ff"/>
            </a:solidFill>
            <a:miter/>
          </a:ln>
        </p:spPr>
      </p:cxnSp>
      <p:sp>
        <p:nvSpPr>
          <p:cNvPr id="191" name=""/>
          <p:cNvSpPr/>
          <p:nvPr/>
        </p:nvSpPr>
        <p:spPr>
          <a:xfrm>
            <a:off x="5029200" y="765000"/>
            <a:ext cx="934920" cy="1441800"/>
          </a:xfrm>
          <a:prstGeom prst="flowChartAlternateProcess">
            <a:avLst/>
          </a:prstGeom>
          <a:solidFill>
            <a:srgbClr val="f7fff7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Document record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management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system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62480" y="907920"/>
            <a:ext cx="935280" cy="1441440"/>
          </a:xfrm>
          <a:prstGeom prst="flowChartAlternateProcess">
            <a:avLst/>
          </a:prstGeom>
          <a:solidFill>
            <a:srgbClr val="f7fff7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Document record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management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system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772480" y="2492280"/>
            <a:ext cx="8589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59200" y="4724280"/>
            <a:ext cx="1092240" cy="85752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59200" y="5445000"/>
            <a:ext cx="1092240" cy="641520"/>
          </a:xfrm>
          <a:prstGeom prst="flowChartAlternateProcess">
            <a:avLst/>
          </a:prstGeom>
          <a:solidFill>
            <a:srgbClr val="fefac6"/>
          </a:solidFill>
          <a:ln w="255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003300"/>
                </a:solidFill>
                <a:latin typeface="Arial"/>
              </a:rPr>
              <a:t>LAIT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Public servant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on local Gov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view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76560" y="4005360"/>
            <a:ext cx="85752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05320" y="3565440"/>
            <a:ext cx="0" cy="432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5320" y="4365720"/>
            <a:ext cx="0" cy="368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59200" y="479736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800" spc="-1" strike="noStrike">
                <a:solidFill>
                  <a:srgbClr val="003300"/>
                </a:solidFill>
                <a:latin typeface="Arial"/>
              </a:rPr>
              <a:t>Portals of Local Gov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66"/>
                </a:solidFill>
                <a:latin typeface="Trebuchet MS"/>
              </a:rPr>
              <a:t>Lahenduse suund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43040" y="1484280"/>
            <a:ext cx="84168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Millised on küsimused mida me küsime, et kujundada poliitikat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Millistes andmekogudes/ infosüsteemides on need andmed, mida on vaja küsimustele vastamiseks (ka era- ja kolmandas sektoris) 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Millistes andmekogudes olevaid andmeid uuendatakse “loomuliku protsessi” käigus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Kas me suudame välistada andmete väärkasutust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Kas me suudame avastada ja tõendada väärkasutuse? 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Järgnevad sammud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03440" y="1160280"/>
            <a:ext cx="8416800" cy="51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Lepime kokku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mõistetes,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milliste registrite, milliseid andmeid, millises tähenduses ja millistes kombinatsioonides kasutatakse statistiliste analüüside lähteandmetena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milliseid rahvastiku ja ühiskondliku elu iseloomustavaid andmeid põhimõtteliselt ei koguta registritesse ega infosüsteemidesse ja on teada nende andmete kogumise viis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milliseid andmed loeme analüüsi kontekstis õigeteks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Panustame täisregistripõhise rahvaloenduse ettevalmistamisse – (sellega on juba väga kiire)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Viime infosüsteemide andmed vastavusse statistiliste analüüside tegemiseks tulenevate nõuetega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eeme andmete kättesaadavuse oluliselt lihtsamaks (organisatsioonilises mõttes)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66"/>
                </a:solidFill>
                <a:latin typeface="Trebuchet MS"/>
              </a:rPr>
              <a:t>Tänan mõtlemast!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Margus Püüa</a:t>
            </a:r>
            <a:br>
              <a:rPr sz="2400"/>
            </a:br>
            <a:r>
              <a:rPr b="0" lang="et-EE" sz="2000" spc="-1" strike="noStrike" u="sng">
                <a:solidFill>
                  <a:srgbClr val="a50021"/>
                </a:solidFill>
                <a:uFillTx/>
                <a:latin typeface="Trebuchet MS"/>
                <a:hlinkClick r:id="rId2"/>
              </a:rPr>
              <a:t>margus.pyya@mkm.ee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66"/>
                </a:solidFill>
                <a:latin typeface="Trebuchet MS"/>
              </a:rPr>
              <a:t>Riigi infosüsteemide osakonna juhataja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66"/>
                </a:solidFill>
                <a:latin typeface="Trebuchet MS"/>
              </a:rPr>
              <a:t>Majandus- ja Kommunikatsiooniministeerium</a:t>
            </a: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07640" y="245880"/>
            <a:ext cx="7947000" cy="93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66"/>
                </a:solidFill>
                <a:latin typeface="Trebuchet MS"/>
              </a:rPr>
              <a:t>INFOÜHISKOND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2" name=""/>
          <p:cNvSpPr/>
          <p:nvPr/>
        </p:nvSpPr>
        <p:spPr>
          <a:xfrm>
            <a:off x="271440" y="1341360"/>
            <a:ext cx="93600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Infoühiskonnas hoitakse, teisendatakse ja edastatakse teavet universaalsel digitaalsel kuju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Infoühiskonnas on kõigile ühiskonna liikmetele tagatud juurdepääs digitaalsel kujul teabele läbi andmeedastusvõrgu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Infoühiskonnas on masinatele usaldatud rutiine vaimne töö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Infoühiskonnas on elukordalus ratsionaalne tuginedes eelnimetud eeldustel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9120" y="6402240"/>
            <a:ext cx="710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66"/>
                </a:solidFill>
                <a:latin typeface="Arial"/>
              </a:rPr>
              <a:t>Valdo Praust  „Infoühiskond ja selle teetähised” 1998 aastaraamat „Infotehnoloogia haldusjuhtimises”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3040" y="1484280"/>
            <a:ext cx="84168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Küsitluspõhine ja registripõhine loendus on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andmestiku mõttes 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erinevad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66"/>
                </a:solidFill>
                <a:latin typeface="Trebuchet MS"/>
              </a:rPr>
              <a:t>Mis on probleem</a:t>
            </a: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?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7" name=""/>
          <p:cNvSpPr/>
          <p:nvPr/>
        </p:nvSpPr>
        <p:spPr>
          <a:xfrm>
            <a:off x="7424280" y="3753000"/>
            <a:ext cx="1282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66"/>
                </a:solidFill>
                <a:latin typeface="Trebuchet MS"/>
              </a:rPr>
              <a:t>Poliitika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55800" y="2060640"/>
            <a:ext cx="7956360" cy="280836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000066"/>
                </a:solidFill>
                <a:latin typeface="Trebuchet MS"/>
              </a:rPr>
              <a:t>Süsteem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03440" y="2565360"/>
            <a:ext cx="1692360" cy="1368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ndm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96280" y="2529000"/>
            <a:ext cx="119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Isiku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26440" y="3033720"/>
            <a:ext cx="153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objekti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66720" y="3645000"/>
            <a:ext cx="1981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Otsused/ toimingu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22720" y="2241720"/>
            <a:ext cx="1692360" cy="1368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ndm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56160" y="3178080"/>
            <a:ext cx="1692000" cy="1368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ndm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88160" y="3068640"/>
            <a:ext cx="1441440" cy="828720"/>
          </a:xfrm>
          <a:prstGeom prst="rightArrow">
            <a:avLst>
              <a:gd name="adj1" fmla="val 50000"/>
              <a:gd name="adj2" fmla="val 43484"/>
            </a:avLst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nalüü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83440" y="2744640"/>
            <a:ext cx="1674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66"/>
                </a:solidFill>
                <a:latin typeface="Trebuchet MS"/>
              </a:rPr>
              <a:t>Teaduslikud uuringu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8360" y="475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66"/>
                </a:solidFill>
                <a:latin typeface="Trebuchet MS"/>
              </a:rPr>
              <a:t>Kuidas tõlgendada mõistet informatsioon? 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43040" y="1484280"/>
            <a:ext cx="84168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66"/>
                </a:solidFill>
                <a:latin typeface="Trebuchet MS"/>
              </a:rPr>
              <a:t>Tõlgendus 1: Andmed, mida vajatakse otsustamiseks.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66"/>
                </a:solidFill>
                <a:latin typeface="Trebuchet MS"/>
              </a:rPr>
              <a:t>Tõlgendus 2: Vastus küsimusele, mida on küsitud.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66"/>
                </a:solidFill>
                <a:latin typeface="Trebuchet MS"/>
              </a:rPr>
              <a:t>Üldised kaebused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30360" y="954000"/>
            <a:ext cx="8997840" cy="59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egelikkust üheselt kirjeldavaid andmeid on raske saada …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nimesed ei oska mõnikord vastata esitatud küsimustele …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Nii poliitikate kujundamiseks kui ka teadusuuringuteks vajalike andmete kasutamiseks on raske saada luba kui andmed on teise ametkonna haldusalas olevas andmekogus …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Erinevate andmekogude andmete kasutamine analüüside tegemiseks võib riivata isiku privaatsust …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Mida rohkem koondatakse erinevatest andmekogudest isiku kohaseid andmeid seda suurem on koondatud andmete ründeväärtus …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Aastatega kogutud detailseid andmeid subjektide ja objektide kohta ei kasutata poliitikate kujundamise analüüsides …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…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ISIKUANDMETE KAITSE SEADUS</a:t>
            </a:r>
            <a:br>
              <a:rPr sz="2800"/>
            </a:b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rebuchet MS"/>
              </a:rPr>
              <a:t>§6. Isikuandmete töötlemise põhimõtted</a:t>
            </a: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8720" y="1268280"/>
            <a:ext cx="8856720" cy="52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 fontScale="94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Isikuandmete vastutav ja volitatud töötleja on kohustatud isikuandmete töötlemisel järgima järgmisi põhimõtteid: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1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seaduslikkuse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isikuandmeid võib koguda ausal ja seaduslikul teel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2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eesmärgikohasuse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isikuandmeid võib koguda üksnes määratletud ja õiguspäraste eesmärkide saavutamiseks ning isikuandmeid ei või töödelda viisil, mis ei ole andmetöötluse eesmärkide saavutamisega kooskõlas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3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minimaalsuse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isikuandmeid võib koguda vaid ulatuses, mis on vajalik määratletud eesmärkide saavutamiseks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4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kasutuse piiramise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isikuandmeid võib muudel eesmärkidel kasutada üksnes andmesubjekti nõusolekul või selleks pädeva organi loal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5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andmete kvaliteedi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isikuandmed peavad olema ajakohased, täielikud ning vajalikud antud andmetöötluse eesmärgi saavutamiseks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6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turvalisuse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isikuandmete kaitseks tuleb rakendada turvameetmeid nende tahtmatu või volitamata muutmise, avalikuks tuleku või hävimise eest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7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individuaalse osaluse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andmesubjekti tuleb teavitada tema kohta kogutavatest andmetest, talle tuleb võimaldada juurdepääs tema kohta käivatele andmetele ja tal on õigus nõuda ebatäpsete või eksitavate andmete parandamist.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Eesmärk?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3040" y="1484280"/>
            <a:ext cx="84168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Registrites ja infosüsteemides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olev rahvastiku- ja ühiskondliku elu kirjeldav andmestik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võimaldab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kõike hõlmavaid statistilisi analüüse teha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siis kui vaja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7800" y="2599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66"/>
                </a:solidFill>
                <a:latin typeface="Trebuchet MS"/>
              </a:rPr>
              <a:t>Mis meid aitab</a:t>
            </a: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?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0T20:40:40Z</dcterms:created>
  <dc:creator>Uuno Vallner</dc:creator>
  <dc:description/>
  <dc:language>en-US</dc:language>
  <cp:lastModifiedBy>Margus Püüa</cp:lastModifiedBy>
  <cp:lastPrinted>2000-04-24T10:51:52Z</cp:lastPrinted>
  <dcterms:modified xsi:type="dcterms:W3CDTF">2009-03-25T08:39:37Z</dcterms:modified>
  <cp:revision>158</cp:revision>
  <dc:subject/>
  <dc:title>Riigivõrgukeskus'99</dc:title>
</cp:coreProperties>
</file>