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902825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780840" y="769680"/>
            <a:ext cx="5537160" cy="383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t-EE" sz="13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E42A77C-4B88-41F9-8D53-6125A4F986A8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2C6D7B0-8BC2-4289-9CFA-01640CED52AF}" type="slidenum"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t-EE" sz="13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81200" y="770040"/>
            <a:ext cx="5537160" cy="3835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615-3BFF-4F90-A46A-9C365AF35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5A8-8709-41C8-9B0E-D9DA393C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0CE-7A94-4E67-96FE-E93A2B9E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0D3-0334-4E35-BC3C-7BDF08A1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DA10-4442-449A-B737-D695C9B3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9715-A88E-4A54-9B4C-3FAA2F35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6084-8DE5-47DD-A375-690BDB3D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4413F-73A9-4707-8F38-9EACE906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90E89-65A5-406B-936C-277606AA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1C02-AF7A-4E64-81E9-DF44FD93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17034-EF33-4BF7-B564-BEF161E1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A94-3B25-42FB-8744-106BD0CC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3651-8A80-4977-B7A5-96BCCDD0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5AFF-5C88-4921-82FF-9C2306EC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E2FF-8B38-482C-80F0-0FBA16B3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1C7B-3099-48B2-9B7E-133A0F80B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2932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2560" y="388620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48608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2932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2560" y="4802040"/>
            <a:ext cx="22312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6E9F-3328-4C45-A8D5-A84C461A8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EAEF-97B4-4D82-AB83-2C3EA0B99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3DD9-39FD-4C9B-813B-D57185D4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D634-4D0E-4216-A576-5988CDB7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2130120"/>
            <a:ext cx="8416800" cy="68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7A5-B73D-402F-8024-B7D991B9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11E-FC9D-4129-95DC-0F77A796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7480" y="480204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CC2-0183-46AD-8993-7C829920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860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37480" y="3886200"/>
            <a:ext cx="3381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86080" y="4802040"/>
            <a:ext cx="69307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384E-17AA-46EB-B189-0A079609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1D29-754B-416F-AB11-14998825A072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2920" y="6244920"/>
            <a:ext cx="313704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7760" y="6244920"/>
            <a:ext cx="230976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9E7A-B844-4BAE-883E-9FCB37E686FE}" type="slidenum">
              <a:rPr b="0" lang="en-US" sz="1400" spc="-1" strike="noStrike">
                <a:solidFill>
                  <a:srgbClr val="000066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ansa.ee/tudeng/images/id-kaart.gif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riik.ee/" TargetMode="External"/><Relationship Id="rId5" Type="http://schemas.openxmlformats.org/officeDocument/2006/relationships/hyperlink" Target="http://www.eesti.ee/" TargetMode="External"/><Relationship Id="rId6" Type="http://schemas.openxmlformats.org/officeDocument/2006/relationships/hyperlink" Target="http://www.riik.ee/arr/" TargetMode="External"/><Relationship Id="rId7" Type="http://schemas.openxmlformats.org/officeDocument/2006/relationships/hyperlink" Target="http://www.riik.ee/arr/" TargetMode="External"/><Relationship Id="rId8" Type="http://schemas.openxmlformats.org/officeDocument/2006/relationships/hyperlink" Target="http://www.riik.ee/arr/" TargetMode="External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margus.pyya@mkm.ee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47800" y="1233000"/>
            <a:ext cx="8416800" cy="244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Riigi infosüsteem –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poliitika kujundamise ja teaduslike uuringute </a:t>
            </a: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Trebuchet MS"/>
              </a:rPr>
              <a:t>kulla-auk</a:t>
            </a:r>
            <a:r>
              <a:rPr b="0" lang="en-US" sz="4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4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625920" y="3789360"/>
            <a:ext cx="15969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7360" y="3789360"/>
            <a:ext cx="343080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7360" y="333360"/>
            <a:ext cx="7407360" cy="276372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ublic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95760" y="198900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95760" y="255744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144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ff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Population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3680" y="793800"/>
            <a:ext cx="990720" cy="1590480"/>
          </a:xfrm>
          <a:prstGeom prst="can">
            <a:avLst>
              <a:gd name="adj" fmla="val 13856"/>
            </a:avLst>
          </a:prstGeom>
          <a:solidFill>
            <a:srgbClr val="fff7ef"/>
          </a:solidFill>
          <a:ln w="255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Health Insuranc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57360" y="793800"/>
            <a:ext cx="989280" cy="159048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Pension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nsurance Register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782880" y="765000"/>
            <a:ext cx="98928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Vehicle Regist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68600" y="1628640"/>
            <a:ext cx="311400" cy="0"/>
          </a:xfrm>
          <a:prstGeom prst="line">
            <a:avLst/>
          </a:prstGeom>
          <a:ln w="25560">
            <a:solidFill>
              <a:srgbClr val="33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09960" y="0"/>
            <a:ext cx="334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600" spc="-1" strike="noStrike">
                <a:solidFill>
                  <a:srgbClr val="000066"/>
                </a:solidFill>
                <a:latin typeface="Arial"/>
              </a:rPr>
              <a:t>Databases / information system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1000" y="260028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2880" y="260028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33680" y="2600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49840" y="257184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02080" y="256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34280" y="2565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00840" y="234936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020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980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124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00640" y="3789360"/>
            <a:ext cx="31971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97560" y="4076640"/>
            <a:ext cx="70308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6360" y="5013360"/>
            <a:ext cx="70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 II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510240" y="407664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Central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monitoring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54720" y="4508640"/>
            <a:ext cx="7034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HelpDesk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9800" y="5661000"/>
            <a:ext cx="187164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X-road certification cent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69160" y="6237360"/>
            <a:ext cx="148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X-road 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5419800" y="3573000"/>
            <a:ext cx="0" cy="2087640"/>
          </a:xfrm>
          <a:prstGeom prst="line">
            <a:avLst/>
          </a:prstGeom>
          <a:ln cap="rnd" w="255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730840" y="3600360"/>
            <a:ext cx="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276960" y="3573360"/>
            <a:ext cx="0" cy="1440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964120" y="4437000"/>
            <a:ext cx="0" cy="576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34280" y="3573360"/>
            <a:ext cx="0" cy="935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00840" y="3573360"/>
            <a:ext cx="1440" cy="503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94120" y="3213000"/>
            <a:ext cx="23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X-roa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655120" y="3789360"/>
            <a:ext cx="1247760" cy="244800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02480" y="333360"/>
            <a:ext cx="2183040" cy="2806560"/>
          </a:xfrm>
          <a:prstGeom prst="flowChartAlternateProcess">
            <a:avLst/>
          </a:prstGeom>
          <a:solidFill>
            <a:srgbClr val="cfe1ff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rivate sect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616960" y="3933720"/>
            <a:ext cx="1092240" cy="2081160"/>
          </a:xfrm>
          <a:prstGeom prst="flowChartAlternateProcess">
            <a:avLst/>
          </a:prstGeom>
          <a:solidFill>
            <a:srgbClr val="e7f0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D – ca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007560" y="3546360"/>
            <a:ext cx="0" cy="360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318600" y="2384280"/>
            <a:ext cx="0" cy="8733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22816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35760" y="256536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8160" y="2384280"/>
            <a:ext cx="0" cy="216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77200" y="6273720"/>
            <a:ext cx="137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850240" y="4149720"/>
            <a:ext cx="623880" cy="4190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157560" y="3213000"/>
            <a:ext cx="148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54636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2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09800" y="2960640"/>
            <a:ext cx="0" cy="297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02040" y="295272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27560" y="2924280"/>
            <a:ext cx="0" cy="30456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326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00840" y="2917800"/>
            <a:ext cx="0" cy="304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57640"/>
            <a:ext cx="9902880" cy="0"/>
          </a:xfrm>
          <a:prstGeom prst="line">
            <a:avLst/>
          </a:prstGeom>
          <a:ln w="25560">
            <a:solidFill>
              <a:srgbClr val="00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3680" y="5589720"/>
            <a:ext cx="1092240" cy="496800"/>
          </a:xfrm>
          <a:prstGeom prst="flowChartAlternateProcess">
            <a:avLst/>
          </a:prstGeom>
          <a:solidFill>
            <a:srgbClr val="bdd8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K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Citizen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85920" y="5589720"/>
            <a:ext cx="1092240" cy="496800"/>
          </a:xfrm>
          <a:prstGeom prst="flowChartAlternateProcess">
            <a:avLst/>
          </a:prstGeom>
          <a:solidFill>
            <a:srgbClr val="d5ffd5"/>
          </a:solidFill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E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Enterpriser 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78160" y="5589720"/>
            <a:ext cx="1090440" cy="496800"/>
          </a:xfrm>
          <a:prstGeom prst="flowChartAlternateProcess">
            <a:avLst/>
          </a:prstGeom>
          <a:solidFill>
            <a:srgbClr val="ffe8c5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3680" y="3986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19200" y="4076640"/>
            <a:ext cx="1949400" cy="21600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4d4d4"/>
                </a:solidFill>
                <a:latin typeface="Arial"/>
              </a:rPr>
              <a:t>::    …   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4280" y="354636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4280" y="434664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30400" y="3546360"/>
            <a:ext cx="0" cy="1150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31840" y="4286160"/>
            <a:ext cx="2336760" cy="2239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institution – institution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1240" y="4510080"/>
            <a:ext cx="2727360" cy="21744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d4d4d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          </a:t>
            </a:r>
            <a:r>
              <a:rPr b="1" lang="et-EE" sz="1000" spc="-1" strike="noStrike">
                <a:solidFill>
                  <a:srgbClr val="d4d4d4"/>
                </a:solidFill>
                <a:latin typeface="Arial"/>
              </a:rPr>
              <a:t>:: E-county – county view ::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3680" y="4705200"/>
            <a:ext cx="327492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:: Governmental Portal – Your Estonia ::</a:t>
            </a:r>
            <a:br>
              <a:rPr sz="1000"/>
            </a:b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Institutional view of            Thematic view of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00"/>
                </a:solidFill>
                <a:latin typeface="Arial"/>
              </a:rPr>
              <a:t>the state                           the stat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4"/>
              </a:rPr>
              <a:t>www.riik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5"/>
              </a:rPr>
              <a:t>www.eesti.ee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46960" y="4365720"/>
            <a:ext cx="836640" cy="1646280"/>
          </a:xfrm>
          <a:prstGeom prst="can">
            <a:avLst>
              <a:gd name="adj" fmla="val 13856"/>
            </a:avLst>
          </a:prstGeom>
          <a:solidFill>
            <a:srgbClr val="e1ed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National Databas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Register</a:t>
            </a:r>
            <a:br>
              <a:rPr sz="1400"/>
            </a:b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6"/>
              </a:rPr>
              <a:t>http://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7"/>
              </a:rPr>
              <a:t>www.riik.ee/arr</a:t>
            </a:r>
            <a:r>
              <a:rPr b="0" lang="en-US" sz="1000" spc="-1" strike="noStrike" u="sng">
                <a:solidFill>
                  <a:srgbClr val="a50021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1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835760" y="3573360"/>
            <a:ext cx="0" cy="287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66000" y="4176720"/>
            <a:ext cx="0" cy="35892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37600" y="3816360"/>
            <a:ext cx="8571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56520" y="730080"/>
            <a:ext cx="1025280" cy="1573560"/>
          </a:xfrm>
          <a:prstGeom prst="can">
            <a:avLst>
              <a:gd name="adj" fmla="val 13856"/>
            </a:avLst>
          </a:prstGeom>
          <a:solidFill>
            <a:srgbClr val="ffcc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Document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reposito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82040" y="765000"/>
            <a:ext cx="990360" cy="1590840"/>
          </a:xfrm>
          <a:prstGeom prst="can">
            <a:avLst>
              <a:gd name="adj" fmla="val 13856"/>
            </a:avLst>
          </a:prstGeom>
          <a:solidFill>
            <a:srgbClr val="fffff3"/>
          </a:solidFill>
          <a:ln w="255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IS of infrastructure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enterprise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94720" y="765000"/>
            <a:ext cx="988920" cy="1590840"/>
          </a:xfrm>
          <a:prstGeom prst="can">
            <a:avLst>
              <a:gd name="adj" fmla="val 13856"/>
            </a:avLst>
          </a:prstGeom>
          <a:solidFill>
            <a:srgbClr val="f7fff7"/>
          </a:solidFill>
          <a:ln w="255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</a:rPr>
              <a:t>Banks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31" idx="0"/>
            <a:endCxn id="189" idx="2"/>
          </p:cNvCxnSpPr>
          <p:nvPr/>
        </p:nvCxnSpPr>
        <p:spPr>
          <a:xfrm flipV="1">
            <a:off x="5730480" y="236160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cxnSp>
        <p:nvCxnSpPr>
          <p:cNvPr id="190" name=""/>
          <p:cNvCxnSpPr>
            <a:stCxn id="130" idx="0"/>
            <a:endCxn id="124" idx="3"/>
          </p:cNvCxnSpPr>
          <p:nvPr/>
        </p:nvCxnSpPr>
        <p:spPr>
          <a:xfrm flipV="1">
            <a:off x="4277880" y="2367720"/>
            <a:ext cx="1080" cy="191160"/>
          </a:xfrm>
          <a:prstGeom prst="straightConnector1">
            <a:avLst/>
          </a:prstGeom>
          <a:ln w="25560">
            <a:solidFill>
              <a:srgbClr val="3366ff"/>
            </a:solidFill>
            <a:miter/>
          </a:ln>
        </p:spPr>
      </p:cxnSp>
      <p:sp>
        <p:nvSpPr>
          <p:cNvPr id="191" name=""/>
          <p:cNvSpPr/>
          <p:nvPr/>
        </p:nvSpPr>
        <p:spPr>
          <a:xfrm>
            <a:off x="5029200" y="765000"/>
            <a:ext cx="934920" cy="144180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62480" y="907920"/>
            <a:ext cx="935280" cy="1441440"/>
          </a:xfrm>
          <a:prstGeom prst="flowChartAlternateProcess">
            <a:avLst/>
          </a:prstGeom>
          <a:solidFill>
            <a:srgbClr val="f7fff7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Document record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management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Arial"/>
                <a:ea typeface="Arial"/>
              </a:rPr>
              <a:t>system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72480" y="2492280"/>
            <a:ext cx="85896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59200" y="4724280"/>
            <a:ext cx="1092240" cy="857520"/>
          </a:xfrm>
          <a:prstGeom prst="flowChartAlternateProcess">
            <a:avLst/>
          </a:prstGeom>
          <a:solidFill>
            <a:srgbClr val="ffffff"/>
          </a:solidFill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59200" y="5445000"/>
            <a:ext cx="1092240" cy="641520"/>
          </a:xfrm>
          <a:prstGeom prst="flowChartAlternateProcess">
            <a:avLst/>
          </a:prstGeom>
          <a:solidFill>
            <a:srgbClr val="fefac6"/>
          </a:solidFill>
          <a:ln w="2556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1000" spc="-1" strike="noStrike">
                <a:solidFill>
                  <a:srgbClr val="003300"/>
                </a:solidFill>
                <a:latin typeface="Arial"/>
              </a:rPr>
              <a:t>LAIT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Public servant 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on local Gov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300"/>
                </a:solidFill>
                <a:latin typeface="Arial"/>
              </a:rPr>
              <a:t>view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76560" y="4005360"/>
            <a:ext cx="857520" cy="360360"/>
          </a:xfrm>
          <a:prstGeom prst="flowChartAlternateProcess">
            <a:avLst/>
          </a:prstGeom>
          <a:solidFill>
            <a:srgbClr val="e1edff"/>
          </a:solidFill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curit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server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05320" y="3565440"/>
            <a:ext cx="0" cy="43200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5320" y="4365720"/>
            <a:ext cx="0" cy="368280"/>
          </a:xfrm>
          <a:prstGeom prst="line">
            <a:avLst/>
          </a:prstGeom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59200" y="479736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800" spc="-1" strike="noStrike">
                <a:solidFill>
                  <a:srgbClr val="003300"/>
                </a:solidFill>
                <a:latin typeface="Arial"/>
              </a:rPr>
              <a:t>Portals of Local Gov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Lahenduse suun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ed on küsimused mida me küsime, et kujundada poliitika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/ infosüsteemides on need andmed, mida on vaja küsimustele vastamiseks (ka era- ja kolmandas sektoris) 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Millistes andmekogudes olevaid andmeid uuendatakse “loomuliku protsessi” käigus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välistada andmete väärkasutust?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Kas me suudame avastada ja tõendada väärkasutuse?  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Järgnevad sammu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03440" y="1160280"/>
            <a:ext cx="8416800" cy="51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Lepime kokku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õistetes,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te registrite, milliseid andmeid, millises tähenduses ja millistes kombinatsioonides kasutatakse statistiliste analüüside lähteandmetena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rahvastiku ja ühiskondliku elu iseloomustavaid andmeid põhimõtteliselt ei koguta registritesse ega infosüsteemidesse ja on teada nende andmete kogumise vii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milliseid andmed loeme analüüsi kontekstis õigeteks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Panustame täisregistripõhise rahvaloenduse ettevalmistamisse – (sellega on juba väga kiire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Viime infosüsteemide andmed vastavusse statistiliste analüüside tegemiseks tulenevate nõuetega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eme andmete kättesaadavuse oluliselt lihtsamaks (organisatsioonilises mõttes)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3040" y="2130120"/>
            <a:ext cx="84168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Tänan mõtlemast!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486080" y="3886200"/>
            <a:ext cx="69307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argus Püüa</a:t>
            </a:r>
            <a:br>
              <a:rPr sz="2400"/>
            </a:br>
            <a:r>
              <a:rPr b="0" lang="et-EE" sz="2000" spc="-1" strike="noStrike" u="sng">
                <a:solidFill>
                  <a:srgbClr val="a50021"/>
                </a:solidFill>
                <a:uFillTx/>
                <a:latin typeface="Trebuchet MS"/>
                <a:hlinkClick r:id="rId2"/>
              </a:rPr>
              <a:t>margus.pyya@mkm.ee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800" spc="-1" strike="noStrike">
                <a:solidFill>
                  <a:srgbClr val="000066"/>
                </a:solidFill>
                <a:latin typeface="Trebuchet MS"/>
              </a:rPr>
              <a:t>Riigi infosüsteemide osakonna juhataja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0066"/>
                </a:solidFill>
                <a:latin typeface="Trebuchet MS"/>
              </a:rPr>
              <a:t>Majandus- ja Kommunikatsiooniministeerium</a:t>
            </a: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7640" y="245880"/>
            <a:ext cx="7947000" cy="93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66"/>
                </a:solidFill>
                <a:latin typeface="Trebuchet MS"/>
              </a:rPr>
              <a:t>INFOÜHISKOND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271440" y="1341360"/>
            <a:ext cx="9360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hoitakse, teisendatakse ja edastatakse teavet universaalsel digitaalsel kuju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kõigile ühiskonna liikmetele tagatud juurdepääs digitaalsel kujul teabele läbi andmeedastusvõrgu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masinatele usaldatud rutiine vaimne töö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68200" indent="-268200">
              <a:lnSpc>
                <a:spcPct val="100000"/>
              </a:lnSpc>
              <a:spcBef>
                <a:spcPts val="1749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nfoühiskonnas on elukordalus ratsionaalne tuginedes eelnimetud eeldustel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9120" y="6402240"/>
            <a:ext cx="710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66"/>
                </a:solidFill>
                <a:latin typeface="Arial"/>
              </a:rPr>
              <a:t>Valdo Praust  „Infoühiskond ja selle teetähised” 1998 aastaraamat „Infotehnoloogia haldusjuhtimises”.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Küsitluspõhine ja registripõhine loendus on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andmestiku mõttes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rineva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on probleem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7424280" y="3753000"/>
            <a:ext cx="1282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Poliitika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55800" y="2060640"/>
            <a:ext cx="7956360" cy="28083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1800" spc="-1" strike="noStrike">
                <a:solidFill>
                  <a:srgbClr val="000066"/>
                </a:solidFill>
                <a:latin typeface="Trebuchet MS"/>
              </a:rPr>
              <a:t>Süsteem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03440" y="256536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96280" y="2529000"/>
            <a:ext cx="11937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Isik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26440" y="3033720"/>
            <a:ext cx="1535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bjekti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66720" y="3645000"/>
            <a:ext cx="1981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66"/>
                </a:solidFill>
                <a:latin typeface="Trebuchet MS"/>
              </a:rPr>
              <a:t>Otsused/ toimingu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22720" y="2241720"/>
            <a:ext cx="169236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6160" y="3178080"/>
            <a:ext cx="1692000" cy="1368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dm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88160" y="3068640"/>
            <a:ext cx="1441440" cy="828720"/>
          </a:xfrm>
          <a:prstGeom prst="rightArrow">
            <a:avLst>
              <a:gd name="adj1" fmla="val 50000"/>
              <a:gd name="adj2" fmla="val 43484"/>
            </a:avLst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nalüü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83440" y="2744640"/>
            <a:ext cx="1674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66"/>
                </a:solidFill>
                <a:latin typeface="Trebuchet MS"/>
              </a:rPr>
              <a:t>Teaduslikud uuringu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8360" y="475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Kuidas tõlgendada mõistet informatsioon? 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1: Andmed, mida vajatakse otsustamiseks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66"/>
                </a:solidFill>
                <a:latin typeface="Trebuchet MS"/>
              </a:rPr>
              <a:t>Tõlgendus 2: Vastus küsimusele, mida on küsitud.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Üldised kaebused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0360" y="954000"/>
            <a:ext cx="89978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egelikkust üheselt kirjeldavaid andmeid on raske saada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Inimesed ei oska mõnikord vastata esitatud küsimustele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Nii poliitikate kujundamiseks kui ka teadusuuringuteks vajalike andmete kasutamiseks on raske saada luba kui andmed on teise ametkonna haldusalas olevas andmekogus …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Erinevate andmekogude andmete kasutamine analüüside tegemiseks võib riivata isiku privaatsust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Mida rohkem koondatakse erinevatest andmekogudest isiku kohaseid andmeid seda suurem on koondatud andmete ründeväärtu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Aastatega kogutud detailseid andmeid subjektide ja objektide kohta ei kasutata poliitikate kujundamise analüüsides 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000066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500"/>
                            </p:stCondLst>
                            <p:childTnLst>
                              <p:par>
                                <p:cTn id="17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3000"/>
                            </p:stCondLst>
                            <p:childTnLst>
                              <p:par>
                                <p:cTn id="2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rebuchet MS"/>
              </a:rPr>
              <a:t>ISIKUANDMETE KAITSE SEADUS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rebuchet MS"/>
              </a:rPr>
              <a:t>§6. Isikuandmete töötlemise põhimõtted</a:t>
            </a:r>
            <a:r>
              <a:rPr b="0" lang="en-US" sz="20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58720" y="1268280"/>
            <a:ext cx="8856720" cy="522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 fontScale="94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Isikuandmete vastutav ja volitatud töötleja on kohustatud isikuandmete töötlemisel järgima järgmisi põhimõtteid: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1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seaduslikk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ausal ja seaduslikul tee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2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eesmärgikoha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üksnes määratletud ja õiguspäraste eesmärkide saavutamiseks ning isikuandmeid ei või töödelda viisil, mis ei ole andmetöötluse eesmärkide saavutamisega kooskõla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3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minimaal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koguda vaid ulatuses, mis on vajalik määratletud eesmärkide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4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kasutuse piirami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id võib muudel eesmärkidel kasutada üksnes andmesubjekti nõusolekul või selleks pädeva organi loal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5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andmete kvaliteedi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d peavad olema ajakohased, täielikud ning vajalikud antud andmetöötluse eesmärgi saavutamiseks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6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turvalis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isikuandmete kaitseks tuleb rakendada turvameetmeid nende tahtmatu või volitamata muutmise, avalikuks tuleku või hävimise eest;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7)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individuaalse osaluse põhimõte</a:t>
            </a:r>
            <a:r>
              <a:rPr b="0" lang="en-US" sz="1800" spc="-1" strike="noStrike">
                <a:solidFill>
                  <a:srgbClr val="000066"/>
                </a:solidFill>
                <a:latin typeface="Trebuchet MS"/>
              </a:rPr>
              <a:t> – andmesubjekti tuleb teavitada tema kohta kogutavatest andmetest, talle tuleb võimaldada juurdepääs tema kohta käivatele andmetele ja tal on õigus nõuda ebatäpsete või eksitavate andmete parandamist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4720" y="18864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Eesmärk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3040" y="1484280"/>
            <a:ext cx="84168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Registrites ja infosüsteemides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olev rahvastiku- ja ühiskondliku elu kirjeldav andmestik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võimaldab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kõike hõlmavaid statistilisi analüüse teh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 </a:t>
            </a:r>
            <a:r>
              <a:rPr b="0" lang="en-US" sz="3600" spc="-1" strike="noStrike">
                <a:solidFill>
                  <a:srgbClr val="000066"/>
                </a:solidFill>
                <a:latin typeface="Trebuchet MS"/>
              </a:rPr>
              <a:t>siis kui vaja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7800" y="25999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400" spc="-1" strike="noStrike">
                <a:solidFill>
                  <a:srgbClr val="000066"/>
                </a:solidFill>
                <a:latin typeface="Trebuchet MS"/>
              </a:rPr>
              <a:t>Mis meid aitab</a:t>
            </a:r>
            <a:r>
              <a:rPr b="0" lang="en-US" sz="4400" spc="-1" strike="noStrike">
                <a:solidFill>
                  <a:srgbClr val="000066"/>
                </a:solidFill>
                <a:latin typeface="Trebuchet MS"/>
              </a:rPr>
              <a:t>?</a:t>
            </a:r>
            <a:endParaRPr b="0" lang="en-US" sz="4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0T20:40:40Z</dcterms:created>
  <dc:creator>Uuno Vallner</dc:creator>
  <dc:description/>
  <dc:language>en-US</dc:language>
  <cp:lastModifiedBy>Margus Püüa</cp:lastModifiedBy>
  <cp:lastPrinted>2000-04-24T10:51:52Z</cp:lastPrinted>
  <dcterms:modified xsi:type="dcterms:W3CDTF">2009-03-25T08:39:37Z</dcterms:modified>
  <cp:revision>158</cp:revision>
  <dc:subject/>
  <dc:title>Riigivõrgukeskus'99</dc:title>
</cp:coreProperties>
</file>