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780840" y="769680"/>
            <a:ext cx="5537160" cy="38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3E9877-C249-408E-9445-03B864F838B6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9D08F4-96D4-406B-9E31-CDED786FD74F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5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51C-57C6-4490-9364-62A1BCFA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02E-A294-42E1-AC11-1AF618ED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47D-ED88-4CDE-BE7E-28299F04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C9F-3541-43F4-8998-7374FFB4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FB0C-35E5-4AD5-949F-3B3157A6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718B-1417-4EAB-BACC-723EDBA2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6E2A-3E24-4167-9FFF-57D3A4A1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9423-1575-4AEF-94DD-0F80E780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A2D1-0F90-4491-BB73-63ECDDA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BBBA-0010-4E01-A6F2-78069D05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AA98-6AB9-4956-8DC1-B7F46E1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096-9A32-4F1A-B081-74A7EB47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7236-3BB5-48F1-898A-0BD44643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C356-F370-46C7-9FED-4E07B5F3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BE8F-E4E4-4A12-A711-9DA315C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33A1-033A-4004-952C-14A75EBD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E2B4-718D-4A8E-AFA9-814D069E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8F6-2FAF-4B49-AD26-11501668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2AB-C6C9-47C4-BDE4-0D4D08F2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BB0-59EB-4A64-A9B4-4D6ECE4D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3FF-A988-4F87-B1E9-64314B73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E83-52DF-4A28-B100-99B13856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5AA-0E8B-4B6C-8042-162C091D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31A-5CFB-4A9D-9183-D05E2D0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B496-E57E-43FA-8D6E-1622AC23718F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292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77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3D31-7A16-4B03-A6AA-008296170357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ansa.ee/tudeng/images/id-kaart.gif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riik.ee/" TargetMode="External"/><Relationship Id="rId5" Type="http://schemas.openxmlformats.org/officeDocument/2006/relationships/hyperlink" Target="http://www.eesti.ee/" TargetMode="External"/><Relationship Id="rId6" Type="http://schemas.openxmlformats.org/officeDocument/2006/relationships/hyperlink" Target="http://www.riik.ee/arr/" TargetMode="External"/><Relationship Id="rId7" Type="http://schemas.openxmlformats.org/officeDocument/2006/relationships/hyperlink" Target="http://www.riik.ee/arr/" TargetMode="External"/><Relationship Id="rId8" Type="http://schemas.openxmlformats.org/officeDocument/2006/relationships/hyperlink" Target="http://www.riik.ee/arr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gus.pyya@mkm.e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7800" y="1233000"/>
            <a:ext cx="8416800" cy="24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Riigi infosüsteem –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poliitika kujundamise ja teaduslike uuringute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kulla-auk</a:t>
            </a:r>
            <a:r>
              <a:rPr b="0" lang="en-US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25920" y="3789360"/>
            <a:ext cx="15969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60" y="3789360"/>
            <a:ext cx="343080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360" y="333360"/>
            <a:ext cx="7407360" cy="276372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blic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5760" y="198900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5760" y="255744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44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opulation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368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ef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Health Insuranc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7360" y="793800"/>
            <a:ext cx="989280" cy="159048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Pens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surance Register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2880" y="765000"/>
            <a:ext cx="98928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Vehicle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68600" y="1628640"/>
            <a:ext cx="311400" cy="0"/>
          </a:xfrm>
          <a:prstGeom prst="line">
            <a:avLst/>
          </a:prstGeom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9960" y="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66"/>
                </a:solidFill>
                <a:latin typeface="Arial"/>
              </a:rPr>
              <a:t>Databases / information system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260028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2880" y="260028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3680" y="2600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9840" y="257184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2080" y="256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4280" y="2565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0840" y="234936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20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980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2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00640" y="3789360"/>
            <a:ext cx="31971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97560" y="4076640"/>
            <a:ext cx="70308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6360" y="5013360"/>
            <a:ext cx="70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0240" y="407664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monitor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54720" y="4508640"/>
            <a:ext cx="7034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HelpDes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9800" y="5661000"/>
            <a:ext cx="187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X-road certification cen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9160" y="623736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-road 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419800" y="3573000"/>
            <a:ext cx="0" cy="2087640"/>
          </a:xfrm>
          <a:prstGeom prst="line">
            <a:avLst/>
          </a:prstGeom>
          <a:ln cap="rnd" w="255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30840" y="3600360"/>
            <a:ext cx="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6960" y="3573360"/>
            <a:ext cx="0" cy="1440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64120" y="4437000"/>
            <a:ext cx="0" cy="576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34280" y="3573360"/>
            <a:ext cx="0" cy="935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00840" y="3573360"/>
            <a:ext cx="144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4120" y="321300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X-roa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55120" y="3789360"/>
            <a:ext cx="12477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2480" y="333360"/>
            <a:ext cx="2183040" cy="280656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16960" y="3933720"/>
            <a:ext cx="1092240" cy="2081160"/>
          </a:xfrm>
          <a:prstGeom prst="flowChartAlternateProcess">
            <a:avLst/>
          </a:prstGeom>
          <a:solidFill>
            <a:srgbClr val="e7f0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D – ca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7560" y="3546360"/>
            <a:ext cx="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18600" y="2384280"/>
            <a:ext cx="0" cy="873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2816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5760" y="256536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816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0" y="6273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50240" y="4149720"/>
            <a:ext cx="623880" cy="419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157560" y="32130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54636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9800" y="2960640"/>
            <a:ext cx="0" cy="297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20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27560" y="2924280"/>
            <a:ext cx="0" cy="3045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26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008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5764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" y="5589720"/>
            <a:ext cx="1092240" cy="496800"/>
          </a:xfrm>
          <a:prstGeom prst="flowChartAlternateProcess">
            <a:avLst/>
          </a:prstGeom>
          <a:solidFill>
            <a:srgbClr val="bdd8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K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Citizen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5920" y="5589720"/>
            <a:ext cx="1092240" cy="496800"/>
          </a:xfrm>
          <a:prstGeom prst="flowChartAlternateProcess">
            <a:avLst/>
          </a:prstGeom>
          <a:solidFill>
            <a:srgbClr val="d5ffd5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E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Enterpriser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8160" y="5589720"/>
            <a:ext cx="1090440" cy="496800"/>
          </a:xfrm>
          <a:prstGeom prst="flowChartAlternateProcess">
            <a:avLst/>
          </a:prstGeom>
          <a:solidFill>
            <a:srgbClr val="ffe8c5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680" y="3986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4076640"/>
            <a:ext cx="1949400" cy="216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4d4d4"/>
                </a:solidFill>
                <a:latin typeface="Arial"/>
              </a:rPr>
              <a:t>::    …   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280" y="354636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280" y="434664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0400" y="3546360"/>
            <a:ext cx="0" cy="1150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4286160"/>
            <a:ext cx="2336760" cy="223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institution – institution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1240" y="4510080"/>
            <a:ext cx="2727360" cy="217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          </a:t>
            </a: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county – county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680" y="4705200"/>
            <a:ext cx="327492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:: Governmental Portal – Your Estonia ::</a:t>
            </a:r>
            <a:br>
              <a:rPr sz="1000"/>
            </a:b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Institutional view of            Thematic view of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the state                           the sta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4"/>
              </a:rPr>
              <a:t>www.riik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5"/>
              </a:rPr>
              <a:t>www.eesti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6960" y="4365720"/>
            <a:ext cx="836640" cy="1646280"/>
          </a:xfrm>
          <a:prstGeom prst="can">
            <a:avLst>
              <a:gd name="adj" fmla="val 13856"/>
            </a:avLst>
          </a:prstGeom>
          <a:solidFill>
            <a:srgbClr val="e1ed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Databas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br>
              <a:rPr sz="14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7"/>
              </a:rPr>
              <a:t>www.riik.ee/ar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35760" y="3573360"/>
            <a:ext cx="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66000" y="4176720"/>
            <a:ext cx="0" cy="358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37600" y="3816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56520" y="730080"/>
            <a:ext cx="1025280" cy="1573560"/>
          </a:xfrm>
          <a:prstGeom prst="can">
            <a:avLst>
              <a:gd name="adj" fmla="val 13856"/>
            </a:avLst>
          </a:prstGeom>
          <a:solidFill>
            <a:srgbClr val="ff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ocument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82040" y="765000"/>
            <a:ext cx="990360" cy="159084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S of infrastructu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nterpris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94720" y="765000"/>
            <a:ext cx="98892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Bank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31" idx="0"/>
            <a:endCxn id="189" idx="2"/>
          </p:cNvCxnSpPr>
          <p:nvPr/>
        </p:nvCxnSpPr>
        <p:spPr>
          <a:xfrm flipV="1">
            <a:off x="5730480" y="236160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cxnSp>
        <p:nvCxnSpPr>
          <p:cNvPr id="190" name=""/>
          <p:cNvCxnSpPr>
            <a:stCxn id="130" idx="0"/>
            <a:endCxn id="124" idx="3"/>
          </p:cNvCxnSpPr>
          <p:nvPr/>
        </p:nvCxnSpPr>
        <p:spPr>
          <a:xfrm flipV="1">
            <a:off x="4277880" y="236772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5029200" y="765000"/>
            <a:ext cx="934920" cy="144180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62480" y="907920"/>
            <a:ext cx="935280" cy="144144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72480" y="2492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9200" y="4724280"/>
            <a:ext cx="109224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0" y="5445000"/>
            <a:ext cx="1092240" cy="641520"/>
          </a:xfrm>
          <a:prstGeom prst="flowChartAlternateProcess">
            <a:avLst/>
          </a:prstGeom>
          <a:solidFill>
            <a:srgbClr val="fefac6"/>
          </a:solidFill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L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on local Go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6560" y="400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56544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5320" y="436572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59200" y="47973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800" spc="-1" strike="noStrike">
                <a:solidFill>
                  <a:srgbClr val="003300"/>
                </a:solidFill>
                <a:latin typeface="Arial"/>
              </a:rPr>
              <a:t>Portals of Local Gov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Lahenduse suun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ed on küsimused mida me küsime, et kujundada poliitika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/ infosüsteemides on need andmed, mida on vaja küsimustele vastamiseks (ka era- ja kolmandas sektoris) 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 olevaid andmeid uuendatakse “loomuliku protsessi” käigu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välistada andmete väärkasutus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avastada ja tõendada väärkasutuse?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Järgnevad sammu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03440" y="1160280"/>
            <a:ext cx="841680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Lepime kokku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õistetes,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te registrite, milliseid andmeid, millises tähenduses ja millistes kombinatsioonides kasutatakse statistiliste analüüside lähteandmeten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rahvastiku ja ühiskondliku elu iseloomustavaid andmeid põhimõtteliselt ei koguta registritesse ega infosüsteemidesse ja on teada nende andmete kogumise vii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andmed loeme analüüsi kontekstis õigetek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Panustame täisregistripõhise rahvaloenduse ettevalmistamisse – (sellega on juba väga kiire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Viime infosüsteemide andmed vastavusse statistiliste analüüside tegemiseks tulenevate nõueteg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eme andmete kättesaadavuse oluliselt lihtsamaks (organisatsioonilises mõttes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Tänan mõtlemast!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br>
              <a:rPr sz="2400"/>
            </a:br>
            <a:r>
              <a:rPr b="0" lang="et-EE" sz="2000" spc="-1" strike="noStrike" u="sng">
                <a:solidFill>
                  <a:srgbClr val="a50021"/>
                </a:solidFill>
                <a:uFillTx/>
                <a:latin typeface="Trebuchet MS"/>
                <a:hlinkClick r:id="rId2"/>
              </a:rPr>
              <a:t>margus.pyya@mkm.ee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7640" y="245880"/>
            <a:ext cx="79470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66"/>
                </a:solidFill>
                <a:latin typeface="Trebuchet MS"/>
              </a:rPr>
              <a:t>INFOÜHISKOND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71440" y="1341360"/>
            <a:ext cx="9360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hoitakse, teisendatakse ja edastatakse teavet universaalsel digitaalsel kuju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kõigile ühiskonna liikmetele tagatud juurdepääs digitaalsel kujul teabele läbi andmeedastusvõrg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masinatele usaldatud rutiine vaimne töö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elukordalus ratsionaalne tuginedes eelnimetud eelduste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6402240"/>
            <a:ext cx="71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66"/>
                </a:solidFill>
                <a:latin typeface="Arial"/>
              </a:rPr>
              <a:t>Valdo Praust  „Infoühiskond ja selle teetähised” 1998 aastaraamat „Infotehnoloogia haldusjuhtimises”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Küsitluspõhine ja registripõhine loendus on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andmestiku mõttes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rineva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on probleem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7424280" y="3753000"/>
            <a:ext cx="12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Poliitik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5800" y="2060640"/>
            <a:ext cx="7956360" cy="2808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66"/>
                </a:solidFill>
                <a:latin typeface="Trebuchet MS"/>
              </a:rPr>
              <a:t>Süstee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440" y="256536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96280" y="252900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sik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6440" y="3033720"/>
            <a:ext cx="153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bjekt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66720" y="3645000"/>
            <a:ext cx="1981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tsused/ toiming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22720" y="224172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6160" y="3178080"/>
            <a:ext cx="169200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8160" y="3068640"/>
            <a:ext cx="1441440" cy="828720"/>
          </a:xfrm>
          <a:prstGeom prst="rightArrow">
            <a:avLst>
              <a:gd name="adj1" fmla="val 50000"/>
              <a:gd name="adj2" fmla="val 43484"/>
            </a:avLst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alüü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83440" y="2744640"/>
            <a:ext cx="167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Teaduslikud uuringu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8360" y="475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Kuidas tõlgendada mõistet informatsioon?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1: Andmed, mida vajatakse otsustamiseks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2: Vastus küsimusele, mida on küsitud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Üldised kaebuse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0360" y="954000"/>
            <a:ext cx="89978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gelikkust üheselt kirjeldavaid andmeid on raske saada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nimesed ei oska mõnikord vastata esitatud küsimustele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ii poliitikate kujundamiseks kui ka teadusuuringuteks vajalike andmete kasutamiseks on raske saada luba kui andmed on teise ametkonna haldusalas olevas andmekogus …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Erinevate andmekogude andmete kasutamine analüüside tegemiseks võib riivata isiku privaatsust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ida rohkem koondatakse erinevatest andmekogudest isiku kohaseid andmeid seda suurem on koondatud andmete ründeväärtu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Aastatega kogutud detailseid andmeid subjektide ja objektide kohta ei kasutata poliitikate kujundamise analüüside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SIKUANDMETE KAITSE SEADUS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§6. Isikuandmete töötlemise põhimõtted</a:t>
            </a: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8720" y="1268280"/>
            <a:ext cx="885672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Isikuandmete vastutav ja volitatud töötleja on kohustatud isikuandmete töötlemisel järgima järgmisi põhimõtteid: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1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seaduslikk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ausal ja seaduslikul tee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2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eesmärgikoha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üksnes määratletud ja õiguspäraste eesmärkide saavutamiseks ning isikuandmeid ei või töödelda viisil, mis ei ole andmetöötluse eesmärkide saavutamisega kooskõla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3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minimaal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vaid ulatuses, mis on vajalik määratletud eesmärkide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4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kasutuse piirami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muudel eesmärkidel kasutada üksnes andmesubjekti nõusolekul või selleks pädeva organi loa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5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andmete kvaliteedi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d peavad olema ajakohased, täielikud ning vajalikud antud andmetöötluse eesmärgi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6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turvali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te kaitseks tuleb rakendada turvameetmeid nende tahtmatu või volitamata muutmise, avalikuks tuleku või hävimise eest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7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individuaalse osal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andmesubjekti tuleb teavitada tema kohta kogutavatest andmetest, talle tuleb võimaldada juurdepääs tema kohta käivatele andmetele ja tal on õigus nõuda ebatäpsete või eksitavate andmete parandamist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esmärk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Registrites ja infosüsteemides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olev rahvastiku- ja ühiskondliku elu kirjeldav andmestik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võimaldab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kõike hõlmavaid statistilisi analüüse teh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siis kui vaj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7800" y="2599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meid aitab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20:40:40Z</dcterms:created>
  <dc:creator>Uuno Vallner</dc:creator>
  <dc:description/>
  <dc:language>en-US</dc:language>
  <cp:lastModifiedBy>Margus Püüa</cp:lastModifiedBy>
  <cp:lastPrinted>2000-04-24T10:51:52Z</cp:lastPrinted>
  <dcterms:modified xsi:type="dcterms:W3CDTF">2009-03-25T08:39:37Z</dcterms:modified>
  <cp:revision>158</cp:revision>
  <dc:subject/>
  <dc:title>Riigivõrgukeskus'99</dc:title>
</cp:coreProperties>
</file>