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7C1F0F-B7F6-4D4C-AA17-36CED5F99AA9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26806E-19BD-403B-ABA1-61956F3A5873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9B7-7C88-40FB-98DC-88BCDA5F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8D4-C2D5-4511-8FCF-DD6CC1C9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538-D9E0-442E-9323-3635BC82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947-5492-48AF-BB9B-7EE9F0C1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69C7-856C-46A6-9ECA-BC595C93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84D-7BFB-405B-8C81-37F63482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251E-FFA5-43DB-9645-CED1C8D0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5491-BDB5-415F-83CC-6D0C4B2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1C01-23C0-46A3-9C4E-6897C178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B2BA-2541-481A-B62F-49373BC8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A4F7-2484-4D3A-8D19-AD884432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36A-C0CE-44F3-9170-62EB5A30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790-AA3F-4B46-89A7-090D5C9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5E43-6524-46F0-BE17-1E22C46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D7B5-0F94-4708-9BE9-02ED2C2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85B7-D76D-4DE7-8825-5E7582E8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10D5-0D47-4E2D-96D3-91F31B73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795-6F27-4BE4-B493-02994C19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0BC-D4BF-47F5-AB03-80DA7FA3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D11-F405-40B8-92B9-7815474E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39D-76B1-4619-9460-20251970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A40-BCA4-4076-953A-42BFD3B4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936-7A6F-4732-8714-30DAE3C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3E1-65AF-41E5-9368-55E9BE0C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270D-207A-42FB-98FD-1246E4091818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6931-810D-4A59-AE1E-B497B1E5327D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ansa.ee/tudeng/images/id-kaart.gi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riik.ee/" TargetMode="External"/><Relationship Id="rId5" Type="http://schemas.openxmlformats.org/officeDocument/2006/relationships/hyperlink" Target="http://www.eesti.ee/" TargetMode="External"/><Relationship Id="rId6" Type="http://schemas.openxmlformats.org/officeDocument/2006/relationships/hyperlink" Target="http://www.riik.ee/arr/" TargetMode="External"/><Relationship Id="rId7" Type="http://schemas.openxmlformats.org/officeDocument/2006/relationships/hyperlink" Target="http://www.riik.ee/arr/" TargetMode="External"/><Relationship Id="rId8" Type="http://schemas.openxmlformats.org/officeDocument/2006/relationships/hyperlink" Target="http://www.riik.ee/arr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gus.pyya@mkm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7800" y="1233000"/>
            <a:ext cx="8416800" cy="24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Riigi infosüsteem –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poliitika kujundamise ja teaduslike uuringut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kulla-auk</a:t>
            </a: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25920" y="3789360"/>
            <a:ext cx="15969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60" y="3789360"/>
            <a:ext cx="343080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360" y="333360"/>
            <a:ext cx="7407360" cy="276372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198900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255744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44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opulation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368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e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Health Insuranc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793800"/>
            <a:ext cx="989280" cy="159048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Pens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surance Registe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765000"/>
            <a:ext cx="98928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Vehicle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68600" y="1628640"/>
            <a:ext cx="311400" cy="0"/>
          </a:xfrm>
          <a:prstGeom prst="line">
            <a:avLst/>
          </a:prstGeom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66"/>
                </a:solidFill>
                <a:latin typeface="Arial"/>
              </a:rPr>
              <a:t>Databases / information syste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260028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2880" y="260028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2600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9840" y="257184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080" y="256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4280" y="2565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234936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20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980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2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3789360"/>
            <a:ext cx="31971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97560" y="4076640"/>
            <a:ext cx="70308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6360" y="5013360"/>
            <a:ext cx="70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0240" y="407664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54720" y="4508640"/>
            <a:ext cx="7034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HelpDes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9800" y="5661000"/>
            <a:ext cx="187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X-road certification cen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623736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-road 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19800" y="3573000"/>
            <a:ext cx="0" cy="2087640"/>
          </a:xfrm>
          <a:prstGeom prst="line">
            <a:avLst/>
          </a:prstGeom>
          <a:ln cap="rnd" w="255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0840" y="3600360"/>
            <a:ext cx="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573360"/>
            <a:ext cx="0" cy="1440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437000"/>
            <a:ext cx="0" cy="57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4280" y="3573360"/>
            <a:ext cx="0" cy="935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0840" y="3573360"/>
            <a:ext cx="144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4120" y="3213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X-r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55120" y="3789360"/>
            <a:ext cx="12477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2480" y="333360"/>
            <a:ext cx="2183040" cy="280656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6960" y="3933720"/>
            <a:ext cx="1092240" cy="2081160"/>
          </a:xfrm>
          <a:prstGeom prst="flowChartAlternateProcess">
            <a:avLst/>
          </a:prstGeom>
          <a:solidFill>
            <a:srgbClr val="e7f0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D – c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7560" y="3546360"/>
            <a:ext cx="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18600" y="2384280"/>
            <a:ext cx="0" cy="873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816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5760" y="256536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816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0" y="627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50240" y="4149720"/>
            <a:ext cx="623880" cy="41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57560" y="32130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54636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9800" y="2960640"/>
            <a:ext cx="0" cy="297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20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2924280"/>
            <a:ext cx="0" cy="3045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26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008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5589720"/>
            <a:ext cx="1092240" cy="496800"/>
          </a:xfrm>
          <a:prstGeom prst="flowChartAlternateProcess">
            <a:avLst/>
          </a:prstGeom>
          <a:solidFill>
            <a:srgbClr val="bdd8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K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Citizen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5920" y="5589720"/>
            <a:ext cx="1092240" cy="496800"/>
          </a:xfrm>
          <a:prstGeom prst="flowChartAlternateProcess">
            <a:avLst/>
          </a:prstGeom>
          <a:solidFill>
            <a:srgbClr val="d5ffd5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E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Enterpriser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8160" y="5589720"/>
            <a:ext cx="1090440" cy="496800"/>
          </a:xfrm>
          <a:prstGeom prst="flowChartAlternateProcess">
            <a:avLst/>
          </a:prstGeom>
          <a:solidFill>
            <a:srgbClr val="ffe8c5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680" y="3986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4076640"/>
            <a:ext cx="1949400" cy="216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4d4d4"/>
                </a:solidFill>
                <a:latin typeface="Arial"/>
              </a:rPr>
              <a:t>::    …   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4636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434664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3546360"/>
            <a:ext cx="0" cy="1150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4286160"/>
            <a:ext cx="2336760" cy="223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institution – institution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240" y="4510080"/>
            <a:ext cx="2727360" cy="217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          </a:t>
            </a: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county – county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4705200"/>
            <a:ext cx="327492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:: Governmental Portal – Your Estonia ::</a:t>
            </a:r>
            <a:br>
              <a:rPr sz="1000"/>
            </a:b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Institutional view of            Thematic view of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the state                           the sta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www.riik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eesti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6960" y="4365720"/>
            <a:ext cx="836640" cy="1646280"/>
          </a:xfrm>
          <a:prstGeom prst="can">
            <a:avLst>
              <a:gd name="adj" fmla="val 13856"/>
            </a:avLst>
          </a:prstGeom>
          <a:solidFill>
            <a:srgbClr val="e1ed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Datab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br>
              <a:rPr sz="14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7"/>
              </a:rPr>
              <a:t>www.riik.ee/ar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5760" y="3573360"/>
            <a:ext cx="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6000" y="4176720"/>
            <a:ext cx="0" cy="358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7600" y="3816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56520" y="730080"/>
            <a:ext cx="1025280" cy="1573560"/>
          </a:xfrm>
          <a:prstGeom prst="can">
            <a:avLst>
              <a:gd name="adj" fmla="val 13856"/>
            </a:avLst>
          </a:prstGeom>
          <a:solidFill>
            <a:srgbClr val="ff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040" y="765000"/>
            <a:ext cx="990360" cy="159084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S of infrastructu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nterpris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94720" y="765000"/>
            <a:ext cx="98892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Bank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31" idx="0"/>
            <a:endCxn id="189" idx="2"/>
          </p:cNvCxnSpPr>
          <p:nvPr/>
        </p:nvCxnSpPr>
        <p:spPr>
          <a:xfrm flipV="1">
            <a:off x="5730480" y="236160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cxnSp>
        <p:nvCxnSpPr>
          <p:cNvPr id="190" name=""/>
          <p:cNvCxnSpPr>
            <a:stCxn id="130" idx="0"/>
            <a:endCxn id="124" idx="3"/>
          </p:cNvCxnSpPr>
          <p:nvPr/>
        </p:nvCxnSpPr>
        <p:spPr>
          <a:xfrm flipV="1">
            <a:off x="4277880" y="236772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29200" y="765000"/>
            <a:ext cx="934920" cy="144180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2480" y="907920"/>
            <a:ext cx="935280" cy="144144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72480" y="2492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9200" y="4724280"/>
            <a:ext cx="109224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0" y="5445000"/>
            <a:ext cx="1092240" cy="641520"/>
          </a:xfrm>
          <a:prstGeom prst="flowChartAlternateProcess">
            <a:avLst/>
          </a:prstGeom>
          <a:solidFill>
            <a:srgbClr val="fefac6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L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on local Go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6560" y="400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56544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5320" y="436572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0" y="47973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800" spc="-1" strike="noStrike">
                <a:solidFill>
                  <a:srgbClr val="003300"/>
                </a:solidFill>
                <a:latin typeface="Arial"/>
              </a:rPr>
              <a:t>Portals of Local Gov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Lahenduse suun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ed on küsimused mida me küsime, et kujundada poliitika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/ infosüsteemides on need andmed, mida on vaja küsimustele vastamiseks (ka era- ja kolmandas sektoris) 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 olevaid andmeid uuendatakse “loomuliku protsessi” käigu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välistada andmete väärkasutus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avastada ja tõendada väärkasutuse?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Järgnevad sammu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03440" y="1160280"/>
            <a:ext cx="84168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Lepime kokku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õistetes,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te registrite, milliseid andmeid, millises tähenduses ja millistes kombinatsioonides kasutatakse statistiliste analüüside lähteandmeten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rahvastiku ja ühiskondliku elu iseloomustavaid andmeid põhimõtteliselt ei koguta registritesse ega infosüsteemidesse ja on teada nende andmete kogumise vii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andmed loeme analüüsi kontekstis õigetek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Panustame täisregistripõhise rahvaloenduse ettevalmistamisse – (sellega on juba väga kiire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Viime infosüsteemide andmed vastavusse statistiliste analüüside tegemiseks tulenevate nõueteg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eme andmete kättesaadavuse oluliselt lihtsamaks (organisatsioonilises mõttes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Tänan mõtlemast!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br>
              <a:rPr sz="2400"/>
            </a:br>
            <a:r>
              <a:rPr b="0" lang="et-EE" sz="2000" spc="-1" strike="noStrike" u="sng">
                <a:solidFill>
                  <a:srgbClr val="a50021"/>
                </a:solidFill>
                <a:uFillTx/>
                <a:latin typeface="Trebuchet MS"/>
                <a:hlinkClick r:id="rId2"/>
              </a:rPr>
              <a:t>margus.pyya@mkm.e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7640" y="245880"/>
            <a:ext cx="79470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66"/>
                </a:solidFill>
                <a:latin typeface="Trebuchet MS"/>
              </a:rPr>
              <a:t>INFOÜHISKOND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341360"/>
            <a:ext cx="9360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hoitakse, teisendatakse ja edastatakse teavet universaalsel digitaalsel kuj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kõigile ühiskonna liikmetele tagatud juurdepääs digitaalsel kujul teabele läbi andmeedastusvõrg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masinatele usaldatud rutiine vaimne töö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elukordalus ratsionaalne tuginedes eelnimetud eelduste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640224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66"/>
                </a:solidFill>
                <a:latin typeface="Arial"/>
              </a:rPr>
              <a:t>Valdo Praust  „Infoühiskond ja selle teetähised” 1998 aastaraamat „Infotehnoloogia haldusjuhtimises”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Küsitluspõhine ja registripõhine loendus on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andmestiku mõttes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rineva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on probleem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424280" y="3753000"/>
            <a:ext cx="12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Poliitik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5800" y="2060640"/>
            <a:ext cx="7956360" cy="2808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66"/>
                </a:solidFill>
                <a:latin typeface="Trebuchet MS"/>
              </a:rPr>
              <a:t>Süstee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256536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6280" y="252900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sik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6440" y="3033720"/>
            <a:ext cx="15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bjekt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6720" y="3645000"/>
            <a:ext cx="1981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tsused/ toiming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224172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6160" y="3178080"/>
            <a:ext cx="169200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8160" y="3068640"/>
            <a:ext cx="1441440" cy="828720"/>
          </a:xfrm>
          <a:prstGeom prst="rightArrow">
            <a:avLst>
              <a:gd name="adj1" fmla="val 50000"/>
              <a:gd name="adj2" fmla="val 43484"/>
            </a:avLst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alüü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83440" y="2744640"/>
            <a:ext cx="167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Teaduslikud uuringu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360" y="475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Kuidas tõlgendada mõistet informatsioon?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1: Andmed, mida vajatakse otsustamiseks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2: Vastus küsimusele, mida on küsitud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Üldised kaebuse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954000"/>
            <a:ext cx="89978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gelikkust üheselt kirjeldavaid andmeid on raske saada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nimesed ei oska mõnikord vastata esitatud küsimustele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ii poliitikate kujundamiseks kui ka teadusuuringuteks vajalike andmete kasutamiseks on raske saada luba kui andmed on teise ametkonna haldusalas olevas andmekogus …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Erinevate andmekogude andmete kasutamine analüüside tegemiseks võib riivata isiku privaatsust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ida rohkem koondatakse erinevatest andmekogudest isiku kohaseid andmeid seda suurem on koondatud andmete ründeväärtu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Aastatega kogutud detailseid andmeid subjektide ja objektide kohta ei kasutata poliitikate kujundamise analüüside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SIKUANDMETE KAITSE SEADU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§6. Isikuandmete töötlemise põhimõtted</a:t>
            </a: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268280"/>
            <a:ext cx="885672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Isikuandmete vastutav ja volitatud töötleja on kohustatud isikuandmete töötlemisel järgima järgmisi põhimõttei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1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aduslikk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ausal ja seaduslikul tee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eesmärgikoha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üksnes määratletud ja õiguspäraste eesmärkide saavutamiseks ning isikuandmeid ei või töödelda viisil, mis ei ole andmetöötluse eesmärkide saavutamisega kooskõla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minimaal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vaid ulatuses, mis on vajalik määratletud eesmärkide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kasutuse piirami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muudel eesmärkidel kasutada üksnes andmesubjekti nõusolekul või selleks pädeva organi loa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5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andmete kvaliteedi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d peavad olema ajakohased, täielikud ning vajalikud antud andmetöötluse eesmärgi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6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urvali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te kaitseks tuleb rakendada turvameetmeid nende tahtmatu või volitamata muutmise, avalikuks tuleku või hävimise eest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7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individuaalse osal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andmesubjekti tuleb teavitada tema kohta kogutavatest andmetest, talle tuleb võimaldada juurdepääs tema kohta käivatele andmetele ja tal on õigus nõuda ebatäpsete või eksitavate andmete parandamist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esmärk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Registrites ja infosüsteemides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olev rahvastiku- ja ühiskondliku elu kirjeldav andmestik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võimaldab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kõike hõlmavaid statistilisi analüüse teh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siis kui vaj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7800" y="2599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meid aitab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20:40:40Z</dcterms:created>
  <dc:creator>Uuno Vallner</dc:creator>
  <dc:description/>
  <dc:language>en-US</dc:language>
  <cp:lastModifiedBy>Margus Püüa</cp:lastModifiedBy>
  <cp:lastPrinted>2000-04-24T10:51:52Z</cp:lastPrinted>
  <dcterms:modified xsi:type="dcterms:W3CDTF">2009-03-25T08:39:37Z</dcterms:modified>
  <cp:revision>158</cp:revision>
  <dc:subject/>
  <dc:title>Riigivõrgukeskus'99</dc:title>
</cp:coreProperties>
</file>