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DB31-3DF8-4D1E-9B3C-15EBEF96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1341-5BB0-4746-8049-FE0F4F75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AEB5-F455-40E5-A6ED-F306A22A4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A88C-BBFB-458F-B848-4F25C2E5F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809C-8326-4179-9A77-1F340D61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96ED-2D00-4B86-9A81-35396A8B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13E5-DF81-4AE4-84A2-5D4C9BA4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25DA-8F24-4846-8C80-A7B1B6A4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DB6A-74F9-4377-903C-E44C4FB9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FFBB-A25B-4381-9685-A72C2E0A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D380-D7B9-4FC5-82C2-7E77D31B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A784-EC82-4230-A29B-82C3BA3B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5415-64F7-426C-83FD-54782BF441D5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Powerpoint_ülemine_serv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8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Eesti Hariduse Infosüstee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EHI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us Kä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Riiklik Eksami- ja Kvalifikatsioonikesk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Andmekogude osak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Osakonna juhataja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Täna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üsimu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aidinumbri kohatäid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818E-641A-4A8C-BD7C-C4ABE136785E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98900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Ajalooline tau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306864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Andmeid ei ole võimalik kokku pa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lassifikaato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Dubleeriv andmeedas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Alustas tööd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Iga algus on ras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aidinumbri kohatäid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B77C-1519-4CE9-A647-C55DAD005430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98900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Veebipõhine infosüste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000" y="2707920"/>
            <a:ext cx="835164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Põhimääruse alu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ndmed hariduse kohta ühes infosüsteemis algallik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Isikupõhised and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Vastutav töötleja: Haridus- ja Teadusministee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Volitatud töötleja: Riiklik Eksami- ja Kvalifikatsioonikesk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Üle 20 erineva infosüste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isseostetud majutus- ja arenduste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aidinumbri kohatäid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50C0-21B0-4026-8D8A-6C2C39360355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98900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Avalik ja kaitstud informatsi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isenemine ainult ID-kaarid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a 2000 asutust ja 5000 kasutaj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ndmed algdokumentide alu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ndmete kinnitamine õppeasutuste poo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ndmed perioodiliselt ja fikseeritud aegadel õi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ndmed Oracle Discovereri abi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asutamine: kool, omavalitsus, maakond, ministee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ndmed rahastamiseks, analüüsiks, järelvalveks planeerimise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aidinumbri kohatäid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1CEA-D662-4622-95CC-E20D2B4B4C5A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844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Andm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280" y="3284640"/>
            <a:ext cx="403884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Alusharidus (200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Üldharidus (2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utseharidus (19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õrgharidus (19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Huviharidus (200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2349000"/>
            <a:ext cx="40384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Õppu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Pedagoog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Õppeasut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Õppekavad ja koolitus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Lõpudokumen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Alaealiste komisj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Nõustamiskomisj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aidinumbri kohatä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D511-7F42-4F1E-B462-9D22405BC7F4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4"/>
          <p:cNvSpPr/>
          <p:nvPr/>
        </p:nvSpPr>
        <p:spPr>
          <a:xfrm>
            <a:off x="3132000" y="1844640"/>
            <a:ext cx="3024360" cy="115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635280" y="2133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6"/>
          <p:cNvSpPr/>
          <p:nvPr/>
        </p:nvSpPr>
        <p:spPr>
          <a:xfrm>
            <a:off x="395280" y="1844640"/>
            <a:ext cx="165744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468360" y="1989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Õppeasu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8"/>
          <p:cNvSpPr/>
          <p:nvPr/>
        </p:nvSpPr>
        <p:spPr>
          <a:xfrm>
            <a:off x="6084720" y="5302080"/>
            <a:ext cx="201636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516720" y="53737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Õpil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1"/>
          <p:cNvSpPr/>
          <p:nvPr/>
        </p:nvSpPr>
        <p:spPr>
          <a:xfrm>
            <a:off x="6443640" y="2492280"/>
            <a:ext cx="252108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3"/>
          <p:cNvSpPr/>
          <p:nvPr/>
        </p:nvSpPr>
        <p:spPr>
          <a:xfrm>
            <a:off x="395280" y="2781360"/>
            <a:ext cx="2449440" cy="71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4"/>
          <p:cNvSpPr/>
          <p:nvPr/>
        </p:nvSpPr>
        <p:spPr>
          <a:xfrm>
            <a:off x="826920" y="5300640"/>
            <a:ext cx="453708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6592320" y="2637000"/>
            <a:ext cx="22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Haridusministee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2486880" y="54450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artn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7" descr="BD18185_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476360" y="3500280"/>
            <a:ext cx="5904000" cy="1081080"/>
          </a:xfrm>
          <a:prstGeom prst="rect">
            <a:avLst/>
          </a:prstGeom>
          <a:ln w="0">
            <a:noFill/>
          </a:ln>
        </p:spPr>
      </p:pic>
      <p:sp>
        <p:nvSpPr>
          <p:cNvPr id="70" name="Line 18"/>
          <p:cNvSpPr/>
          <p:nvPr/>
        </p:nvSpPr>
        <p:spPr>
          <a:xfrm>
            <a:off x="3132000" y="4437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9"/>
          <p:cNvSpPr/>
          <p:nvPr/>
        </p:nvSpPr>
        <p:spPr>
          <a:xfrm>
            <a:off x="6012000" y="4365720"/>
            <a:ext cx="100944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0"/>
          <p:cNvSpPr/>
          <p:nvPr/>
        </p:nvSpPr>
        <p:spPr>
          <a:xfrm>
            <a:off x="2414520" y="3716280"/>
            <a:ext cx="34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800" spc="-1" strike="noStrike">
                <a:solidFill>
                  <a:srgbClr val="000000"/>
                </a:solidFill>
                <a:latin typeface="Arial"/>
              </a:rPr>
              <a:t>Andmete vahetus X – tee kaudu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1"/>
          <p:cNvSpPr/>
          <p:nvPr/>
        </p:nvSpPr>
        <p:spPr>
          <a:xfrm>
            <a:off x="4500720" y="3068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2"/>
          <p:cNvSpPr/>
          <p:nvPr/>
        </p:nvSpPr>
        <p:spPr>
          <a:xfrm>
            <a:off x="1979640" y="2060640"/>
            <a:ext cx="1295280" cy="7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3"/>
          <p:cNvSpPr/>
          <p:nvPr/>
        </p:nvSpPr>
        <p:spPr>
          <a:xfrm>
            <a:off x="6012000" y="2205000"/>
            <a:ext cx="1079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4"/>
          <p:cNvSpPr/>
          <p:nvPr/>
        </p:nvSpPr>
        <p:spPr>
          <a:xfrm>
            <a:off x="543600" y="2924280"/>
            <a:ext cx="21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ohalik omavalit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5"/>
          <p:cNvSpPr/>
          <p:nvPr/>
        </p:nvSpPr>
        <p:spPr>
          <a:xfrm flipH="1">
            <a:off x="2556000" y="2492280"/>
            <a:ext cx="57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aidinumbri kohatä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F36B-46A1-4ED7-B9B2-15F84C75B7D0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4"/>
          <p:cNvSpPr/>
          <p:nvPr/>
        </p:nvSpPr>
        <p:spPr>
          <a:xfrm>
            <a:off x="2987640" y="1844640"/>
            <a:ext cx="3024360" cy="93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564000" y="1989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6"/>
          <p:cNvSpPr/>
          <p:nvPr/>
        </p:nvSpPr>
        <p:spPr>
          <a:xfrm>
            <a:off x="2627280" y="5373720"/>
            <a:ext cx="2666880" cy="86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4427640" y="4724280"/>
            <a:ext cx="453708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6518520" y="393228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Haigekas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4"/>
          <p:cNvSpPr/>
          <p:nvPr/>
        </p:nvSpPr>
        <p:spPr>
          <a:xfrm>
            <a:off x="4643280" y="2781360"/>
            <a:ext cx="151308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6"/>
          <p:cNvSpPr/>
          <p:nvPr/>
        </p:nvSpPr>
        <p:spPr>
          <a:xfrm>
            <a:off x="4284720" y="2781360"/>
            <a:ext cx="100800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7"/>
          <p:cNvSpPr/>
          <p:nvPr/>
        </p:nvSpPr>
        <p:spPr>
          <a:xfrm flipH="1">
            <a:off x="3995280" y="2781360"/>
            <a:ext cx="71640" cy="259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8"/>
          <p:cNvSpPr/>
          <p:nvPr/>
        </p:nvSpPr>
        <p:spPr>
          <a:xfrm>
            <a:off x="6012000" y="2349360"/>
            <a:ext cx="108108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472320" y="3789360"/>
            <a:ext cx="25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otsiaalkindlustusam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974520" y="263700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ang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1"/>
          <p:cNvSpPr/>
          <p:nvPr/>
        </p:nvSpPr>
        <p:spPr>
          <a:xfrm>
            <a:off x="542880" y="479736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aitseressursside A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2"/>
          <p:cNvSpPr/>
          <p:nvPr/>
        </p:nvSpPr>
        <p:spPr>
          <a:xfrm>
            <a:off x="5801400" y="2852640"/>
            <a:ext cx="27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Riigieksamite andmeba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2846880" y="558972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Rahvastiku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4"/>
          <p:cNvSpPr/>
          <p:nvPr/>
        </p:nvSpPr>
        <p:spPr>
          <a:xfrm>
            <a:off x="4646520" y="4869000"/>
            <a:ext cx="36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isseastumise infosüstee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A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25"/>
          <p:cNvSpPr/>
          <p:nvPr/>
        </p:nvSpPr>
        <p:spPr>
          <a:xfrm>
            <a:off x="5219640" y="2708280"/>
            <a:ext cx="38163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6"/>
          <p:cNvSpPr/>
          <p:nvPr/>
        </p:nvSpPr>
        <p:spPr>
          <a:xfrm>
            <a:off x="5435640" y="3789360"/>
            <a:ext cx="352908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7"/>
          <p:cNvSpPr/>
          <p:nvPr/>
        </p:nvSpPr>
        <p:spPr>
          <a:xfrm>
            <a:off x="179280" y="3645000"/>
            <a:ext cx="3240360" cy="79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8"/>
          <p:cNvSpPr/>
          <p:nvPr/>
        </p:nvSpPr>
        <p:spPr>
          <a:xfrm>
            <a:off x="324000" y="2492280"/>
            <a:ext cx="2376360" cy="64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9"/>
          <p:cNvSpPr/>
          <p:nvPr/>
        </p:nvSpPr>
        <p:spPr>
          <a:xfrm>
            <a:off x="250920" y="4581360"/>
            <a:ext cx="316872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0"/>
          <p:cNvSpPr/>
          <p:nvPr/>
        </p:nvSpPr>
        <p:spPr>
          <a:xfrm flipH="1">
            <a:off x="1618920" y="2205000"/>
            <a:ext cx="1368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1"/>
          <p:cNvSpPr/>
          <p:nvPr/>
        </p:nvSpPr>
        <p:spPr>
          <a:xfrm flipH="1">
            <a:off x="1979640" y="2637000"/>
            <a:ext cx="15127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2"/>
          <p:cNvSpPr/>
          <p:nvPr/>
        </p:nvSpPr>
        <p:spPr>
          <a:xfrm flipH="1">
            <a:off x="3276360" y="2708280"/>
            <a:ext cx="64764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aidinumbri kohatäid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87BF-69D6-44EE-B5E1-9E4B3E91932C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1916280"/>
            <a:ext cx="82915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Andmekogude osako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rendusprotsessis osale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arkvaraarenduste testi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asutajate hald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asutajate koolitam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asutajate nõustamine e-maili ja telefoni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eabenõuetele vast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ndmete kvaliteedi kontroll ja tag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öötajate ar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aidinumbri kohatäid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6302-5FC3-47A5-A09F-FCD243F59CDF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51199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10:46:13Z</dcterms:created>
  <dc:creator>margus.karner</dc:creator>
  <dc:description/>
  <dc:language>en-US</dc:language>
  <cp:lastModifiedBy>marek</cp:lastModifiedBy>
  <dcterms:modified xsi:type="dcterms:W3CDTF">2009-03-31T09:14:02Z</dcterms:modified>
  <cp:revision>30</cp:revision>
  <dc:subject/>
  <dc:title>EstonianEducation Informatsion System</dc:title>
</cp:coreProperties>
</file>