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932-C626-478C-8B5D-AD586A6E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3F1-C857-4FD0-A54C-8D8EF7C7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E59-EDFC-4AAC-B875-B4981AFB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305-D783-4236-913D-CFD0FA6D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605-58E5-4EBC-8E1D-AC383376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BD9-9996-41BE-9AA9-87F0925F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B3C-654E-4347-BC8F-8D53774E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947-FD16-4446-9E6D-86BAC8B3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AD5-8909-434D-90C9-1ED097EF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668-1701-4EEF-A077-5BAF6F18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813-5287-4AB9-BD12-C10BB691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553-0D03-453E-8CF2-8255C48E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4735-99CC-4ECB-9CB8-08062A350EDD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owerpoint_ülemine_serv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8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esti Hariduse Infosüste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H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us Kä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Eksami- ja Kvalifikatsioonikes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sakonna juhataja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än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üsim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BF92-396C-400D-A29F-01E7683C0CF8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jalooline ta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dmeid ei ole võimalik kokku p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lassifikaato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ubleeriv andmeeda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tas tööd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ga algus on ra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6474-A5DD-4D0E-A1A5-03A71FE5D0FC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Veebipõhine infosüst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2707920"/>
            <a:ext cx="83516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õhimäärus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hariduse kohta ühes infosüsteemis algallik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ikupõhised and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stutav töötleja: Haridus- ja Teadus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olitatud töötleja: Riiklik Eksami- ja Kvalifikatsiooni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Üle 20 erineva infosüste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seostetud majutus- ja arenduste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C04F-5C12-4D0B-A265-BFC41D6EF3E8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valik ja kaitstud informatsi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enemine ainult ID-kaarid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a 2000 asutust ja 5000 kasut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algdokumentid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innitamine õppeasutuste po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perioodiliselt ja fikseeritud aegadel õi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Oracle Discovereri ab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mine: kool, omavalitsus, maakond, 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rahastamiseks, analüüsiks, järelvalveks planeerimis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aidinumbri kohatäid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E29B-F218-462C-BEA9-607C290F0CA1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3284640"/>
            <a:ext cx="40388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Üldharidus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utse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õrg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Huvi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u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edagoo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asut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kavad ja koolitus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õpudokumen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aealiste 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õustamis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F99D-44AE-4817-A18B-4D53B895968C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132000" y="1844640"/>
            <a:ext cx="302436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635280" y="21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5280" y="1844640"/>
            <a:ext cx="165744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6836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Õppeas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6084720" y="5302080"/>
            <a:ext cx="2016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516720" y="5373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Õpil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6443640" y="2492280"/>
            <a:ext cx="2521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395280" y="2781360"/>
            <a:ext cx="244944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4"/>
          <p:cNvSpPr/>
          <p:nvPr/>
        </p:nvSpPr>
        <p:spPr>
          <a:xfrm>
            <a:off x="826920" y="530064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592320" y="263700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ridusministe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486880" y="5445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rtn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BD18185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76360" y="3500280"/>
            <a:ext cx="5904000" cy="1081080"/>
          </a:xfrm>
          <a:prstGeom prst="rect">
            <a:avLst/>
          </a:prstGeom>
          <a:ln w="0">
            <a:noFill/>
          </a:ln>
        </p:spPr>
      </p:pic>
      <p:sp>
        <p:nvSpPr>
          <p:cNvPr id="70" name="Line 18"/>
          <p:cNvSpPr/>
          <p:nvPr/>
        </p:nvSpPr>
        <p:spPr>
          <a:xfrm>
            <a:off x="313200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6012000" y="4365720"/>
            <a:ext cx="10094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414520" y="371628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Andmete vahetus X – tee kaud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4500720" y="306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1979640" y="2060640"/>
            <a:ext cx="129528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6012000" y="2205000"/>
            <a:ext cx="107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43600" y="29242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halik omavalit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5"/>
          <p:cNvSpPr/>
          <p:nvPr/>
        </p:nvSpPr>
        <p:spPr>
          <a:xfrm flipH="1">
            <a:off x="2556000" y="249228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6BBA-3786-4199-BA91-3C9CFB316150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987640" y="1844640"/>
            <a:ext cx="30243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64000" y="198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2627280" y="5373720"/>
            <a:ext cx="266688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4427640" y="472428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518520" y="39322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igek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4643280" y="2781360"/>
            <a:ext cx="1513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4284720" y="2781360"/>
            <a:ext cx="1008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 flipH="1">
            <a:off x="3995280" y="2781360"/>
            <a:ext cx="7164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6012000" y="2349360"/>
            <a:ext cx="108108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72320" y="378936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otsiaalkindlustusa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974520" y="2637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ng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542880" y="4797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aitseressursside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5801400" y="285264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gieksamite andmeba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2846880" y="55897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ahvastiku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4646520" y="486900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isseastumise infosüste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5219640" y="2708280"/>
            <a:ext cx="3816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435640" y="3789360"/>
            <a:ext cx="3529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179280" y="3645000"/>
            <a:ext cx="32403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324000" y="2492280"/>
            <a:ext cx="23763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250920" y="4581360"/>
            <a:ext cx="316872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 flipH="1">
            <a:off x="1618920" y="2205000"/>
            <a:ext cx="136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1979640" y="2637000"/>
            <a:ext cx="1512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 flipH="1">
            <a:off x="3276360" y="2708280"/>
            <a:ext cx="647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1646-6B48-425C-B0E2-04D916A76526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915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rendusprotsessis osale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kvaraarenduste testi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hald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koolitam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nõustamine e-maili ja telefon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abenõuetele vas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valiteedi kontroll ja tag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öötajate a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7231-45E8-46EB-9D50-35282F9A5278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119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46:13Z</dcterms:created>
  <dc:creator>margus.karner</dc:creator>
  <dc:description/>
  <dc:language>en-US</dc:language>
  <cp:lastModifiedBy>marek</cp:lastModifiedBy>
  <dcterms:modified xsi:type="dcterms:W3CDTF">2009-03-31T09:14:02Z</dcterms:modified>
  <cp:revision>30</cp:revision>
  <dc:subject/>
  <dc:title>EstonianEducation Informatsion System</dc:title>
</cp:coreProperties>
</file>