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93B-5753-4E5E-96FE-F555B85C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75A9-7BC6-478B-8504-CBA97B1C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7726-281A-4693-BFCD-FD0880A8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D49-6413-413E-877D-2027929B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FEE-38C9-46E8-8B2F-6DC23EB85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F518-C446-4F2D-8907-FBEF5B07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4B5-570E-44BF-A191-DEDBC31C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6CB0-FAB9-4227-9AFC-78C07F98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B339-CC23-4305-8C7B-ADB915BA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F4E9-F57C-43BC-A689-35925E69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6D7-9851-44C9-9B99-DE53C818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A23-A502-423C-8687-39029E43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BA31-6187-4B72-A216-20932A45D707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owerpoint_ülemine_serv"/>
          <p:cNvPicPr/>
          <p:nvPr/>
        </p:nvPicPr>
        <p:blipFill>
          <a:blip r:embed="rId2"/>
          <a:stretch/>
        </p:blipFill>
        <p:spPr>
          <a:xfrm>
            <a:off x="-1440" y="0"/>
            <a:ext cx="9145440" cy="18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Eesti Hariduse Infosüstee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EHI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us Kä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klik Eksami- ja Kvalifikatsioonikesk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Andmekogude osak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Osakonna juhataja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00"/>
                </a:solidFill>
                <a:latin typeface="Arial"/>
              </a:rPr>
              <a:t>Täna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üsim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C211-70E1-4677-A823-17AB0169E33E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jalooline tau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ndmeid ei ole võimalik kokku pan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lassifikaato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Dubleeriv andmeedas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ustas tööd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Iga algus on ras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E1AA-CABC-462F-9B3C-64C63E38DC4C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Veebipõhine infosüste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2707920"/>
            <a:ext cx="835164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Põhimääruse al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hariduse kohta ühes infosüsteemis algallik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Isikupõhised and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astutav töötleja: Haridus- ja Teadusministee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Volitatud töötleja: Riiklik Eksami- ja Kvalifikatsioonikes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Üle 20 erineva infosüste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isseostetud majutus- ja arendustee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74CD-FA14-477A-B06C-42FD5A358CDC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98900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valik ja kaitstud informatsi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85228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Sisenemine ainult ID-kaarid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Ca 2000 asutust ja 5000 kasutaj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algdokumentide alu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te kinnitamine õppeasutuste poo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perioodiliselt ja fikseeritud aegadel õi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Oracle Discovereri ab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mine: kool, omavalitsus, maakond, ministee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d rahastamiseks, analüüsiks, järelvalveks planeerimise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aidinumbri kohatäid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DF85-2F27-4C6A-9619-DBFCBA80B984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44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ndme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3284640"/>
            <a:ext cx="403884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usharidus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Üldharidus (2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utseharidus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õrgharidus (19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Huviharidus (200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2349000"/>
            <a:ext cx="40384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u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Pedagoog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easut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Õppekavad ja koolitus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Lõpudokumen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Alaealiste komis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Nõustamiskomisj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aidinumbri kohatä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0310-480B-436F-84B5-4BB9201C6CFB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132000" y="1844640"/>
            <a:ext cx="3024360" cy="115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3635280" y="2133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395280" y="1844640"/>
            <a:ext cx="165744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468360" y="1989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Õppeasu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6084720" y="5302080"/>
            <a:ext cx="2016360" cy="576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6516720" y="5373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Õpil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1"/>
          <p:cNvSpPr/>
          <p:nvPr/>
        </p:nvSpPr>
        <p:spPr>
          <a:xfrm>
            <a:off x="6443640" y="2492280"/>
            <a:ext cx="2521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3"/>
          <p:cNvSpPr/>
          <p:nvPr/>
        </p:nvSpPr>
        <p:spPr>
          <a:xfrm>
            <a:off x="395280" y="2781360"/>
            <a:ext cx="2449440" cy="718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4"/>
          <p:cNvSpPr/>
          <p:nvPr/>
        </p:nvSpPr>
        <p:spPr>
          <a:xfrm>
            <a:off x="826920" y="5300640"/>
            <a:ext cx="4537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6592320" y="263700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aridusministee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2486880" y="5445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artne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7" descr="BD18185_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476360" y="3500280"/>
            <a:ext cx="5904000" cy="1081080"/>
          </a:xfrm>
          <a:prstGeom prst="rect">
            <a:avLst/>
          </a:prstGeom>
          <a:ln w="0">
            <a:noFill/>
          </a:ln>
        </p:spPr>
      </p:pic>
      <p:sp>
        <p:nvSpPr>
          <p:cNvPr id="70" name="Line 18"/>
          <p:cNvSpPr/>
          <p:nvPr/>
        </p:nvSpPr>
        <p:spPr>
          <a:xfrm>
            <a:off x="3132000" y="4437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9"/>
          <p:cNvSpPr/>
          <p:nvPr/>
        </p:nvSpPr>
        <p:spPr>
          <a:xfrm>
            <a:off x="6012000" y="4365720"/>
            <a:ext cx="100944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"/>
          <p:cNvSpPr/>
          <p:nvPr/>
        </p:nvSpPr>
        <p:spPr>
          <a:xfrm>
            <a:off x="2414520" y="371628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00"/>
                </a:solidFill>
                <a:latin typeface="Arial"/>
              </a:rPr>
              <a:t>Andmete vahetus X – tee kaudu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1"/>
          <p:cNvSpPr/>
          <p:nvPr/>
        </p:nvSpPr>
        <p:spPr>
          <a:xfrm>
            <a:off x="4500720" y="3068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2"/>
          <p:cNvSpPr/>
          <p:nvPr/>
        </p:nvSpPr>
        <p:spPr>
          <a:xfrm>
            <a:off x="1979640" y="2060640"/>
            <a:ext cx="1295280" cy="7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3"/>
          <p:cNvSpPr/>
          <p:nvPr/>
        </p:nvSpPr>
        <p:spPr>
          <a:xfrm>
            <a:off x="6012000" y="2205000"/>
            <a:ext cx="1079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543600" y="292428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ohalik omavalit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25"/>
          <p:cNvSpPr/>
          <p:nvPr/>
        </p:nvSpPr>
        <p:spPr>
          <a:xfrm flipH="1">
            <a:off x="2556000" y="2492280"/>
            <a:ext cx="576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aidinumbri kohatäide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0E56-5DCA-4882-BA7E-E6762F77EDFE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2987640" y="1844640"/>
            <a:ext cx="3024360" cy="936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564000" y="198900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H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2627280" y="5373720"/>
            <a:ext cx="266688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0"/>
          <p:cNvSpPr/>
          <p:nvPr/>
        </p:nvSpPr>
        <p:spPr>
          <a:xfrm>
            <a:off x="4427640" y="4724280"/>
            <a:ext cx="4537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6518520" y="393228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Haigekass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4"/>
          <p:cNvSpPr/>
          <p:nvPr/>
        </p:nvSpPr>
        <p:spPr>
          <a:xfrm>
            <a:off x="4643280" y="2781360"/>
            <a:ext cx="15130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4284720" y="2781360"/>
            <a:ext cx="100800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7"/>
          <p:cNvSpPr/>
          <p:nvPr/>
        </p:nvSpPr>
        <p:spPr>
          <a:xfrm flipH="1">
            <a:off x="3995280" y="2781360"/>
            <a:ext cx="71640" cy="25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8"/>
          <p:cNvSpPr/>
          <p:nvPr/>
        </p:nvSpPr>
        <p:spPr>
          <a:xfrm>
            <a:off x="6012000" y="2349360"/>
            <a:ext cx="108108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472320" y="3789360"/>
            <a:ext cx="25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otsiaalkindlustusam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0"/>
          <p:cNvSpPr/>
          <p:nvPr/>
        </p:nvSpPr>
        <p:spPr>
          <a:xfrm>
            <a:off x="974520" y="2637000"/>
            <a:ext cx="96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Pang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1"/>
          <p:cNvSpPr/>
          <p:nvPr/>
        </p:nvSpPr>
        <p:spPr>
          <a:xfrm>
            <a:off x="542880" y="479736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Kaitseressursside A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2"/>
          <p:cNvSpPr/>
          <p:nvPr/>
        </p:nvSpPr>
        <p:spPr>
          <a:xfrm>
            <a:off x="5801400" y="2852640"/>
            <a:ext cx="27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iigieksamite andmeba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3"/>
          <p:cNvSpPr/>
          <p:nvPr/>
        </p:nvSpPr>
        <p:spPr>
          <a:xfrm>
            <a:off x="2846880" y="558972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Rahvastiku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4"/>
          <p:cNvSpPr/>
          <p:nvPr/>
        </p:nvSpPr>
        <p:spPr>
          <a:xfrm>
            <a:off x="4646520" y="486900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00"/>
                </a:solidFill>
                <a:latin typeface="Arial"/>
              </a:rPr>
              <a:t>Sisseastumise infosüste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A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5"/>
          <p:cNvSpPr/>
          <p:nvPr/>
        </p:nvSpPr>
        <p:spPr>
          <a:xfrm>
            <a:off x="5219640" y="2708280"/>
            <a:ext cx="3816360" cy="720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6"/>
          <p:cNvSpPr/>
          <p:nvPr/>
        </p:nvSpPr>
        <p:spPr>
          <a:xfrm>
            <a:off x="5435640" y="3789360"/>
            <a:ext cx="3529080" cy="719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7"/>
          <p:cNvSpPr/>
          <p:nvPr/>
        </p:nvSpPr>
        <p:spPr>
          <a:xfrm>
            <a:off x="179280" y="3645000"/>
            <a:ext cx="324036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8"/>
          <p:cNvSpPr/>
          <p:nvPr/>
        </p:nvSpPr>
        <p:spPr>
          <a:xfrm>
            <a:off x="324000" y="2492280"/>
            <a:ext cx="2376360" cy="64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9"/>
          <p:cNvSpPr/>
          <p:nvPr/>
        </p:nvSpPr>
        <p:spPr>
          <a:xfrm>
            <a:off x="250920" y="4581360"/>
            <a:ext cx="316872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0"/>
          <p:cNvSpPr/>
          <p:nvPr/>
        </p:nvSpPr>
        <p:spPr>
          <a:xfrm flipH="1">
            <a:off x="1618920" y="2205000"/>
            <a:ext cx="1368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1"/>
          <p:cNvSpPr/>
          <p:nvPr/>
        </p:nvSpPr>
        <p:spPr>
          <a:xfrm flipH="1">
            <a:off x="1979640" y="2637000"/>
            <a:ext cx="1512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2"/>
          <p:cNvSpPr/>
          <p:nvPr/>
        </p:nvSpPr>
        <p:spPr>
          <a:xfrm flipH="1">
            <a:off x="3276360" y="2708280"/>
            <a:ext cx="64764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0423-0D74-47C5-8CC2-7999140F95FA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4000" y="1916280"/>
            <a:ext cx="829152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Andmekogude osako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3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rendusprotsessis osale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rkvaraarenduste testi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hald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koolitami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Kasutajate nõustamine e-maili ja telefon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eabenõuetele vast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Andmete kvaliteedi kontroll ja tag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öötajate ar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aidinumbri kohatäide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1BED-7DFB-4521-AA76-57B8840C894A}" type="slidenum">
              <a:rPr b="0" lang="et-E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119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10:46:13Z</dcterms:created>
  <dc:creator>margus.karner</dc:creator>
  <dc:description/>
  <dc:language>en-US</dc:language>
  <cp:lastModifiedBy>marek</cp:lastModifiedBy>
  <dcterms:modified xsi:type="dcterms:W3CDTF">2009-03-31T09:14:02Z</dcterms:modified>
  <cp:revision>30</cp:revision>
  <dc:subject/>
  <dc:title>EstonianEducation Informatsion System</dc:title>
</cp:coreProperties>
</file>