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23A-4191-4B8A-98A9-6077423C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CF0-0A37-4ABA-8232-C88BE5D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3C1-1219-4AE9-8D28-119F5C41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C6D-AAEB-40AE-8B57-FCE2EB35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08C-45F8-4F2D-8348-7C9EBD55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B8A-C40F-43B4-8B5B-0BEE4870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FBA-F8F2-4548-A6C6-AABACE0F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8B3-9458-444E-9E8B-C970AA6E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687-809C-47CC-8F88-7DA3F3BD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B6C-165A-4ED0-A36C-3C240349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12F-093D-4252-9E0E-C84E4D4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3D0-94A6-40C2-8C56-B7BDE80A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0942-1B95-4E27-B93D-4E0CB34DDA55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ülemine_serv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esti Hariduse Infosüste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H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us Kä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Eksami- ja Kvalifikatsioonikes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sakonna juhataj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än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üsim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E4A5-B047-4193-8560-A7EF1239D726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jalooline ta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id ei ole võimalik kokku p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fikaato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ubleeriv andmeeda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tas töö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ga algus on r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4F3-9D63-4F30-B099-7914D03D941B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Veebipõhine infosü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õhimäärus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hariduse kohta ühes infosüsteemis algallik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ikupõhised and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stutav töötleja: Haridus- ja Teadus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olitatud töötleja: Riiklik Eksami- ja Kvalifikatsiooni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Üle 20 erineva infosüste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seostetud majutus- ja arenduste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F454-9300-4C9D-BA6E-1F9C39E429D1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 ja kaitstud informatsi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enemine ainult ID-kaari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 2000 asutust ja 5000 kasut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algdokumentid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innitamine õppeasutuste po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perioodiliselt ja fikseeritud aegadel õi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Oracle Discovereri ab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mine: kool, omavalitsus, maakond, 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rahastamiseks, analüüsiks, järelvalveks planeerimis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aidinumbri kohatäid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564F-72D3-45B7-8261-8D4916543C53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ldharidus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tse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rg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vi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dagoo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asut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kavad ja koolitus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õpudokumen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aealiste 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õustamis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A37-7E54-4BCE-9E36-5E01D14F85A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132000" y="1844640"/>
            <a:ext cx="302436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3528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5280" y="1844640"/>
            <a:ext cx="165744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836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Õppeas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6084720" y="5302080"/>
            <a:ext cx="20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516720" y="537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Õpil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443640" y="2492280"/>
            <a:ext cx="2521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95280" y="2781360"/>
            <a:ext cx="24494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826920" y="530064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2320" y="26370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ridusministe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486880" y="544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rtn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BD1818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76360" y="3500280"/>
            <a:ext cx="590400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Line 18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012000" y="4365720"/>
            <a:ext cx="1009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14520" y="37162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Andmete vahetus X – tee kaud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979640" y="206064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6012000" y="220500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3600" y="29242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halik omavalit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255600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747-0F90-4005-83BF-97CFC0EC5C77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987640" y="1844640"/>
            <a:ext cx="3024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6400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627280" y="5373720"/>
            <a:ext cx="26668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427640" y="472428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518520" y="3932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igek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643280" y="2781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284720" y="278136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3995280" y="2781360"/>
            <a:ext cx="7164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012000" y="234936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72320" y="3789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tsiaalkindlustusa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974520" y="2637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g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42880" y="4797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itseressursside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5801400" y="28526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gieksamite andmeb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846880" y="5589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ahvastiku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6520" y="48690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astumise infosüste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219640" y="270828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435640" y="3789360"/>
            <a:ext cx="3529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179280" y="3645000"/>
            <a:ext cx="3240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24000" y="2492280"/>
            <a:ext cx="2376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0920" y="4581360"/>
            <a:ext cx="3168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1618920" y="2205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1979640" y="263700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276360" y="2708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577-95F7-43D4-8FF6-6032F876C9BF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rendusprotsessis osal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kvaraarenduste tes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hald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koolita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nõustamine e-maili ja telefon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abenõuetele va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valiteedi kontroll ja tag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öötajate a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D99B-A295-4ED1-9643-4172F74A2EBB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1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46:13Z</dcterms:created>
  <dc:creator>margus.karner</dc:creator>
  <dc:description/>
  <dc:language>en-US</dc:language>
  <cp:lastModifiedBy>marek</cp:lastModifiedBy>
  <dcterms:modified xsi:type="dcterms:W3CDTF">2009-03-31T09:14:02Z</dcterms:modified>
  <cp:revision>30</cp:revision>
  <dc:subject/>
  <dc:title>EstonianEducation Informatsion System</dc:title>
</cp:coreProperties>
</file>