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51E-1A2D-46CB-974E-DF6B5119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E71-069A-4406-AE86-11768DBF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98D-3E03-45FC-858E-CEB31FD2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F147-E0CE-4CEB-8CA9-0B7F461C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EB9A-2B62-4889-A815-F5928F56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5BA-EEB4-4C55-8AAA-A1A0FC83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391F-101B-44DB-BDEC-BBA5CDC8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514E-58E0-4289-A36E-8EFF4942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9875-E587-4F94-99A1-E74A8C63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5C40-DAD5-40BE-B657-F69BBB04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856-D6EE-47A3-878C-8204B01F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52B-2A34-4E84-A28D-7B4DF4F7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51AC-9F24-4B36-9014-5B9B9712A8F9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owerpoint_ülemine_serv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8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Eesti Hariduse Infosüste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EH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us Kä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iiklik Eksami- ja Kvalifikatsioonikesk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ndmekogude osak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sakonna juhataja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Tän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üsim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114F-0CA6-48FB-81A0-A691333A111F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989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jalooline ta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ndmeid ei ole võimalik kokku pa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lassifikaato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Dubleeriv andmeedas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lustas tööd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ga algus on ras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E595-0DAC-4F8F-B33F-DB2799B8D506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Veebipõhine infosüste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2707920"/>
            <a:ext cx="835164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õhimääruse alu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hariduse kohta ühes infosüsteemis algallik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ikupõhised and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astutav töötleja: Haridus- ja Teadusministee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olitatud töötleja: Riiklik Eksami- ja Kvalifikatsioonikes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Üle 20 erineva infosüste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isseostetud majutus- ja arenduste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3663-1731-4755-8CED-3EAFE6676554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valik ja kaitstud informatsi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isenemine ainult ID-kaarid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a 2000 asutust ja 5000 kasutaj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algdokumentide alu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te kinnitamine õppeasutuste poo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perioodiliselt ja fikseeritud aegadel õi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Oracle Discovereri ab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mine: kool, omavalitsus, maakond, ministee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rahastamiseks, analüüsiks, järelvalveks planeerimise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aidinumbri kohatäid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72EB-54FE-4305-88F5-4EFA5B2B4FE9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ndm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3284640"/>
            <a:ext cx="40388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lusharidus (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Üldharidus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utseharidus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õrgharidus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Huviharidus (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2349000"/>
            <a:ext cx="4038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Õppu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edagoog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Õppeasut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Õppekavad ja koolitus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Lõpudokumen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laealiste komis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Nõustamiskomis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aidinumbri kohatä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9A5A-0776-407E-A6A0-8BA1F8CC8C92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3132000" y="1844640"/>
            <a:ext cx="3024360" cy="115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635280" y="2133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95280" y="1844640"/>
            <a:ext cx="165744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68360" y="1989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Õppeasu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8"/>
          <p:cNvSpPr/>
          <p:nvPr/>
        </p:nvSpPr>
        <p:spPr>
          <a:xfrm>
            <a:off x="6084720" y="5302080"/>
            <a:ext cx="20163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516720" y="5373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Õpil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6443640" y="2492280"/>
            <a:ext cx="2521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3"/>
          <p:cNvSpPr/>
          <p:nvPr/>
        </p:nvSpPr>
        <p:spPr>
          <a:xfrm>
            <a:off x="395280" y="2781360"/>
            <a:ext cx="244944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4"/>
          <p:cNvSpPr/>
          <p:nvPr/>
        </p:nvSpPr>
        <p:spPr>
          <a:xfrm>
            <a:off x="826920" y="5300640"/>
            <a:ext cx="4537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6592320" y="263700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aridusministee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2486880" y="5445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artn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BD18185_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76360" y="3500280"/>
            <a:ext cx="5904000" cy="1081080"/>
          </a:xfrm>
          <a:prstGeom prst="rect">
            <a:avLst/>
          </a:prstGeom>
          <a:ln w="0">
            <a:noFill/>
          </a:ln>
        </p:spPr>
      </p:pic>
      <p:sp>
        <p:nvSpPr>
          <p:cNvPr id="70" name="Line 18"/>
          <p:cNvSpPr/>
          <p:nvPr/>
        </p:nvSpPr>
        <p:spPr>
          <a:xfrm>
            <a:off x="3132000" y="443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6012000" y="4365720"/>
            <a:ext cx="10094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2414520" y="371628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Andmete vahetus X – tee kaudu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1"/>
          <p:cNvSpPr/>
          <p:nvPr/>
        </p:nvSpPr>
        <p:spPr>
          <a:xfrm>
            <a:off x="4500720" y="306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2"/>
          <p:cNvSpPr/>
          <p:nvPr/>
        </p:nvSpPr>
        <p:spPr>
          <a:xfrm>
            <a:off x="1979640" y="2060640"/>
            <a:ext cx="1295280" cy="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>
            <a:off x="6012000" y="2205000"/>
            <a:ext cx="107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543600" y="292428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ohalik omavalit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5"/>
          <p:cNvSpPr/>
          <p:nvPr/>
        </p:nvSpPr>
        <p:spPr>
          <a:xfrm flipH="1">
            <a:off x="2556000" y="249228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aidinumbri kohatä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78F0-3D16-4982-80DD-CB35757E94AC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2987640" y="1844640"/>
            <a:ext cx="302436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564000" y="1989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2627280" y="5373720"/>
            <a:ext cx="266688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4427640" y="4724280"/>
            <a:ext cx="4537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6518520" y="393228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aigekas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4643280" y="2781360"/>
            <a:ext cx="1513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4284720" y="2781360"/>
            <a:ext cx="100800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7"/>
          <p:cNvSpPr/>
          <p:nvPr/>
        </p:nvSpPr>
        <p:spPr>
          <a:xfrm flipH="1">
            <a:off x="3995280" y="2781360"/>
            <a:ext cx="71640" cy="25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8"/>
          <p:cNvSpPr/>
          <p:nvPr/>
        </p:nvSpPr>
        <p:spPr>
          <a:xfrm>
            <a:off x="6012000" y="2349360"/>
            <a:ext cx="108108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72320" y="378936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otsiaalkindlustusam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974520" y="2637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ang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542880" y="47973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aitseressursside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5801400" y="285264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iigieksamite andmeba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2846880" y="558972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ahvastiku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4646520" y="486900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isseastumise infosüste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A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5219640" y="2708280"/>
            <a:ext cx="3816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6"/>
          <p:cNvSpPr/>
          <p:nvPr/>
        </p:nvSpPr>
        <p:spPr>
          <a:xfrm>
            <a:off x="5435640" y="3789360"/>
            <a:ext cx="3529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7"/>
          <p:cNvSpPr/>
          <p:nvPr/>
        </p:nvSpPr>
        <p:spPr>
          <a:xfrm>
            <a:off x="179280" y="3645000"/>
            <a:ext cx="324036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8"/>
          <p:cNvSpPr/>
          <p:nvPr/>
        </p:nvSpPr>
        <p:spPr>
          <a:xfrm>
            <a:off x="324000" y="2492280"/>
            <a:ext cx="237636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9"/>
          <p:cNvSpPr/>
          <p:nvPr/>
        </p:nvSpPr>
        <p:spPr>
          <a:xfrm>
            <a:off x="250920" y="4581360"/>
            <a:ext cx="316872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 flipH="1">
            <a:off x="1618920" y="2205000"/>
            <a:ext cx="1368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 flipH="1">
            <a:off x="1979640" y="2637000"/>
            <a:ext cx="1512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2"/>
          <p:cNvSpPr/>
          <p:nvPr/>
        </p:nvSpPr>
        <p:spPr>
          <a:xfrm flipH="1">
            <a:off x="3276360" y="2708280"/>
            <a:ext cx="64764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1213-86D6-42E8-8AE0-20DE191B1624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2915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ndmekogude osako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rendusprotsessis osale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arkvaraarenduste testi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jate hald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jate koolitam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jate nõustamine e-maili ja telefon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eabenõuetele vast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te kvaliteedi kontroll ja tag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öötajate ar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8920-A9DD-4426-97E3-3B31A4ABD097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119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0:46:13Z</dcterms:created>
  <dc:creator>margus.karner</dc:creator>
  <dc:description/>
  <dc:language>en-US</dc:language>
  <cp:lastModifiedBy>marek</cp:lastModifiedBy>
  <dcterms:modified xsi:type="dcterms:W3CDTF">2009-03-31T09:14:02Z</dcterms:modified>
  <cp:revision>30</cp:revision>
  <dc:subject/>
  <dc:title>EstonianEducation Informatsion System</dc:title>
</cp:coreProperties>
</file>