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8167-78E6-4C90-A69C-031650E33A2D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5557-618C-4CBD-8E18-932D9C36DA48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7FA7-805C-429B-8B0C-58B6F0F9D5DD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E18F-0644-4177-9DFE-DB082DD8C7A7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23C5-5B40-47B4-A315-AD5C040255F5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2D76-DBC5-47A7-8DB1-F0B2AF9AB3F4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2.11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529884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Uuest riikliku statistika seadusest tulenevad muudatused statistika-programmi ettevalmistamisel, statistikatööde liigit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 aren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jaoks andmete kogumise, nend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se töötlemise, analüüsi, levitamise ja säilitami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renda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ttevalmistustööd uue uuringu algatamiseks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uuetega inimeste integratsioon (indikaatorite väljakujundamine erinevate andmekogude baasil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analüü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lle väljund on artikkel, artiklite kogumik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ti statistika aastaraam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iirkondlik portree Eestist (e-väljaanne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eristamise õiguslik asp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 erinevad üksteisest kirjeldavate tunnuste poolest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.t millist metainfot (milliseid tunnuseid) on võimalik nende kohta avaldada SA veebilehel ja järelikult millist alamhulka sellest on võimalik VV kinnitada statistikaprogrammi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eriood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est riikliku statistika seadus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, statistika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iigi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i os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us 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. aasta jooksul võetakse vastu uus riikliku statistika seadus (RStS), mis jõustub 01.01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eelnõu näeb ette põhimõttelised muudatused statistikaprogrammi koostamise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osad, mis käsitlevad statistikaprogrammi, jõustuvad kohe seaduse vastu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§ 4 Riikliku statistika programm ja statistikatöö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programm on igal aastal järgmiseks viieks aastaks koostatav rahvastiku-, sotsiaal-, majandus- ja keskkonnaalaste statistikatööde loetelu, mis lähtub riigisisesest või rahvusvahelisest statistika vajadus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 eelnõust tuleneb, e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koosneb VV kinnitatud statistikatööde loetelust ja Eesti Panga presidendi kinnitatud statistikatööde loetel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 kinnitatud statistikatööde loetelu maksumus kokku annab SA aastaeelarv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ööde loetelus on püsiv osa, mis kehtib viis aastat ja muutuv osa, mis kinnitatakse igaks aasta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peab statistikatööde loetelu esitama RMle iga aasta hiljemalt 1. juuli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2011-2015 tuleb koostada uue seaduse järg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7164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Otseselt tuvastatavate statistiliste üksuste andme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jandusüksu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llumajanduslike majapidami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baasosa, standardväljundi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Bioloogiline mitmekesis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abad ametikohad ja tööjõu liik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stikusündmused. Sünni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 ja eluruumide loendus – 31.12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tasu (mees- ja naistöötajate tunnitasu) – 2010, 2014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otsiaaluuringu moodul „Elamis­tingimused” - 2012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29:34Z</dcterms:modified>
  <cp:revision>121</cp:revision>
  <dc:subject/>
  <dc:title>Slide 1</dc:title>
</cp:coreProperties>
</file>