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96F4-C747-4861-8135-447F9B40711A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29FE-42BC-4CD9-9B1C-D137123D295A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0662-E449-4625-A695-98DD476CECD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B383-00A9-494C-9789-762BD793778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C7D-C272-4727-86DE-5AF179ABCF16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AD765-8B82-45AF-920E-40FD16BE74B8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02.11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529884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Uuest riikliku statistika seadusest tulenevad muudatused statistika-programmi ettevalmistamisel, statistikatööde liigitus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28800" y="3142800"/>
            <a:ext cx="44956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Kaja Sõstra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 aren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jaoks andmete kogumise, nend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se töötlemise, analüüsi, levitamise ja säilitamis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rendamine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ttevalmistustööd uue uuringu algatamiseks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uuetega inimeste integratsioon (indikaatorite väljakujundamine erinevate andmekogude baasil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analüü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lle väljund on artikkel, artiklite kogumik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sti statistika aastaraamat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iirkondlik portree Eestist (e-väljaanne)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eristamise õiguslik aspek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 erinevad üksteisest kirjeldavate tunnuste poolest,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.t millist metainfot (milliseid tunnuseid) on võimalik nende kohta avaldada SA veebilehel ja järelikult millist alamhulka sellest on võimalik VV kinnitada statistikaprogrammis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näitaj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eriood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Teema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est riikliku statistika seaduse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, statistikatöö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iigi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programmi os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Uus riikliku statistika sea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2010. aasta jooksul võetakse vastu uus riikliku statistika seadus (RStS), mis jõustub 01.01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eelnõu näeb ette põhimõttelised muudatused statistikaprogrammi koostamisel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RStS osad, mis käsitlevad statistikaprogrammi, jõustuvad kohe seaduse vastuvõt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§ 4 Riikliku statistika programm ja statistikatöö</a:t>
            </a:r>
            <a:endParaRPr b="1" lang="en-US" sz="28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iikliku statistika programm on igal aastal järgmiseks viieks aastaks koostatav rahvastiku-, sotsiaal-, majandus- ja keskkonnaalaste statistikatööde loetelu, mis lähtub riigisisesest või rahvusvahelisest statistika vajadusest.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 on näiteks statistiline uuring, loendus, statistikaväljaanne ja statistiline register.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3200" spc="-1" strike="noStrike">
                <a:solidFill>
                  <a:srgbClr val="003951"/>
                </a:solidFill>
                <a:latin typeface="Arial"/>
              </a:rPr>
              <a:t>RStS eelnõust tuleneb, e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koosneb VV kinnitatud statistikatööde loetelust ja Eesti Panga presidendi kinnitatud statistikatööde loetelus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VV kinnitatud statistikatööde loetelu maksumus kokku annab SA aastaeelarv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tööde loetelus on püsiv osa, mis kehtib viis aastat ja muutuv osa, mis kinnitatakse igaks aasta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A peab statistikatööde loetelu esitama RMle iga aasta hiljemalt 1. juulik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Statistikaprogramm 2011-2015 tuleb koostada uue seaduse järgi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97164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line register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Otseselt tuvastatavate statistiliste üksuste andmet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Majandusüksu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llumajanduslike majapidamiste statistiline register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Põhi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baasosa, standardväljundi koost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Bioloogiline mitmekesis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abad ametikohad ja tööjõu liikumine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stikusündmused. Sünni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baregulaarne statis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äiteid: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Rahva ja eluruumide loendus – 31.12.2011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tasu (mees- ja naistöötajate tunnitasu) – 2010, 2014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otsiaaluuringu moodul „Elamis­tingimused” - 2012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29:34Z</dcterms:modified>
  <cp:revision>121</cp:revision>
  <dc:subject/>
  <dc:title>Slide 1</dc:title>
</cp:coreProperties>
</file>