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8A1C-A94B-4D7E-B0D9-998CDA2A4FF1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Statistilised registrid ja investeeringud näidatakse erald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Ülejäänud kolm statistikavaldkondade liigituse teise taseme järg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B9AB-FBB0-4F6E-8E47-53167F7484BF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8BC4-C2D1-4429-A26F-A213299ABA6E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1A8C-FD74-4887-BA65-2D3AB2872FE4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9B12-8306-4192-A9E8-8001DD53575E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0740-F15E-42C7-8CB7-B23E3BD5BE9F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ikoon2"/>
          <p:cNvPicPr/>
          <p:nvPr/>
        </p:nvPicPr>
        <p:blipFill>
          <a:blip r:embed="rId2"/>
          <a:stretch/>
        </p:blipFill>
        <p:spPr>
          <a:xfrm>
            <a:off x="0" y="0"/>
            <a:ext cx="247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58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11.02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572000" y="6629400"/>
            <a:ext cx="3629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Muudatustest statistikaprogrammi koostamisel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02.11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4427640" y="6629400"/>
            <a:ext cx="377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Muudatustest statistikaprogrammi koostamisel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4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6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sini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kolla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punane_est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Untitled-1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28440" y="1999800"/>
            <a:ext cx="529884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Uuest riikliku statistika seadusest tulenevad muudatused statistika-programmi ettevalmistamisel, statistikatööde liigitus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928800" y="3142800"/>
            <a:ext cx="44956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Kaja Sõstra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11.02.2010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ka arend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47400" y="2133360"/>
            <a:ext cx="7682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Riikliku statistika jaoks andmete kogumise, nend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lise töötlemise, analüüsi, levitamise ja säilitamis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arendamine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uute näitajate väljatöötamine,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ettevalmistustööd uue uuringu algatamiseks olemasolevate uuringute metoodika arendamine, klassifikaatorite uuend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Näiteid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Puuetega inimeste integratsioon (indikaatorite väljakujundamine erinevate andmekogude baasil)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line analüü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ööd, mille väljund on artikkel, artiklite kogumik,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väljaanne  jm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Näiteid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Eesti statistika aastaraamat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Piirkondlik portree Eestist (e-väljaanne)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katööde eristamise õiguslik aspek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katööd erinevad üksteisest kirjeldavate tunnuste poolest,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.t millist metainfot (milliseid tunnuseid) on võimalik nende kohta avaldada SA veebilehel ja järelikult millist alamhulka sellest on võimalik VV kinnitada statistikaprogrammis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59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katöö tunnused statistikaprogrammi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Nime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Õiguslik alus või avalikku huvi esindav asu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Väljundnäitaja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aged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Periood või momen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Eeldatav maksum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Info kavandatavate metoodikamuudatuste koht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Teema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Uuest riikliku statistika seaduse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kaprogramm, statistikatöö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katööde liigi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kaprogrammi osa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Uus riikliku statistika sead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010. aasta jooksul võetakse vastu uus riikliku statistika seadus (RStS), mis jõustub 01.01.2011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StS eelnõu näeb ette põhimõttelised muudatused statistikaprogrammi koostamisel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StS osad, mis käsitlevad statistikaprogrammi, jõustuvad kohe seaduse vastuvõtmi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§ 4 Riikliku statistika programm ja statistikatöö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Riikliku statistika programm on igal aastal järgmiseks viieks aastaks koostatav rahvastiku-, sotsiaal-, majandus- ja keskkonnaalaste statistikatööde loetelu, mis lähtub riigisisesest või rahvusvahelisest statistika vajadusest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katöö on näiteks statistiline uuring, loendus, statistikaväljaanne ja statistiline register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StS eelnõust tuleneb, e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programm koosneb VV kinnitatud statistikatööde loetelust ja Eesti Panga presidendi kinnitatud statistikatööde loetelu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V kinnitatud statistikatööde loetelu maksumus kokku annab SA aastaeelarv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tööde loetelus on püsiv osa, mis kehtib viis aastat ja muutuv osa, mis kinnitatakse igaks aasta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A peab statistikatööde loetelu esitama RMle iga aasta hiljemalt 1. juuli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programm 2011-2015 tuleb koostada uue seaduse järgi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katööde liig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47400" y="2133360"/>
            <a:ext cx="7682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line registe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Põhistatistika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Ebaregulaarne statistik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ka arendus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line analüüs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Investeering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97164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line register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47400" y="2133360"/>
            <a:ext cx="7682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Otseselt tuvastatavate statistiliste üksuste andmet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kogum, mida kasutatakse riikliku statistika tegemi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Näited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Majandusüksuste statistiline registe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Põllumajanduslike majapidamiste statistiline registe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Põhistatistik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47400" y="2133360"/>
            <a:ext cx="7682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Uuringute baasosa, standardväljundi koos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andmebaasis avaldamiseks, t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äiendava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ööd, mis kulu ei lisa (nt täiendavad näitajad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Näiteid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Bioloogiline mitmekesisus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Vabad ametikohad ja tööjõu liikumine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Rahvastikusündmused. Sünnid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Ebaregulaarne statistik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47400" y="2133360"/>
            <a:ext cx="7682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Uuringute moodulid, ühekordsed uuring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Näiteid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Rahva ja eluruumide loendus – 31.12.2011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öötasu (mees- ja naistöötajate tunnitasu) – 2010, 2014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otsiaaluuringu moodul „Elamis­tingimused” - 2012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Aira Veelmaa</cp:lastModifiedBy>
  <dcterms:modified xsi:type="dcterms:W3CDTF">2010-02-12T07:29:34Z</dcterms:modified>
  <cp:revision>121</cp:revision>
  <dc:subject/>
  <dc:title>Slide 1</dc:title>
</cp:coreProperties>
</file>