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83A-A38C-457A-924B-1757CEEE98F6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7.1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Statistiliste näitajate loend</a:t>
            </a:r>
            <a:endParaRPr b="1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499920"/>
            <a:ext cx="449604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2011. – 2015. aasta statistikatööde kava ja selle kooskõlastamine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Eda Froš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tatistiliste näitajate loend — statistikatööde loetelu lis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Esitatakse kahte liiki statistikatöödele — põhistatistikale ja ebaregulaarsele statistika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kirje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3951"/>
                </a:solidFill>
                <a:latin typeface="Arial"/>
              </a:rPr>
              <a:t>Euro-SDMX Metadata Structur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(ESMS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Kõik EL liikmesriigid on kohustatud esitama statistilisi metaandmeid selle struktuuri järgi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line näitaja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— 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ndmeelement, mis esitab kindla aja, koha ning muude tunnustega määratud statistilisi andmeid ja on sisuka võrdluse tagamiseks teisendatud vähemalt ühe dimensiooni (tavaliselt suurus, nt rahvaarv) suht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Näi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itteaktiivse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akon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anuserüh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perekonnasei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ahvu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vipolii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kliku statistika esmaavaldamise koht on statistika andmebaa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Oktoobri algul avaldatakse avaldamiskalendris järgmise aasta statistika andmebaasi, pressiteadete, väljaannete ja IMF põhinäitajate avaldamise aja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13:51Z</dcterms:modified>
  <cp:revision>129</cp:revision>
  <dc:subject/>
  <dc:title>Slide 1</dc:title>
</cp:coreProperties>
</file>