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B6C9-BF0B-4F4B-88FC-868ECC3028AE}" type="slidenum">
              <a:rPr b="0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7.1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482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Statistiliste näitajate loend</a:t>
            </a:r>
            <a:endParaRPr b="1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99640" y="3499920"/>
            <a:ext cx="449604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2011. – 2015. aasta statistikatööde kava ja selle kooskõlastamine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Eda Froš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tatistiliste näitajate loend — statistikatööde loetelu lis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Esitatakse kahte liiki statistikatöödele — põhistatistikale ja ebaregulaarsele statistikal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kirjel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47760" y="2349360"/>
            <a:ext cx="75153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3951"/>
                </a:solidFill>
                <a:latin typeface="Arial"/>
              </a:rPr>
              <a:t>Euro-SDMX Metadata Structur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(ESMS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Kõik EL liikmesriigid on kohustatud esitama statistilisi metaandmeid selle struktuuri järgi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line näitaja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 — 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andmeelement, mis esitab kindla aja, koha ning muude tunnustega määratud statistilisi andmeid ja on sisuka võrdluse tagamiseks teisendatud vähemalt ühe dimensiooni (tavaliselt suurus, nt rahvaarv) suht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Näi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515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itteaktiivse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aakon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vanuserühm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perekonnasei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ahvu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vipolii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iikliku statistika esmaavaldamise koht on statistika andmebaas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Oktoobri algul avaldatakse avaldamiskalendris järgmise aasta statistika andmebaasi, pressiteadete, väljaannete ja IMF põhinäitajate avaldamise aja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13:51Z</dcterms:modified>
  <cp:revision>129</cp:revision>
  <dc:subject/>
  <dc:title>Slide 1</dc:title>
</cp:coreProperties>
</file>