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6E8C-BAF3-4F98-A572-D4EFE2DB8267}" type="slidenum">
              <a:rPr b="0" lang="en-GB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7.12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99640" y="1557360"/>
            <a:ext cx="4824360" cy="14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951"/>
                </a:solidFill>
                <a:latin typeface="Arial"/>
              </a:rPr>
              <a:t>Statistiliste näitajate loend</a:t>
            </a:r>
            <a:endParaRPr b="1" lang="en-US" sz="36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899640" y="3499920"/>
            <a:ext cx="4496040" cy="11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2011. – 2015. aasta statistikatööde kava ja selle kooskõlastamine 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951"/>
                </a:solidFill>
                <a:latin typeface="Arial"/>
              </a:rPr>
              <a:t>Eda Froš</a:t>
            </a:r>
            <a:endParaRPr b="0" lang="en-US" sz="1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tatistiliste näitajate loend — statistikatööde loetelu lisa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Esitatakse kahte liiki statistikatöödele — põhistatistikale ja ebaregulaarsele statistikale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kirjeldu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47760" y="2349360"/>
            <a:ext cx="751536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800" spc="-1" strike="noStrike">
                <a:solidFill>
                  <a:srgbClr val="003951"/>
                </a:solidFill>
                <a:latin typeface="Arial"/>
              </a:rPr>
              <a:t>Euro-SDMX Metadata Structure</a:t>
            </a: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 (ESMS)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800" spc="-1" strike="noStrike">
                <a:solidFill>
                  <a:srgbClr val="003951"/>
                </a:solidFill>
                <a:latin typeface="Arial"/>
              </a:rPr>
              <a:t>Kõik EL liikmesriigid on kohustatud esitama statistilisi metaandmeid selle struktuuri järgi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t-EE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951"/>
                </a:solidFill>
                <a:latin typeface="Arial"/>
              </a:rPr>
              <a:t>Statistiline näitaja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 — 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andmeelement, mis esitab kindla aja, koha ning muude tunnustega määratud statistilisi andmeid ja on sisuka võrdluse tagamiseks teisendatud vähemalt ühe dimensiooni (tavaliselt suurus, nt rahvaarv) suhte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Näit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51536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Mitteaktiivsed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maakond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vanuserühm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15-74-aastased mitteaktiivsed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(jaotus)</a:t>
            </a:r>
            <a:br>
              <a:rPr sz="2800"/>
            </a:b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perekonnaseis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ugu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toimetulek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15-74-aastased mitteaktiivsed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(jaotus)</a:t>
            </a:r>
            <a:br>
              <a:rPr sz="2800"/>
            </a:b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rahvus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sugu</a:t>
            </a:r>
            <a:br>
              <a:rPr sz="2800"/>
            </a:b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toimetulek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11.02.2010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Levipoliitik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Riikliku statistika esmaavaldamise koht on statistika andmebaas 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700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951"/>
                </a:solidFill>
                <a:latin typeface="Arial"/>
              </a:rPr>
              <a:t>Oktoobri algul avaldatakse avaldamiskalendris järgmise aasta statistika andmebaasi, pressiteadete, väljaannete ja IMF põhinäitajate avaldamise ajad</a:t>
            </a:r>
            <a:endParaRPr b="0" lang="en-US" sz="28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Aira Veelmaa</cp:lastModifiedBy>
  <dcterms:modified xsi:type="dcterms:W3CDTF">2010-02-12T07:13:51Z</dcterms:modified>
  <cp:revision>129</cp:revision>
  <dc:subject/>
  <dc:title>Slide 1</dc:title>
</cp:coreProperties>
</file>