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9609-6C87-4DA8-AEC0-22EBBC03097E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1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95CF-BE87-42A0-BA9A-B4E7D663CABF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37C1-4B72-49E7-B7FA-C0EBF4AA8A46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lised registrid ja investeeringud näidatakse erald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Ülejäänud kolm statistikavaldkondade liigituse teise taseme järg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ED02-25CA-45E7-BEA1-D9529D0D13BA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7FD3-DB35-4F3C-93F9-504255A75BB0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572000" y="6629400"/>
            <a:ext cx="362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Statistikaprogrammi ajakava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427640" y="6629400"/>
            <a:ext cx="37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4498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951"/>
                </a:solidFill>
                <a:latin typeface="Arial"/>
              </a:rPr>
              <a:t>Statistikaprogrammi ajakav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378936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Infotu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11. veebruar 2010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A eesmär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de loetelu esitamine Rahandusministeeriumile ja kooskõlastajatele hiljemalt </a:t>
            </a:r>
            <a:r>
              <a:rPr b="0" lang="en-US" sz="2400" spc="-1" strike="noStrike" u="sng">
                <a:solidFill>
                  <a:srgbClr val="003951"/>
                </a:solidFill>
                <a:uFillTx/>
                <a:latin typeface="Arial"/>
              </a:rPr>
              <a:t>1. juulik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59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 tunnused statistikaprogramm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imetus ja koo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Õiguslik alus või avalikku huvi esindav as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ldatav maksumu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äljun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agedus või momen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fo kavandatavate metoodikamuudatust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 teostamise aas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liigid (I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õhistatistika ― u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ringute baasosa, standardväljundi koostamine andmebaasis avaldamiseks, t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äiendavad tööd, mis kulu ei lisa (nt täiendavad näitajad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baregulaarne statistika ― u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ringute moodulid, ühekordsed uurin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 arendus ― riikliku statistika jaoks andmete kogumise, nende statistilise töötlemise, analüüsi, levitamise ja säilitamise arendamine, sh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te näitajate väljatöötamine, ettevalmistustööd uue uuringu algatamiseks,  olemasolevate uuringute metoodika arendamine, klassifikaatorite uuend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liigid (II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analüüs ― tööd, mille väljund on artikkel, artiklite kogumik, väljaanne  jm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vesteeringu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register ― statistiliste üksuste andmete kogum, mida kasutatakse riikliku statistika teg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dasised tegev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071720" y="1908000"/>
          <a:ext cx="7786440" cy="3630960"/>
        </p:xfrm>
        <a:graphic>
          <a:graphicData uri="http://schemas.openxmlformats.org/drawingml/2006/table">
            <a:tbl>
              <a:tblPr/>
              <a:tblGrid>
                <a:gridCol w="2286000"/>
                <a:gridCol w="5500440"/>
              </a:tblGrid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eea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6.02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A kiri 2011.a statistikaprogrammi kohta ettepanekute küsimiseks 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.03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õpptähtaeg 2011.a statistikaprogrammi kohta ettepanekute tegemiseks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7.02.-19.04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Vastavalt tehtud ettepanekutele statistikatööde loetelu, statistikatöö kirjelduse ja väljundnäitajate kirjelduse kooskõlastamine statistikatarbijate esindajatega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cf0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0.06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tatistikaprogrammi esitamine RM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Oluline lin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fo seniste riiklike statistiliste vaatluste, statistikaprogrammi ja arendustööd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ht ettepanekute tegemiseks statistikaprogrammi </a:t>
            </a:r>
            <a:r>
              <a:rPr b="0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http://www.stat.ee/tooplaan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Erik Aliorg</cp:lastModifiedBy>
  <dcterms:modified xsi:type="dcterms:W3CDTF">2010-08-05T06:35:24Z</dcterms:modified>
  <cp:revision>115</cp:revision>
  <dc:subject/>
  <dc:title>Slide 1</dc:title>
</cp:coreProperties>
</file>