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C3CD-FF30-4DB6-8B5E-77CCD4A9940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30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A4A-1943-4334-9463-59B2F2CCBE70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BE37-AC0B-4611-AACC-20000BFC26EC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F74-04AE-4066-A39C-B1D885E5308F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AFC-CCDD-4414-BFFD-337B3996B39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Infotu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 veebruar 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A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oetelu esitamine Rahandusministeeriumile ja kooskõlastajatele hiljemalt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1. juulik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 ja koo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 teostamise aas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baasosa, standardväljundi koostamine 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 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― riikliku statistika jaoks andmete kogumise, nende statistilise töötlemise, analüüsi, levitamise ja säilitamise arendamine, sh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ettevalmistustööd uue uuringu algatamiseks, 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― tööd, mille väljund on artikkel, artiklite kogumik, 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 ― statistiliste üksuste andmete 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71720" y="1908000"/>
          <a:ext cx="7786440" cy="3630960"/>
        </p:xfrm>
        <a:graphic>
          <a:graphicData uri="http://schemas.openxmlformats.org/drawingml/2006/table">
            <a:tbl>
              <a:tblPr/>
              <a:tblGrid>
                <a:gridCol w="2286000"/>
                <a:gridCol w="55004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.02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 kiri 2011.a statistikaprogrammi kohta ettepanekute küsimiseks 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.03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õpptähtaeg 2011.a statistikaprogrammi kohta ettepanekute tegemisek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.02.-19.04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stavalt tehtud ettepanekutele statistikatööde loetelu, statistikatöö kirjelduse ja väljundnäitajate kirjelduse kooskõlastamine statistikatarbijate esindajatega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.06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tatistikaprogrammi esitamine RM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Oluline lin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eniste riiklike statistiliste vaatluste, statistikaprogrammi ja arendustöö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 ettepanekute tegemiseks statistikaprogrammi </a:t>
            </a:r>
            <a:r>
              <a:rPr b="0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http://www.stat.ee/tooplaan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Erik Aliorg</cp:lastModifiedBy>
  <dcterms:modified xsi:type="dcterms:W3CDTF">2010-08-05T06:35:24Z</dcterms:modified>
  <cp:revision>115</cp:revision>
  <dc:subject/>
  <dc:title>Slide 1</dc:title>
</cp:coreProperties>
</file>