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37744-F99D-46FD-A6CE-E4590CA90C0C}" type="datetime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9.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EC788-7DAF-43BC-925F-ACE0B8A61A23}" type="slidenum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3B04C-DEDE-4679-92B0-23085E851DF6}" type="slidenum">
              <a:rPr b="1" lang="et-EE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istilised registrid ja investeeringud näidatakse erald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Ülejäänud kolm statistikavaldkondade liigituse teise taseme järg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28278-1AC1-4C4B-8FC8-11432A696AA8}" type="slidenum">
              <a:rPr b="1" lang="et-EE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4C47C-654D-443C-9465-ABEFAE61E4E8}" type="slidenum">
              <a:rPr b="1" lang="et-EE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ikoon2"/>
          <p:cNvPicPr/>
          <p:nvPr/>
        </p:nvPicPr>
        <p:blipFill>
          <a:blip r:embed="rId2"/>
          <a:stretch/>
        </p:blipFill>
        <p:spPr>
          <a:xfrm>
            <a:off x="0" y="0"/>
            <a:ext cx="24796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11.02.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4572000" y="6629400"/>
            <a:ext cx="3629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Statistikaprogrammi ajakava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2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11.02.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4427640" y="6629400"/>
            <a:ext cx="377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Muudatustest statistikaprogrammi koostamisel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27000"/>
            <a:ext cx="2362320" cy="6858000"/>
            <a:chOff x="0" y="27000"/>
            <a:chExt cx="2362320" cy="6858000"/>
          </a:xfrm>
        </p:grpSpPr>
        <p:sp>
          <p:nvSpPr>
            <p:cNvPr id="44" name="Rectangle 5"/>
            <p:cNvSpPr/>
            <p:nvPr/>
          </p:nvSpPr>
          <p:spPr>
            <a:xfrm>
              <a:off x="0" y="27000"/>
              <a:ext cx="1143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1066680" y="27000"/>
              <a:ext cx="1295640" cy="9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pic>
          <p:nvPicPr>
            <p:cNvPr id="46" name="Picture 7" descr="logo"/>
            <p:cNvPicPr/>
            <p:nvPr/>
          </p:nvPicPr>
          <p:blipFill>
            <a:blip r:embed="rId2"/>
            <a:stretch/>
          </p:blipFill>
          <p:spPr>
            <a:xfrm>
              <a:off x="0" y="27000"/>
              <a:ext cx="1079640" cy="107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sinine_est"/>
          <p:cNvPicPr/>
          <p:nvPr/>
        </p:nvPicPr>
        <p:blipFill>
          <a:blip r:embed="rId2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kollane_est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5" descr="punane_est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Untitled-1"/>
          <p:cNvPicPr/>
          <p:nvPr/>
        </p:nvPicPr>
        <p:blipFill>
          <a:blip r:embed="rId2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28440" y="1999800"/>
            <a:ext cx="449892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951"/>
                </a:solidFill>
                <a:latin typeface="Arial"/>
              </a:rPr>
              <a:t>Statistikaprogrammi ajakava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899640" y="3789360"/>
            <a:ext cx="44960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951"/>
                </a:solidFill>
                <a:latin typeface="Arial"/>
              </a:rPr>
              <a:t>Infotund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951"/>
                </a:solidFill>
                <a:latin typeface="Arial"/>
              </a:rPr>
              <a:t>11. veebruar 2010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SA eesmärk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tatistikatööde loetelu esitamine Rahandusministeeriumile ja kooskõlastajatele hiljemalt </a:t>
            </a:r>
            <a:r>
              <a:rPr b="0" lang="en-US" sz="2400" spc="-1" strike="noStrike" u="sng">
                <a:solidFill>
                  <a:srgbClr val="003951"/>
                </a:solidFill>
                <a:uFillTx/>
                <a:latin typeface="Arial"/>
              </a:rPr>
              <a:t>1. juuliks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5992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Statistikatöö tunnused statistikaprogrammi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Nimetus ja koo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Õiguslik alus või avalikku huvi esindav asut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Eeldatav maksumus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Väljun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agedus või momen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Info kavandatavate metoodikamuudatuste koht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öö teostamise aast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Statistikatööde liigid (I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247400" y="2133360"/>
            <a:ext cx="76820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Põhistatistika ― u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uringute baasosa, standardväljundi koostamine andmebaasis avaldamiseks, t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äiendavad tööd, mis kulu ei lisa (nt täiendavad näitajad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Ebaregulaarne statistika ― u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uringute moodulid, ühekordsed uuringu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tatistika arendus ― riikliku statistika jaoks andmete kogumise, nende statistilise töötlemise, analüüsi, levitamise ja säilitamise arendamine, sh 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uute näitajate väljatöötamine, ettevalmistustööd uue uuringu algatamiseks,  olemasolevate uuringute metoodika arendamine, klassifikaatorite uuenda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Statistikatööde liigid (II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247400" y="2133360"/>
            <a:ext cx="76820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tatistiline analüüs ― tööd, mille väljund on artikkel, artiklite kogumik, väljaanne  jm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Investeeringud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tatistiline register ― statistiliste üksuste andmete kogum, mida kasutatakse riikliku statistika tegemis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Edasised tegevuse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2400" spc="-1" strike="noStrike">
              <a:solidFill>
                <a:srgbClr val="003951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1071720" y="1908000"/>
          <a:ext cx="7786440" cy="3630960"/>
        </p:xfrm>
        <a:graphic>
          <a:graphicData uri="http://schemas.openxmlformats.org/drawingml/2006/table">
            <a:tbl>
              <a:tblPr/>
              <a:tblGrid>
                <a:gridCol w="2286000"/>
                <a:gridCol w="5500440"/>
              </a:tblGrid>
              <a:tr h="45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eea0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6.02.2010</a:t>
                      </a:r>
                      <a:endParaRPr b="1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8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SA kiri 2011.a statistikaprogrammi kohta ettepanekute küsimiseks </a:t>
                      </a:r>
                      <a:endParaRPr b="1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8d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9.03.2010</a:t>
                      </a:r>
                      <a:endParaRPr b="1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8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Lõpptähtaeg 2011.a statistikaprogrammi kohta ettepanekute tegemiseks</a:t>
                      </a:r>
                      <a:endParaRPr b="1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8df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7.02.-19.04.2010</a:t>
                      </a:r>
                      <a:endParaRPr b="1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Vastavalt tehtud ettepanekutele statistikatööde loetelu, statistikatöö kirjelduse ja väljundnäitajate kirjelduse kooskõlastamine statistikatarbijate esindajatega</a:t>
                      </a:r>
                      <a:endParaRPr b="1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cf0"/>
                    </a:solidFill>
                  </a:tcPr>
                </a:tc>
              </a:tr>
              <a:tr h="45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30.06.2010</a:t>
                      </a:r>
                      <a:endParaRPr b="1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8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Statistikaprogrammi esitamine RM</a:t>
                      </a:r>
                      <a:endParaRPr b="1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8d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Oluline link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Info seniste riiklike statistiliste vaatluste, statistikaprogrammi ja arendustööde koht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oht ettepanekute tegemiseks statistikaprogrammi </a:t>
            </a:r>
            <a:r>
              <a:rPr b="0" lang="et-EE" sz="2400" spc="-1" strike="noStrike" u="sng">
                <a:solidFill>
                  <a:srgbClr val="003951"/>
                </a:solidFill>
                <a:uFillTx/>
                <a:latin typeface="Arial"/>
              </a:rPr>
              <a:t>http://www.stat.ee/tooplaan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06:06:14Z</dcterms:created>
  <dc:creator>user</dc:creator>
  <dc:description/>
  <dc:language>en-US</dc:language>
  <cp:lastModifiedBy>Erik Aliorg</cp:lastModifiedBy>
  <dcterms:modified xsi:type="dcterms:W3CDTF">2010-08-05T06:35:24Z</dcterms:modified>
  <cp:revision>115</cp:revision>
  <dc:subject/>
  <dc:title>Slide 1</dc:title>
</cp:coreProperties>
</file>