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6CB9-AB46-4E41-B118-570C245334EB}" type="datetime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28.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2A14-C650-425F-AAFA-EB22BD4F00C7}" type="slidenum"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26C2-5B6A-4A0B-8F04-2692A5E3D137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stilised registrid ja investeeringud näidatakse erald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Ülejäänud kolm statistikavaldkondade liigituse teise taseme järg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2DE9-6F34-48E1-8281-A2E65015653E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ECD4-C56C-41B2-A44F-EA8AC57E8EB7}" type="slidenum">
              <a:rPr b="1" lang="et-EE" sz="1200" spc="-1" strike="noStrike">
                <a:solidFill>
                  <a:srgbClr val="003951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ikoon2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4572000" y="6629400"/>
            <a:ext cx="3629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124740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t-E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0000"/>
                </a:solidFill>
                <a:latin typeface="Times New Roman"/>
              </a:rPr>
              <a:t>11.02.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4427640" y="6629400"/>
            <a:ext cx="3773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Muudatustest statistikaprogrammi koostamisel</a:t>
            </a:r>
            <a:endParaRPr b="1" lang="en-US" sz="1200" spc="-1" strike="noStrike">
              <a:solidFill>
                <a:srgbClr val="003951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7000"/>
            <a:ext cx="2362320" cy="6858000"/>
            <a:chOff x="0" y="27000"/>
            <a:chExt cx="2362320" cy="6858000"/>
          </a:xfrm>
        </p:grpSpPr>
        <p:sp>
          <p:nvSpPr>
            <p:cNvPr id="44" name="Rectangle 5"/>
            <p:cNvSpPr/>
            <p:nvPr/>
          </p:nvSpPr>
          <p:spPr>
            <a:xfrm>
              <a:off x="0" y="27000"/>
              <a:ext cx="114300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1066680" y="27000"/>
              <a:ext cx="1295640" cy="99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1" lang="en-US" sz="3200" spc="-1" strike="noStrike">
                <a:solidFill>
                  <a:srgbClr val="003951"/>
                </a:solidFill>
                <a:latin typeface="Arial"/>
              </a:endParaRPr>
            </a:p>
          </p:txBody>
        </p:sp>
        <p:pic>
          <p:nvPicPr>
            <p:cNvPr id="46" name="Picture 7" descr="logo"/>
            <p:cNvPicPr/>
            <p:nvPr/>
          </p:nvPicPr>
          <p:blipFill>
            <a:blip r:embed="rId2"/>
            <a:stretch/>
          </p:blipFill>
          <p:spPr>
            <a:xfrm>
              <a:off x="0" y="27000"/>
              <a:ext cx="107964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678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1258560" y="47592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sini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kollane_est"/>
          <p:cNvPicPr/>
          <p:nvPr/>
        </p:nvPicPr>
        <p:blipFill>
          <a:blip r:embed="rId2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punane_est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Untitled-1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1079640" indent="-3636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795320" indent="-36324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2203560" indent="-228600">
              <a:spcBef>
                <a:spcPts val="601"/>
              </a:spcBef>
              <a:buClr>
                <a:srgbClr val="00395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611440" indent="-228600">
              <a:spcBef>
                <a:spcPts val="601"/>
              </a:spcBef>
              <a:buClr>
                <a:srgbClr val="00395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28440" y="1999800"/>
            <a:ext cx="449892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951"/>
                </a:solidFill>
                <a:latin typeface="Arial"/>
              </a:rPr>
              <a:t>Statistikaprogrammi ajakava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899640" y="3789360"/>
            <a:ext cx="44960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Infotund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951"/>
                </a:solidFill>
                <a:latin typeface="Arial"/>
              </a:rPr>
              <a:t>11. veebruar 2010</a:t>
            </a: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A eesmär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tööde loetelu esitamine Rahandusministeeriumile ja kooskõlastajatele hiljemalt </a:t>
            </a:r>
            <a:r>
              <a:rPr b="0" lang="en-US" sz="2400" spc="-1" strike="noStrike" u="sng">
                <a:solidFill>
                  <a:srgbClr val="003951"/>
                </a:solidFill>
                <a:uFillTx/>
                <a:latin typeface="Arial"/>
              </a:rPr>
              <a:t>1. juuliks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5992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 tunnused statistikaprogrammis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Nimetus ja koo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Õiguslik alus või avalikku huvi esindav asutu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eldatav maksumus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Väljun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agedus või momen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fo kavandatavate metoodikamuudatust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öö teostamise aas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Põhi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baasosa, standardväljundi koostamine andmebaasis avaldamiseks, t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äiendavad tööd, mis kulu ei lisa (nt täiendavad näitajad)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Ebaregulaarne statistika ― u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ringute moodulid, ühekordsed uuringud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ka arendus ― riikliku statistika jaoks andmete kogumise, nende statistilise töötlemise, analüüsi, levitamise ja säilitamise arendamine, sh </a:t>
            </a: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uute näitajate väljatöötamine, ettevalmistustööd uue uuringu algatamiseks,  olemasolevate uuringute metoodika arendamine, klassifikaatorite uuendamine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Statistikatööde liigid (II)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47400" y="2133360"/>
            <a:ext cx="7682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analüüs ― tööd, mille väljund on artikkel, artiklite kogumik, väljaanne  jms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Investeeringud 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72f16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tatistiline register ― statistiliste üksuste andmete kogum, mida kasutatakse riikliku statistika tegemis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Edasised tegevused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2400" spc="-1" strike="noStrike">
              <a:solidFill>
                <a:srgbClr val="003951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071720" y="1908000"/>
          <a:ext cx="7786440" cy="3630960"/>
        </p:xfrm>
        <a:graphic>
          <a:graphicData uri="http://schemas.openxmlformats.org/drawingml/2006/table">
            <a:tbl>
              <a:tblPr/>
              <a:tblGrid>
                <a:gridCol w="2286000"/>
                <a:gridCol w="5500440"/>
              </a:tblGrid>
              <a:tr h="45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32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eea0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6.02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A kiri 2011.a statistikaprogrammi kohta ettepanekute küsimiseks 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9.03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Lõpptähtaeg 2011.a statistikaprogrammi kohta ettepanekute tegemiseks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17.02.-19.04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Vastavalt tehtud ettepanekutele statistikatööde loetelu, statistikatöö kirjelduse ja väljundnäitajate kirjelduse kooskõlastamine statistikatarbijate esindajatega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cf0"/>
                    </a:solidFill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30.06.2010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951"/>
                          </a:solidFill>
                          <a:latin typeface="Arial"/>
                        </a:rPr>
                        <a:t>Statistikaprogrammi esitamine RM</a:t>
                      </a:r>
                      <a:endParaRPr b="1" lang="en-US" sz="2000" spc="-1" strike="noStrike">
                        <a:solidFill>
                          <a:srgbClr val="00395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8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124776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58560" y="1196640"/>
            <a:ext cx="74898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Oluline link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Info seniste riiklike statistiliste vaatluste, statistikaprogrammi ja arendustööde kohta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buClr>
                <a:srgbClr val="a72f1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400" spc="-1" strike="noStrike">
                <a:solidFill>
                  <a:srgbClr val="003951"/>
                </a:solidFill>
                <a:latin typeface="Arial"/>
              </a:rPr>
              <a:t>Koht ettepanekute tegemiseks statistikaprogrammi </a:t>
            </a:r>
            <a:r>
              <a:rPr b="0" lang="et-EE" sz="2400" spc="-1" strike="noStrike" u="sng">
                <a:solidFill>
                  <a:srgbClr val="003951"/>
                </a:solidFill>
                <a:uFillTx/>
                <a:latin typeface="Arial"/>
              </a:rPr>
              <a:t>http://www.stat.ee/tooplaan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marL="361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t-EE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3T06:06:14Z</dcterms:created>
  <dc:creator>user</dc:creator>
  <dc:description/>
  <dc:language>en-US</dc:language>
  <cp:lastModifiedBy>Erik Aliorg</cp:lastModifiedBy>
  <dcterms:modified xsi:type="dcterms:W3CDTF">2010-08-05T06:35:24Z</dcterms:modified>
  <cp:revision>115</cp:revision>
  <dc:subject/>
  <dc:title>Slide 1</dc:title>
</cp:coreProperties>
</file>