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&lt;footer&gt;</a:t>
            </a: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0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&lt;footer&gt;</a:t>
            </a: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0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83" name="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Mõningad hinnaarengud Eestis ja mujal maailmas 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1989000"/>
            <a:ext cx="4496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emaailmse statistikapäev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onverents „Eesti statistika luubi all” 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hinna- ja palgastatistika osakonna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arbijahinnaindeks. </a:t>
            </a:r>
            <a:br>
              <a:rPr sz="3200"/>
            </a:b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iim ja piimatoo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71640" y="1574640"/>
            <a:ext cx="6242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ööstustoodangu tootjahinnaindeks (siseturg) ja tarbijahinnaindek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2420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ööstustoodangu tootjahinnaindeksid ja tarbijahinnaindeks. Juu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55800" y="1557360"/>
            <a:ext cx="72324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ijahindade harmoneeritud indeks.</a:t>
            </a:r>
            <a:br>
              <a:rPr sz="2800"/>
            </a:b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Piim, juust ja munad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60480" y="1557360"/>
            <a:ext cx="72230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60480" y="1557360"/>
            <a:ext cx="7223040" cy="41241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ijahinnaindeks”. </a:t>
            </a:r>
            <a:br>
              <a:rPr sz="2800"/>
            </a:b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Piim, juust ja muna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äna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Hinnaarengute mõõtmi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õjajärgse Eesti esimesed hinnaindeksid avaldati 1990. aasta kevad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simene oli praeguse tarbijahinnaindeksi eelkäija nime all “elukalliduse indeks”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raegu on andmebaasis 17 erinevat tarbija-, tootja-, ekspordi-, impordi-, ehituse- ja põllumajanduse hinnaindeksi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ga liitu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uroga liitumiseks vajaliku inflatsioonikriteeriumi täitmise nõudega tuli kaasa kõrgendatud tähelepanu meie tarbijahinnaindeksitele, mis kindlasti püsib ka pärast euro käibeletuleku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lates euroga liitumisest tuleb Euroopasse edastada tööstustoodangu tootjahinnaindeks ja impordihinnaindeks eraldi eurotsooni ja mitte-eurotsoon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isa hinnaindeksitel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2011. aasta lõpuks tuleb juurutada eluaseme omamise ja soetusega seotud hinnaindeks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essurssi ootavad seni juurutamata äriteenuste hinnaindeks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Piimast ja piimatoodete hinnaarengutest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852640"/>
            <a:ext cx="7515360" cy="35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õik järgnevad slaidid on aastate 2009 ja 2010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iima kokkuo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42920" y="1374840"/>
            <a:ext cx="6145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oorpiima kokkuostuhin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90640" y="1346040"/>
            <a:ext cx="63453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oorpiima ekspor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26920" y="1346040"/>
            <a:ext cx="63565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749016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Tööstustoodangu tootjahinnaindeks.</a:t>
            </a:r>
            <a:br>
              <a:rPr sz="3000"/>
            </a:b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Piima töötlemine, piimatoodete ja juustu tootmine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22304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cp:lastPrinted>2010-10-20T06:37:27Z</cp:lastPrinted>
  <dcterms:modified xsi:type="dcterms:W3CDTF">2010-10-20T08:44:32Z</dcterms:modified>
  <cp:revision>43</cp:revision>
  <dc:subject/>
  <dc:title>Slide 1</dc:title>
</cp:coreProperties>
</file>