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0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Diana Beltadz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0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Diana Beltadz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83" name="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44989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Rahvaloendus — maailma statistikute tuleproov 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14400" y="2133360"/>
            <a:ext cx="44956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Ülemaailmse statistikapäev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konverents „Eesti statistika luubi all”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Diana Beltadz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REL2011 projektijuh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Mida nõutakse loenduse läbiviijatelt?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rapooletus, objektiivsus ja teaduslik sõltum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ähtumine läbipaistvuse, usaldusväärsuse, asjakohasuse, kulutasuvuse ja statistilise konfidentsiaalsuse põhimõte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agada programmiühtsus ja ühteviisi lähenemine loendatavatele kokkulepitud loendusaja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Milles seisneb tuleproov?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78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Metoodika ja tehnoloogiliste võimaluste mitmekesisus, esitab väljakutseid statistikutele leida paindlikumaid lahendusi rahvaloenduse läbivii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Loendus pole ülelugemine ega kokkulugemine, see on nimeloendi alusel kõikne loendamine, mis nõuab põhjalikku ja detailset ettevalmistami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Elanikkond on järjest mobiilsem, seega raskesti kättesaada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Vajadus üksikasjalikuma statistika jär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Andmed vananevad kiirest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Loenduse kasutegur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võimalikud andmed erinevatest vaatenurkadest kõige väiksema üksuse tasandil 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vahend jooksva statistika inventuuri tegemisek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408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011. aasta rahvaloendus Eest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678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iiakse läbi  rahva ja eluruumide loendus (REL 201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oendusmoment 2011. aasta 31.detsember kell 00.00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imub kõikne loendus segameetodil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Andmeallikate kasutamine - osa andmeid võetakse registrist ja ei küsita vastajatelt, suurem osa andmeid küsitakse otse vastajat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. Vastamise metoodika - kasutatakse paralleelset e-loendust, küsitlust ja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prox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-intervjuu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2362320" cy="6858000"/>
            <a:chOff x="0" y="0"/>
            <a:chExt cx="2362320" cy="6858000"/>
          </a:xfrm>
        </p:grpSpPr>
        <p:sp>
          <p:nvSpPr>
            <p:cNvPr id="281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47760" y="620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ttevalmistused Eesti rahvaloendu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28400" y="1382400"/>
            <a:ext cx="8334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420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31.12.2009-31.03.2010 toimus prooviloendus, eesmärgiks oli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20480" indent="-420480">
              <a:spcBef>
                <a:spcPts val="1500"/>
              </a:spcBef>
              <a:buClr>
                <a:srgbClr val="b22f1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stida  küsimustikk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20480" indent="-420480">
              <a:spcBef>
                <a:spcPts val="1500"/>
              </a:spcBef>
              <a:buClr>
                <a:srgbClr val="b22f1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stida loendajate töötingimusi, tööaja struktuuri ja töökoorm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20480" indent="-420480">
              <a:spcBef>
                <a:spcPts val="1500"/>
              </a:spcBef>
              <a:buClr>
                <a:srgbClr val="b22f1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tsetada digitaalsete rahvaloenduskaartide 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20480" indent="-420480">
              <a:spcBef>
                <a:spcPts val="1500"/>
              </a:spcBef>
              <a:buClr>
                <a:srgbClr val="b22f1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tsetada loendusandmete töötlemise tehnoloogi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20480" indent="-420480">
              <a:spcBef>
                <a:spcPts val="1500"/>
              </a:spcBef>
              <a:buClr>
                <a:srgbClr val="b22f1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stida välitööde monitoo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20480" indent="-420480">
              <a:spcBef>
                <a:spcPts val="1500"/>
              </a:spcBef>
              <a:buClr>
                <a:srgbClr val="b22f1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stida loenduse korrald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20480" indent="-420480">
              <a:spcBef>
                <a:spcPts val="1500"/>
              </a:spcBef>
              <a:buClr>
                <a:srgbClr val="b22f1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elgitada välja inimeste valmisolek loenduseks osale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20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675640" y="13500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Õnnestumise kriteeriumid: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etus inimeste ja tunnuste lõike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saldusväärsed ja võrreldavad 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agada ehe pilt rahvastikust kindla ajahetke seisu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iia läbi loendus vastavalt riigi ja ühiskonna huv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-loendusel vastamise määr on kõrg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 al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6784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õna statistika pärineb ladina keelsest sõnast “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Statu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”, mis tähendab olukorda või seisundit. Keskajal käibel sõna “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statisticum”,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millest saab alguse mõiste riigiteadus ja selle baasilt saab alguse mõiste “poliitiline aritmeetika”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õna “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statistik”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tuleneb saksa keelest ja tähendab riigiandmete analüüsi, tänapäevane mõiste käsitlus, mis uurib objektide hulka arvandmete põhjal pärineb 18.sajandi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oenduse al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oendus “ - vanades tsivilisatsioonides tähenduses ülelugemine, kokkulugemine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us toimus esimene loendus (Kanada, USA, Inglismaa, Belgia)?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ulaarne rahvaloenduse korraldus Euroopas on alates aastast 1801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.Jordan Eestimaa Kubermangu Statistikakomitee sekretär korraldas loendusi Eestimaa Kubermangus 1871 a. ja1881 a. Eesti maa-alal (va Narva ja Petserimaa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ahvastikustatistika tegemise viis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67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547640" y="1628640"/>
            <a:ext cx="5981760" cy="4343040"/>
            <a:chOff x="1547640" y="1628640"/>
            <a:chExt cx="5981760" cy="4343040"/>
          </a:xfrm>
        </p:grpSpPr>
        <p:sp>
          <p:nvSpPr>
            <p:cNvPr id="250" name=""/>
            <p:cNvSpPr/>
            <p:nvPr/>
          </p:nvSpPr>
          <p:spPr>
            <a:xfrm>
              <a:off x="2987640" y="2515320"/>
              <a:ext cx="3082680" cy="266148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951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951"/>
                  </a:solidFill>
                  <a:latin typeface="Arial"/>
                </a:rPr>
                <a:t>rahvastiku-   statistika</a:t>
              </a:r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47640" y="5085000"/>
              <a:ext cx="1771560" cy="886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</a:rPr>
                <a:t>Dünaamiline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52560" y="1628640"/>
              <a:ext cx="1771920" cy="886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951"/>
                  </a:solidFill>
                  <a:latin typeface="Arial"/>
                </a:rPr>
                <a:t>Staatiline</a:t>
              </a:r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57840" y="5085000"/>
              <a:ext cx="1771560" cy="886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</a:rPr>
                <a:t>Registreeri-tud arvepida-mine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s 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loendu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oor 2010/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6784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RO Statistika Divisjon algatas programmi “2010 World Programme of Population and Housing Censuses” uue loenduse korraldamiseks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010 algas maailmas uus  loendusvoor. Loendused on läbi USAs, Valgevenes, Indias, Kõrgõzstanis, Tadžikistanis ning momendil on  toimumas Venemaal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011 algab loendusvoor Euroopa Liidus. Tulemused on vajalikud ühenduse teatavaid valdkondi mõjutava regionaal-, sotsiaal- ja keskkonnapoliitika uurimiseks ja määratlemiseks. Samuti vajatakse teavet, et toetada erinevaid tegevusi nagu sotsiaalse kaasamise edendamine või nt energiatõhususe edendamine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oenduse algused Euroopa Lii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95280" y="1197000"/>
          <a:ext cx="8553600" cy="4448160"/>
        </p:xfrm>
        <a:graphic>
          <a:graphicData uri="http://schemas.openxmlformats.org/drawingml/2006/table">
            <a:tbl>
              <a:tblPr/>
              <a:tblGrid>
                <a:gridCol w="888840"/>
                <a:gridCol w="363600"/>
                <a:gridCol w="1184400"/>
                <a:gridCol w="76320"/>
                <a:gridCol w="1109520"/>
                <a:gridCol w="71280"/>
                <a:gridCol w="1212840"/>
                <a:gridCol w="61920"/>
                <a:gridCol w="1148040"/>
                <a:gridCol w="73080"/>
                <a:gridCol w="1204920"/>
                <a:gridCol w="50760"/>
                <a:gridCol w="1108080"/>
              </a:tblGrid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dets.10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oome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jaan.11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Belgi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Taani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Prantsusma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Holland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loveeni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veebr.11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395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Luksemburg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märts.11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395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Bulgaari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Läti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Leedu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395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Kreek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Tšehhi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Pool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95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pr.11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395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Iirima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95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mai.11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aksama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395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lovakki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okt.11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395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Küpros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Ungari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Itaali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ustri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95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nov.11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395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Malt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Hispaania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95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dets.11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Eesti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Rootsi</a:t>
                      </a:r>
                      <a:endParaRPr b="0" lang="en-US" sz="17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5796000" y="5013360"/>
            <a:ext cx="2879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11280" y="5661000"/>
          <a:ext cx="2077920" cy="925560"/>
        </p:xfrm>
        <a:graphic>
          <a:graphicData uri="http://schemas.openxmlformats.org/drawingml/2006/table">
            <a:tbl>
              <a:tblPr/>
              <a:tblGrid>
                <a:gridCol w="571320"/>
                <a:gridCol w="1506600"/>
              </a:tblGrid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Registripõhine</a:t>
                      </a:r>
                      <a:endParaRPr b="0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ombineeritud</a:t>
                      </a:r>
                      <a:endParaRPr b="0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951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Jadaloendus</a:t>
                      </a:r>
                      <a:endParaRPr b="0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1800" indent="-361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Traditsiooniline</a:t>
                      </a:r>
                      <a:endParaRPr b="0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oendusmeetodid Euroopa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5373720"/>
            <a:ext cx="2520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26920" y="5373720"/>
            <a:ext cx="2449800" cy="1454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492360" y="5373720"/>
            <a:ext cx="2016360" cy="1185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093080" y="5373720"/>
            <a:ext cx="1079280" cy="455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3678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476360" y="1484280"/>
            <a:ext cx="633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oendusviiside valikud maailma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151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-loendus, uues voorus 16 riiki, 2000 voorus oli 5 riik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egistrite kasutamine andmeallikatena loendu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õige odavam loendusviis on 2010 loendusvooru esialgsete andmete põhjal hinnatud registripõhine loendusvi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õige kallim on traditsioonilise loenduse läbiviimine, kulud on kasvanu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oendusmeetodid aja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5280" y="2333520"/>
          <a:ext cx="4106880" cy="242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33520"/>
                    <a:ext cx="410688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900000" y="5805360"/>
            <a:ext cx="3527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1970-2000 32 riiki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2010 50 riiki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04640" y="1677960"/>
            <a:ext cx="8775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10-20T15:45:03Z</dcterms:modified>
  <cp:revision>28</cp:revision>
  <dc:subject/>
  <dc:title>Slide 1</dc:title>
</cp:coreProperties>
</file>