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Test pealki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6CE65-48F8-4815-A014-10B6DB26FA71}" type="slidenum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5EB65-1605-4099-AB12-E17C072E3BE2}" type="slidenum">
              <a:rPr b="1" lang="en-GB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33640" y="701640"/>
            <a:ext cx="4590720" cy="3443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25560" y="4356000"/>
            <a:ext cx="5006880" cy="49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ikoon2"/>
          <p:cNvPicPr/>
          <p:nvPr/>
        </p:nvPicPr>
        <p:blipFill>
          <a:blip r:embed="rId2"/>
          <a:stretch/>
        </p:blipFill>
        <p:spPr>
          <a:xfrm>
            <a:off x="0" y="0"/>
            <a:ext cx="24796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4572000" y="6629040"/>
            <a:ext cx="42148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tatistikanõukogus riikliku statistika põhimõte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8.02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4"/>
          <p:cNvGrpSpPr/>
          <p:nvPr/>
        </p:nvGrpSpPr>
        <p:grpSpPr>
          <a:xfrm>
            <a:off x="0" y="27000"/>
            <a:ext cx="2362320" cy="6858000"/>
            <a:chOff x="0" y="27000"/>
            <a:chExt cx="2362320" cy="6858000"/>
          </a:xfrm>
        </p:grpSpPr>
        <p:sp>
          <p:nvSpPr>
            <p:cNvPr id="42" name="Rectangle 5"/>
            <p:cNvSpPr/>
            <p:nvPr/>
          </p:nvSpPr>
          <p:spPr>
            <a:xfrm>
              <a:off x="0" y="27000"/>
              <a:ext cx="1143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43" name="Rectangle 6"/>
            <p:cNvSpPr/>
            <p:nvPr/>
          </p:nvSpPr>
          <p:spPr>
            <a:xfrm>
              <a:off x="1066680" y="27000"/>
              <a:ext cx="129564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pic>
          <p:nvPicPr>
            <p:cNvPr id="44" name="Picture 7" descr="logo"/>
            <p:cNvPicPr/>
            <p:nvPr/>
          </p:nvPicPr>
          <p:blipFill>
            <a:blip r:embed="rId2"/>
            <a:stretch/>
          </p:blipFill>
          <p:spPr>
            <a:xfrm>
              <a:off x="0" y="27000"/>
              <a:ext cx="107964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3"/>
          </p:nvPr>
        </p:nvSpPr>
        <p:spPr>
          <a:xfrm>
            <a:off x="4572000" y="6629040"/>
            <a:ext cx="42148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tatistikanõukogus riikliku statistika põhimõte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8.02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sinine_est"/>
          <p:cNvPicPr/>
          <p:nvPr/>
        </p:nvPicPr>
        <p:blipFill>
          <a:blip r:embed="rId2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kollane_est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punane_est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Untitled-1"/>
          <p:cNvPicPr/>
          <p:nvPr/>
        </p:nvPicPr>
        <p:blipFill>
          <a:blip r:embed="rId2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28440" y="1999800"/>
            <a:ext cx="449892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000" spc="-1" strike="noStrike">
                <a:solidFill>
                  <a:srgbClr val="003951"/>
                </a:solidFill>
                <a:latin typeface="Arial"/>
              </a:rPr>
              <a:t>Riikliku statistika tegemise põhimõtted</a:t>
            </a:r>
            <a:endParaRPr b="1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928800" y="3142800"/>
            <a:ext cx="44956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Statistikanõukogu koosolekul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Tuulikki Sillajõe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Statistikaameti peadirektori asetäitja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0" name="TextBox 3"/>
          <p:cNvSpPr/>
          <p:nvPr/>
        </p:nvSpPr>
        <p:spPr>
          <a:xfrm>
            <a:off x="2071800" y="4929120"/>
            <a:ext cx="1839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3. Ressursside piisav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tatistikaasutuste käsutuses olevad ressursid peavad olema piisavad, et oleks võimalik täita statistikaalaseid nõudeid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inim-, finants- ja infotehnoloogilised ressursid on piisavad nii kvantiteedilt kui ka kvaliteedil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on menetlused uue statistika nõudluse hindamiseks ja põhjendamiseks vastavalt tehtavatele kulutustel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on menetlused statistika vajaduse jätkumise hindamiseks, et teha kindlaks, kas statistika mahtu vähendada ressursside vabastamise eesmärgi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4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5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4. K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  <a:ea typeface="Times New Roman"/>
              </a:rPr>
              <a:t>valiteedinõuete järgimin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õik Euroopa statistikasüsteemi liikmed kohustuvad töötama ja koostööd tegema, lähtudes Euroopa statistikasüsteemi kvaliteedideklaratsioonis sätestatud põhimõtetest.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oote kvaliteeti jälgitakse vastavalt Euroopa statistikasüsteemi (ESS) </a:t>
            </a:r>
            <a:r>
              <a:rPr b="0" lang="et-EE" sz="2400" spc="-1" strike="noStrike">
                <a:solidFill>
                  <a:srgbClr val="a30021"/>
                </a:solidFill>
                <a:latin typeface="Arial"/>
              </a:rPr>
              <a:t>kvaliteedikomponentidel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valiteedijuhised on dokumenteeritud ja üldsusele teatavaks tehtud, personal on hea ettevalmistuseg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 põhiväljundid vaadatakse üle regulaarselt ja põhjalikult, vajadusel kaasates sellesse välisekspert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8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9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285560" y="9284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5. Statistiline konfidentsiaals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4280" y="178560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32640" indent="-33264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300" spc="-1" strike="noStrike">
                <a:solidFill>
                  <a:srgbClr val="003951"/>
                </a:solidFill>
                <a:latin typeface="Arial"/>
              </a:rPr>
              <a:t>T</a:t>
            </a:r>
            <a:r>
              <a:rPr b="0" lang="et-EE" sz="2300" spc="-1" strike="noStrike">
                <a:solidFill>
                  <a:srgbClr val="003951"/>
                </a:solidFill>
                <a:latin typeface="Arial"/>
                <a:ea typeface="Times New Roman"/>
              </a:rPr>
              <a:t>äielikult tuleb tagada andmeesitajate </a:t>
            </a:r>
            <a:r>
              <a:rPr b="0" lang="et-EE" sz="2300" spc="-1" strike="noStrike">
                <a:solidFill>
                  <a:srgbClr val="003951"/>
                </a:solidFill>
                <a:latin typeface="Arial"/>
              </a:rPr>
              <a:t>(</a:t>
            </a:r>
            <a:r>
              <a:rPr b="0" lang="et-EE" sz="2300" spc="-1" strike="noStrike">
                <a:solidFill>
                  <a:srgbClr val="003951"/>
                </a:solidFill>
                <a:latin typeface="Arial"/>
                <a:ea typeface="Times New Roman"/>
              </a:rPr>
              <a:t>kodumaja</a:t>
            </a:r>
            <a:r>
              <a:rPr b="0" lang="et-EE" sz="2300" spc="-1" strike="noStrike">
                <a:solidFill>
                  <a:srgbClr val="003951"/>
                </a:solidFill>
                <a:latin typeface="Arial"/>
              </a:rPr>
              <a:t>-</a:t>
            </a:r>
            <a:r>
              <a:rPr b="0" lang="et-EE" sz="2300" spc="-1" strike="noStrike">
                <a:solidFill>
                  <a:srgbClr val="003951"/>
                </a:solidFill>
                <a:latin typeface="Arial"/>
                <a:ea typeface="Times New Roman"/>
              </a:rPr>
              <a:t>pidamised, ettevõtted, haldusasutused ja teised andmeesitajad) esitatud teabe kasutamine ainult statistilistel eesmärkidel.</a:t>
            </a:r>
            <a:endParaRPr b="0" lang="en-US" sz="2300" spc="-1" strike="noStrike">
              <a:solidFill>
                <a:srgbClr val="003951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statistiline konfidentsiaalsus on seadusega sätestatud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ametisse määramisel kirjutavad statistikaasutuse töötajad</a:t>
            </a:r>
            <a:br>
              <a:rPr sz="2200"/>
            </a:b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alla konfidentsiaalsuse kohustusele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statistilise konfidentsiaalsuse rikkumise puhul on ette nähtud karmid karistused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suunised statistilise konfidentsiaalsuse tagamiseks on</a:t>
            </a:r>
            <a:br>
              <a:rPr sz="2200"/>
            </a:b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olemas kirjalikus vormis ning üldsusele kättesaadavad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on kasutusel füüsilised ja tehnoloogilised meetmed andmebaaside turvalisuse ja terviklikkuse kaitseks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2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3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Statistiline konfidentsiaals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oosneb kolmest võrdselt olulisest komponendist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üksikute statistiliste üksustega seotud andmete kaitse (võrdselt nii füüsilise kui ka juriidilise isiku puhul);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iikliku statistika tegemiseks kogutud andmete muudeks kui statistilisteks eesmärkideks kasutamise keeld;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iikliku statistika tegemiseks kogutud andmete ebaseadusliku levitamise keeld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õik kolm kehtivad alaliselt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6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7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6. Erapooletus ja objektiivs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1214280" y="192852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43440" indent="-34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asutused peavad tegema statistikat teaduslikku sõltumatust tunnustades ning objektiivsel, professionaalsel ja läbipaistval viisil, koheldes kõiki tarbijaid võrdväärselt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43440" indent="-34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43440" indent="-34344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valdamisel on tagatud kõigile tarbijatele samaaegne ja võrdne juurdepääs statistikal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43440" indent="-34344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valdatud statistikas avastatud vead parandatakse võimalikult kiiresti ning üldsust teavitatakse paranduste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43440" indent="-34344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eave statistikaasutuse kasutatavate meetodite ning menetluste kohta on üldsusele kättesaadav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43440" indent="-34344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 avaldamise kuupäevad ja kellaajad antakse eelnevalt tead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0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1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7. Läbimõeldud metoodika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57840" indent="-35784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3951"/>
              </a:solidFill>
              <a:latin typeface="Arial"/>
            </a:endParaRPr>
          </a:p>
          <a:p>
            <a:pPr marL="357840" indent="-357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Kvaliteetse statistika aluseks on läbimõeldud metoodika. Selle jaoks on vaja asjakohaseid vahendeid, menetlusi ning asjatundlikkust.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57840" indent="-35784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57840" indent="-357840">
              <a:lnSpc>
                <a:spcPct val="80000"/>
              </a:lnSpc>
              <a:spcBef>
                <a:spcPts val="550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kasutatav metoodika järgib rahvusvahelisi standardeid, suuniseid ja häid tavasid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57840" indent="-357840">
              <a:lnSpc>
                <a:spcPct val="80000"/>
              </a:lnSpc>
              <a:spcBef>
                <a:spcPts val="550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riiklikud klassifikaatorid on täielikus vastavuses Euroopa omadega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57840" indent="-357840">
              <a:lnSpc>
                <a:spcPct val="80000"/>
              </a:lnSpc>
              <a:spcBef>
                <a:spcPts val="550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on olemas menetlused, millega tagatakse standardmõistete, -definitsioonide ja -klassifikaatorite järjekindel kasutamine kogu statistikaasutuses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57840" indent="-357840">
              <a:lnSpc>
                <a:spcPct val="80000"/>
              </a:lnSpc>
              <a:spcBef>
                <a:spcPts val="550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kvaliteedi tagamiseks hinnatakse ning vastavalt vajadusele kohandatakse regulaarselt ettevõtete registrit ning rahvastiku statistilist registrit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4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5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8. Asjakohased statistikaalased menetluse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1285920" y="2000160"/>
            <a:ext cx="751536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47040" indent="-347040">
              <a:lnSpc>
                <a:spcPct val="8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3951"/>
              </a:solidFill>
              <a:latin typeface="Arial"/>
            </a:endParaRPr>
          </a:p>
          <a:p>
            <a:pPr marL="347040" indent="-34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valiteetse statistika aluseks on asjakohased statistikaalased menetlused, mida rakendatakse alates andmete kogumisest kuni andmete õigsuse kontrollini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47040" indent="-3470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951"/>
              </a:solidFill>
              <a:latin typeface="Arial"/>
            </a:endParaRPr>
          </a:p>
          <a:p>
            <a:pPr marL="347040" indent="-34704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gulaarselt jälgitakse ja vajaduse korral uuendatakse välitööde korraldust, andmete sisestamist ning kodeerimi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47040" indent="-34704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asutatavaid küsimustikke testitakse süstemaatilisel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47040" indent="-34704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te kontrollimiseks, parandamiseks ja imputeerimiseks kasutatakse asjakohaseid arvutisüsteem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47040" indent="-34704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aatluse kavandamine, valimi moodustamine ja valimikaalude määramise menetlusi kontrollitakse ja ajakohastatakse regulaarselt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8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9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9. Andmeesitajate mitteülemäärane koorm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esitajate koormus peab vastama tarbijate vajadustele ning ei tohi olla andmeesitajate jaoks liiga suur. Statistikaasutus jälgib andmeesitajate koormust ning seab eesmärgid aja jooksul nimetatud koormuse vähendamiseks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kogumisel piirdutakse vältimatult vajalikug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esitajate koormus jaotatakse võimalikult ühtlaselt, kasutades vastavaid valikumeetodei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ttevõtetelt puhul kasutatakse nii palju kui võimalik nende raamatupidamisandmetest kättesaadavat teavet, andmete esitamise hõlbustamiseks kasutatakse elektroonilisi vahendei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dministratiivseid andmeallikaid nii palju kui võimalik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2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3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10. Tasuv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54240" indent="-354240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ssursse tuleb kasutada efektiivselt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isemiste ja sõltumatute väliste meetmete abil jälgitakse statistikaasutuse ressursside kasutami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utiinsed tegevused (nt andmete sisestamine, kodeerimine, õigsuse kontroll) on nii suurel määral kui võimalik automatiseeritu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te kogumisel, töötlemisel ja levitamisel optimeeritakse info- ja kommunikatsioonitehnoloogia tootlikkuspotentsiaali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õetakse ennetavaid meetmeid, et suurendada administratiivsete registrite kasutamise potentsiaali statistilistel eesmärkidel ning vältida kulukate otsevaatluste korraldami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6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7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11. Asjakohas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 peab vastama tarbijate vajadustele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on olemas menetlused, tarbijatega konsulteerimis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ontrollitakse olemasoleva statistika vajalikkust tarbijatele ning nõustatakse tarbijaid uute vajaduste ja prioriteetide suhte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erioodiliselt korraldatakse tarbija rahulolu uuringui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0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1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iiklik statistika inglise keele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official statistic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state statistic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national statistic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public statistic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community statistic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European statistic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3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4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12. Täpsus ja usaldusväärs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uroopa statistika peab kajastama tegelikku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äpselt ja usaldusväärselt</a:t>
            </a:r>
            <a:r>
              <a:rPr b="0" i="1" lang="et-EE" sz="2400" spc="-1" strike="noStrike">
                <a:solidFill>
                  <a:srgbClr val="003951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lähteandmeid, vahetulemusi ja avaldatud statistikat hinnatakse ja nende õigsust kontrollitakse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alikuvigu ja valikust sõltumatuid vigu hinnatakse ning dokumenteeritakse süstemaatiliselt vastavalt ESSi kvaliteedikomponentidel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arandusi uuritakse ja analüüsitakse korrapäraselt ning tulemusi kasutatakse statistikaprotsesside täiustamis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4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5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13. Ajakohasus ja õigeaegs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lnSpc>
                <a:spcPct val="8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t tuleb levitada ajakohaselt ja õigeaegselt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 avaldamiseks on määratud kindel päevaaeg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 avaldamise perioodilisus arvestab nii palju kui võimalik tarbijate nõudmisi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iga kõrvalekaldumine avaldamise ajakavast tehakse eelnevalt avalikult teatavaks, seda põhjendatakse ning määratakse uus avaldamise aeg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astuvõetava üldkvaliteediga esialgseid tulemusi võib avaldada, kui seda peetakse vajaliku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8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9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14. Sidusus ja võrreldav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214280" y="171432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50640" indent="-35064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 peab olema valdkonniti ja ajaliselt järjepidev ning piirkonniti ja riigiti võrreldav; eri allikatest pärit omavahel seoses olevaid andmeid peab olema võimalik ühendada ning koos kasutada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lnSpc>
                <a:spcPct val="90000"/>
              </a:lnSpc>
              <a:spcBef>
                <a:spcPts val="499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ka on valdkonniti seostatav ja järjepidev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lnSpc>
                <a:spcPct val="90000"/>
              </a:lnSpc>
              <a:spcBef>
                <a:spcPts val="499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ka on mõistliku ajavahemiku kohta seostatav või kooskõla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lnSpc>
                <a:spcPct val="90000"/>
              </a:lnSpc>
              <a:spcBef>
                <a:spcPts val="499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kat tehakse vastavalt ühtsetele standarditele, mis käsitlevad statistika mahtu, definitsioone, üksusi ja klassifikaatoreid, sõltumata vaatlusest ja andmeallikast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lnSpc>
                <a:spcPct val="90000"/>
              </a:lnSpc>
              <a:spcBef>
                <a:spcPts val="499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ndmete riigiti võrreldavus tagatakse Euroopa statistikasüsteemi ja teiste statistikasüsteemide vahel toimuva andmevahetuse kaudu; metoodikaalased uurimused teostatakse liikmesriikide ja Eurostati vahel toimuvas tihedas koostöö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2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3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15. Kättesaadavus ja selg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54240" indent="-354240">
              <a:lnSpc>
                <a:spcPct val="8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Statistikat tuleb esitada selgel ja arusaadaval kujul ning levitada sobival ja otstarbekohasel viisil, see peab koos toetavate metaandmete ja juhtnööridega olema saadaval erapooletul moel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lnSpc>
                <a:spcPct val="80000"/>
              </a:lnSpc>
              <a:spcBef>
                <a:spcPts val="550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statistika esitatakse viisil, mis võimaldab andmeid õigesti tõlgendada ning teha sisulisi võrdlusi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lnSpc>
                <a:spcPct val="80000"/>
              </a:lnSpc>
              <a:spcBef>
                <a:spcPts val="550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statistika levitamisel kasutatakse ajakohast info- ja kommunikatsioonitehnoloogiat ning vajadusel tavapärast paberkandjat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lnSpc>
                <a:spcPct val="80000"/>
              </a:lnSpc>
              <a:spcBef>
                <a:spcPts val="550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võimaluse korral tehakse statistika tarbijate tellimusel analüüse ja tulemused avaldatakse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lnSpc>
                <a:spcPct val="80000"/>
              </a:lnSpc>
              <a:spcBef>
                <a:spcPts val="550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tarbijaid hoitakse kursis statistikaprotsesside metoodika ja statistikaväljundite kvaliteedi vastavusega Euroopa statistikasüsteemi kvaliteedikomponentidele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6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7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ÜRO käsiraa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Handbook of Statistical organization. UN, 2003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olmas väljaanne (esimene väljaanne 1954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ihtrühm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17144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ametite juhid;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17144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iikliku statistika üle järelevalve eest vastutaja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0" name="Date Placeholder 4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1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85560" y="9284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Noppeid statistikanõukogu kohta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247760" y="1571400"/>
            <a:ext cx="78962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marL="318240" indent="-318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... can be used for the defence of SA …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18240" indent="-318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… </a:t>
            </a: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guardian of fundamental values …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18240" indent="-318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… </a:t>
            </a: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g</a:t>
            </a:r>
            <a:r>
              <a:rPr b="0" i="1" lang="et-EE" sz="2400" spc="-1" strike="noStrike">
                <a:solidFill>
                  <a:srgbClr val="003951"/>
                </a:solidFill>
                <a:latin typeface="Arial"/>
              </a:rPr>
              <a:t>u</a:t>
            </a: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arantor that, within existing resources, SA preserves the best possible balance among economic, environmental and social statistics; national and regional details; reliability and timeliness …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18240" indent="-318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… </a:t>
            </a: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impartial validation of the professional opinion of chief statistician …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18240" indent="-318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… </a:t>
            </a: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members must share an understanding and interest in quantitative analysis …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18240" indent="-318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should not be involved in micromanagement of SA …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18240" indent="-318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deal with issues that are key to the survival of SA …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18240" indent="-318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18240" indent="-318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4" name="Date Placeholder 4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5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t-EE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3951"/>
                </a:solidFill>
                <a:latin typeface="Arial"/>
              </a:rPr>
              <a:t>Tänan tähelepanu eest!</a:t>
            </a:r>
            <a:endParaRPr b="0" lang="en-US" sz="32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uulikki.sillajoe@stat.e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8" name="Date Placeholder 4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9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iikliku statistika mõiste sisu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iikliku statistika põhiprintsiibid Euroopa Majanduskomisjoni piirkonnas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v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  <a:ea typeface="Times New Roman"/>
              </a:rPr>
              <a:t>astu võetud ÜRO Euroopa Majanduskomisjoni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  <a:ea typeface="Times New Roman"/>
              </a:rPr>
              <a:t>47. istungil 15.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04.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  <a:ea typeface="Times New Roman"/>
              </a:rPr>
              <a:t>1992 Genfis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uroopa statistika tegevusjuhis</a:t>
            </a:r>
            <a:br>
              <a:rPr sz="24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vastu võetud Statistikaprogrammi  Komiteel 24.02.2005)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Euroopa Liidu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Nõukogu määrus ühenduse statistika kohta 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v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  <a:ea typeface="Times New Roman"/>
              </a:rPr>
              <a:t>astu 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võetud 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  <a:ea typeface="Times New Roman"/>
              </a:rPr>
              <a:t>11.03.2009)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7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8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iiklik statistika EL leping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rtikkel 285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1. Ilma et see piiraks Euroopa Keskpankade Süsteemi ja Euroopa Keskpanga põhikirja käsitleva protokolli artikli 5 kohaldamist, võtab nõukogu vastavalt artiklis 251 sätestatud menetlusele meetmeid statistika koostamiseks, kui see on vajalik ühenduse tegevuseks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2. Ühenduse statistika koostamine on kooskõlas </a:t>
            </a:r>
            <a:r>
              <a:rPr b="0" lang="et-EE" sz="2400" spc="-1" strike="noStrike">
                <a:solidFill>
                  <a:srgbClr val="a72f16"/>
                </a:solidFill>
                <a:latin typeface="Arial"/>
              </a:rPr>
              <a:t>erapooletuse (1), usaldusväärsuse (2), objektiivsuse (3), teadusliku sõltumatuse (4), tasuvuse (5) ja statistilise konfidentsiaalsusega (6)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; see ei too majandusettevõtjatele kaasa ülemäärast koormat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1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2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iikliku statistika põhimõtte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metialane sõltumatus, erialane sõltumatus, teaduslik sõltumatus (</a:t>
            </a: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professional independence</a:t>
            </a:r>
            <a:r>
              <a:rPr b="0" i="1" lang="et-EE" sz="2400" spc="-1" strike="noStrike">
                <a:solidFill>
                  <a:srgbClr val="003951"/>
                </a:solidFill>
                <a:latin typeface="Arial"/>
              </a:rPr>
              <a:t>, </a:t>
            </a: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scientific independence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rapooletus (</a:t>
            </a: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impartiality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Objektiivsus (</a:t>
            </a: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objectivity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Usaldusväärsus (</a:t>
            </a: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reliability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line konfidentsiaalsus, andmete konfidentsiaalsus (</a:t>
            </a: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statistical confidentiality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asuvus (</a:t>
            </a: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cost effectiveness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5" name="Footer Placeholder 7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6" name="Date Placeholder 5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Euroopa statistika tegevusjuhi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oosneb 15 põhimõtte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6400" indent="-358920">
              <a:buClr>
                <a:srgbClr val="b22f1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institutsiooniline keskkond (1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Arial"/>
              </a:rPr>
              <a:t>–6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6400" indent="-358920">
              <a:buClr>
                <a:srgbClr val="b22f1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Arial"/>
              </a:rPr>
              <a:t>statistika protsessid (7–10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6400" indent="-358920">
              <a:buClr>
                <a:srgbClr val="b22f1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Arial"/>
              </a:rPr>
              <a:t>statistika väljund (11–15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Arial"/>
              </a:rPr>
              <a:t>iga põhimõtte kohta näitaja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6400" indent="-35892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nesehindamine 2005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6400" indent="-35892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ksperthindamine 2006–2008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9" name="Footer Placeholder 7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0" name="Date Placeholder 5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Euroopa statistika tegevusjuhi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28400" y="1071360"/>
            <a:ext cx="8367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273" name="Picture 7" descr="2"/>
          <p:cNvPicPr/>
          <p:nvPr/>
        </p:nvPicPr>
        <p:blipFill>
          <a:blip r:embed="rId1"/>
          <a:stretch/>
        </p:blipFill>
        <p:spPr>
          <a:xfrm>
            <a:off x="2071800" y="1071720"/>
            <a:ext cx="5726160" cy="46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1. Erialane sõltumat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214280" y="1857240"/>
            <a:ext cx="751536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50640" indent="-350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Statistika usaldatavuse tagab statistikaasutuste erialane sõltumatus poliitilistest, teistest regulatiiv- ja haldusüksustest ja -asutustest ning erasektorist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lnSpc>
                <a:spcPct val="9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asutuse sõltumatus on seadusega sätestatu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lnSpc>
                <a:spcPct val="9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asutuse juht on piisavalt kõrge ametnik, tagamaks ligipääsu poliitilistele ning haldusasutustele kõrgeimal tasem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lnSpc>
                <a:spcPct val="9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 avaldatakse poliitilistest avaldustest eraldi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lnSpc>
                <a:spcPct val="90000"/>
              </a:lnSpc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asutus kommenteerib avalikult riikliku statistika kritiseerimist ja väärkasutami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6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7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2. Volitus andmete kogumisek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214280" y="1857240"/>
            <a:ext cx="751536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43440" indent="-343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tatistikaasutustel peab olema selge juriidiline volitus teabe kogumiseks statistilistel eesmärkidel. Seadusega võib haldusasutusi, ettevõtteid, kodumaja-pidamisi ja üldsust kohustada statistikaasutuse nõudel võimaldama ligipääsu andmetele või esitama andmeid Euroopa statistilistel eesmärkidel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43440" indent="-3434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43440" indent="-343440"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te kogumise õigus on seadusega sätestatu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43440" indent="-343440"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õigus kasutada administratiivandmeid on seadusega sätestatu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43440" indent="-343440">
              <a:spcBef>
                <a:spcPts val="601"/>
              </a:spcBef>
              <a:buClr>
                <a:srgbClr val="b22f1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õigus nõuda andmete esitamist on seadusega sätestatu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0" name="Footer Placeholder 5"/>
          <p:cNvSpPr/>
          <p:nvPr/>
        </p:nvSpPr>
        <p:spPr>
          <a:xfrm>
            <a:off x="4572000" y="6629400"/>
            <a:ext cx="4214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Statistikanõukogus riikliku statistika põhimõtetest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1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2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08:34:46Z</dcterms:created>
  <dc:creator>ukun</dc:creator>
  <dc:description/>
  <dc:language>en-US</dc:language>
  <cp:lastModifiedBy>Tuulikki Sillajõe</cp:lastModifiedBy>
  <dcterms:modified xsi:type="dcterms:W3CDTF">2011-03-01T07:21:08Z</dcterms:modified>
  <cp:revision>130</cp:revision>
  <dc:subject/>
  <dc:title>Slide 1</dc:title>
</cp:coreProperties>
</file>