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Test pealki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20A1-CAA8-4855-B020-75FB1031C89A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9006-614E-4F27-B8D6-2B1B68EF2F46}" type="slidenum">
              <a:rPr b="1" lang="en-GB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33640" y="7016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25560" y="4356000"/>
            <a:ext cx="500688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4572000" y="6629040"/>
            <a:ext cx="4214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tatistikanõukogus riikliku statistika põhimõte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2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2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3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4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4572000" y="6629040"/>
            <a:ext cx="4214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tatistikanõukogus riikliku statistika põhimõte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2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4498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Riikliku statistika tegemise põhimõtted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28800" y="3142800"/>
            <a:ext cx="44956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koosolekul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Tuulikki Sillajõe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i peadirektori asetäitj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2071800" y="4929120"/>
            <a:ext cx="183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. Ressursside piisav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tatistikaasutuste käsutuses olevad ressursid peavad olema piisavad, et oleks võimalik täita statistikaalaseid nõudei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im-, finants- ja infotehnoloogilised ressursid on piisavad nii kvantiteedilt kui ka kvaliteedil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n menetlused uue statistika nõudluse hindamiseks ja põhjendamiseks vastavalt tehtavatele kulutust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n menetlused statistika vajaduse jätkumise hindamiseks, et teha kindlaks, kas statistika mahtu vähendada ressursside vabastamise eesmärgi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4. K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valiteedinõuete järgi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õik Euroopa statistikasüsteemi liikmed kohustuvad töötama ja koostööd tegema, lähtudes Euroopa statistikasüsteemi kvaliteedideklaratsioonis sätestatud põhimõtetest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oote kvaliteeti jälgitakse vastavalt Euroopa statistikasüsteemi (ESS) </a:t>
            </a:r>
            <a:r>
              <a:rPr b="0" lang="et-EE" sz="2400" spc="-1" strike="noStrike">
                <a:solidFill>
                  <a:srgbClr val="a30021"/>
                </a:solidFill>
                <a:latin typeface="Arial"/>
              </a:rPr>
              <a:t>kvaliteedikomponentid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valiteedijuhised on dokumenteeritud ja üldsusele teatavaks tehtud, personal on hea ettevalmistuse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põhiväljundid vaadatakse üle regulaarselt ja põhjalikult, vajadusel kaasates sellesse välisekspert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85560" y="9284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5. Statistiline konfidentsiaal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4280" y="178560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32640" indent="-3326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003951"/>
                </a:solidFill>
                <a:latin typeface="Arial"/>
              </a:rPr>
              <a:t>T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  <a:ea typeface="Times New Roman"/>
              </a:rPr>
              <a:t>äielikult tuleb tagada andmeesitajate 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</a:rPr>
              <a:t>(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  <a:ea typeface="Times New Roman"/>
              </a:rPr>
              <a:t>kodumaja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</a:rPr>
              <a:t>-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  <a:ea typeface="Times New Roman"/>
              </a:rPr>
              <a:t>pidamised, ettevõtted, haldusasutused ja teised andmeesitajad) esitatud teabe kasutamine ainult statistilistel eesmärkidel.</a:t>
            </a:r>
            <a:endParaRPr b="0" lang="en-US" sz="23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line konfidentsiaalsus on seadusega sätestatu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ametisse määramisel kirjutavad statistikaasutuse töötajad</a:t>
            </a:r>
            <a:br>
              <a:rPr sz="2200"/>
            </a:b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alla konfidentsiaalsuse kohustusel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lise konfidentsiaalsuse rikkumise puhul on ette nähtud karmid karistuse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uunised statistilise konfidentsiaalsuse tagamiseks on</a:t>
            </a:r>
            <a:br>
              <a:rPr sz="2200"/>
            </a:b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olemas kirjalikus vormis ning üldsusele kättesaadava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on kasutusel füüsilised ja tehnoloogilised meetmed andmebaaside turvalisuse ja terviklikkuse kaitseks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line konfidentsiaal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neb kolmest võrdselt olulisest komponendist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üksikute statistiliste üksustega seotud andmete kaitse (võrdselt nii füüsilise kui ka juriidilise isiku puhul)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u statistika tegemiseks kogutud andmete muudeks kui statistilisteks eesmärkideks kasutamise keeld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u statistika tegemiseks kogutud andmete ebaseadusliku levitamise keel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õik kolm kehtivad alalisel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6. Erapooletus ja objektiiv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214280" y="192852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3440" indent="-34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sutused peavad tegema statistikat teaduslikku sõltumatust tunnustades ning objektiivsel, professionaalsel ja läbipaistval viisil, koheldes kõiki tarbijaid võrdväärsel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valdamisel on tagatud kõigile tarbijatele samaaegne ja võrdne juurdepääs statistika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valdatud statistikas avastatud vead parandatakse võimalikult kiiresti ning üldsust teavitatakse parandust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ave statistikaasutuse kasutatavate meetodite ning menetluste kohta on üldsusele kättesaadav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avaldamise kuupäevad ja kellaajad antakse eelnevalt tead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7. Läbimõeldud metood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7840" indent="-3578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Kvaliteetse statistika aluseks on läbimõeldud metoodika. Selle jaoks on vaja asjakohaseid vahendeid, menetlusi ning asjatundlikkust.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kasutatav metoodika järgib rahvusvahelisi standardeid, suuniseid ja häid tavasi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riiklikud klassifikaatorid on täielikus vastavuses Euroopa omadega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on olemas menetlused, millega tagatakse standardmõistete, -definitsioonide ja -klassifikaatorite järjekindel kasutamine kogu statistikaasutuses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kvaliteedi tagamiseks hinnatakse ning vastavalt vajadusele kohandatakse regulaarselt ettevõtete registrit ning rahvastiku statistilist registrit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8. Asjakohased statistikaalased menetl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285920" y="200016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47040" indent="-347040">
              <a:lnSpc>
                <a:spcPct val="8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valiteetse statistika aluseks on asjakohased statistikaalased menetlused, mida rakendatakse alates andmete kogumisest kuni andmete õigsuse kontrollini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ulaarselt jälgitakse ja vajaduse korral uuendatakse välitööde korraldust, andmete sisestamist ning kodeeri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sutatavaid küsimustikke testitakse süstemaatilisel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e kontrollimiseks, parandamiseks ja imputeerimiseks kasutatakse asjakohaseid arvutisüsteem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atluse kavandamine, valimi moodustamine ja valimikaalude määramise menetlusi kontrollitakse ja ajakohastatakse regulaarselt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9. Andmeesitajate mitteülemäärane koorm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esitajate koormus peab vastama tarbijate vajadustele ning ei tohi olla andmeesitajate jaoks liiga suur. Statistikaasutus jälgib andmeesitajate koormust ning seab eesmärgid aja jooksul nimetatud koormuse vähendamisek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misel piirdutakse vältimatult vajaliku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esitajate koormus jaotatakse võimalikult ühtlaselt, kasutades vastavaid valikumeetode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ttevõtetelt puhul kasutatakse nii palju kui võimalik nende raamatupidamisandmetest kättesaadavat teavet, andmete esitamise hõlbustamiseks kasutatakse elektroonilisi vahende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dministratiivseid andmeallikaid nii palju kui võimalik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0. Tasuv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ssursse tuleb kasutada efektiivsel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isemiste ja sõltumatute väliste meetmete abil jälgitakse statistikaasutuse ressursside kasut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utiinsed tegevused (nt andmete sisestamine, kodeerimine, õigsuse kontroll) on nii suurel määral kui võimalik automatiseeri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e kogumisel, töötlemisel ja levitamisel optimeeritakse info- ja kommunikatsioonitehnoloogia tootlikkuspotentsiaal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õetakse ennetavaid meetmeid, et suurendada administratiivsete registrite kasutamise potentsiaali statistilistel eesmärkidel ning vältida kulukate otsevaatluste korrald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1. Asjakoha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peab vastama tarbijate vajadustel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n olemas menetlused, tarbijatega konsulteeri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ntrollitakse olemasoleva statistika vajalikkust tarbijatele ning nõustatakse tarbijaid uute vajaduste ja prioriteetide suhte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erioodiliselt korraldatakse tarbija rahulolu uuringu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iiklik statistika inglise keele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official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state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national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public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community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European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2. Täpsus ja usaldusväär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statistika peab kajastama tegelikk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äpselt ja usaldusväärselt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ähteandmeid, vahetulemusi ja avaldatud statistikat hinnatakse ja nende õigsust kontrollitaks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likuvigu ja valikust sõltumatuid vigu hinnatakse ning dokumenteeritakse süstemaatiliselt vastavalt ESSi kvaliteedikomponentid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arandusi uuritakse ja analüüsitakse korrapäraselt ning tulemusi kasutatakse statistikaprotsesside täiusta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3. Ajakohasus ja õigeaeg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t tuleb levitada ajakohaselt ja õigeaegsel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avaldamiseks on määratud kindel päevaaeg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avaldamise perioodilisus arvestab nii palju kui võimalik tarbijate nõudmis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ga kõrvalekaldumine avaldamise ajakavast tehakse eelnevalt avalikult teatavaks, seda põhjendatakse ning määratakse uus avaldamise aeg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stuvõetava üldkvaliteediga esialgseid tulemusi võib avaldada, kui seda peetakse vajaliku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8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4. Sidusus ja võrreldav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214280" y="171432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50640" indent="-3506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peab olema valdkonniti ja ajaliselt järjepidev ning piirkonniti ja riigiti võrreldav; eri allikatest pärit omavahel seoses olevaid andmeid peab olema võimalik ühendada ning koos kasutad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499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 on valdkonniti seostatav ja järjepidev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499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 on mõistliku ajavahemiku kohta seostatav või kooskõla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499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t tehakse vastavalt ühtsetele standarditele, mis käsitlevad statistika mahtu, definitsioone, üksusi ja klassifikaatoreid, sõltumata vaatlusest ja andmeallika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499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te riigiti võrreldavus tagatakse Euroopa statistikasüsteemi ja teiste statistikasüsteemide vahel toimuva andmevahetuse kaudu; metoodikaalased uurimused teostatakse liikmesriikide ja Eurostati vahel toimuvas tihedas koostöö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3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5. Kättesaadavus ja selg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Statistikat tuleb esitada selgel ja arusaadaval kujul ning levitada sobival ja otstarbekohasel viisil, see peab koos toetavate metaandmete ja juhtnööridega olema saadaval erapooletul moel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ka esitatakse viisil, mis võimaldab andmeid õigesti tõlgendada ning teha sisulisi võrdlusi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ka levitamisel kasutatakse ajakohast info- ja kommunikatsioonitehnoloogiat ning vajadusel tavapärast paberkandjat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võimaluse korral tehakse statistika tarbijate tellimusel analüüse ja tulemused avaldataks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tarbijaid hoitakse kursis statistikaprotsesside metoodika ja statistikaväljundite kvaliteedi vastavusega Euroopa statistikasüsteemi kvaliteedikomponentidel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6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ÜRO käsiraa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Handbook of Statistical organization. UN, 200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lmas väljaanne (esimene väljaanne 1954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ihtrühm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17144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metite juhid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17144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u statistika üle järelevalve eest vastutaj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0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85560" y="9284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Noppeid statistikanõukogu koht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247760" y="1571400"/>
            <a:ext cx="7896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... can be used for the defence of SA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guardian of fundamental values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g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u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arantor that, within existing resources, SA preserves the best possible balance among economic, environmental and social statistics; national and regional details; reliability and timeliness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impartial validation of the professional opinion of chief statistician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members must share an understanding and interest in quantitative analysis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should not be involved in micromanagement of SA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deal with issues that are key to the survival of SA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4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951"/>
                </a:solidFill>
                <a:latin typeface="Arial"/>
              </a:rPr>
              <a:t>Tänan tähelepanu eest!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ulikki.sillajoe@stat.e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8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9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iikliku statistika mõiste sisu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iikliku statistika põhiprintsiibid Euroopa Majanduskomisjoni piirkonna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astu võetud ÜRO Euroopa Majanduskomisjoni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47. istungil 15.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04.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1992 Genfis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statistika tegevusjuhis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astu võetud Statistikaprogrammi  Komiteel 24.02.2005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Euroopa Liidu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kogu määrus ühenduse statistika kohta 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astu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õetud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11.03.2009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iiklik statistika EL leping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tikkel 285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. Ilma et see piiraks Euroopa Keskpankade Süsteemi ja Euroopa Keskpanga põhikirja käsitleva protokolli artikli 5 kohaldamist, võtab nõukogu vastavalt artiklis 251 sätestatud menetlusele meetmeid statistika koostamiseks, kui see on vajalik ühenduse tegevusek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. Ühenduse statistika koostamine on kooskõlas </a:t>
            </a:r>
            <a:r>
              <a:rPr b="0" lang="et-EE" sz="2400" spc="-1" strike="noStrike">
                <a:solidFill>
                  <a:srgbClr val="a72f16"/>
                </a:solidFill>
                <a:latin typeface="Arial"/>
              </a:rPr>
              <a:t>erapooletuse (1), usaldusväärsuse (2), objektiivsuse (3), teadusliku sõltumatuse (4), tasuvuse (5) ja statistilise konfidentsiaalsusega (6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; see ei too majandusettevõtjatele kaasa ülemäärast koorma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iikliku statistika põhimõtt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metialane sõltumatus, erialane sõltumatus, teaduslik sõltumat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professional independence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scientific independenc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rapoolet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impartiality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bjektiivs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objectivity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saldusväärs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reliability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line konfidentsiaalsus, andmete konfidentsiaals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statistical confidentiality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asuv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cost effectivenes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Footer Placeholder 7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uroopa statistika tegevusjuh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neb 15 põhimõtt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buClr>
                <a:srgbClr val="b22f1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stitutsiooniline keskkond (1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–6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buClr>
                <a:srgbClr val="b22f1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statistika protsessid (7–10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buClr>
                <a:srgbClr val="b22f1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statistika väljund (11–15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iga põhimõtte kohta näitaj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nesehindamine 2005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ksperthindamine 2006–2008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Footer Placeholder 7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uroopa statistika tegevusjuh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28400" y="1071360"/>
            <a:ext cx="8367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73" name="Picture 7" descr="2"/>
          <p:cNvPicPr/>
          <p:nvPr/>
        </p:nvPicPr>
        <p:blipFill>
          <a:blip r:embed="rId1"/>
          <a:stretch/>
        </p:blipFill>
        <p:spPr>
          <a:xfrm>
            <a:off x="2071800" y="1071720"/>
            <a:ext cx="572616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. Erialane sõltumat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14280" y="185724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50640" indent="-35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Statistika usaldatavuse tagab statistikaasutuste erialane sõltumatus poliitilistest, teistest regulatiiv- ja haldusüksustest ja -asutustest ning erasektoris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sutuse sõltumatus on seadusega säte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sutuse juht on piisavalt kõrge ametnik, tagamaks ligipääsu poliitilistele ning haldusasutustele kõrgeimal tasem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avaldatakse poliitilistest avaldustest erald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sutus kommenteerib avalikult riikliku statistika kritiseerimist ja väärkasut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2. Volitus andmete kogumise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214280" y="185724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3440" indent="-34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tatistikaasutustel peab olema selge juriidiline volitus teabe kogumiseks statistilistel eesmärkidel. Seadusega võib haldusasutusi, ettevõtteid, kodumaja-pidamisi ja üldsust kohustada statistikaasutuse nõudel võimaldama ligipääsu andmetele või esitama andmeid Euroopa statistilistel eesmärkide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e kogumise õigus on seadusega säte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õigus kasutada administratiivandmeid on seadusega säte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õigus nõuda andmete esitamist on seadusega säte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8:34:46Z</dcterms:created>
  <dc:creator>ukun</dc:creator>
  <dc:description/>
  <dc:language>en-US</dc:language>
  <cp:lastModifiedBy>Tuulikki Sillajõe</cp:lastModifiedBy>
  <dcterms:modified xsi:type="dcterms:W3CDTF">2011-03-01T07:21:08Z</dcterms:modified>
  <cp:revision>130</cp:revision>
  <dc:subject/>
  <dc:title>Slide 1</dc:title>
</cp:coreProperties>
</file>