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Test pealki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7CC9-AB42-4AD1-9578-0E9B134BDB68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6D0E-7F8F-4F64-A598-8A7E39D108B6}" type="slidenum">
              <a:rPr b="1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5560" y="4356000"/>
            <a:ext cx="50068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2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4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iikliku statistika tegemise põhimõtted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i asetäi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071800" y="492912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 Ressursside piis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 käsutuses olevad ressursid peavad olema piisavad, et oleks võimalik täita statistikaalaseid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im-, finants- ja infotehnoloogilised ressursid on piisavad nii kvantiteedilt kui ka kvaliteedi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uue statistika nõudluse hindamiseks ja põhjendamiseks vastavalt tehtavatele kulut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statistika vajaduse jätkumise hindamiseks, et teha kindlaks, kas statistika mahtu vähendada ressursside vabastamise eesmärg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. K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valiteedinõuete järgi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õik Euroopa statistikasüsteemi liikmed kohustuvad töötama ja koostööd tegema, lähtudes Euroopa statistikasüsteemi kvaliteedideklaratsioonis sätestatud põhimõtet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ote kvaliteeti jälgitakse vastavalt Euroopa statistikasüsteemi (ESS) </a:t>
            </a:r>
            <a:r>
              <a:rPr b="0" lang="et-EE" sz="2400" spc="-1" strike="noStrike">
                <a:solidFill>
                  <a:srgbClr val="a30021"/>
                </a:solidFill>
                <a:latin typeface="Arial"/>
              </a:rPr>
              <a:t>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juhised on dokumenteeritud ja üldsusele teatavaks tehtud, personal on hea ettevalmistuse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õhiväljundid vaadatakse üle regulaarselt ja põhjalikult, vajadusel kaasates sellesse väliseksper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5. 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4280" y="178560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T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äielikult tuleb tagada andmeesitajate 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kodumaja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-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pidamised, ettevõtted, haldusasutused ja teised andmeesitajad) esitatud teabe kasutamine ainult statistilistel eesmärkidel.</a:t>
            </a:r>
            <a:endParaRPr b="0" lang="en-US" sz="23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ne konfidentsiaalsus on seadusega sätestat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metisse määramisel kirjutavad statistikaasutuse töötajad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lla konfidentsiaalsuse kohustus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se konfidentsiaalsuse rikkumise puhul on ette nähtud karmid karistuse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uunised statistilise konfidentsiaalsuse tagamiseks on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lemas kirjalikus vormis ning üldsusele kättesaadava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kasutusel füüsilised ja tehnoloogilised meetmed andmebaaside turvalisuse ja terviklikkuse kaitsek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kolmest võrdselt olulisest komponendi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ksikute statistiliste üksustega seotud andmete kaitse (võrdselt nii füüsilise kui ka juriidilise isiku puhul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muudeks kui statistilisteks eesmärkideks kasutamise keel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ebaseadusliku levitamise keel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õik kolm kehtivad alali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6. Erapooletus ja objektiiv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14280" y="19285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d peavad tegema statistikat teaduslikku sõltumatust tunnustades ning objektiivsel, professionaalsel ja läbipaistval viisil, koheldes kõiki tarbijaid võrdväär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misel on tagatud kõigile tarbijatele samaaegne ja võrdne juurdepääs statis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tud statistikas avastatud vead parandatakse võimalikult kiiresti ning üldsust teavitatakse parandus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ve statistikaasutuse kasutatavate meetodite ning menetluste kohta on üldsusele kättesaadav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kuupäevad ja kellaajad antakse eelnevalt te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. Läbimõeldud metood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tse statistika aluseks on läbimõeldud metoodika. Selle jaoks on vaja asjakohaseid vahendeid, menetlusi ning asjatundlikkust.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asutatav metoodika järgib rahvusvahelisi standardeid, suuniseid ja häid tavas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iiklikud klassifikaatorid on täielikus vastavuses Euroopa omadeg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olemas menetlused, millega tagatakse standardmõistete, -definitsioonide ja -klassifikaatorite järjekindel kasutamine kogu statistikaasutuse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di tagamiseks hinnatakse ning vastavalt vajadusele kohandatakse regulaarselt ettevõtete registrit ning rahvastiku statistilist registri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8. Asjakohased statistikaalased menet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85920" y="200016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7040" indent="-34704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tse statistika aluseks on asjakohased statistikaalased menetlused, mida rakendatakse alates andmete kogumisest kuni andmete õigsuse kontrollin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ulaarselt jälgitakse ja vajaduse korral uuendatakse välitööde korraldust, andmete sisestamist ning kod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tatavaid küsimustikke testitakse süstemaatilise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ntrollimiseks, parandamiseks ja imputeerimiseks kasutatakse asjakohaseid arvutisüstee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atluse kavandamine, valimi moodustamine ja valimikaalude määramise menetlusi kontrollitakse ja ajakohastatakse regulaarsel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9. Andmeesitajate mitteülemäärane koor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peab vastama tarbijate vajadustele ning ei tohi olla andmeesitajate jaoks liiga suur. Statistikaasutus jälgib andmeesitajate koormust ning seab eesmärgid aja jooksul nimetatud koormuse vähendami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l piirdutakse vältimatult vajaliku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jaotatakse võimalikult ühtlaselt, kasutades vastavaid valikumeeto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õtetelt puhul kasutatakse nii palju kui võimalik nende raamatupidamisandmetest kättesaadavat teavet, andmete esitamise hõlbustamiseks kasutatakse elektroonilisi vahen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seid andmeallikaid nii palju kui võim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0. Tasu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e tuleb kasutada efektiiv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semiste ja sõltumatute väliste meetmete abil jälgitakse statistikaasutuse ressursside 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utiinsed tegevused (nt andmete sisestamine, kodeerimine, õigsuse kontroll) on nii suurel määral kui võimalik automatiseeri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l, töötlemisel ja levitamisel optimeeritakse info- ja kommunikatsioonitehnoloogia tootlikkuspotentsiaal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etakse ennetavaid meetmeid, et suurendada administratiivsete registrite kasutamise potentsiaali statistilistel eesmärkidel ning vältida kulukate otsevaatluste korral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1. Asjakoha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vastama tarbijate vajad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olemas menetlused, tarbijatega konsul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ntrollitakse olemasoleva statistika vajalikkust tarbijatele ning nõustatakse tarbijaid uute vajaduste ja prioriteetide suhte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rioodiliselt korraldatakse tarbija rahulolu uuringu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inglise keel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offici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e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nation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public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mmunity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European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2. Täpsus ja usaldusväär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peab kajastama tege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pselt ja usaldusväärselt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ähteandmeid, vahetulemusi ja avaldatud statistikat hinnatakse ja nende õigsust kontrollitaks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likuvigu ja valikust sõltumatuid vigu hinnatakse ning dokumenteeritakse süstemaatiliselt vastavalt ESSi 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andusi uuritakse ja analüüsitakse korrapäraselt ning tulemusi kasutatakse statistikaprotsesside täiu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3. Ajakohasus ja õigeaeg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 tuleb levitada ajakohaselt ja õigeaeg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ks on määratud kindel päevaae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perioodilisus arvestab nii palju kui võimalik tarbijate nõudmis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 kõrvalekaldumine avaldamise ajakavast tehakse eelnevalt avalikult teatavaks, seda põhjendatakse ning määratakse uus avaldamise aeg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stuvõetava üldkvaliteediga esialgseid tulemusi võib avaldada, kui seda peetakse vaja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4. Sidusus ja võrreld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4280" y="17143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olema valdkonniti ja ajaliselt järjepidev ning piirkonniti ja riigiti võrreldav; eri allikatest pärit omavahel seoses olevaid andmeid peab olema võimalik ühendada ning koos kasutad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valdkonniti seostatav ja järjepide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mõistliku ajavahemiku kohta seostatav või kooskõl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 tehakse vastavalt ühtsetele standarditele, mis käsitlevad statistika mahtu, definitsioone, üksusi ja klassifikaatoreid, sõltumata vaatlusest ja andmeallika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iigiti võrreldavus tagatakse Euroopa statistikasüsteemi ja teiste statistikasüsteemide vahel toimuva andmevahetuse kaudu; metoodikaalased uurimused teostatakse liikmesriikide ja Eurostati vahel toimuvas tihedas koostöö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5. Kättesaadavus ja sel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t tuleb esitada selgel ja arusaadaval kujul ning levitada sobival ja otstarbekohasel viisil, see peab koos toetavate metaandmete ja juhtnööridega olema saadaval erapooletul moel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esitatakse viisil, mis võimaldab andmeid õigesti tõlgendada ning teha sisulisi võrdlusi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levitamisel kasutatakse ajakohast info- ja kommunikatsioonitehnoloogiat ning vajadusel tavapärast paberkandja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võimaluse korral tehakse statistika tarbijate tellimusel analüüse ja tulemused avaldatak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arbijaid hoitakse kursis statistikaprotsesside metoodika ja statistikaväljundite kvaliteedi vastavusega Euroopa statistikasüsteemi kvaliteedikomponent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RO käsiraa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Handbook of Statistical organization. UN, 200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lmas väljaanne (esimene väljaanne 1954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htrüh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te juhi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üle järelevalve eest vastu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Noppeid statistikanõukogu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47760" y="157140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... can be used for the defence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ardian of fundamental value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u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arantor that, within existing resources, SA preserves the best possible balance among economic, environmental and social statistics; national and regional details; reliability and timelines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 validation of the professional opinion of chief statistician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members must share an understanding and interest in quantitative analysi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hould not be involved in micromanagement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deal with issues that are key to the survival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ulikki.sillajoe@stat.e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mõiste 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iikliku statistika põhiprintsiibid Euroopa Majanduskomisjoni piirkonna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võetud ÜRO Euroopa Majanduskomisjon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47. istungil 15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04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992 Genfis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astu võetud Statistikaprogrammi  Komiteel 24.02.2005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Euroopa Liidu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kogu määrus ühenduse statistika kohta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õetud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1.03.2009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EL lepin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tikkel 28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Ilma et see piiraks Euroopa Keskpankade Süsteemi ja Euroopa Keskpanga põhikirja käsitleva protokolli artikli 5 kohaldamist, võtab nõukogu vastavalt artiklis 251 sätestatud menetlusele meetmeid statistika koostamiseks, kui see on vajalik ühenduse tegevu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. Ühenduse statistika koostamine on kooskõlas 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erapooletuse (1), usaldusväärsuse (2), objektiivsuse (3), teadusliku sõltumatuse (4), tasuvuse (5) ja statistilise konfidentsiaalsusega (6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 see ei too majandusettevõtjatele kaasa ülemäärast koorm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põhimõt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ialane sõltumatus, erialane sõltumatus, teaduslik sõltuma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professional independenc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cientific independenc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rapoole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bjektiiv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objectiv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saldusväär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reliabi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line konfidentsiaalsus, andmete konfidentsiaal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tatistical confiden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suv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st effectivenes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15 põhimõt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stitutsiooniline keskkond (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–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protsessid (7–10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väljund (11–1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iga põhimõtte kohta 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nesehindamine 200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sperthindamine 2006–2008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8400" y="1071360"/>
            <a:ext cx="8367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73" name="Picture 7" descr="2"/>
          <p:cNvPicPr/>
          <p:nvPr/>
        </p:nvPicPr>
        <p:blipFill>
          <a:blip r:embed="rId1"/>
          <a:stretch/>
        </p:blipFill>
        <p:spPr>
          <a:xfrm>
            <a:off x="2071800" y="1071720"/>
            <a:ext cx="57261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. Erialane sõltuma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 usaldatavuse tagab statistikaasutuste erialane sõltumatus poliitilistest, teistest regulatiiv- ja haldusüksustest ja -asutustest ning erasektori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sõltumat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juht on piisavalt kõrge ametnik, tagamaks ligipääsu poliitilistele ning haldusasutustele kõrgeimal tasem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takse poliitilistest avaldustest erald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 kommenteerib avalikult riikliku statistika kritiseerimist ja väär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. Volitus andmete kogumi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l peab olema selge juriidiline volitus teabe kogumiseks statistilistel eesmärkidel. Seadusega võib haldusasutusi, ettevõtteid, kodumaja-pidamisi ja üldsust kohustada statistikaasutuse nõudel võimaldama ligipääsu andmetele või esitama andmeid Euroopa statistilistel eesmärkid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 õig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kasutada administratiivandmeid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nõuda andmete esitamist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34:46Z</dcterms:created>
  <dc:creator>ukun</dc:creator>
  <dc:description/>
  <dc:language>en-US</dc:language>
  <cp:lastModifiedBy>Tuulikki Sillajõe</cp:lastModifiedBy>
  <dcterms:modified xsi:type="dcterms:W3CDTF">2011-03-01T07:21:08Z</dcterms:modified>
  <cp:revision>130</cp:revision>
  <dc:subject/>
  <dc:title>Slide 1</dc:title>
</cp:coreProperties>
</file>