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24B5-FFD8-4711-91AF-0FC2D339D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808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8480" y="4107240"/>
            <a:ext cx="808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26E1-4289-4509-9079-09AF1005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28480" y="410724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440" y="410724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FD41-8A3A-44E7-B2D4-3F28DBE7D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3040" y="169992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240" y="169992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8480" y="410724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3040" y="410724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240" y="410724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88BD-8335-420C-9B79-498BFF49D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28480" y="1699920"/>
            <a:ext cx="808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80870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28480" y="404640"/>
            <a:ext cx="808704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28480" y="410724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28480" y="1699920"/>
            <a:ext cx="808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F404-9A25-48F4-9821-3BAADFA9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440" y="410724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8480" y="4107240"/>
            <a:ext cx="808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808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8480" y="4107240"/>
            <a:ext cx="808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8480" y="410724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440" y="410724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3040" y="169992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7240" y="169992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28480" y="410724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3040" y="410724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7240" y="410724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80870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80D0-F939-4A3C-9E7B-F1521008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EE67-40FF-4F26-81E9-55ECBA03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2BBA-D4EE-4FA0-A657-9C3D926A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28480" y="404640"/>
            <a:ext cx="808704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496B-F560-4B45-873C-E1624076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8480" y="410724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5803-B118-4682-A434-4F5978CF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440" y="410724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A122-053D-461E-BD35-21812083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8480" y="4107240"/>
            <a:ext cx="808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6022-24DD-4682-86BA-B1ADC181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28480" y="1699920"/>
            <a:ext cx="80870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2620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230120" y="64814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528480" y="6481440"/>
            <a:ext cx="611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BFA0-92F7-4C6F-9491-E9260B745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22600" y="4129200"/>
            <a:ext cx="722448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34680" y="3749400"/>
            <a:ext cx="834876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ffffff"/>
                </a:solidFill>
                <a:latin typeface="Arial"/>
              </a:rPr>
              <a:t>STATISTIKANÕUKOGU TEGEVUST REGULEERIVATE ÕIGUSAKTIDE ÜLEVAAD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2160" y="5189400"/>
            <a:ext cx="804708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700" spc="-1" strike="noStrike">
                <a:solidFill>
                  <a:srgbClr val="ffffff"/>
                </a:solidFill>
                <a:latin typeface="Arial"/>
              </a:rPr>
              <a:t>Marit  Rais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700" spc="-1" strike="noStrike">
                <a:solidFill>
                  <a:srgbClr val="ffffff"/>
                </a:solidFill>
                <a:latin typeface="Arial"/>
              </a:rPr>
              <a:t>Riigihalduse ja avaliku teenistuse osakon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28. veebruar 2011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Nõukogu töö põhimõtted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28120" y="1300320"/>
            <a:ext cx="843948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Õigus küsida oma ülesannete täitmiseks vajalikku teavet ning moodustada töörühmi ja valdkondlikke nõukogusi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Nõukogu töös osalemise eest tasu ei maksta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Koosolekul osaleb liige isiklikul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Tööplaani kinnitamin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Liikme huvide konflik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Konfidentsiaalsete andmete kaitsmin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Nõukogu koosolek I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28480" y="1176480"/>
            <a:ext cx="8087040" cy="51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Toimub vähemalt kord kolme kuu jooksul. Võib korraldada ka elektroonsel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Juhatab esimees või tema määratud liige. Iga koosseisu esimese koosoleku kutsub kokku rahandusminist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Nõukogu on otsustusvõimeline, kui osaleb vähemalt seitse liiget (va esimehe valimine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Konsensus, poolthäälte enamus, juhataja hää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Avalikkuse teavitamine ja pressiga suhtlemine – esimees või tema volitatud lii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Nõukogu koosolek II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80870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Nõukogu teenindab ja koosolekud protokollib Statistikaame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Võimalus koosolekul osalemisega seotud sõidukulude hüvitamisek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Aastaaruanne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8480" y="1300320"/>
            <a:ext cx="8087040" cy="49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Nõukogu tegevuse kalendriaasta aruanne esitatakse hiljemalt järgmise aasta 30. aprilliks Vabariigi Valitsusele (nõukogu -&gt; rahandusminister-&gt; Vabariigi Valitsu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Aastaaruanne sisaldab nõukogu hinnangut riikliku statistika tegemise kulutuste koh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Aastaaruanne avaldatakse Statistikaameti veebileh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28480" y="404280"/>
            <a:ext cx="8087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Tänan!</a:t>
            </a:r>
            <a:br>
              <a:rPr sz="3600"/>
            </a:b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28480" y="2319120"/>
            <a:ext cx="8087040" cy="39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0800" y="890280"/>
            <a:ext cx="80866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Õigusaktid</a:t>
            </a:r>
            <a:r>
              <a:rPr b="0" lang="et-EE" sz="3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28120" y="1871640"/>
            <a:ext cx="806796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7640" indent="-6476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Riikliku statistika seadus (jõustunud 01.08.20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640" indent="-6476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Vabariigi Valitsuse 13.01.2011 korraldus nr 14  “Statistikanõukogu moodustamin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640" indent="-6476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Vabariigi Valitsuse 13.01.2011 määrus nr 11 “Statistikanõukogu töökor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Eesmärk ja ülesanded I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71440" y="1252080"/>
            <a:ext cx="8686800" cy="504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tatistikanõukogu tegevuse eesmärk on nõustamise ja arvamuse avaldamise kaudu anda panus riikliku statistika eesmärgi täitmis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riikliku statistika tege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aas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riikliku statistika maine ja tegevuse arusaadavus, läbipaistv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rapooletus ja asjatundlik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Eesmärk ja ülesanded II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28480" y="1223640"/>
            <a:ext cx="808704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Ülesande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riikliku </a:t>
            </a:r>
            <a:r>
              <a:rPr b="1" lang="et-EE" sz="2600" spc="-1" strike="noStrike">
                <a:solidFill>
                  <a:srgbClr val="000000"/>
                </a:solidFill>
                <a:latin typeface="Arial"/>
              </a:rPr>
              <a:t>statistika tegijate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 nõustamine (programm*, statistika tegemine ja selle koordineerimine sh põhimõtete ja kvaliteedikriteeriumite rakendamin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arvamuse andmine ja soovitused </a:t>
            </a:r>
            <a:r>
              <a:rPr b="1" lang="et-EE" sz="2600" spc="-1" strike="noStrike">
                <a:solidFill>
                  <a:srgbClr val="000000"/>
                </a:solidFill>
                <a:latin typeface="Arial"/>
              </a:rPr>
              <a:t>rahandusministrile 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(programm*, kulutused, statistikaalane õigusloome, Statistikaameti peadirektori ametist vabastamin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Statistikaameti peadirektori konkurssi läbiviivale </a:t>
            </a:r>
            <a:r>
              <a:rPr b="1" lang="et-EE" sz="2600" spc="-1" strike="noStrike">
                <a:solidFill>
                  <a:srgbClr val="000000"/>
                </a:solidFill>
                <a:latin typeface="Arial"/>
              </a:rPr>
              <a:t>komisjonile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 arvamuse andm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*ülesande täitmine rakendussätte kohaselt alates riikliku statistika programmi koostamisest aastateks 2012–201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Nõukogu moodustamisest I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71440" y="133812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Nõukogu moodustab Vabariigi Valitsus rahandusministri ettepanekul. Koosseis kinnitatakse neljaks aastaks. 13 liige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000000"/>
                </a:solidFill>
                <a:latin typeface="Arial"/>
              </a:rPr>
              <a:t>asutuste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 esindajad (Statistikaamet, Eesti Pank, Andmekaitse Inspektsio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riikliku statistika </a:t>
            </a:r>
            <a:r>
              <a:rPr b="1" lang="et-EE" sz="3000" spc="-1" strike="noStrike">
                <a:solidFill>
                  <a:srgbClr val="000000"/>
                </a:solidFill>
                <a:latin typeface="Arial"/>
              </a:rPr>
              <a:t>tarbijate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 ja </a:t>
            </a:r>
            <a:r>
              <a:rPr b="1" lang="et-EE" sz="3000" spc="-1" strike="noStrike">
                <a:solidFill>
                  <a:srgbClr val="000000"/>
                </a:solidFill>
                <a:latin typeface="Arial"/>
              </a:rPr>
              <a:t>andmeesitajate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 esindaj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000000"/>
                </a:solidFill>
                <a:latin typeface="Arial"/>
              </a:rPr>
              <a:t>eksperdid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 (statistika, rahvastik, sotsiaalvaldkond, keskkond, majandus, põllumajandu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Nõukogu moodustamisest II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28480" y="1242720"/>
            <a:ext cx="8305920" cy="50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Esimene koosse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asutuste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esindajate nimeta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ettepanekute küsimine </a:t>
            </a: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tarbijate ja andmeesitajate esindajate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nimetamiseks (HTM, Eesti Maaomavalitsuste Liit, Eesti Linnade Liit, Eesti Kaubandus‑Tööstuskoda, Tööandjate Keskliidul ja Tartu Üliko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ettepanekute küsimine </a:t>
            </a: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ekspertide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nimetamiseks (ülikoolid, ministeerium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Nõukogu moodustamisest III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195200"/>
            <a:ext cx="808704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Tarbijate ja andmeesitajate huvide esindajate määramisel on silmas peetud, et esindatud oleksid riigiasutused, ettevõtjad ja tööandjad, kohalikud omavalitsused ja teadusasutus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Vabariigi Valitsuse korraldu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eksperdid nimelisel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teised liikmed asutuse või liidu esindaja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Nõukogu juhtimine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2000" y="1386000"/>
            <a:ext cx="8363160" cy="49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Nõukogu juhib esimees, kelle nõukogu liikmed valivad endi hulga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Esimehe ülesanded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esindab nõukog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korraldab nõukogu töö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kutsub kokku ja juhatab koosoleku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esitab nõukogu arvamused ja soovitused riikliku statistika tegijatele, rahandusministrile ja konkurssi läbiviivale komisjon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9240" y="880560"/>
            <a:ext cx="808668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Muudatused koosseisus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90160" y="1433520"/>
            <a:ext cx="83250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koosseisu volituste lõppemine (neli aastat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liikme lahkumisavaldu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institutsioon kutsub liikme tagas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liige ei osale nõukogu töös poole aasta jooksu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3:58:37Z</dcterms:created>
  <dc:creator>margitat</dc:creator>
  <dc:description/>
  <dc:language>en-US</dc:language>
  <cp:lastModifiedBy>Marit Raist</cp:lastModifiedBy>
  <dcterms:modified xsi:type="dcterms:W3CDTF">2011-02-28T07:56:42Z</dcterms:modified>
  <cp:revision>37</cp:revision>
  <dc:subject/>
  <dc:title>Slide 1</dc:title>
</cp:coreProperties>
</file>