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3E9-AF04-4D28-9ACD-CD5CDE40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3E0-C448-45DD-967B-CA4C94B5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324-3A5E-45C1-97E2-74CCD97E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0E8-E3DF-452B-AEAC-C0777B01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B43-1B16-44E1-94B2-81D8DF41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E34-B4F4-4936-A56A-6F7F32D8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288-DCC3-4BB4-BF80-3134DA37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D35-A69F-4800-A6B1-02AE9312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D16-7C6E-4DE0-8292-A67DFFD2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A2C-5608-490F-9C8F-D24F8B1F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E92-E4A4-4465-B34A-F522EAD7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1DB-9435-4AEB-9718-2A8BD4A6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620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230120" y="6481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8480" y="6481440"/>
            <a:ext cx="6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E525-E5DC-4DF6-ABE1-403CF3665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22600" y="4129200"/>
            <a:ext cx="722448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749400"/>
            <a:ext cx="83487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ffffff"/>
                </a:solidFill>
                <a:latin typeface="Arial"/>
              </a:rPr>
              <a:t>STATISTIKANÕUKOGU TEGEVUST REGULEERIVATE ÕIGUSAKTIDE ÜLEVAA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2160" y="5189400"/>
            <a:ext cx="80470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Marit  Rai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Riigihalduse ja avaliku teenistuse osako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28. veebrua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töö põhimõtted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8120" y="1300320"/>
            <a:ext cx="84394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Õigus küsida oma ülesannete täitmiseks vajalikku teavet ning moodustada töörühmi ja valdkondlikke nõukogusi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öös osalemise eest tasu ei maksta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olekul osaleb liige isiklikul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Tööplaani kinnita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huvide konflik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nfidentsiaalsete andmete kaits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8480" y="1176480"/>
            <a:ext cx="808704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oimub vähemalt kord kolme kuu jooksul. Võib korraldada ka elektroonsel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Juhatab esimees või tema määratud liige. Iga koosseisu esimese koosoleku kutsub kokku rahandusmini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on otsustusvõimeline, kui osaleb vähemalt seitse liiget (va esimehe valimin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nsensus, poolthäälte enamus, juhataja hää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valikkuse teavitamine ja pressiga suhtlemine – esimees või tema volitatud lii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eenindab ja koosolekud protokollib Statistikaam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Võimalus koosolekul osalemisega seotud sõidukulude hüvitamisek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Aastaaruan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8480" y="1300320"/>
            <a:ext cx="808704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tegevuse kalendriaasta aruanne esitatakse hiljemalt järgmise aasta 30. aprilliks Vabariigi Valitsusele (nõukogu -&gt; rahandusminister-&gt; Vabariigi Valitsu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sisaldab nõukogu hinnangut riikliku statistika tegemise kulutuste koh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avaldatakse Statistikaameti veebileh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8480" y="404280"/>
            <a:ext cx="8087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Tänan!</a:t>
            </a:r>
            <a:br>
              <a:rPr sz="3600"/>
            </a:b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8480" y="2319120"/>
            <a:ext cx="808704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0800" y="890280"/>
            <a:ext cx="8086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Õigusaktid</a:t>
            </a:r>
            <a:r>
              <a:rPr b="0" lang="et-EE" sz="3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8120" y="1871640"/>
            <a:ext cx="806796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seadus (jõustunud 01.08.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korraldus nr 14  “Statistikanõukogu moodustam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määrus nr 11 “Statistikanõukogu tööko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" y="1252080"/>
            <a:ext cx="868680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atistikanõukogu tegevuse eesmärk on nõustamise ja arvamuse avaldamise kaudu anda panus riikliku statistika eesmärgi täitmis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tege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as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maine ja tegevuse arusaadavus, läbipaistv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rapooletus ja asjatundlik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8480" y="1223640"/>
            <a:ext cx="80870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Ülesan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riikliku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statistika tegijat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nõustamine (programm*, statistika tegemine ja selle koordineerimine sh põhimõtete ja kvaliteedikriteeriumite rakend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arvamuse andmine ja soovitused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rahandusministrile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(programm*, kulutused, statistikaalane õigusloome, Statistikaameti peadirektori ametist vabast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tatistikaameti peadirektori konkurssi läbiviivale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komisjonil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arvamuse andm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*ülesande täitmine rakendussätte kohaselt alates riikliku statistika programmi koostamisest aastateks 2012–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1440" y="133812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moodustab Vabariigi Valitsus rahandusministri ettepanekul. Koosseis kinnitatakse neljaks aastaks. 13 lii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 (Statistikaamet, Eesti Pank, Andmekaitse Inspektsi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riikliku statistik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tarbi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j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ndmeesita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eksperdid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(statistika, rahvastik, sotsiaalvaldkond, keskkond, majandus, põllumajan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8480" y="1242720"/>
            <a:ext cx="830592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simene kooss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esindajate nimet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tarbijate ja andmeesitajate esindaja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HTM, Eesti Maaomavalitsuste Liit, Eesti Linnade Liit, Eesti Kaubandus‑Tööstuskoda, Tööandjate Keskliidul ja Tartu Üli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kspertid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ülikoolid, ministeerium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195200"/>
            <a:ext cx="80870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arbijate ja andmeesitajate huvide esindajate määramisel on silmas peetud, et esindatud oleksid riigiasutused, ettevõtjad ja tööandjad, kohalikud omavalitsused ja teadusasutu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Vabariigi Valitsuse korrald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ksperdid nimelisel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eised liikmed asutuse või liidu esindaj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juhtimi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2000" y="1386000"/>
            <a:ext cx="836316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juhib esimees, kelle nõukogu liikmed valivad endi hulg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mehe ülesanded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ndab nõukog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rraldab nõukogu töö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utsub kokku ja juhatab koosoleku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tab nõukogu arvamused ja soovitused riikliku statistika tegijatele, rahandusministrile ja konkurssi läbiviivale komisjon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880560"/>
            <a:ext cx="8086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Muudatused koosseisus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160" y="1433520"/>
            <a:ext cx="8325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seisu volituste lõppemine (neli aastat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lahkumisavald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institutsioon kutsub liikme tag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ge ei osale nõukogu töös poole aasta jooksu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58:37Z</dcterms:created>
  <dc:creator>margitat</dc:creator>
  <dc:description/>
  <dc:language>en-US</dc:language>
  <cp:lastModifiedBy>Marit Raist</cp:lastModifiedBy>
  <dcterms:modified xsi:type="dcterms:W3CDTF">2011-02-28T07:56:42Z</dcterms:modified>
  <cp:revision>37</cp:revision>
  <dc:subject/>
  <dc:title>Slide 1</dc:title>
</cp:coreProperties>
</file>