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FF67-CF72-46DC-8B66-CF134983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FA4E-4ACF-43A4-AF46-CB3A2DB8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14DB-490C-42D1-BFDD-FC36F7374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30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72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848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30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72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DDFF-0039-4BBA-A76F-6CD90E58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28480" y="404640"/>
            <a:ext cx="8087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B6C2-22C0-425C-8F8C-E8EA4AA9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30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97240" y="169992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2848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30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97240" y="4107240"/>
            <a:ext cx="26038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C280-9FCF-414A-A307-BEB32C224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1A5C-CE0F-4372-B527-ED5139B3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D93-510F-4BDE-857B-AEE45A3C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28480" y="404640"/>
            <a:ext cx="808704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3B5-1A0D-413B-87CC-4DAE9793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EDA9-3D3D-4F15-ABFF-05168330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410724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26D2-5342-4455-9512-F5FF4B4E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699920"/>
            <a:ext cx="394632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8480" y="4107240"/>
            <a:ext cx="808704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DB9-1A15-4684-939A-165C074E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26204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230120" y="64814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28480" y="6481440"/>
            <a:ext cx="6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5215-4FF7-484A-BA5E-AFEFEEC0E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22600" y="4129200"/>
            <a:ext cx="722448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4680" y="3749400"/>
            <a:ext cx="83487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ffffff"/>
                </a:solidFill>
                <a:latin typeface="Arial"/>
              </a:rPr>
              <a:t>STATISTIKANÕUKOGU TEGEVUST REGULEERIVATE ÕIGUSAKTIDE ÜLEVAAD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2160" y="5189400"/>
            <a:ext cx="804708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700" spc="-1" strike="noStrike">
                <a:solidFill>
                  <a:srgbClr val="ffffff"/>
                </a:solidFill>
                <a:latin typeface="Arial"/>
              </a:rPr>
              <a:t>Marit  Rais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700" spc="-1" strike="noStrike">
                <a:solidFill>
                  <a:srgbClr val="ffffff"/>
                </a:solidFill>
                <a:latin typeface="Arial"/>
              </a:rPr>
              <a:t>Riigihalduse ja avaliku teenistuse osakon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ffff"/>
                </a:solidFill>
                <a:latin typeface="Arial"/>
              </a:rPr>
              <a:t>28. veebruar 2011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töö põhimõtted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28120" y="1300320"/>
            <a:ext cx="8439480" cy="50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Õigus küsida oma ülesannete täitmiseks vajalikku teavet ning moodustada töörühmi ja valdkondlikke nõukogusi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Nõukogu töös osalemise eest tasu ei maksta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osolekul osaleb liige isiklikul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Tööplaani kinnitam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kme huvide konflik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nfidentsiaalsete andmete kaitsmin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koosolek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28480" y="1176480"/>
            <a:ext cx="8087040" cy="51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oimub vähemalt kord kolme kuu jooksul. Võib korraldada ka elektroonsel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Juhatab esimees või tema määratud liige. Iga koosseisu esimese koosoleku kutsub kokku rahandusminis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on otsustusvõimeline, kui osaleb vähemalt seitse liiget (va esimehe valimine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onsensus, poolthäälte enamus, juhataja hää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valikkuse teavitamine ja pressiga suhtlemine – esimees või tema volitatud liig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koosolek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699920"/>
            <a:ext cx="80870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Nõukogu teenindab ja koosolekud protokollib Statistikaame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Võimalus koosolekul osalemisega seotud sõidukulude hüvitamisek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Aastaaruanne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8480" y="1300320"/>
            <a:ext cx="808704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tegevuse kalendriaasta aruanne esitatakse hiljemalt järgmise aasta 30. aprilliks Vabariigi Valitsusele (nõukogu -&gt; rahandusminister-&gt; Vabariigi Valitsu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astaaruanne sisaldab nõukogu hinnangut riikliku statistika tegemise kulutuste koh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Aastaaruanne avaldatakse Statistikaameti veebileh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28480" y="404280"/>
            <a:ext cx="80870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Tänan!</a:t>
            </a:r>
            <a:br>
              <a:rPr sz="3600"/>
            </a:b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8480" y="2319120"/>
            <a:ext cx="8087040" cy="39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80800" y="890280"/>
            <a:ext cx="80866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Õigusaktid</a:t>
            </a:r>
            <a:r>
              <a:rPr b="0" lang="et-EE" sz="3600" spc="-1" strike="noStrike">
                <a:solidFill>
                  <a:srgbClr val="0099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8120" y="1871640"/>
            <a:ext cx="8067960" cy="39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seadus (jõustunud 01.08.20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bariigi Valitsuse 13.01.2011 korraldus nr 14  “Statistikanõukogu moodustamin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-647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abariigi Valitsuse 13.01.2011 määrus nr 11 “Statistikanõukogu töökor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47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Eesmärk ja ülesanded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1440" y="1252080"/>
            <a:ext cx="8686800" cy="504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Statistikanõukogu tegevuse eesmärk on nõustamise ja arvamuse avaldamise kaudu anda panus riikliku statistika eesmärgi täitmis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tege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aasa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iikliku statistika maine ja tegevuse arusaadavus, läbipaistv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rapooletus ja asjatundlik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Eesmärk ja ülesanded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28480" y="1223640"/>
            <a:ext cx="808704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Ülesanded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riikliku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statistika tegijate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nõustamine (programm*, statistika tegemine ja selle koordineerimine sh põhimõtete ja kvaliteedikriteeriumite rakendam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arvamuse andmine ja soovitused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rahandusministrile 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(programm*, kulutused, statistikaalane õigusloome, Statistikaameti peadirektori ametist vabastam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Statistikaameti peadirektori konkurssi läbiviivale </a:t>
            </a:r>
            <a:r>
              <a:rPr b="1" lang="et-EE" sz="2600" spc="-1" strike="noStrike">
                <a:solidFill>
                  <a:srgbClr val="000000"/>
                </a:solidFill>
                <a:latin typeface="Arial"/>
              </a:rPr>
              <a:t>komisjonile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 arvamuse andm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600" spc="-1" strike="noStrike">
                <a:solidFill>
                  <a:srgbClr val="000000"/>
                </a:solidFill>
                <a:latin typeface="Arial"/>
              </a:rPr>
              <a:t>*ülesande täitmine rakendussätte kohaselt alates riikliku statistika programmi koostamisest aastateks 2012–201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71440" y="133812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moodustab Vabariigi Valitsus rahandusministri ettepanekul. Koosseis kinnitatakse neljaks aastaks. 13 liige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asutus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esindajad (Statistikaamet, Eesti Pank, Andmekaitse Inspektsio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riikliku statistika </a:t>
            </a: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tarbija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ja </a:t>
            </a: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andmeesitajate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esindaj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0000"/>
                </a:solidFill>
                <a:latin typeface="Arial"/>
              </a:rPr>
              <a:t>eksperdid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 (statistika, rahvastik, sotsiaalvaldkond, keskkond, majandus, põllumajandu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8480" y="1242720"/>
            <a:ext cx="8305920" cy="50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simene kooss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asutust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esindajate nimeta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ttepanekute küsimine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tarbijate ja andmeesitajate esindajat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nimetamiseks (HTM, Eesti Maaomavalitsuste Liit, Eesti Linnade Liit, Eesti Kaubandus‑Tööstuskoda, Tööandjate Keskliidul ja Tartu Ülik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ettepanekute küsimine 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ekspertide</a:t>
            </a: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 nimetamiseks (ülikoolid, ministeerium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moodustamisest III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195200"/>
            <a:ext cx="808704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arbijate ja andmeesitajate huvide esindajate määramisel on silmas peetud, et esindatud oleksid riigiasutused, ettevõtjad ja tööandjad, kohalikud omavalitsused ja teadusasutus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Vabariigi Valitsuse korraldu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ksperdid nimelisel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teised liikmed asutuse või liidu esindaja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28480" y="404640"/>
            <a:ext cx="80870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Nõukogu juhtimine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2000" y="1386000"/>
            <a:ext cx="8363160" cy="49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Nõukogu juhib esimees, kelle nõukogu liikmed valivad endi hulga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mehe ülesanded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ndab nõukog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orraldab nõukogu töö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kutsub kokku ja juhatab koosolekui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0000"/>
                </a:solidFill>
                <a:latin typeface="Arial"/>
              </a:rPr>
              <a:t>esitab nõukogu arvamused ja soovitused riikliku statistika tegijatele, rahandusministrile ja konkurssi läbiviivale komisjon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9240" y="880560"/>
            <a:ext cx="808668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0099ff"/>
                </a:solidFill>
                <a:latin typeface="Arial"/>
              </a:rPr>
              <a:t>Muudatused koosseisus</a:t>
            </a:r>
            <a:endParaRPr b="0" lang="en-US" sz="3600" spc="-1" strike="noStrike">
              <a:solidFill>
                <a:srgbClr val="0099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90160" y="1433520"/>
            <a:ext cx="83250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koosseisu volituste lõppemine (neli aastat)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kme lahkumisavaldu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institutsioon kutsub liikme tagas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0000"/>
                </a:solidFill>
                <a:latin typeface="Arial"/>
              </a:rPr>
              <a:t>liige ei osale nõukogu töös poole aasta jooksu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3:58:37Z</dcterms:created>
  <dc:creator>margitat</dc:creator>
  <dc:description/>
  <dc:language>en-US</dc:language>
  <cp:lastModifiedBy>Marit Raist</cp:lastModifiedBy>
  <dcterms:modified xsi:type="dcterms:W3CDTF">2011-02-28T07:56:42Z</dcterms:modified>
  <cp:revision>37</cp:revision>
  <dc:subject/>
  <dc:title>Slide 1</dc:title>
</cp:coreProperties>
</file>