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789FA-4D42-477C-8161-1FF20B1D1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28480" y="404640"/>
            <a:ext cx="8087040" cy="9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28480" y="1699920"/>
            <a:ext cx="80870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28480" y="4107240"/>
            <a:ext cx="80870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4F037-0EC5-445C-B6F3-AD5AE57E0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28480" y="404640"/>
            <a:ext cx="8087040" cy="9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28480" y="1699920"/>
            <a:ext cx="39463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440" y="1699920"/>
            <a:ext cx="39463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28480" y="4107240"/>
            <a:ext cx="39463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440" y="4107240"/>
            <a:ext cx="39463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CDFFA-FB9C-42CB-9F8C-7C6056767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28480" y="404640"/>
            <a:ext cx="8087040" cy="9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28480" y="1699920"/>
            <a:ext cx="26038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63040" y="1699920"/>
            <a:ext cx="26038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97240" y="1699920"/>
            <a:ext cx="26038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28480" y="4107240"/>
            <a:ext cx="26038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63040" y="4107240"/>
            <a:ext cx="26038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97240" y="4107240"/>
            <a:ext cx="26038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921D0-C8CC-41D6-93D1-DBC05C7F9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28480" y="404640"/>
            <a:ext cx="8087040" cy="9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528480" y="1699920"/>
            <a:ext cx="8087040" cy="46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28480" y="404640"/>
            <a:ext cx="8087040" cy="9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28480" y="1699920"/>
            <a:ext cx="808704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28480" y="404640"/>
            <a:ext cx="8087040" cy="9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28480" y="1699920"/>
            <a:ext cx="394632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2440" y="1699920"/>
            <a:ext cx="394632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28480" y="404640"/>
            <a:ext cx="8087040" cy="9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99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528480" y="404640"/>
            <a:ext cx="808704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28480" y="404640"/>
            <a:ext cx="8087040" cy="9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28480" y="1699920"/>
            <a:ext cx="39463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2440" y="1699920"/>
            <a:ext cx="394632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528480" y="4107240"/>
            <a:ext cx="39463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28480" y="404640"/>
            <a:ext cx="8087040" cy="9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28480" y="1699920"/>
            <a:ext cx="8087040" cy="46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E7393-E5CC-48D5-A21E-5C1F99D6F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28480" y="404640"/>
            <a:ext cx="8087040" cy="9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28480" y="1699920"/>
            <a:ext cx="394632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2440" y="1699920"/>
            <a:ext cx="39463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2440" y="4107240"/>
            <a:ext cx="39463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28480" y="404640"/>
            <a:ext cx="8087040" cy="9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28480" y="1699920"/>
            <a:ext cx="39463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2440" y="1699920"/>
            <a:ext cx="39463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28480" y="4107240"/>
            <a:ext cx="80870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28480" y="404640"/>
            <a:ext cx="8087040" cy="9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28480" y="1699920"/>
            <a:ext cx="80870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28480" y="4107240"/>
            <a:ext cx="80870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28480" y="404640"/>
            <a:ext cx="8087040" cy="9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28480" y="1699920"/>
            <a:ext cx="39463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2440" y="1699920"/>
            <a:ext cx="39463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28480" y="4107240"/>
            <a:ext cx="39463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2440" y="4107240"/>
            <a:ext cx="39463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28480" y="404640"/>
            <a:ext cx="8087040" cy="9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28480" y="1699920"/>
            <a:ext cx="26038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63040" y="1699920"/>
            <a:ext cx="26038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97240" y="1699920"/>
            <a:ext cx="26038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28480" y="4107240"/>
            <a:ext cx="26038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63040" y="4107240"/>
            <a:ext cx="26038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97240" y="4107240"/>
            <a:ext cx="26038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28480" y="404640"/>
            <a:ext cx="8087040" cy="9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28480" y="1699920"/>
            <a:ext cx="808704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DF9A4-D466-459D-A54F-B29416796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28480" y="404640"/>
            <a:ext cx="8087040" cy="9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28480" y="1699920"/>
            <a:ext cx="394632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440" y="1699920"/>
            <a:ext cx="394632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B4246-7225-4DD1-BFE2-AF802C5AC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28480" y="404640"/>
            <a:ext cx="8087040" cy="9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92890-5B3B-440B-9715-238205C4C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28480" y="404640"/>
            <a:ext cx="808704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CB822-0CDE-42B2-9EC4-56F8DFDF3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28480" y="404640"/>
            <a:ext cx="8087040" cy="9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28480" y="1699920"/>
            <a:ext cx="39463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440" y="1699920"/>
            <a:ext cx="394632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28480" y="4107240"/>
            <a:ext cx="39463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B8A49-7FF7-4B75-84E8-AFDEBCDE5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28480" y="404640"/>
            <a:ext cx="8087040" cy="9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28480" y="1699920"/>
            <a:ext cx="394632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440" y="1699920"/>
            <a:ext cx="39463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440" y="4107240"/>
            <a:ext cx="39463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4ED52-C579-4B77-9238-B8EA8B49B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28480" y="404640"/>
            <a:ext cx="8087040" cy="9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28480" y="1699920"/>
            <a:ext cx="39463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440" y="1699920"/>
            <a:ext cx="39463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28480" y="4107240"/>
            <a:ext cx="80870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715B9-A2C4-46F9-8EC1-EA29CFEA5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28480" y="404640"/>
            <a:ext cx="8087040" cy="9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28480" y="1699920"/>
            <a:ext cx="808704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262040" y="6481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230120" y="64814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528480" y="6481440"/>
            <a:ext cx="611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91B52-CEB3-4588-8F28-838B84B9A0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22600" y="4129200"/>
            <a:ext cx="7224480" cy="8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34680" y="3749400"/>
            <a:ext cx="8348760" cy="142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600" spc="-1" strike="noStrike">
                <a:solidFill>
                  <a:srgbClr val="ffffff"/>
                </a:solidFill>
                <a:latin typeface="Arial"/>
              </a:rPr>
              <a:t>STATISTIKANÕUKOGU TEGEVUST REGULEERIVATE ÕIGUSAKTIDE ÜLEVAAD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2160" y="5189400"/>
            <a:ext cx="804708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700" spc="-1" strike="noStrike">
                <a:solidFill>
                  <a:srgbClr val="ffffff"/>
                </a:solidFill>
                <a:latin typeface="Arial"/>
              </a:rPr>
              <a:t>Marit  Raist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700" spc="-1" strike="noStrike">
                <a:solidFill>
                  <a:srgbClr val="ffffff"/>
                </a:solidFill>
                <a:latin typeface="Arial"/>
              </a:rPr>
              <a:t>Riigihalduse ja avaliku teenistuse osakond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28. veebruar 2011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28480" y="404640"/>
            <a:ext cx="8087040" cy="9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600" spc="-1" strike="noStrike">
                <a:solidFill>
                  <a:srgbClr val="0099ff"/>
                </a:solidFill>
                <a:latin typeface="Arial"/>
              </a:rPr>
              <a:t>Nõukogu töö põhimõtted</a:t>
            </a:r>
            <a:endParaRPr b="0" lang="en-US" sz="36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28120" y="1300320"/>
            <a:ext cx="8439480" cy="500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400" spc="-1" strike="noStrike">
                <a:solidFill>
                  <a:srgbClr val="000000"/>
                </a:solidFill>
                <a:latin typeface="Arial"/>
              </a:rPr>
              <a:t>Õigus küsida oma ülesannete täitmiseks vajalikku teavet ning moodustada töörühmi ja valdkondlikke nõukogusid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400" spc="-1" strike="noStrike">
                <a:solidFill>
                  <a:srgbClr val="000000"/>
                </a:solidFill>
                <a:latin typeface="Arial"/>
              </a:rPr>
              <a:t>Nõukogu töös osalemise eest tasu ei maksta.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400" spc="-1" strike="noStrike">
                <a:solidFill>
                  <a:srgbClr val="000000"/>
                </a:solidFill>
                <a:latin typeface="Arial"/>
              </a:rPr>
              <a:t>Koosolekul osaleb liige isiklikult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400" spc="-1" strike="noStrike">
                <a:solidFill>
                  <a:srgbClr val="000000"/>
                </a:solidFill>
                <a:latin typeface="Arial"/>
              </a:rPr>
              <a:t>Tööplaani kinnitamine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t-EE" sz="3400" spc="-1" strike="noStrike">
                <a:solidFill>
                  <a:srgbClr val="000000"/>
                </a:solidFill>
                <a:latin typeface="Arial"/>
              </a:rPr>
              <a:t>Liikme huvide konflikt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400" spc="-1" strike="noStrike">
                <a:solidFill>
                  <a:srgbClr val="000000"/>
                </a:solidFill>
                <a:latin typeface="Arial"/>
              </a:rPr>
              <a:t>Konfidentsiaalsete andmete kaitsmine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28480" y="404640"/>
            <a:ext cx="8087040" cy="9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600" spc="-1" strike="noStrike">
                <a:solidFill>
                  <a:srgbClr val="0099ff"/>
                </a:solidFill>
                <a:latin typeface="Arial"/>
              </a:rPr>
              <a:t>Nõukogu koosolek I</a:t>
            </a:r>
            <a:endParaRPr b="0" lang="en-US" sz="36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28480" y="1176480"/>
            <a:ext cx="8087040" cy="513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000" spc="-1" strike="noStrike">
                <a:solidFill>
                  <a:srgbClr val="000000"/>
                </a:solidFill>
                <a:latin typeface="Arial"/>
              </a:rPr>
              <a:t>Toimub vähemalt kord kolme kuu jooksul. Võib korraldada ka elektroonsel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000" spc="-1" strike="noStrike">
                <a:solidFill>
                  <a:srgbClr val="000000"/>
                </a:solidFill>
                <a:latin typeface="Arial"/>
              </a:rPr>
              <a:t>Juhatab esimees või tema määratud liige. Iga koosseisu esimese koosoleku kutsub kokku rahandusminister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000" spc="-1" strike="noStrike">
                <a:solidFill>
                  <a:srgbClr val="000000"/>
                </a:solidFill>
                <a:latin typeface="Arial"/>
              </a:rPr>
              <a:t>Nõukogu on otsustusvõimeline, kui osaleb vähemalt seitse liiget (va esimehe valimine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000" spc="-1" strike="noStrike">
                <a:solidFill>
                  <a:srgbClr val="000000"/>
                </a:solidFill>
                <a:latin typeface="Arial"/>
              </a:rPr>
              <a:t>Konsensus, poolthäälte enamus, juhataja hääl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000" spc="-1" strike="noStrike">
                <a:solidFill>
                  <a:srgbClr val="000000"/>
                </a:solidFill>
                <a:latin typeface="Arial"/>
              </a:rPr>
              <a:t>Avalikkuse teavitamine ja pressiga suhtlemine – esimees või tema volitatud liig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28480" y="404640"/>
            <a:ext cx="8087040" cy="9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600" spc="-1" strike="noStrike">
                <a:solidFill>
                  <a:srgbClr val="0099ff"/>
                </a:solidFill>
                <a:latin typeface="Arial"/>
              </a:rPr>
              <a:t>Nõukogu koosolek II</a:t>
            </a:r>
            <a:endParaRPr b="0" lang="en-US" sz="36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28480" y="1699920"/>
            <a:ext cx="808704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400" spc="-1" strike="noStrike">
                <a:solidFill>
                  <a:srgbClr val="000000"/>
                </a:solidFill>
                <a:latin typeface="Arial"/>
              </a:rPr>
              <a:t>Nõukogu teenindab ja koosolekud protokollib Statistikaamet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400" spc="-1" strike="noStrike">
                <a:solidFill>
                  <a:srgbClr val="000000"/>
                </a:solidFill>
                <a:latin typeface="Arial"/>
              </a:rPr>
              <a:t>Võimalus koosolekul osalemisega seotud sõidukulude hüvitamiseks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28480" y="404640"/>
            <a:ext cx="8087040" cy="9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600" spc="-1" strike="noStrike">
                <a:solidFill>
                  <a:srgbClr val="0099ff"/>
                </a:solidFill>
                <a:latin typeface="Arial"/>
              </a:rPr>
              <a:t>Aastaaruanne</a:t>
            </a:r>
            <a:endParaRPr b="0" lang="en-US" sz="36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28480" y="1300320"/>
            <a:ext cx="8087040" cy="49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000" spc="-1" strike="noStrike">
                <a:solidFill>
                  <a:srgbClr val="000000"/>
                </a:solidFill>
                <a:latin typeface="Arial"/>
              </a:rPr>
              <a:t>Nõukogu tegevuse kalendriaasta aruanne esitatakse hiljemalt järgmise aasta 30. aprilliks Vabariigi Valitsusele (nõukogu -&gt; rahandusminister-&gt; Vabariigi Valitsus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000" spc="-1" strike="noStrike">
                <a:solidFill>
                  <a:srgbClr val="000000"/>
                </a:solidFill>
                <a:latin typeface="Arial"/>
              </a:rPr>
              <a:t>Aastaaruanne sisaldab nõukogu hinnangut riikliku statistika tegemise kulutuste kohta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000" spc="-1" strike="noStrike">
                <a:solidFill>
                  <a:srgbClr val="000000"/>
                </a:solidFill>
                <a:latin typeface="Arial"/>
              </a:rPr>
              <a:t>Aastaaruanne avaldatakse Statistikaameti veebilehel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28480" y="404280"/>
            <a:ext cx="808704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600" spc="-1" strike="noStrike">
                <a:solidFill>
                  <a:srgbClr val="0099ff"/>
                </a:solidFill>
                <a:latin typeface="Arial"/>
              </a:rPr>
              <a:t>Tänan!</a:t>
            </a:r>
            <a:br>
              <a:rPr sz="3600"/>
            </a:br>
            <a:endParaRPr b="0" lang="en-US" sz="36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28480" y="2319120"/>
            <a:ext cx="8087040" cy="39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80800" y="890280"/>
            <a:ext cx="808668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600" spc="-1" strike="noStrike">
                <a:solidFill>
                  <a:srgbClr val="0099ff"/>
                </a:solidFill>
                <a:latin typeface="Arial"/>
              </a:rPr>
              <a:t>Õigusaktid</a:t>
            </a:r>
            <a:r>
              <a:rPr b="0" lang="et-EE" sz="3600" spc="-1" strike="noStrike">
                <a:solidFill>
                  <a:srgbClr val="0099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28120" y="1871640"/>
            <a:ext cx="8067960" cy="39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47640" indent="-6476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Riikliku statistika seadus (jõustunud 01.08.201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7640" indent="-6476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Vabariigi Valitsuse 13.01.2011 korraldus nr 14  “Statistikanõukogu moodustamin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7640" indent="-6476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Vabariigi Valitsuse 13.01.2011 määrus nr 11 “Statistikanõukogu töökord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7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28480" y="404640"/>
            <a:ext cx="8087040" cy="9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600" spc="-1" strike="noStrike">
                <a:solidFill>
                  <a:srgbClr val="0099ff"/>
                </a:solidFill>
                <a:latin typeface="Arial"/>
              </a:rPr>
              <a:t>Eesmärk ja ülesanded I</a:t>
            </a:r>
            <a:endParaRPr b="0" lang="en-US" sz="36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71440" y="1252080"/>
            <a:ext cx="8686800" cy="504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Statistikanõukogu tegevuse eesmärk on nõustamise ja arvamuse avaldamise kaudu anda panus riikliku statistika eesmärgi täitmiss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riikliku statistika tegem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kaasam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riikliku statistika maine ja tegevuse arusaadavus, läbipaistv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erapooletus ja asjatundlikk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28480" y="404640"/>
            <a:ext cx="8087040" cy="9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600" spc="-1" strike="noStrike">
                <a:solidFill>
                  <a:srgbClr val="0099ff"/>
                </a:solidFill>
                <a:latin typeface="Arial"/>
              </a:rPr>
              <a:t>Eesmärk ja ülesanded II</a:t>
            </a:r>
            <a:endParaRPr b="0" lang="en-US" sz="36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28480" y="1223640"/>
            <a:ext cx="8087040" cy="50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600" spc="-1" strike="noStrike">
                <a:solidFill>
                  <a:srgbClr val="000000"/>
                </a:solidFill>
                <a:latin typeface="Arial"/>
              </a:rPr>
              <a:t>Ülesanded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600" spc="-1" strike="noStrike">
                <a:solidFill>
                  <a:srgbClr val="000000"/>
                </a:solidFill>
                <a:latin typeface="Arial"/>
              </a:rPr>
              <a:t>riikliku </a:t>
            </a:r>
            <a:r>
              <a:rPr b="1" lang="et-EE" sz="2600" spc="-1" strike="noStrike">
                <a:solidFill>
                  <a:srgbClr val="000000"/>
                </a:solidFill>
                <a:latin typeface="Arial"/>
              </a:rPr>
              <a:t>statistika tegijate</a:t>
            </a:r>
            <a:r>
              <a:rPr b="0" lang="et-EE" sz="2600" spc="-1" strike="noStrike">
                <a:solidFill>
                  <a:srgbClr val="000000"/>
                </a:solidFill>
                <a:latin typeface="Arial"/>
              </a:rPr>
              <a:t> nõustamine (programm*, statistika tegemine ja selle koordineerimine sh põhimõtete ja kvaliteedikriteeriumite rakendamin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600" spc="-1" strike="noStrike">
                <a:solidFill>
                  <a:srgbClr val="000000"/>
                </a:solidFill>
                <a:latin typeface="Arial"/>
              </a:rPr>
              <a:t>arvamuse andmine ja soovitused </a:t>
            </a:r>
            <a:r>
              <a:rPr b="1" lang="et-EE" sz="2600" spc="-1" strike="noStrike">
                <a:solidFill>
                  <a:srgbClr val="000000"/>
                </a:solidFill>
                <a:latin typeface="Arial"/>
              </a:rPr>
              <a:t>rahandusministrile </a:t>
            </a:r>
            <a:r>
              <a:rPr b="0" lang="et-EE" sz="2600" spc="-1" strike="noStrike">
                <a:solidFill>
                  <a:srgbClr val="000000"/>
                </a:solidFill>
                <a:latin typeface="Arial"/>
              </a:rPr>
              <a:t>(programm*, kulutused, statistikaalane õigusloome, Statistikaameti peadirektori ametist vabastamin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600" spc="-1" strike="noStrike">
                <a:solidFill>
                  <a:srgbClr val="000000"/>
                </a:solidFill>
                <a:latin typeface="Arial"/>
              </a:rPr>
              <a:t>Statistikaameti peadirektori konkurssi läbiviivale </a:t>
            </a:r>
            <a:r>
              <a:rPr b="1" lang="et-EE" sz="2600" spc="-1" strike="noStrike">
                <a:solidFill>
                  <a:srgbClr val="000000"/>
                </a:solidFill>
                <a:latin typeface="Arial"/>
              </a:rPr>
              <a:t>komisjonile</a:t>
            </a:r>
            <a:r>
              <a:rPr b="0" lang="et-EE" sz="2600" spc="-1" strike="noStrike">
                <a:solidFill>
                  <a:srgbClr val="000000"/>
                </a:solidFill>
                <a:latin typeface="Arial"/>
              </a:rPr>
              <a:t> arvamuse andmin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t-EE" sz="2600" spc="-1" strike="noStrike">
                <a:solidFill>
                  <a:srgbClr val="000000"/>
                </a:solidFill>
                <a:latin typeface="Arial"/>
              </a:rPr>
              <a:t>*ülesande täitmine rakendussätte kohaselt alates riikliku statistika programmi koostamisest aastateks 2012–2016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28480" y="404640"/>
            <a:ext cx="8087040" cy="9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600" spc="-1" strike="noStrike">
                <a:solidFill>
                  <a:srgbClr val="0099ff"/>
                </a:solidFill>
                <a:latin typeface="Arial"/>
              </a:rPr>
              <a:t>Nõukogu moodustamisest I</a:t>
            </a:r>
            <a:endParaRPr b="0" lang="en-US" sz="36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71440" y="1338120"/>
            <a:ext cx="830592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t-EE" sz="3000" spc="-1" strike="noStrike">
                <a:solidFill>
                  <a:srgbClr val="000000"/>
                </a:solidFill>
                <a:latin typeface="Arial"/>
              </a:rPr>
              <a:t>Nõukogu moodustab Vabariigi Valitsus rahandusministri ettepanekul. Koosseis kinnitatakse neljaks aastaks. 13 liiget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000" spc="-1" strike="noStrike">
                <a:solidFill>
                  <a:srgbClr val="000000"/>
                </a:solidFill>
                <a:latin typeface="Arial"/>
              </a:rPr>
              <a:t>asutuste</a:t>
            </a:r>
            <a:r>
              <a:rPr b="0" lang="et-EE" sz="3000" spc="-1" strike="noStrike">
                <a:solidFill>
                  <a:srgbClr val="000000"/>
                </a:solidFill>
                <a:latin typeface="Arial"/>
              </a:rPr>
              <a:t> esindajad (Statistikaamet, Eesti Pank, Andmekaitse Inspektsioo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000" spc="-1" strike="noStrike">
                <a:solidFill>
                  <a:srgbClr val="000000"/>
                </a:solidFill>
                <a:latin typeface="Arial"/>
              </a:rPr>
              <a:t>riikliku statistika </a:t>
            </a:r>
            <a:r>
              <a:rPr b="1" lang="et-EE" sz="3000" spc="-1" strike="noStrike">
                <a:solidFill>
                  <a:srgbClr val="000000"/>
                </a:solidFill>
                <a:latin typeface="Arial"/>
              </a:rPr>
              <a:t>tarbijate</a:t>
            </a:r>
            <a:r>
              <a:rPr b="0" lang="et-EE" sz="3000" spc="-1" strike="noStrike">
                <a:solidFill>
                  <a:srgbClr val="000000"/>
                </a:solidFill>
                <a:latin typeface="Arial"/>
              </a:rPr>
              <a:t> ja </a:t>
            </a:r>
            <a:r>
              <a:rPr b="1" lang="et-EE" sz="3000" spc="-1" strike="noStrike">
                <a:solidFill>
                  <a:srgbClr val="000000"/>
                </a:solidFill>
                <a:latin typeface="Arial"/>
              </a:rPr>
              <a:t>andmeesitajate</a:t>
            </a:r>
            <a:r>
              <a:rPr b="0" lang="et-EE" sz="3000" spc="-1" strike="noStrike">
                <a:solidFill>
                  <a:srgbClr val="000000"/>
                </a:solidFill>
                <a:latin typeface="Arial"/>
              </a:rPr>
              <a:t> esindaj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000" spc="-1" strike="noStrike">
                <a:solidFill>
                  <a:srgbClr val="000000"/>
                </a:solidFill>
                <a:latin typeface="Arial"/>
              </a:rPr>
              <a:t>eksperdid</a:t>
            </a:r>
            <a:r>
              <a:rPr b="0" lang="et-EE" sz="3000" spc="-1" strike="noStrike">
                <a:solidFill>
                  <a:srgbClr val="000000"/>
                </a:solidFill>
                <a:latin typeface="Arial"/>
              </a:rPr>
              <a:t> (statistika, rahvastik, sotsiaalvaldkond, keskkond, majandus, põllumajandu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28480" y="404640"/>
            <a:ext cx="8087040" cy="9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600" spc="-1" strike="noStrike">
                <a:solidFill>
                  <a:srgbClr val="0099ff"/>
                </a:solidFill>
                <a:latin typeface="Arial"/>
              </a:rPr>
              <a:t>Nõukogu moodustamisest II</a:t>
            </a:r>
            <a:endParaRPr b="0" lang="en-US" sz="36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28480" y="1242720"/>
            <a:ext cx="8305920" cy="50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Esimene koosse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800" spc="-1" strike="noStrike">
                <a:solidFill>
                  <a:srgbClr val="000000"/>
                </a:solidFill>
                <a:latin typeface="Arial"/>
              </a:rPr>
              <a:t>asutuste</a:t>
            </a: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 esindajate nimetam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ettepanekute küsimine </a:t>
            </a:r>
            <a:r>
              <a:rPr b="1" lang="et-EE" sz="2800" spc="-1" strike="noStrike">
                <a:solidFill>
                  <a:srgbClr val="000000"/>
                </a:solidFill>
                <a:latin typeface="Arial"/>
              </a:rPr>
              <a:t>tarbijate ja andmeesitajate esindajate</a:t>
            </a: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 nimetamiseks (HTM, Eesti Maaomavalitsuste Liit, Eesti Linnade Liit, Eesti Kaubandus‑Tööstuskoda, Tööandjate Keskliidul ja Tartu Ülikoo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ettepanekute küsimine </a:t>
            </a:r>
            <a:r>
              <a:rPr b="1" lang="et-EE" sz="2800" spc="-1" strike="noStrike">
                <a:solidFill>
                  <a:srgbClr val="000000"/>
                </a:solidFill>
                <a:latin typeface="Arial"/>
              </a:rPr>
              <a:t>ekspertide</a:t>
            </a: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 nimetamiseks (ülikoolid, ministeeriumi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28480" y="404640"/>
            <a:ext cx="8087040" cy="9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600" spc="-1" strike="noStrike">
                <a:solidFill>
                  <a:srgbClr val="0099ff"/>
                </a:solidFill>
                <a:latin typeface="Arial"/>
              </a:rPr>
              <a:t>Nõukogu moodustamisest III</a:t>
            </a:r>
            <a:endParaRPr b="0" lang="en-US" sz="36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28480" y="1195200"/>
            <a:ext cx="8087040" cy="51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t-EE" sz="3000" spc="-1" strike="noStrike">
                <a:solidFill>
                  <a:srgbClr val="000000"/>
                </a:solidFill>
                <a:latin typeface="Arial"/>
              </a:rPr>
              <a:t>Tarbijate ja andmeesitajate huvide esindajate määramisel on silmas peetud, et esindatud oleksid riigiasutused, ettevõtjad ja tööandjad, kohalikud omavalitsused ja teadusasutus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t-EE" sz="3000" spc="-1" strike="noStrike">
                <a:solidFill>
                  <a:srgbClr val="000000"/>
                </a:solidFill>
                <a:latin typeface="Arial"/>
              </a:rPr>
              <a:t>Vabariigi Valitsuse korraldu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000" spc="-1" strike="noStrike">
                <a:solidFill>
                  <a:srgbClr val="000000"/>
                </a:solidFill>
                <a:latin typeface="Arial"/>
              </a:rPr>
              <a:t>eksperdid nimelisel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000" spc="-1" strike="noStrike">
                <a:solidFill>
                  <a:srgbClr val="000000"/>
                </a:solidFill>
                <a:latin typeface="Arial"/>
              </a:rPr>
              <a:t>teised liikmed asutuse või liidu esindajan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28480" y="404640"/>
            <a:ext cx="8087040" cy="9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600" spc="-1" strike="noStrike">
                <a:solidFill>
                  <a:srgbClr val="0099ff"/>
                </a:solidFill>
                <a:latin typeface="Arial"/>
              </a:rPr>
              <a:t>Nõukogu juhtimine</a:t>
            </a:r>
            <a:endParaRPr b="0" lang="en-US" sz="36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52000" y="1386000"/>
            <a:ext cx="8363160" cy="49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t-EE" sz="3000" spc="-1" strike="noStrike">
                <a:solidFill>
                  <a:srgbClr val="000000"/>
                </a:solidFill>
                <a:latin typeface="Arial"/>
              </a:rPr>
              <a:t>Nõukogu juhib esimees, kelle nõukogu liikmed valivad endi hulgas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t-EE" sz="3000" spc="-1" strike="noStrike">
                <a:solidFill>
                  <a:srgbClr val="000000"/>
                </a:solidFill>
                <a:latin typeface="Arial"/>
              </a:rPr>
              <a:t>Esimehe ülesanded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000" spc="-1" strike="noStrike">
                <a:solidFill>
                  <a:srgbClr val="000000"/>
                </a:solidFill>
                <a:latin typeface="Arial"/>
              </a:rPr>
              <a:t>esindab nõukogu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000" spc="-1" strike="noStrike">
                <a:solidFill>
                  <a:srgbClr val="000000"/>
                </a:solidFill>
                <a:latin typeface="Arial"/>
              </a:rPr>
              <a:t>korraldab nõukogu töö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000" spc="-1" strike="noStrike">
                <a:solidFill>
                  <a:srgbClr val="000000"/>
                </a:solidFill>
                <a:latin typeface="Arial"/>
              </a:rPr>
              <a:t>kutsub kokku ja juhatab koosolekui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000" spc="-1" strike="noStrike">
                <a:solidFill>
                  <a:srgbClr val="000000"/>
                </a:solidFill>
                <a:latin typeface="Arial"/>
              </a:rPr>
              <a:t>esitab nõukogu arvamused ja soovitused riikliku statistika tegijatele, rahandusministrile ja konkurssi läbiviivale komisjon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9240" y="880560"/>
            <a:ext cx="8086680" cy="8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600" spc="-1" strike="noStrike">
                <a:solidFill>
                  <a:srgbClr val="0099ff"/>
                </a:solidFill>
                <a:latin typeface="Arial"/>
              </a:rPr>
              <a:t>Muudatused koosseisus</a:t>
            </a:r>
            <a:endParaRPr b="0" lang="en-US" sz="36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90160" y="1433520"/>
            <a:ext cx="83250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400" spc="-1" strike="noStrike">
                <a:solidFill>
                  <a:srgbClr val="000000"/>
                </a:solidFill>
                <a:latin typeface="Arial"/>
              </a:rPr>
              <a:t>koosseisu volituste lõppemine (neli aastat)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400" spc="-1" strike="noStrike">
                <a:solidFill>
                  <a:srgbClr val="000000"/>
                </a:solidFill>
                <a:latin typeface="Arial"/>
              </a:rPr>
              <a:t>liikme lahkumisavaldu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400" spc="-1" strike="noStrike">
                <a:solidFill>
                  <a:srgbClr val="000000"/>
                </a:solidFill>
                <a:latin typeface="Arial"/>
              </a:rPr>
              <a:t>institutsioon kutsub liikme tagasi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400" spc="-1" strike="noStrike">
                <a:solidFill>
                  <a:srgbClr val="000000"/>
                </a:solidFill>
                <a:latin typeface="Arial"/>
              </a:rPr>
              <a:t>liige ei osale nõukogu töös poole aasta jooksu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3T13:58:37Z</dcterms:created>
  <dc:creator>margitat</dc:creator>
  <dc:description/>
  <dc:language>en-US</dc:language>
  <cp:lastModifiedBy>Marit Raist</cp:lastModifiedBy>
  <dcterms:modified xsi:type="dcterms:W3CDTF">2011-02-28T07:56:42Z</dcterms:modified>
  <cp:revision>37</cp:revision>
  <dc:subject/>
  <dc:title>Slide 1</dc:title>
</cp:coreProperties>
</file>