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D39A-A344-4332-883D-151573B8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18B8-06BB-4BE0-B551-82AE26F4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4098-6269-4486-A3A6-3481104A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30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2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848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30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2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61FA-561D-42A4-BEB5-FC5257C0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28480" y="404640"/>
            <a:ext cx="8087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D00-ED62-4787-AF4D-60F837B9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30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72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848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30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72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76FF-45B6-498D-A2BF-B7820CCF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5A45-2D8E-4D86-8A21-EC8F1961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3CE-AB8B-4AF1-A03C-5272A1CD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28480" y="404640"/>
            <a:ext cx="8087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90F-C669-4D86-B514-04CBCD3F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F7FA-27C2-41EC-80F8-D5BC0725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A88-FE06-49F1-ACB4-E31A1AA0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F708-1E26-41E4-B01C-54487CA9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2620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230120" y="64814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28480" y="6481440"/>
            <a:ext cx="6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5DBC-AE74-4319-848A-81B1CFB4E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22600" y="4129200"/>
            <a:ext cx="722448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4680" y="3749400"/>
            <a:ext cx="83487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ffffff"/>
                </a:solidFill>
                <a:latin typeface="Arial"/>
              </a:rPr>
              <a:t>STATISTIKANÕUKOGU TEGEVUST REGULEERIVATE ÕIGUSAKTIDE ÜLEVAA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2160" y="5189400"/>
            <a:ext cx="80470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700" spc="-1" strike="noStrike">
                <a:solidFill>
                  <a:srgbClr val="ffffff"/>
                </a:solidFill>
                <a:latin typeface="Arial"/>
              </a:rPr>
              <a:t>Marit  Rai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700" spc="-1" strike="noStrike">
                <a:solidFill>
                  <a:srgbClr val="ffffff"/>
                </a:solidFill>
                <a:latin typeface="Arial"/>
              </a:rPr>
              <a:t>Riigihalduse ja avaliku teenistuse osakon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28. veebruar 2011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töö põhimõtted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28120" y="1300320"/>
            <a:ext cx="84394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Õigus küsida oma ülesannete täitmiseks vajalikku teavet ning moodustada töörühmi ja valdkondlikke nõukogusi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Nõukogu töös osalemise eest tasu ei maksta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Koosolekul osaleb liige isiklikul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Tööplaani kinnitami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Liikme huvide konflik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Konfidentsiaalsete andmete kaitsmi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koosolek 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28480" y="1176480"/>
            <a:ext cx="8087040" cy="51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Toimub vähemalt kord kolme kuu jooksul. Võib korraldada ka elektroonsel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Juhatab esimees või tema määratud liige. Iga koosseisu esimese koosoleku kutsub kokku rahandusminis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on otsustusvõimeline, kui osaleb vähemalt seitse liiget (va esimehe valimin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Konsensus, poolthäälte enamus, juhataja hää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Avalikkuse teavitamine ja pressiga suhtlemine – esimees või tema volitatud lii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koosolek 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Nõukogu teenindab ja koosolekud protokollib Statistikaame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Võimalus koosolekul osalemisega seotud sõidukulude hüvitamisek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Aastaaruanne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8480" y="1300320"/>
            <a:ext cx="8087040" cy="49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tegevuse kalendriaasta aruanne esitatakse hiljemalt järgmise aasta 30. aprilliks Vabariigi Valitsusele (nõukogu -&gt; rahandusminister-&gt; Vabariigi Valitsu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Aastaaruanne sisaldab nõukogu hinnangut riikliku statistika tegemise kulutuste koh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Aastaaruanne avaldatakse Statistikaameti veebileh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28480" y="404280"/>
            <a:ext cx="8087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Tänan!</a:t>
            </a:r>
            <a:br>
              <a:rPr sz="3600"/>
            </a:b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28480" y="2319120"/>
            <a:ext cx="808704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0800" y="890280"/>
            <a:ext cx="80866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Õigusaktid</a:t>
            </a:r>
            <a:r>
              <a:rPr b="0" lang="et-EE" sz="3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8120" y="1871640"/>
            <a:ext cx="806796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7640" indent="-647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iikliku statistika seadus (jõustunud 01.08.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abariigi Valitsuse 13.01.2011 korraldus nr 14  “Statistikanõukogu moodustami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abariigi Valitsuse 13.01.2011 määrus nr 11 “Statistikanõukogu töökor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Eesmärk ja ülesanded 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1440" y="1252080"/>
            <a:ext cx="868680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tatistikanõukogu tegevuse eesmärk on nõustamise ja arvamuse avaldamise kaudu anda panus riikliku statistika eesmärgi täitmis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iikliku statistika tege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aas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iikliku statistika maine ja tegevuse arusaadavus, läbipaistv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rapooletus ja asjatundlik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Eesmärk ja ülesanded 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8480" y="1223640"/>
            <a:ext cx="808704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Ülesand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riikliku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statistika tegijate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nõustamine (programm*, statistika tegemine ja selle koordineerimine sh põhimõtete ja kvaliteedikriteeriumite rakendam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arvamuse andmine ja soovitused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rahandusministrile 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(programm*, kulutused, statistikaalane õigusloome, Statistikaameti peadirektori ametist vabastam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Statistikaameti peadirektori konkurssi läbiviivale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komisjonile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arvamuse andm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*ülesande täitmine rakendussätte kohaselt alates riikliku statistika programmi koostamisest aastateks 2012–20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moodustamisest 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1440" y="133812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moodustab Vabariigi Valitsus rahandusministri ettepanekul. Koosseis kinnitatakse neljaks aastaks. 13 liig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asutuste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esindajad (Statistikaamet, Eesti Pank, Andmekaitse Inspektsi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riikliku statistika </a:t>
            </a: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tarbijate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ja </a:t>
            </a: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andmeesitajate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esindaj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eksperdid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(statistika, rahvastik, sotsiaalvaldkond, keskkond, majandus, põllumajand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moodustamisest 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28480" y="1242720"/>
            <a:ext cx="830592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simene koosse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asutust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esindajate nimet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ttepanekute küsimine 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tarbijate ja andmeesitajate esindajat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nimetamiseks (HTM, Eesti Maaomavalitsuste Liit, Eesti Linnade Liit, Eesti Kaubandus‑Tööstuskoda, Tööandjate Keskliidul ja Tartu Üliko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ttepanekute küsimine 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ekspertid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nimetamiseks (ülikoolid, ministeerium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moodustamisest I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195200"/>
            <a:ext cx="80870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Tarbijate ja andmeesitajate huvide esindajate määramisel on silmas peetud, et esindatud oleksid riigiasutused, ettevõtjad ja tööandjad, kohalikud omavalitsused ja teadusasutus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Vabariigi Valitsuse korraldu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ksperdid nimelisel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teised liikmed asutuse või liidu esindaj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juhtimine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2000" y="1386000"/>
            <a:ext cx="8363160" cy="49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juhib esimees, kelle nõukogu liikmed valivad endi hulga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simehe ülesanded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sindab nõukog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korraldab nõukogu töö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kutsub kokku ja juhatab koosoleku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sitab nõukogu arvamused ja soovitused riikliku statistika tegijatele, rahandusministrile ja konkurssi läbiviivale komisjon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880560"/>
            <a:ext cx="808668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Muudatused koosseisus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0160" y="1433520"/>
            <a:ext cx="8325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koosseisu volituste lõppemine (neli aastat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liikme lahkumisavaldu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institutsioon kutsub liikme tagas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liige ei osale nõukogu töös poole aasta jooksu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3:58:37Z</dcterms:created>
  <dc:creator>margitat</dc:creator>
  <dc:description/>
  <dc:language>en-US</dc:language>
  <cp:lastModifiedBy>Marit Raist</cp:lastModifiedBy>
  <dcterms:modified xsi:type="dcterms:W3CDTF">2011-02-28T07:56:42Z</dcterms:modified>
  <cp:revision>37</cp:revision>
  <dc:subject/>
  <dc:title>Slide 1</dc:title>
</cp:coreProperties>
</file>