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52B1-22C2-4566-BEDA-0CC5771B33D0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675B-529C-4085-B034-30A09FEF1EA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1226-D0B5-4078-B72D-2FCE4BABF59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2805-4BFE-4AFC-9F91-A075045671A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B966-1165-4CB0-A03B-FC456C2F8A1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BF32-0F41-463C-AA4C-1F224C4D71F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E75B-3A9C-421C-B862-63F13D58C5A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2F5E-48B8-4B3A-B1C6-E8C7577622B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7A37-EDB2-46C7-B911-CD572669FCD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C5CD-9F0D-4C2D-B3EC-BF0962FA2FF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994C-AC66-42AD-AF2C-137FE110C65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kliku statistika programmi koostamisprotsess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3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.03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koostamisprotsess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õllumajandusmaa ostu-müügi ning rendihindad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.03.2010 esitas Põllumajandusministeerium (PM) taotlus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6.05.2010 kinnitas SA planeerimiskomitee eitava seisukoh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7.07.2010 esitas SA RSP Rahandusministeeriumi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5.11.2010 pani RM RSP kooskõlas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5.12. peaksid teavituskirjad olema andmeesitajate lauda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7.01. saatsime PM-i memo teatega oma nõusolekust kõneks-olevat statistikat toota, kui saame juurde 1 inimese palgaf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.01.2011 kinnitas VV RSP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tsustati, et antud teema peab valitsusse tagasi tulem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5640" y="6021360"/>
            <a:ext cx="79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http://www.stat.ee/oigusaktid -&gt;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3951"/>
                </a:solidFill>
                <a:latin typeface="Arial"/>
              </a:rPr>
              <a:t>Statistikatööde kohta tehtud ettepanekutega arvestamine 2011-2013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5" dur="1" fill="hold"/>
                                  <p:tgtEl>
                                    <p:spTgt spid="3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iri Eurostati peadirektoril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02.11.2010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99640" y="18255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usime pikendada Ettevõtluse aastastatistika määruse Lisa VIII ja ettevõtluse lühiajastatistika alusel tehtava statistika erindit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tasime, et oleme sunnitud peatama äriteenuste hinnaindeksi väljaarendamise (19-st nõutud indeksist on juurutatud pool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justena tõime välja tööjõu- ja rahaliste vahendite napp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kiri 22.02.20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es rõhutatakse Eesti panuse olulisust kvaliteetse Euroopa statistika too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ing viidatakse asutamislepingu paragrahvidele, mis lubavad kasutusele võtta juriidilised sanktsioonid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32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u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 piisav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9" dur="1" fill="hold"/>
                                  <p:tgtEl>
                                    <p:spTgt spid="3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5.10.2010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95280" y="2708280"/>
            <a:ext cx="83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1) nõustab riikliku statistika tegija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klik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statistika programmi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oostamisel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3) avaldab rahandusministrile arvamust riikliku statistika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programmi ja selle muudatuste kohta enne nende kinnitamist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5) annab rahandusministrile hinnangu riikliku statistika tegemise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ulutuste kohta ja esitab selle oma aastaaruan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itle 1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407960"/>
            <a:ext cx="46083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951"/>
                </a:solidFill>
                <a:latin typeface="Arial"/>
              </a:rPr>
              <a:t>§ 12. Statistikanõukogu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br>
              <a:rPr sz="2000"/>
            </a:b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(2) Statistikanõukogu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2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95280" y="1413000"/>
            <a:ext cx="83678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 töötab riikliku statistika programmi (RSP) alu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koostatakse igal aastal järgmiseks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5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aastak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ja ta koosneb statistikatöö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Hinnanguliselt üle 90% statistikatöödest on seotud EL õigusaktide nõuet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Nõuete mittetäitmisel on Euroopa Komisjonil õigus alustada rikkumismenetlust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võib päädida rahaliste sanktsioonidega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95280" y="1413000"/>
            <a:ext cx="8367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hõlmab end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a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a 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tule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on statistikaväljaanne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Iga statistikatöö kohta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-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katööde maksumus peab olema vastavuses Statistikaameti eelarve projektiga ning arvestama riigieelarve strateegia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5877000"/>
            <a:ext cx="79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http://www.stat.ee/oigusaktid -&gt; 2011.–2015. aastate statistikatööde loetelu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-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koost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95280" y="1268280"/>
            <a:ext cx="83678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 aasta alguses koostab Statistikaamet järgmise 5 a RSP projekti, lähtudes seejuur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 statistikaprogrammist / EL õigusaktide eelnõu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 tarbijate vajadustest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eejärel esitatakse RSP projekt põhitarbijatele ettepanekute tege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(ca 150) hulka kuuluvad: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gi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halikud omavalitsuse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gevusalaliid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dus- ja haridus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dia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3951"/>
                </a:solidFill>
                <a:latin typeface="Arial"/>
              </a:rPr>
              <a:t>Ettepanekuid küsitakse ka administratiivsetel andmetel põhinevate statistikatööde andmeesitajate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30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1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95280" y="1773360"/>
            <a:ext cx="8367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tarbijate ettepanekud arutatakse läbi valdkonnastatistika osakondad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valdkonnad korraldavad kokkusaamisi statistikute ja ettepanekute tegijate vah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Kokkusaamiste tulemusel täpsustatakse statistikatööde kirjeldust, lisatakse olemasolevatesse statistikatöödesse väljundnäitajaid jm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i formeerub järgmise perioodi RSP täiendatud projek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täiendatud projekti arutab SA planeerimiskomitee </a:t>
            </a:r>
            <a:br>
              <a:rPr sz="2000"/>
            </a:b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ng langetab otsuse tehtud ettepanekute programmis arvestamiseks/mittearves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2" dur="1" fill="hold"/>
                                  <p:tgtEl>
                                    <p:spTgt spid="3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95280" y="1773360"/>
            <a:ext cx="8367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Otsustes lähtutakse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valiku huvi ja andmeallikate olemasolu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otstarbekus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 eelarve ja eelarvestrateegia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i seisukoht jah/ei lühivastusena ja äraütleva vastuse korral põhjendus avaldatakse SA veebilehel,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vitades sellest ka ettepanekute esitaja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Alates 2012.–2016. aasta programmist avalda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ja selle muudatuste kohta arvamust ka statistikanõukogu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Statistikaamet esitab programmi projekti koos nõukogu arvamusega Rahandusministeeriumile iga aasta 1. juulik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9" dur="1" fill="hold"/>
                                  <p:tgtEl>
                                    <p:spTgt spid="3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inni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5280" y="1844640"/>
            <a:ext cx="83678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innitab Vabariigi Valitsu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VV)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Enn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-le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esitamist kooskõlastab Rahandusministeerium dokumendi Riigikantselei, ministeeriumide, Eesti Linnade Liidu ja Eesti Maaomavalitsuste Liiduga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ooskõlastamisel tehtud ettepanekute menetlemine toimub </a:t>
            </a:r>
            <a:br>
              <a:rPr sz="2000"/>
            </a:b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a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viisil</a:t>
            </a:r>
            <a:r>
              <a:rPr b="1" lang="en-AU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ui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ettepanekute menetleminegi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Programmi kooskõlastamise käigus tehtud ettepanekud ja Statistikaameti vastused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 eelnõu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eletuskirjas tabelina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3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se </a:t>
            </a: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rimisprotsessi põhi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791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itarbijate vajaduste kohta küsi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ööde loetelu (RSP projekt) koostamin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üsimustike disain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reimi koostamine ja valimi võt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spondentide eelnev teavitamine (ca 15. detsembri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öötl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aval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20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3" dur="1" fill="hold"/>
                                  <p:tgtEl>
                                    <p:spTgt spid="3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4-15T12:03:54Z</dcterms:modified>
  <cp:revision>100</cp:revision>
  <dc:subject/>
  <dc:title>Slide 1</dc:title>
</cp:coreProperties>
</file>