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F312-1AFC-4C69-B060-DCDB91EA51BC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CB0A-A807-4FAF-9500-4D8A775DA008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6BE2-0F59-4944-A21A-2AB60AADCCCD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D073-3B41-415E-A0F8-7D65FE9F20AF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EA19-D98B-49F7-9E93-0F2DF2DE6FEA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8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607B-AA8D-4525-92B4-E6E643984514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8E4E-91C0-46C4-9A6D-CA232DCDD2C3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377A-6143-4FFB-8F7A-F13EC2ADC5B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4B25-8E35-4FD1-AA9C-50134093DCA5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D0E4-90AC-4EE6-9517-D4F07DAD21B2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E988-FCC1-4A19-9AA4-423E38976226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951"/>
                </a:solidFill>
                <a:latin typeface="Arial"/>
              </a:rPr>
              <a:t>Annual planning and monitoring in Statistics </a:t>
            </a:r>
            <a:r>
              <a:rPr b="0" lang="en-US" sz="1000" spc="-1" strike="noStrike">
                <a:solidFill>
                  <a:srgbClr val="003951"/>
                </a:solidFill>
                <a:latin typeface="Arial"/>
              </a:rPr>
              <a:t>Estonia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iikliku statistika programmi koostamisprotsess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951"/>
                </a:solidFill>
                <a:latin typeface="Arial"/>
              </a:rPr>
              <a:t>Annual planning and monitoring in Statistics </a:t>
            </a:r>
            <a:r>
              <a:rPr b="0" lang="en-US" sz="1000" spc="-1" strike="noStrike">
                <a:solidFill>
                  <a:srgbClr val="003951"/>
                </a:solidFill>
                <a:latin typeface="Arial"/>
              </a:rPr>
              <a:t>Estonia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3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2.03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99640" y="105264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Riikliku statistika programmi koostamisprotsess 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õllumajandusmaa ostu-müügi ning rendihindade statis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9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9.03.2010 esitas Põllumajandusministeerium (PM) taotlus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06.05.2010 kinnitas SA planeerimiskomitee eitava seisukoha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27.07.2010 esitas SA RSP Rahandusministeeriumi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25.11.2010 pani RM RSP kooskõlast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5.12. peaksid teavituskirjad olema andmeesitajate laudad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07.01. saatsime PM-i memo teatega oma nõusolekust kõneks-olevat statistikat toota, kui saame juurde 1 inimese palgafond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3.01.2011 kinnitas VV RSP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tsustati, et antud teema peab valitsusse tagasi tulema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55640" y="6021360"/>
            <a:ext cx="79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http://www.stat.ee/oigusaktid -&gt;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3951"/>
                </a:solidFill>
                <a:latin typeface="Arial"/>
              </a:rPr>
              <a:t>Statistikatööde kohta tehtud ettepanekutega arvestamine 2011-2013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5" dur="1" fill="hold"/>
                                  <p:tgtEl>
                                    <p:spTgt spid="31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iri Eurostati peadirektorile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02.11.2010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99640" y="1825560"/>
            <a:ext cx="779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usime pikendada Ettevõtluse aastastatistika määruse Lisa VIII ja ettevõtluse lühiajastatistika alusel tehtava statistika erindit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atasime, et oleme sunnitud peatama äriteenuste hinnaindeksi väljaarendamise (19-st nõutud indeksist on juurutatud pooled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hjustena tõime välja tööjõu- ja rahaliste vahendite nappu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stuskiri 22.02.2011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stuses rõhutatakse Eesti panuse olulisust kvaliteetse Euroopa statistika toot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ing viidatakse asutamislepingu paragrahvidele, mis lubavad kasutusele võtta juriidilised sanktsioonid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5" dur="1" fill="hold"/>
                                  <p:tgtEl>
                                    <p:spTgt spid="32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ameti oot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7791480" cy="14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vamust, kas toodetu katab Eesti ühiskonna vajadus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hinnangut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iirkondlikku ja üleriigilise statistika vahekorra optimaalsusel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ldkondade omavahelistele proportsioonid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astatuse piisav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8360" y="1844640"/>
            <a:ext cx="8064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Statistikaamet ootab Statistikanõukogult: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9" dur="1" fill="hold"/>
                                  <p:tgtEl>
                                    <p:spTgt spid="3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0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1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5.10.2010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95280" y="2708280"/>
            <a:ext cx="83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1) nõustab riikliku statistika tegijat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iikliku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statistika programmi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koostamisel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3) avaldab rahandusministrile arvamust riikliku statistika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programmi ja selle muudatuste kohta enne nende kinnitamist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5) annab rahandusministrile hinnangu riikliku statistika tegemise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kulutuste kohta ja esitab selle oma aastaaruand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;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Title 1"/>
          <p:cNvSpPr/>
          <p:nvPr/>
        </p:nvSpPr>
        <p:spPr>
          <a:xfrm>
            <a:off x="1258920" y="47628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iikliku statistika sea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1407960"/>
            <a:ext cx="460836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951"/>
                </a:solidFill>
                <a:latin typeface="Arial"/>
              </a:rPr>
              <a:t>§ 12. Statistikanõukogu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...</a:t>
            </a:r>
            <a:br>
              <a:rPr sz="2000"/>
            </a:b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(2) Statistikanõukogu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" dur="1" fill="hold"/>
                                  <p:tgtEl>
                                    <p:spTgt spid="2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iikliku statistika programm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95280" y="1413000"/>
            <a:ext cx="83678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amet töötab riikliku statistika programmi (RSP) alus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koostatakse igal aastal järgmiseks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5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aastaks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ja ta koosneb statistikatööde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Hinnanguliselt üle 90% statistikatöödest on seotud EL õigusaktide nõuet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Nõuete mittetäitmisel on Euroopa Komisjonil õigus alustada rikkumismenetlust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võib päädida rahaliste sanktsioonidega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2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iikliku statistika programm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95280" y="1413000"/>
            <a:ext cx="83678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 hõlmab end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[igal aastal tehtava]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statistik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selt tehtava statistik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 arendus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tatistilise analüüsi tööd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tulem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iks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on statistikaväljaanne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liste registrite pidamine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Iga statistikatöö kohta esitatakse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-s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eeldatav maksum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tatistikatööde maksumus peab olema vastavuses Statistikaameti eelarve projektiga ning arvestama riigieelarve strateegia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5877000"/>
            <a:ext cx="792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http://www.stat.ee/oigusaktid -&gt; 2011.–2015. aastate statistikatööde loetelu</a:t>
            </a: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projekt - </a:t>
            </a: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koostamin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95280" y="1268280"/>
            <a:ext cx="83678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Iga aasta alguses koostab Statistikaamet järgmise 5 a RSP projekti, lähtudes seejuure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 statistikaprogrammist / EL õigusaktide eelnõude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sti tarbijate vajadustest jm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eejärel esitatakse RSP projekt põhitarbijatele ettepanekute tegemise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tarbijate (ca 150) hulka kuuluvad: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iigiasut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halikud omavalitsused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egevusalaliidu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eadus- ja haridusasut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eedia jm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3951"/>
                </a:solidFill>
                <a:latin typeface="Arial"/>
              </a:rPr>
              <a:t>Ettepanekuid küsitakse ka administratiivsetel andmetel põhinevate statistikatööde andmeesitajatel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2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2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20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20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2000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2000"/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30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projekt – </a:t>
            </a: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ttepanekute menetlemine (1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95280" y="1773360"/>
            <a:ext cx="8367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Põhitarbijate ettepanekud arutatakse läbi valdkonnastatistika osakondade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Statistikavaldkonnad korraldavad kokkusaamisi statistikute ja ettepanekute tegijate vah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Kokkusaamiste tulemusel täpsustatakse statistikatööde kirjeldust, lisatakse olemasolevatesse statistikatöödesse väljundnäitajaid jm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Nii formeerub järgmise perioodi RSP täiendatud projek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RSP täiendatud projekti arutab SA planeerimiskomitee </a:t>
            </a:r>
            <a:br>
              <a:rPr sz="2000"/>
            </a:b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ning langetab otsuse tehtud ettepanekute programmis arvestamiseks/mittearvestamise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2" dur="1" fill="hold"/>
                                  <p:tgtEl>
                                    <p:spTgt spid="3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projekt – </a:t>
            </a: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ttepanekute menetlemine (2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395280" y="1773360"/>
            <a:ext cx="83678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Otsustes lähtutakse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valiku huvi ja andmeallikate olemasolu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 otstarbekuse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kõlast eelarve ja eelarvestrateegia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ameti seisukoht jah/ei lühivastusena ja äraütleva vastuse korral põhjendus avaldatakse SA veebilehel,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eavitades sellest ka ettepanekute esitajai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Alates 2012.–2016. aasta programmist avaldab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</a:t>
            </a: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 ja selle muudatuste kohta arvamust ka statistikanõukogu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Statistikaamet esitab programmi projekti koos nõukogu arvamusega Rahandusministeeriumile iga aasta 1. juulik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9" dur="1" fill="hold"/>
                                  <p:tgtEl>
                                    <p:spTgt spid="3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951"/>
                </a:solidFill>
                <a:latin typeface="Arial"/>
              </a:rPr>
              <a:t>RSP projekt – 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innit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95280" y="1844640"/>
            <a:ext cx="83678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 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kinnitab Vabariigi Valitsus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(VV)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 korraldus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20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Enne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V-le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 esitamist kooskõlastab Rahandusministeerium dokumendi Riigikantselei, ministeeriumide, Eesti Linnade Liidu ja Eesti Maaomavalitsuste Liiduga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20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Kooskõlastamisel tehtud ettepanekute menetlemine toimub </a:t>
            </a:r>
            <a:br>
              <a:rPr sz="2000"/>
            </a:b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sam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l 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viisil</a:t>
            </a:r>
            <a:r>
              <a:rPr b="1" lang="en-AU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ui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tarbijate ettepanekute menetleminegi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Programmi kooskõlastamise käigus tehtud ettepanekud ja Statistikaameti vastused esitatakse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V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 korralduse eelnõu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seletuskirjas tabelina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1" dur="1" fill="hold"/>
                                  <p:tgtEl>
                                    <p:spTgt spid="3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astase </a:t>
            </a:r>
            <a:r>
              <a:rPr b="1" lang="en-GB" sz="32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rimisprotsessi põhietap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791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hitarbijate vajaduste kohta küsi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tööde loetelu (RSP projekt) koostamin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kliku statistika küsimustike disain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Freimi koostamine ja valimi võt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spondentide eelnev teavitamine (ca 15. detsembri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kogu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öötl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 avald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20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20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20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20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3" dur="1" fill="hold"/>
                                  <p:tgtEl>
                                    <p:spTgt spid="3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04-15T12:03:54Z</dcterms:modified>
  <cp:revision>100</cp:revision>
  <dc:subject/>
  <dc:title>Slide 1</dc:title>
</cp:coreProperties>
</file>