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4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ftr" idx="5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 type="sldNum" idx="6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9550-1F22-43A0-B049-5E7DAD06B817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4101-ABDA-43F8-8602-04BDF3A19FFB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2B6-D759-4E09-B7FA-A2462170B14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52C0-8FAD-4614-9BF5-BD164A9E3B1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D933-9B37-46DA-BD81-6268C0F6B94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92F2-DB24-4D05-BA60-55C95292AD7C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DFB7-4A9A-4F8F-9DD3-81FBF756C5B7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25522-5B29-44E9-831E-1A0ED8C4FBB2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3B1F-1ED2-4083-BFCD-DBFDAB1FCA28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6D3A-6342-4A87-89B8-6B11A607480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F66E-B149-463F-A120-7C78960ECD00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kliku statistika programmi koostamisprotsess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3951"/>
                </a:solidFill>
                <a:latin typeface="Arial"/>
              </a:rPr>
              <a:t>Annual planning and monitoring in Statistics </a:t>
            </a:r>
            <a:r>
              <a:rPr b="0" lang="en-US" sz="1000" spc="-1" strike="noStrike">
                <a:solidFill>
                  <a:srgbClr val="003951"/>
                </a:solidFill>
                <a:latin typeface="Arial"/>
              </a:rPr>
              <a:t>Estoni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3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.03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99640" y="105264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koostamisprotsess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õllumajandusmaa ostu-müügi ning rendihindad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99640" y="13413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9.03.2010 esitas Põllumajandusministeerium (PM) taotlus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6.05.2010 kinnitas SA planeerimiskomitee eitava seisukoh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7.07.2010 esitas SA RSP Rahandusministeeriumi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25.11.2010 pani RM RSP kooskõlas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5.12. peaksid teavituskirjad olema andmeesitajate lauda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07.01. saatsime PM-i memo teatega oma nõusolekust kõneks-olevat statistikat toota, kui saame juurde 1 inimese palgaf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13.01.2011 kinnitas VV RSP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tsustati, et antud teema peab valitsusse tagasi tulem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5640" y="6021360"/>
            <a:ext cx="79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http://www.stat.ee/oigusaktid -&gt;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fi-FI" sz="1400" spc="-1" strike="noStrike">
                <a:solidFill>
                  <a:srgbClr val="003951"/>
                </a:solidFill>
                <a:latin typeface="Arial"/>
              </a:rPr>
              <a:t>Statistikatööde kohta tehtud ettepanekutega arvestamine 2011-2013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10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1000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1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1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5" dur="1" fill="hold"/>
                                  <p:tgtEl>
                                    <p:spTgt spid="318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iri Eurostati peadirektoril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02.11.2010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99640" y="1825560"/>
            <a:ext cx="77914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usime pikendada Ettevõtluse aastastatistika määruse Lisa VIII ja ettevõtluse lühiajastatistika alusel tehtava statistika erindit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tasime, et oleme sunnitud peatama äriteenuste hinnaindeksi väljaarendamise (19-st nõutud indeksist on juurutatud pooled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justena tõime välja tööjõu- ja rahaliste vahendite napp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kiri 22.02.20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ses rõhutatakse Eesti panuse olulisust kvaliteetse Euroopa statistika too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…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ing viidatakse asutamislepingu paragrahvidele, mis lubavad kasutusele võtta juriidilised sanktsioonid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5" dur="1" fill="hold"/>
                                  <p:tgtEl>
                                    <p:spTgt spid="32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innangu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-281880">
              <a:lnSpc>
                <a:spcPct val="8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 piisav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1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20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9" dur="1" fill="hold"/>
                                  <p:tgtEl>
                                    <p:spTgt spid="32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5.10.2010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395280" y="2708280"/>
            <a:ext cx="83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1) nõustab riikliku statistika tegija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klik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statistika programmi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oostamisel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3) avaldab rahandusministrile arvamust riikliku statistika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programmi ja selle muudatuste kohta enne nende kinnitamist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5) annab rahandusministrile hinnangu riikliku statistika tegemise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kulutuste kohta ja esitab selle oma aastaaruan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itle 1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5280" y="1407960"/>
            <a:ext cx="4608360" cy="10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951"/>
                </a:solidFill>
                <a:latin typeface="Arial"/>
              </a:rPr>
              <a:t>§ 12. Statistikanõukogu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...</a:t>
            </a:r>
            <a:br>
              <a:rPr sz="2000"/>
            </a:b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(2) Statistikanõukogu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2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95280" y="1413000"/>
            <a:ext cx="83678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 töötab riikliku statistika programmi (RSP) alus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koostatakse igal aastal järgmiseks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5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aastak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ja ta koosneb statistikatöö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Hinnanguliselt üle 90% statistikatöödest on seotud EL õigusaktide nõuet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Nõuete mittetäitmisel on Euroopa Komisjonil õigus alustada rikkumismenetlust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võib päädida rahaliste sanktsioonidega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" dur="1" fill="hold"/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iikliku statistika programm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95280" y="1413000"/>
            <a:ext cx="83678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hõlmab end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a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a statistik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tule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on statistikaväljaanne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Iga statistikatöö kohta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-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katööde maksumus peab olema vastavuses Statistikaameti eelarve projektiga ning arvestama riigieelarve strateegia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5877000"/>
            <a:ext cx="7920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http://www.stat.ee/oigusaktid -&gt; 2011.–2015. aastate statistikatööde loetelu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-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koost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95280" y="1268280"/>
            <a:ext cx="83678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 aasta alguses koostab Statistikaamet järgmise 5 a RSP projekti, lähtudes seejuur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 statistikaprogrammist / EL õigusaktide eelnõud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sti tarbijate vajadustest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eejärel esitatakse RSP projekt põhitarbijatele ettepanekute tege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(ca 150) hulka kuuluvad: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iigi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halikud omavalitsuse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gevusalaliidu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dus- ja haridusasut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dia jm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951"/>
                </a:solidFill>
                <a:latin typeface="Arial"/>
              </a:rPr>
              <a:t>Ettepanekuid küsitakse ka administratiivsetel andmetel põhinevate statistikatööde andmeesitajate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20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3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2000"/>
                                        <p:tgtEl>
                                          <p:spTgt spid="3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2000"/>
                                        <p:tgtEl>
                                          <p:spTgt spid="3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304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1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95280" y="1773360"/>
            <a:ext cx="836784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tarbijate ettepanekud arutatakse läbi valdkonnastatistika osakondade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valdkonnad korraldavad kokkusaamisi statistikute ja ettepanekute tegijate vahe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Kokkusaamiste tulemusel täpsustatakse statistikatööde kirjeldust, lisatakse olemasolevatesse statistikatöödesse väljundnäitajaid jm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i formeerub järgmise perioodi RSP täiendatud projek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täiendatud projekti arutab SA planeerimiskomitee </a:t>
            </a:r>
            <a:br>
              <a:rPr sz="2000"/>
            </a:b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ning langetab otsuse tehtud ettepanekute programmis arvestamiseks/mittearves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2" dur="1" fill="hold"/>
                                  <p:tgtEl>
                                    <p:spTgt spid="30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panekute menetlemine (2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Rectangle 3"/>
          <p:cNvSpPr/>
          <p:nvPr/>
        </p:nvSpPr>
        <p:spPr>
          <a:xfrm>
            <a:off x="395280" y="1773360"/>
            <a:ext cx="836784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Otsustes lähtutakse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valiku huvi ja andmeallikate olemasolu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otstarbekuse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 eelarve ja eelarvestrateegia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ameti seisukoht jah/ei lühivastusena ja äraütleva vastuse korral põhjendus avaldatakse SA veebilehel,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eavitades sellest ka ettepanekute esitaja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Alates 2012.–2016. aasta programmist avalda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ja selle muudatuste kohta arvamust ka statistikanõukogu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Statistikaamet esitab programmi projekti koos nõukogu arvamusega Rahandusministeeriumile iga aasta 1. juulik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3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3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3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9" dur="1" fill="hold"/>
                                  <p:tgtEl>
                                    <p:spTgt spid="3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777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RSP projekt –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inni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395280" y="1844640"/>
            <a:ext cx="836784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innitab Vabariigi Valitsus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(VV)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g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Enn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-le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esitamist kooskõlastab Rahandusministeerium dokumendi Riigikantselei, ministeeriumide, Eesti Linnade Liidu ja Eesti Maaomavalitsuste Liiduga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20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Kooskõlastamisel tehtud ettepanekute menetlemine toimub </a:t>
            </a:r>
            <a:br>
              <a:rPr sz="2000"/>
            </a:b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am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viisil</a:t>
            </a:r>
            <a:r>
              <a:rPr b="1" lang="en-AU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ui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 ettepanekute menetleminegi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Programmi kooskõlastamise käigus tehtud ettepanekud ja Statistikaameti vastused esitatakse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V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 korralduse eelnõu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3951"/>
                </a:solidFill>
                <a:latin typeface="Arial"/>
              </a:rPr>
              <a:t>seletuskirjas tabelina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2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1" dur="1" fill="hold"/>
                                  <p:tgtEl>
                                    <p:spTgt spid="3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astase 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rimisprotsessi põhi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99640" y="1699920"/>
            <a:ext cx="7791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hitarbijate vajaduste kohta küsi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tööde loetelu (RSP projekt) koostamine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kliku statistika küsimustike disain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Freimi koostamine ja valimi võt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spondentide eelnev teavitamine (ca 15. detsembri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öötl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12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 aval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20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3" dur="1" fill="hold"/>
                                  <p:tgtEl>
                                    <p:spTgt spid="3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4-15T12:03:54Z</dcterms:modified>
  <cp:revision>100</cp:revision>
  <dc:subject/>
  <dc:title>Slide 1</dc:title>
</cp:coreProperties>
</file>