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dt" idx="4"/>
          </p:nvPr>
        </p:nvSpPr>
        <p:spPr>
          <a:xfrm>
            <a:off x="384192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ftr" idx="5"/>
          </p:nvPr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5.10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 type="sldNum" idx="6"/>
          </p:nvPr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7B96-EA13-4743-8F29-FF78F8A637C7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6854-8BC0-410A-B46F-13445C9D4E2F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DD1C-3ECA-4C64-86ED-DC4211EDF984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F9EE-06AC-4D25-923C-01CFB35E8311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5BA4-884C-4090-8B9E-4266853A4917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ooter Placeholder 3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8" name="Slide Number Placeholder 4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B099-1299-4728-94D5-CC8BBB0FC86F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ooter Placeholder 3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2" name="Slide Number Placeholder 4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3023-5BBE-4E54-9B1D-FBBAC946B7E1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ooter Placeholder 3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6" name="Slide Number Placeholder 4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C9B7-0471-40B8-813F-527FA6B0CF31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ooter Placeholder 3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0" name="Slide Number Placeholder 4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2B31-2652-49F7-95CC-864397713C0D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oter Placeholder 3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1B16-914D-4A7C-99B0-A26A875F5728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ED6A-FD23-41E3-BFDF-57CA84AE6045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eng2"/>
          <p:cNvPicPr/>
          <p:nvPr/>
        </p:nvPicPr>
        <p:blipFill>
          <a:blip r:embed="rId2"/>
          <a:stretch/>
        </p:blipFill>
        <p:spPr>
          <a:xfrm>
            <a:off x="0" y="0"/>
            <a:ext cx="62229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1564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5.10.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305320" y="6629400"/>
            <a:ext cx="308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951"/>
                </a:solidFill>
                <a:latin typeface="Arial"/>
              </a:rPr>
              <a:t>Annual planning and monitoring in Statistics </a:t>
            </a:r>
            <a:r>
              <a:rPr b="0" lang="en-US" sz="1000" spc="-1" strike="noStrike">
                <a:solidFill>
                  <a:srgbClr val="003951"/>
                </a:solidFill>
                <a:latin typeface="Arial"/>
              </a:rPr>
              <a:t>Estonia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58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5.10.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305320" y="6629400"/>
            <a:ext cx="301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iikliku statistika programmi koostamisprotsess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sinine_eng"/>
          <p:cNvPicPr/>
          <p:nvPr/>
        </p:nvPicPr>
        <p:blipFill>
          <a:blip r:embed="rId2"/>
          <a:stretch/>
        </p:blipFill>
        <p:spPr>
          <a:xfrm>
            <a:off x="-6480" y="0"/>
            <a:ext cx="915048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kollane_eng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punane_e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logo_eng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7" descr="logo_eng2"/>
          <p:cNvPicPr/>
          <p:nvPr/>
        </p:nvPicPr>
        <p:blipFill>
          <a:blip r:embed="rId2"/>
          <a:stretch/>
        </p:blipFill>
        <p:spPr>
          <a:xfrm>
            <a:off x="0" y="0"/>
            <a:ext cx="622296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5"/>
          <p:cNvSpPr/>
          <p:nvPr/>
        </p:nvSpPr>
        <p:spPr>
          <a:xfrm>
            <a:off x="5305320" y="6629400"/>
            <a:ext cx="308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951"/>
                </a:solidFill>
                <a:latin typeface="Arial"/>
              </a:rPr>
              <a:t>Annual planning and monitoring in Statistics </a:t>
            </a:r>
            <a:r>
              <a:rPr b="0" lang="en-US" sz="1000" spc="-1" strike="noStrike">
                <a:solidFill>
                  <a:srgbClr val="003951"/>
                </a:solidFill>
                <a:latin typeface="Arial"/>
              </a:rPr>
              <a:t>Estonia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3"/>
          </p:nvPr>
        </p:nvSpPr>
        <p:spPr>
          <a:xfrm>
            <a:off x="111564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2.03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99640" y="105264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3951"/>
                </a:solidFill>
                <a:latin typeface="Arial"/>
              </a:rPr>
              <a:t>Riikliku statistika programmi koostamisprotsess 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899640" y="227664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Meelis Somelar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951"/>
                </a:solidFill>
                <a:latin typeface="Arial"/>
              </a:rPr>
              <a:t>Plan</a:t>
            </a: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eerimis- ja rahvusvahelise koostöö talitus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Üldosakond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ame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õllumajandusmaa ostu-müügi ning rendihindade statistik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79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19.03.2010 esitas Põllumajandusministeerium (PM) taotluse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06.05.2010 kinnitas SA planeerimiskomitee eitava seisukoha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27.07.2010 esitas SA RSP Rahandusministeeriumil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25.11.2010 pani RM RSP kooskõlastusel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15.12. peaksid teavituskirjad olema andmeesitajate laudad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07.01. saatsime PM-i memo teatega oma nõusolekust kõneks-olevat statistikat toota, kui saame juurde 1 inimese palgafondi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13.01.2011 kinnitas VV RSP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Otsustati, et antud teema peab valitsusse tagasi tulema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9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55640" y="6021360"/>
            <a:ext cx="79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http://www.stat.ee/oigusaktid -&gt;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fi-FI" sz="1400" spc="-1" strike="noStrike">
                <a:solidFill>
                  <a:srgbClr val="003951"/>
                </a:solidFill>
                <a:latin typeface="Arial"/>
              </a:rPr>
              <a:t>Statistikatööde kohta tehtud ettepanekutega arvestamine 2011-2013</a:t>
            </a:r>
            <a:endParaRPr b="1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1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1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10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10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1000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1000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1000"/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1000"/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5" dur="1" fill="hold"/>
                                  <p:tgtEl>
                                    <p:spTgt spid="31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iri Eurostati peadirektorile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02.11.2010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99640" y="1825560"/>
            <a:ext cx="779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alusime pikendada Ettevõtluse aastastatistika määruse Lisa VIII ja ettevõtluse lühiajastatistika alusel tehtava statistika erindit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eatasime, et oleme sunnitud peatama äriteenuste hinnaindeksi väljaarendamise (19-st nõutud indeksist on juurutatud pooled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õhjustena tõime välja tööjõu- ja rahaliste vahendite nappus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astuskiri 22.02.2011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astuses rõhutatakse Eesti panuse olulisust kvaliteetse Euroopa statistika tootmis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…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ning viidatakse asutamislepingu paragrahvidele, mis lubavad kasutusele võtta juriidilised sanktsioonid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3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1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1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1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10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10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1000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5" dur="1" fill="hold"/>
                                  <p:tgtEl>
                                    <p:spTgt spid="32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tatistikaameti oot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99640" y="2421000"/>
            <a:ext cx="7791480" cy="14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marL="281880" indent="-281880">
              <a:lnSpc>
                <a:spcPct val="8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rvamust, kas toodetu katab Eesti ühiskonna vajadusi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1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hinnangut: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1880" indent="-281880">
              <a:lnSpc>
                <a:spcPct val="8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iirkondlikku ja üleriigilise statistika vahekorra optimaalsusele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1880" indent="-281880">
              <a:lnSpc>
                <a:spcPct val="8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aldkondade omavahelistele proportsioonidel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1880" indent="-281880">
              <a:lnSpc>
                <a:spcPct val="8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ahastatuse piisavusel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1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68360" y="1844640"/>
            <a:ext cx="806436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Statistikaamet ootab Statistikanõukogult: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2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2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2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2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20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9" dur="1" fill="hold"/>
                                  <p:tgtEl>
                                    <p:spTgt spid="32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Tänan tähelepanu eest !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0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1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5.10.2010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395280" y="2708280"/>
            <a:ext cx="83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1) nõustab riikliku statistika tegijat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iikliku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 statistika programmi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koostamisel;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...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3) avaldab rahandusministrile arvamust riikliku statistika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 programmi ja selle muudatuste kohta enne nende kinnitamist;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...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5) annab rahandusministrile hinnangu riikliku statistika tegemise 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kulutuste kohta ja esitab selle oma aastaaruand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s;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3" name="Title 1"/>
          <p:cNvSpPr/>
          <p:nvPr/>
        </p:nvSpPr>
        <p:spPr>
          <a:xfrm>
            <a:off x="1258920" y="476280"/>
            <a:ext cx="7489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iikliku statistika sead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5280" y="1407960"/>
            <a:ext cx="4608360" cy="10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951"/>
                </a:solidFill>
                <a:latin typeface="Arial"/>
              </a:rPr>
              <a:t>§ 12. Statistikanõukogu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...</a:t>
            </a:r>
            <a:br>
              <a:rPr sz="2000"/>
            </a:b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(2) Statistikanõukogu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" dur="1" fill="hold"/>
                                  <p:tgtEl>
                                    <p:spTgt spid="2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iikliku statistika programm 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6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395280" y="1413000"/>
            <a:ext cx="83678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kaamet töötab riikliku statistika programmi (RSP) alusel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P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 koostatakse igal aastal järgmiseks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5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 aastaks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ja ta koosneb statistikatöödes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Hinnanguliselt üle 90% statistikatöödest on seotud EL õigusaktide nõueteg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Nõuete mittetäitmisel on Euroopa Komisjonil õigus alustada rikkumismenetlust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võib päädida rahaliste sanktsioonidega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" dur="1" fill="hold"/>
                                  <p:tgtEl>
                                    <p:spTgt spid="2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iikliku statistika programm 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9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395280" y="1413000"/>
            <a:ext cx="83678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P hõlmab enda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[igal aastal tehtava]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õhistatistik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baregulaarselt tehtava statistik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ka arendus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statistilise analüüsi tööd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(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tulem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iks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 on statistikaväljaanne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liste registrite pidamine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Iga statistikatöö kohta esitatakse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P-s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eeldatav maksum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Statistikatööde maksumus peab olema vastavuses Statistikaameti eelarve projektiga ning arvestama riigieelarve strateegia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9640" y="5877000"/>
            <a:ext cx="792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http://www.stat.ee/oigusaktid -&gt; 2011.–2015. aastate statistikatööde loetelu</a:t>
            </a:r>
            <a:r>
              <a:rPr b="1" lang="en-US" sz="18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 projekt - </a:t>
            </a: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koostamine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3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395280" y="1268280"/>
            <a:ext cx="836784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Iga aasta alguses koostab Statistikaamet järgmise 5 a RSP projekti, lähtudes seejuure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L statistikaprogrammist / EL õigusaktide eelnõudes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esti tarbijate vajadustest jm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eejärel esitatakse RSP projekt põhitarbijatele ettepanekute tegemisek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õhitarbijate (ca 150) hulka kuuluvad: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iigiasut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ohalikud omavalitsused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tegevusalaliidu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teadus- ja haridusasut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meedia jm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3951"/>
                </a:solidFill>
                <a:latin typeface="Arial"/>
              </a:rPr>
              <a:t>Ettepanekuid küsitakse ka administratiivsetel andmetel põhinevate statistikatööde andmeesitajatel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2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20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20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20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20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2000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2000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2000"/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2000"/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2000"/>
                                        <p:tgtEl>
                                          <p:spTgt spid="3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2000"/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5" dur="1" fill="hold"/>
                                  <p:tgtEl>
                                    <p:spTgt spid="304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 projekt – </a:t>
            </a: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ettepanekute menetlemine (1)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6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395280" y="1773360"/>
            <a:ext cx="83678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Põhitarbijate ettepanekud arutatakse läbi valdkonnastatistika osakondade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Statistikavaldkonnad korraldavad kokkusaamisi statistikute ja ettepanekute tegijate vahel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Kokkusaamiste tulemusel täpsustatakse statistikatööde kirjeldust, lisatakse olemasolevatesse statistikatöödesse väljundnäitajaid jms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Nii formeerub järgmise perioodi RSP täiendatud projek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RSP täiendatud projekti arutab SA planeerimiskomitee </a:t>
            </a:r>
            <a:br>
              <a:rPr sz="2000"/>
            </a:b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ning langetab otsuse tehtud ettepanekute programmis arvestamiseks/mittearvestamisek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2" dur="1" fill="hold"/>
                                  <p:tgtEl>
                                    <p:spTgt spid="30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 projekt – </a:t>
            </a: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ettepanekute menetlemine (2)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9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395280" y="1773360"/>
            <a:ext cx="83678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Otsustes lähtutakse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avaliku huvi ja andmeallikate olemasolus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ka otstarbekuses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ooskõlast eelarve ja eelarvestrateegiag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kaameti seisukoht jah/ei lühivastusena ja äraütleva vastuse korral põhjendus avaldatakse SA veebilehel, 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teavitades sellest ka ettepanekute esitajai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3951"/>
                </a:solidFill>
                <a:latin typeface="Arial"/>
              </a:rPr>
              <a:t>Alates 2012.–2016. aasta programmist avaldab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P</a:t>
            </a:r>
            <a:r>
              <a:rPr b="1" lang="fi-FI" sz="2000" spc="-1" strike="noStrike">
                <a:solidFill>
                  <a:srgbClr val="003951"/>
                </a:solidFill>
                <a:latin typeface="Arial"/>
              </a:rPr>
              <a:t> ja selle muudatuste kohta arvamust ka statistikanõukogu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3951"/>
                </a:solidFill>
                <a:latin typeface="Arial"/>
              </a:rPr>
              <a:t>Statistikaamet esitab programmi projekti koos nõukogu arvamusega Rahandusministeeriumile iga aasta 1. juuliks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9" dur="1" fill="hold"/>
                                  <p:tgtEl>
                                    <p:spTgt spid="31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951"/>
                </a:solidFill>
                <a:latin typeface="Arial"/>
              </a:rPr>
              <a:t>RSP projekt – </a:t>
            </a: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kinnita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2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395280" y="1844640"/>
            <a:ext cx="836784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P </a:t>
            </a: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kinnitab Vabariigi Valitsus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(VV)</a:t>
            </a: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 korralduseg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20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Enne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VV-le</a:t>
            </a: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 esitamist kooskõlastab Rahandusministeerium dokumendi Riigikantselei, ministeeriumide, Eesti Linnade Liidu ja Eesti Maaomavalitsuste Liiduga.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20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Kooskõlastamisel tehtud ettepanekute menetlemine toimub </a:t>
            </a:r>
            <a:br>
              <a:rPr sz="2000"/>
            </a:b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sam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al </a:t>
            </a: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viisil</a:t>
            </a:r>
            <a:r>
              <a:rPr b="1" lang="en-AU" sz="3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ui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õhitarbijate ettepanekute menetleminegi</a:t>
            </a: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.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Programmi kooskõlastamise käigus tehtud ettepanekud ja Statistikaameti vastused esitatakse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VV</a:t>
            </a: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 korralduse eelnõu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seletuskirjas tabelina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fi-FI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1" dur="1" fill="hold"/>
                                  <p:tgtEl>
                                    <p:spTgt spid="3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astase </a:t>
            </a:r>
            <a:r>
              <a:rPr b="1" lang="en-GB" sz="3200" spc="-1" strike="noStrike">
                <a:solidFill>
                  <a:srgbClr val="003951"/>
                </a:solidFill>
                <a:latin typeface="Arial"/>
              </a:rPr>
              <a:t>plan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erimisprotsessi põhietap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7791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õhitarbijate vajaduste kohta küsi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katööde loetelu (RSP projekt) koostamine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iikliku statistika küsimustike disain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Freimi koostamine ja valimi võt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spondentide eelnev teavitamine (ca 15. detsembril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kogu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töötl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ka avalda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6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2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2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20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20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20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2000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2000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2000"/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3" dur="1" fill="hold"/>
                                  <p:tgtEl>
                                    <p:spTgt spid="31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8:03:18Z</dcterms:created>
  <dc:creator>user</dc:creator>
  <dc:description/>
  <dc:language>en-US</dc:language>
  <cp:lastModifiedBy>Kristina Lauri</cp:lastModifiedBy>
  <dcterms:modified xsi:type="dcterms:W3CDTF">2011-04-15T12:03:54Z</dcterms:modified>
  <cp:revision>100</cp:revision>
  <dc:subject/>
  <dc:title>Slide 1</dc:title>
</cp:coreProperties>
</file>