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3DD0-F325-4847-BDC0-B8C9712BA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75C9-F0A0-4BA4-9D22-1E35A6193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2BFF-36AA-4A2E-9BF9-FFBE5D29F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ADC0-4593-48ED-A27F-0B113469E0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5069-7B9B-478D-AFBE-9A18904A2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D3D5-6FFC-46D2-8684-C08DD6FAC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A8DB-9A44-4BF6-8002-E3060BDAC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25D2-EFC4-425C-9497-85422641C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2520" y="290520"/>
            <a:ext cx="59659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E11E-E42F-4AC0-8D23-994981EB6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4146-D39F-4623-8AA7-E6F3BB92A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173F-C7C1-496C-ACF4-31C6611DE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E0C8-3451-48F1-8B3B-2E31DDE50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0800000">
            <a:off x="0" y="-36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 rot="10800000">
            <a:off x="0" y="102636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parg"/>
          <p:cNvPicPr/>
          <p:nvPr/>
        </p:nvPicPr>
        <p:blipFill>
          <a:blip r:embed="rId2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a75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138240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3a75c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778880" y="6338880"/>
            <a:ext cx="9079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25F0-D0D8-4BF5-847D-D94BBD361187}" type="slidenum">
              <a:rPr b="0" lang="et-E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2520" y="1333440"/>
            <a:ext cx="8219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75c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9" name="Picture 13" descr="Eesti Pank White clear"/>
          <p:cNvPicPr/>
          <p:nvPr/>
        </p:nvPicPr>
        <p:blipFill>
          <a:blip r:embed="rId3"/>
          <a:stretch/>
        </p:blipFill>
        <p:spPr>
          <a:xfrm>
            <a:off x="7950240" y="93600"/>
            <a:ext cx="7826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2504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3a75c4"/>
                </a:solidFill>
                <a:latin typeface="Arial"/>
              </a:rPr>
              <a:t>Eesti Panga presidendi kinnitatava statistikatööde loetelu ülesehituse ja koostamisprotsessi tutvustus</a:t>
            </a:r>
            <a:endParaRPr b="1" lang="en-US" sz="32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60680"/>
            <a:ext cx="6400800" cy="127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12.04.2011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Jaanus Kroon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parg"/>
          <p:cNvPicPr/>
          <p:nvPr/>
        </p:nvPicPr>
        <p:blipFill>
          <a:blip r:embed="rId1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99864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Eesti Pank sys text White clear"/>
          <p:cNvPicPr/>
          <p:nvPr/>
        </p:nvPicPr>
        <p:blipFill>
          <a:blip r:embed="rId2"/>
          <a:stretch/>
        </p:blipFill>
        <p:spPr>
          <a:xfrm>
            <a:off x="246240" y="74520"/>
            <a:ext cx="2108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4720" y="1487520"/>
            <a:ext cx="86770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P statistikatööde loetelu koostamise ajakav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3680" y="2101680"/>
          <a:ext cx="8366040" cy="3794400"/>
        </p:xfrm>
        <a:graphic>
          <a:graphicData uri="http://schemas.openxmlformats.org/drawingml/2006/table">
            <a:tbl>
              <a:tblPr/>
              <a:tblGrid>
                <a:gridCol w="1415880"/>
                <a:gridCol w="6950160"/>
              </a:tblGrid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d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tepanekute kogumine koostatavate aegridade  struktuuri ja detailsuse muutmis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esti Panga sisesed kasutaj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ed kasutaj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vusvahelised organisatsioonid (sh. EKP, Eurostat, BIS, IMF j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tööde ja nende raames avaldatavate näitajate loetelude koost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skõlastamine  EP siseste statistikakasutajat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nõukogu arvamuse kuul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tamine ja heakskiitmine Eesti Panga juhatuse laiendatud istung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nitamine EP presidendi määrus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Teemad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k riikliku statistika tegijan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ülesehitu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koostamisprotses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8. Riikliku statistika tegij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tegijad on Statistikaamet ja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 § 34 lõikes 1 sätestatud ulatuses Eesti Pank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2. Eesti Panga eesmärk ja üles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) Eesti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maksebilansi koostamin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7) oma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ülesannete täitmiseks vajaliku statistika kogumine ja avaldamine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34. Maksebilansi koostamine ja statistika kogu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Eesti Pank kogub andmeid oma ülesannete täitmiseks vajaliku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aha-, finants- ja maksebilansistatistik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aamiseks ja avaldamisek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iikliku statistika seaduses sätestatud alustel ja korra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5080" y="1423800"/>
            <a:ext cx="847728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programm koosneb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) Vabariigi Valitsuse kinnitatud statistikatööde loetelust;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presidendi kinnitatud statistikatööde loetelust</a:t>
            </a:r>
            <a:r>
              <a:rPr b="0" lang="et-EE" sz="2000" spc="-1" strike="noStrike">
                <a:solidFill>
                  <a:srgbClr val="3a75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17. Programmi koosta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i koostamisel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ähtutakse avalikust huvist, allikate olemasolust, andmeesitajate koormusest ja riikliku statistika tegemise tasuvuse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Lisaks võetakse arvesse riigieelarve strateegiat ja järgmise aasta riigieelarve projekti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9. Programmi aruandlus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4) Eesti Pank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nnab ülevaate programmi täitmis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ohta oma pädevuse piire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aastaaruande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3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4600" y="296532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KrAS § 91. Aru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 (1) Eesti Pank kehtestab krediidiasutustele ja välisriigi krediidiasutuste filiaalidele: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oetelu, nende esitamise perioodilisuse ja koostamise metoodik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esitamis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korra ja täh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3) Eesti Pangal on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st tulenevate ülesannet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äitmiseks õigus nõuda krediidiasutuselt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täiendavat regulaarset aruandlu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Aruandluse vormid kehtestab Eesti Pank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030480" y="1332000"/>
            <a:ext cx="2586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sti Panga stat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406520" y="2006640"/>
            <a:ext cx="2585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stat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R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994280" y="2016000"/>
            <a:ext cx="2752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ärelevalvestatistika (K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irge noolkonnektor 14"/>
          <p:cNvCxnSpPr/>
          <p:nvPr/>
        </p:nvCxnSpPr>
        <p:spPr>
          <a:xfrm flipH="1">
            <a:off x="3094920" y="1749960"/>
            <a:ext cx="51012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irge noolkonnektor 16"/>
          <p:cNvCxnSpPr/>
          <p:nvPr/>
        </p:nvCxnSpPr>
        <p:spPr>
          <a:xfrm>
            <a:off x="5238360" y="1736640"/>
            <a:ext cx="35316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080" y="1331640"/>
            <a:ext cx="84772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 sisaldab statistikatöö kohta järgmisi andmeid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nimet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õiguslik al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3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väljundnäi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4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saged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periood või mom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6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eeldatav maksum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7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info kavandatavate metoodikamuudatuste koht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1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8200" y="1187280"/>
            <a:ext cx="87058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228680" y="1166760"/>
            <a:ext cx="6508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34720" y="1596600"/>
            <a:ext cx="8677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lulised aspekti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k tegutseb iseseisvalt, kindlates raamides ning pädevuse piires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ga statistikavajaduse määravad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esti Panga tööülesannetek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äitmisest tulenev otsene statistikavajadu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uroopa Keskpanka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EKPS)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statistikasüsteem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 statistikavajadus EKPS-i ülesannete täitmisek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iste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rahvusvaheliste organisatsiooni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atistikavajadus, kui selle täitmine kuulub Eesti Panga pädevusse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valikust huvist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lenev statistikavajadus väljendub Eesti Panga seaduses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0:40:03Z</dcterms:created>
  <dc:creator>Jaanus Kroon</dc:creator>
  <dc:description/>
  <dc:language>en-US</dc:language>
  <cp:lastModifiedBy>Kristina Lauri</cp:lastModifiedBy>
  <dcterms:modified xsi:type="dcterms:W3CDTF">2011-04-15T12:08:53Z</dcterms:modified>
  <cp:revision>29</cp:revision>
  <dc:subject/>
  <dc:title>Esitluse teema</dc:title>
</cp:coreProperties>
</file>