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0B6A9-78B7-4CF9-8C55-2F15B10D6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82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907F-241A-42F8-8A1A-9D37645CE8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CF4F-270F-4EC4-A9A2-6C09D2C59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30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821400"/>
            <a:ext cx="264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9E194-1B06-4499-B396-2134ADF466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8E798-4DF5-498D-A3C7-6E3A9589FF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0A553-803D-42BC-B132-84DD6A9E0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93182-9AA7-47B4-854F-65D047513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A071-B9D6-4FB8-92AA-1FD0D4944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2520" y="290520"/>
            <a:ext cx="5965920" cy="245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E2521-76F9-484C-9FAB-E49562892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0DD60-BFB2-4D42-835A-2A05167BB6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82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3465A-9FB8-4057-8205-1E7A37DB3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01400"/>
            <a:ext cx="40158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21400"/>
            <a:ext cx="82296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CBE17-35B9-4146-B661-E35E9D2B8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 rot="10800000">
            <a:off x="0" y="-360"/>
            <a:ext cx="9144000" cy="1136520"/>
          </a:xfrm>
          <a:prstGeom prst="rect">
            <a:avLst/>
          </a:prstGeom>
          <a:gradFill rotWithShape="0">
            <a:gsLst>
              <a:gs pos="0">
                <a:srgbClr val="3a75c4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 rot="10800000">
            <a:off x="0" y="102636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631656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5" descr="logoparg"/>
          <p:cNvPicPr/>
          <p:nvPr/>
        </p:nvPicPr>
        <p:blipFill>
          <a:blip r:embed="rId2"/>
          <a:stretch/>
        </p:blipFill>
        <p:spPr>
          <a:xfrm>
            <a:off x="0" y="6089760"/>
            <a:ext cx="1368360" cy="76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a75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a75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a75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a75c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a75c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a75c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1"/>
          </p:nvPr>
        </p:nvSpPr>
        <p:spPr>
          <a:xfrm>
            <a:off x="138240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3a75c4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7778880" y="6338880"/>
            <a:ext cx="90792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4361-B7B5-4C09-9CC8-42A96B3843CA}" type="slidenum">
              <a:rPr b="0" lang="et-E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0"/>
          <p:cNvSpPr/>
          <p:nvPr/>
        </p:nvSpPr>
        <p:spPr>
          <a:xfrm>
            <a:off x="452520" y="1333440"/>
            <a:ext cx="8219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a75c4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pic>
        <p:nvPicPr>
          <p:cNvPr id="9" name="Picture 13" descr="Eesti Pank White clear"/>
          <p:cNvPicPr/>
          <p:nvPr/>
        </p:nvPicPr>
        <p:blipFill>
          <a:blip r:embed="rId3"/>
          <a:stretch/>
        </p:blipFill>
        <p:spPr>
          <a:xfrm>
            <a:off x="7950240" y="93600"/>
            <a:ext cx="782640" cy="882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9560" y="2504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3a75c4"/>
                </a:solidFill>
                <a:latin typeface="Arial"/>
              </a:rPr>
              <a:t>Eesti Panga presidendi kinnitatava statistikatööde loetelu ülesehituse ja koostamisprotsessi tutvustus</a:t>
            </a:r>
            <a:endParaRPr b="1" lang="en-US" sz="32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60680"/>
            <a:ext cx="6400800" cy="127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a75c4"/>
                </a:solidFill>
                <a:latin typeface="Arial"/>
              </a:rPr>
              <a:t>12.04.2011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3a75c4"/>
                </a:solidFill>
                <a:latin typeface="Arial"/>
              </a:rPr>
              <a:t>Jaanus Kroon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6316560"/>
            <a:ext cx="9144000" cy="3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0" y="0"/>
            <a:ext cx="9144000" cy="1136520"/>
          </a:xfrm>
          <a:prstGeom prst="rect">
            <a:avLst/>
          </a:prstGeom>
          <a:gradFill rotWithShape="0">
            <a:gsLst>
              <a:gs pos="0">
                <a:srgbClr val="3a75c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logoparg"/>
          <p:cNvPicPr/>
          <p:nvPr/>
        </p:nvPicPr>
        <p:blipFill>
          <a:blip r:embed="rId1"/>
          <a:stretch/>
        </p:blipFill>
        <p:spPr>
          <a:xfrm>
            <a:off x="0" y="6089760"/>
            <a:ext cx="1368360" cy="768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2"/>
          <p:cNvSpPr/>
          <p:nvPr/>
        </p:nvSpPr>
        <p:spPr>
          <a:xfrm>
            <a:off x="0" y="998640"/>
            <a:ext cx="9144000" cy="4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a75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3" descr="Eesti Pank sys text White clear"/>
          <p:cNvPicPr/>
          <p:nvPr/>
        </p:nvPicPr>
        <p:blipFill>
          <a:blip r:embed="rId2"/>
          <a:stretch/>
        </p:blipFill>
        <p:spPr>
          <a:xfrm>
            <a:off x="246240" y="74520"/>
            <a:ext cx="210816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koostamisprotsess (2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34720" y="1487520"/>
            <a:ext cx="8677080" cy="29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P statistikatööde loetelu koostamise ajakava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63680" y="2101680"/>
          <a:ext cx="8366040" cy="3794400"/>
        </p:xfrm>
        <a:graphic>
          <a:graphicData uri="http://schemas.openxmlformats.org/drawingml/2006/table">
            <a:tbl>
              <a:tblPr/>
              <a:tblGrid>
                <a:gridCol w="1415880"/>
                <a:gridCol w="6950160"/>
              </a:tblGrid>
              <a:tr h="14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d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tepanekute kogumine koostatavate aegridade  struktuuri ja detailsuse muutmisek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Eesti Panga sisesed kasutaj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lised kasutaja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hvusvahelised organisatsioonid (sh. EKP, Eurostat, BIS, IMF j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ugu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atööde ja nende raames avaldatavate näitajate loetelude koost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pt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oskõlastamine  EP siseste statistikakasutajat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kto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stikanõukogu arvamuse kuulam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ktoo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utamine ja heakskiitmine Eesti Panga juhatuse laiendatud istung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ove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nitamine EP presidendi määrus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Teemad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k riikliku statistika tegijana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ga statistikatööde loetelu ülesehitus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Eesti Panga statistikatööde loetelu koostamisprotsess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014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§ 8. Riikliku statistika tegij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Riikliku statistika tegijad on Statistikaamet ja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seaduse § 34 lõikes 1 sätestatud ulatuses Eesti Pank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EPS § 2. Eesti Panga eesmärk ja ülesande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6) Eesti 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maksebilansi koostamine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7) oma </a:t>
            </a:r>
            <a:r>
              <a:rPr b="0" lang="fi-FI" sz="2000" spc="-1" strike="noStrike">
                <a:solidFill>
                  <a:srgbClr val="ff0000"/>
                </a:solidFill>
                <a:latin typeface="Arial"/>
              </a:rPr>
              <a:t>ülesannete täitmiseks vajaliku statistika kogumine ja avaldamine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EPS § 34. Maksebilansi koostamine ja statistika kogumine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Eesti Pank kogub andmeid oma ülesannete täitmiseks vajaliku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raha-, finants- ja maksebilansistatistika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saamiseks ja avaldamiseks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riikliku statistika seaduses sätestatud alustel ja korra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2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35080" y="1423800"/>
            <a:ext cx="847728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6. Riikliku statistika programmi os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1) Riikliku statistika programm koosneb: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) Vabariigi Valitsuse kinnitatud statistikatööde loetelust;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presidendi kinnitatud statistikatööde loetelust</a:t>
            </a:r>
            <a:r>
              <a:rPr b="0" lang="et-EE" sz="2000" spc="-1" strike="noStrike">
                <a:solidFill>
                  <a:srgbClr val="3a75c4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§ 17. Programmi koostamine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2) Programmi koostamisel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lähtutakse avalikust huvist, allikate olemasolust, andmeesitajate koormusest ja riikliku statistika tegemise tasuvuses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Lisaks võetakse arvesse riigieelarve strateegiat ja järgmise aasta riigieelarve projekti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9. Programmi aruandlus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4) Eesti Pank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annab ülevaate programmi täitmis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kohta oma pädevuse piires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aastaaruande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k riikliku statistika tegijana (3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4600" y="2965320"/>
            <a:ext cx="8229600" cy="32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KrAS § 91. Aruande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- (1) Eesti Pank kehtestab krediidiasutustele ja välisriigi krediidiasutuste filiaalidele: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3" marL="1771560" indent="-514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uannete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loetelu, nende esitamise perioodilisuse ja koostamise metoodika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3" marL="1771560" indent="-51408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aruannete esitamise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korra ja tähtaj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3) Eesti Pangal on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Eesti Panga seadusest tulenevate ülesannete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äitmiseks õigus nõuda krediidiasutuselt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täiendavat regulaarset aruandlus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Aruandluse vormid kehtestab Eesti Pank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3" name="TextBox 10"/>
          <p:cNvSpPr/>
          <p:nvPr/>
        </p:nvSpPr>
        <p:spPr>
          <a:xfrm>
            <a:off x="3030480" y="1332000"/>
            <a:ext cx="2586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Eesti Panga statis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1406520" y="2006640"/>
            <a:ext cx="2585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klik statistik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RS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4994280" y="2016000"/>
            <a:ext cx="2752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Järelevalvestatistika (Kr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irge noolkonnektor 14"/>
          <p:cNvCxnSpPr/>
          <p:nvPr/>
        </p:nvCxnSpPr>
        <p:spPr>
          <a:xfrm flipH="1">
            <a:off x="3094920" y="1749960"/>
            <a:ext cx="510120" cy="22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" name="Sirge noolkonnektor 16"/>
          <p:cNvCxnSpPr/>
          <p:nvPr/>
        </p:nvCxnSpPr>
        <p:spPr>
          <a:xfrm>
            <a:off x="5238360" y="1736640"/>
            <a:ext cx="353160" cy="22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35080" y="1331640"/>
            <a:ext cx="84772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0000"/>
                </a:solidFill>
                <a:latin typeface="Arial"/>
              </a:rPr>
              <a:t>RStS  § 16. Riikliku statistika programmi osad 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(2) Programm sisaldab statistikatöö kohta järgmisi andmeid:</a:t>
            </a:r>
            <a:br>
              <a:rPr sz="2000"/>
            </a:b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) nimet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2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õiguslik al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3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väljundnäitajad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4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saged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5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periood või moment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6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) eeldatav maksumus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; 7)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info kavandatavate metoodikamuudatuste kohta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1" name="Jaluse kohatäide 3"/>
          <p:cNvSpPr/>
          <p:nvPr/>
        </p:nvSpPr>
        <p:spPr>
          <a:xfrm>
            <a:off x="1382760" y="6321600"/>
            <a:ext cx="591012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3a75c4"/>
                </a:solidFill>
                <a:latin typeface="Arial"/>
              </a:rPr>
              <a:t>Autor – Esitluse nimet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268200" y="1187280"/>
            <a:ext cx="870588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ülesehitu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228680" y="1166760"/>
            <a:ext cx="650880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2520" y="290520"/>
            <a:ext cx="596592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3a75c4"/>
                </a:solidFill>
                <a:latin typeface="Arial"/>
              </a:rPr>
              <a:t>Eesti Panga statistikatööde loetelu koostamisprotsess (1)</a:t>
            </a:r>
            <a:endParaRPr b="1" lang="en-US" sz="2400" spc="-1" strike="noStrike">
              <a:solidFill>
                <a:srgbClr val="3a75c4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34720" y="1596600"/>
            <a:ext cx="8677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Olulised aspektid</a:t>
            </a:r>
            <a:endParaRPr b="0" lang="en-US" sz="24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ank tegutseb iseseisvalt, kindlates raamides ning pädevuse piires.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Eesti Panga statistikavajaduse määravad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Eesti Panga tööülesanneteks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 täitmisest tulenev otsene statistikavajadus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Euroopa Keskpankad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(EKPS) </a:t>
            </a: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statistikasüsteem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i statistikavajadus EKPS-i ülesannete täitmiseks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Teiste </a:t>
            </a:r>
            <a:r>
              <a:rPr b="0" lang="et-EE" sz="1800" spc="-1" strike="noStrike">
                <a:solidFill>
                  <a:srgbClr val="ff0000"/>
                </a:solidFill>
                <a:latin typeface="Arial"/>
              </a:rPr>
              <a:t>rahvusvaheliste organisatsioonide </a:t>
            </a: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tatistikavajadus, kui selle täitmine kuulub Eesti Panga pädevusse</a:t>
            </a:r>
            <a:endParaRPr b="0" lang="en-US" sz="18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Avalikust huvist 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ulenev statistikavajadus väljendub Eesti Panga seaduses</a:t>
            </a: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75c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10:40:03Z</dcterms:created>
  <dc:creator>Jaanus Kroon</dc:creator>
  <dc:description/>
  <dc:language>en-US</dc:language>
  <cp:lastModifiedBy>Kristina Lauri</cp:lastModifiedBy>
  <dcterms:modified xsi:type="dcterms:W3CDTF">2011-04-15T12:08:53Z</dcterms:modified>
  <cp:revision>29</cp:revision>
  <dc:subject/>
  <dc:title>Esitluse teema</dc:title>
</cp:coreProperties>
</file>