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1ACA9-42CC-4411-B8C7-E7A764677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D7A36-8CB8-4DFA-B5DD-EF46A27C78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2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3C3D2-F5F1-4F8D-A385-7A127BC32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0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0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2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2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F26F7-C97C-4AE9-84B7-37AA7F9922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014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60F60-20E0-44DB-82BF-F09BF14598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13F4D-77BE-4D5E-9C0F-9A24C9C68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161A9-A48F-455D-921A-18F076A888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D7F7E-0260-48DF-8A98-181B341923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2520" y="290520"/>
            <a:ext cx="59659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CC5BA-0270-46BB-98ED-64F54CCBB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95D7B-80D3-4615-A321-F1EAF3645E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2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53CD3-9324-4008-9425-46DD02895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FF25A-D489-4EDD-9832-B1F0FA722B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 rot="10800000">
            <a:off x="0" y="-360"/>
            <a:ext cx="9144000" cy="1136520"/>
          </a:xfrm>
          <a:prstGeom prst="rect">
            <a:avLst/>
          </a:prstGeom>
          <a:gradFill rotWithShape="0">
            <a:gsLst>
              <a:gs pos="0">
                <a:srgbClr val="3a75c4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 rot="10800000">
            <a:off x="0" y="1026360"/>
            <a:ext cx="914400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75c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31656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75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parg"/>
          <p:cNvPicPr/>
          <p:nvPr/>
        </p:nvPicPr>
        <p:blipFill>
          <a:blip r:embed="rId2"/>
          <a:stretch/>
        </p:blipFill>
        <p:spPr>
          <a:xfrm>
            <a:off x="0" y="6089760"/>
            <a:ext cx="1368360" cy="76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3014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75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a75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a75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a75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a75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1382400" y="6321600"/>
            <a:ext cx="591012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3a75c4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a75c4"/>
                </a:solidFill>
                <a:latin typeface="Arial"/>
              </a:rPr>
              <a:t>Autor – Esitluse nime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7778880" y="6338880"/>
            <a:ext cx="9079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FDF6-B1DA-489C-AD6D-6CD6038F41E6}" type="slidenum">
              <a:rPr b="0" lang="et-E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0"/>
          <p:cNvSpPr/>
          <p:nvPr/>
        </p:nvSpPr>
        <p:spPr>
          <a:xfrm>
            <a:off x="452520" y="1333440"/>
            <a:ext cx="8219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75c4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pic>
        <p:nvPicPr>
          <p:cNvPr id="9" name="Picture 13" descr="Eesti Pank White clear"/>
          <p:cNvPicPr/>
          <p:nvPr/>
        </p:nvPicPr>
        <p:blipFill>
          <a:blip r:embed="rId3"/>
          <a:stretch/>
        </p:blipFill>
        <p:spPr>
          <a:xfrm>
            <a:off x="7950240" y="93600"/>
            <a:ext cx="782640" cy="88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Jaluse kohatäide 3"/>
          <p:cNvSpPr/>
          <p:nvPr/>
        </p:nvSpPr>
        <p:spPr>
          <a:xfrm>
            <a:off x="1382760" y="6321600"/>
            <a:ext cx="59101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a75c4"/>
                </a:solidFill>
                <a:latin typeface="Arial"/>
              </a:rPr>
              <a:t>Autor – Esitluse nime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9560" y="2504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3a75c4"/>
                </a:solidFill>
                <a:latin typeface="Arial"/>
              </a:rPr>
              <a:t>Eesti Panga presidendi kinnitatava statistikatööde loetelu ülesehituse ja koostamisprotsessi tutvustus</a:t>
            </a:r>
            <a:endParaRPr b="1" lang="en-US" sz="32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60680"/>
            <a:ext cx="6400800" cy="127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a75c4"/>
                </a:solidFill>
                <a:latin typeface="Arial"/>
              </a:rPr>
              <a:t>12.04.2011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a75c4"/>
                </a:solidFill>
                <a:latin typeface="Arial"/>
              </a:rPr>
              <a:t>Jaanus Kroon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631656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75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0"/>
            <a:ext cx="9144000" cy="1136520"/>
          </a:xfrm>
          <a:prstGeom prst="rect">
            <a:avLst/>
          </a:prstGeom>
          <a:gradFill rotWithShape="0">
            <a:gsLst>
              <a:gs pos="0">
                <a:srgbClr val="3a75c4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logoparg"/>
          <p:cNvPicPr/>
          <p:nvPr/>
        </p:nvPicPr>
        <p:blipFill>
          <a:blip r:embed="rId1"/>
          <a:stretch/>
        </p:blipFill>
        <p:spPr>
          <a:xfrm>
            <a:off x="0" y="6089760"/>
            <a:ext cx="1368360" cy="768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2"/>
          <p:cNvSpPr/>
          <p:nvPr/>
        </p:nvSpPr>
        <p:spPr>
          <a:xfrm>
            <a:off x="0" y="998640"/>
            <a:ext cx="914400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75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Eesti Pank sys text White clear"/>
          <p:cNvPicPr/>
          <p:nvPr/>
        </p:nvPicPr>
        <p:blipFill>
          <a:blip r:embed="rId2"/>
          <a:stretch/>
        </p:blipFill>
        <p:spPr>
          <a:xfrm>
            <a:off x="246240" y="74520"/>
            <a:ext cx="21081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koostamisprotsess (2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34720" y="1487520"/>
            <a:ext cx="8677080" cy="29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P statistikatööde loetelu koostamise ajakava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3680" y="2101680"/>
          <a:ext cx="8366040" cy="3794400"/>
        </p:xfrm>
        <a:graphic>
          <a:graphicData uri="http://schemas.openxmlformats.org/drawingml/2006/table">
            <a:tbl>
              <a:tblPr/>
              <a:tblGrid>
                <a:gridCol w="1415880"/>
                <a:gridCol w="6950160"/>
              </a:tblGrid>
              <a:tr h="14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d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tepanekute kogumine koostatavate aegridade  struktuuri ja detailsuse muutmise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Eesti Panga sisesed kasutaj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älised kasutaja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hvusvahelised organisatsioonid (sh. EKP, Eurostat, BIS, IMF j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ugu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katööde ja nende raames avaldatavate näitajate loetelude koostam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pt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oskõlastamine  EP siseste statistikakasutajate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ktoo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kanõukogu arvamuse kuulam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ktoo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utamine ja heakskiitmine Eesti Panga juhatuse laiendatud istung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v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nitamine EP presidendi määruse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Jaluse kohatäide 3"/>
          <p:cNvSpPr/>
          <p:nvPr/>
        </p:nvSpPr>
        <p:spPr>
          <a:xfrm>
            <a:off x="1382760" y="6321600"/>
            <a:ext cx="59101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Teemad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esti Pank riikliku statistika tegijana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esti Panga statistikatööde loetelu ülesehitus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esti Panga statistikatööde loetelu koostamisprotsess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k riikliku statistika tegijana (1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014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§ 8. Riikliku statistika tegijad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1) Riikliku statistika tegijad on Statistikaamet ja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Eesti Panga seaduse § 34 lõikes 1 sätestatud ulatuses Eesti Pank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EPS § 2. Eesti Panga eesmärk ja ülesanded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6) Eesti </a:t>
            </a:r>
            <a:r>
              <a:rPr b="0" lang="fi-FI" sz="2000" spc="-1" strike="noStrike">
                <a:solidFill>
                  <a:srgbClr val="ff0000"/>
                </a:solidFill>
                <a:latin typeface="Arial"/>
              </a:rPr>
              <a:t>maksebilansi koostamine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7) oma </a:t>
            </a:r>
            <a:r>
              <a:rPr b="0" lang="fi-FI" sz="2000" spc="-1" strike="noStrike">
                <a:solidFill>
                  <a:srgbClr val="ff0000"/>
                </a:solidFill>
                <a:latin typeface="Arial"/>
              </a:rPr>
              <a:t>ülesannete täitmiseks vajaliku statistika kogumine ja avaldamine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EPS § 34. Maksebilansi koostamine ja statistika kogumine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1) Eesti Pank kogub andmeid oma ülesannete täitmiseks vajaliku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raha-, finants- ja maksebilansistatistika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saamiseks ja avaldamiseks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riikliku statistika seaduses sätestatud alustel ja korra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k riikliku statistika tegijana (2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35080" y="1423800"/>
            <a:ext cx="847728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 § 16. Riikliku statistika programmi osad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1) Riikliku statistika programm koosneb: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1) Vabariigi Valitsuse kinnitatud statistikatööde loetelust;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Eesti Panga presidendi kinnitatud statistikatööde loetelust</a:t>
            </a:r>
            <a:r>
              <a:rPr b="0" lang="et-EE" sz="2000" spc="-1" strike="noStrike">
                <a:solidFill>
                  <a:srgbClr val="3a75c4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§ 17. Programmi koostamine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2) Programmi koostamisel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lähtutakse avalikust huvist, allikate olemasolust, andmeesitajate koormusest ja riikliku statistika tegemise tasuvusest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Lisaks võetakse arvesse riigieelarve strateegiat ja järgmise aasta riigieelarve projekti.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 § 19. Programmi aruandlus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4) Eesti Pank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annab ülevaate programmi täitmise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kohta oma pädevuse piires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Eesti Panga aastaaruande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k riikliku statistika tegijana (3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4600" y="2965320"/>
            <a:ext cx="8229600" cy="32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KrAS § 91. Aruanded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- (1) Eesti Pank kehtestab krediidiasutustele ja välisriigi krediidiasutuste filiaalidele: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3" marL="1771560" indent="-5140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aruannete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loetelu, nende esitamise perioodilisuse ja koostamise metoodika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3" marL="1771560" indent="-5140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aruannete esitamise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korra ja tähtajad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3) Eesti Pangal on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Eesti Panga seadusest tulenevate ülesannete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äitmiseks õigus nõuda krediidiasutuselt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täiendavat regulaarset aruandlust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Aruandluse vormid kehtestab Eesti Pank.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3030480" y="1332000"/>
            <a:ext cx="2586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esti Panga statis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1406520" y="2006640"/>
            <a:ext cx="2585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Riiklik statist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(R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4994280" y="2016000"/>
            <a:ext cx="2752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Järelevalvestatistika (K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irge noolkonnektor 14"/>
          <p:cNvCxnSpPr/>
          <p:nvPr/>
        </p:nvCxnSpPr>
        <p:spPr>
          <a:xfrm flipH="1">
            <a:off x="3094920" y="1749960"/>
            <a:ext cx="51012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irge noolkonnektor 16"/>
          <p:cNvCxnSpPr/>
          <p:nvPr/>
        </p:nvCxnSpPr>
        <p:spPr>
          <a:xfrm>
            <a:off x="5238360" y="1736640"/>
            <a:ext cx="353160" cy="22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ülesehitus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35080" y="1331640"/>
            <a:ext cx="84772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 § 16. Riikliku statistika programmi osad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2) Programm sisaldab statistikatöö kohta järgmisi andmeid: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) nimetu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2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õiguslik alu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3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väljundnäitajad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4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sagedu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5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periood või moment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6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) eeldatav maksumu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7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info kavandatavate metoodikamuudatuste kohta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ülesehitus (1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71" name="Jaluse kohatäide 3"/>
          <p:cNvSpPr/>
          <p:nvPr/>
        </p:nvSpPr>
        <p:spPr>
          <a:xfrm>
            <a:off x="1382760" y="6321600"/>
            <a:ext cx="59101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a75c4"/>
                </a:solidFill>
                <a:latin typeface="Arial"/>
              </a:rPr>
              <a:t>Autor – Esitluse nime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68200" y="1187280"/>
            <a:ext cx="870588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ülesehitus (1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228680" y="1166760"/>
            <a:ext cx="650880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koostamisprotsess (1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34720" y="1596600"/>
            <a:ext cx="8677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Olulised aspektid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Eesti Pank tegutseb iseseisvalt, kindlates raamides ning pädevuse piires.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Eesti Panga statistikavajaduse määravad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0000"/>
                </a:solidFill>
                <a:latin typeface="Arial"/>
              </a:rPr>
              <a:t>Eesti Panga tööülesanneteks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täitmisest tulenev otsene statistikavajadus</a:t>
            </a:r>
            <a:endParaRPr b="0" lang="en-US" sz="1800" spc="-1" strike="noStrike">
              <a:solidFill>
                <a:srgbClr val="3a75c4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0000"/>
                </a:solidFill>
                <a:latin typeface="Arial"/>
              </a:rPr>
              <a:t>Euroopa Keskpankade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(EKPS) </a:t>
            </a:r>
            <a:r>
              <a:rPr b="0" lang="et-EE" sz="1800" spc="-1" strike="noStrike">
                <a:solidFill>
                  <a:srgbClr val="ff0000"/>
                </a:solidFill>
                <a:latin typeface="Arial"/>
              </a:rPr>
              <a:t>statistikasüsteem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 statistikavajadus EKPS-i ülesannete täitmiseks</a:t>
            </a:r>
            <a:endParaRPr b="0" lang="en-US" sz="1800" spc="-1" strike="noStrike">
              <a:solidFill>
                <a:srgbClr val="3a75c4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eiste </a:t>
            </a:r>
            <a:r>
              <a:rPr b="0" lang="et-EE" sz="1800" spc="-1" strike="noStrike">
                <a:solidFill>
                  <a:srgbClr val="ff0000"/>
                </a:solidFill>
                <a:latin typeface="Arial"/>
              </a:rPr>
              <a:t>rahvusvaheliste organisatsioonide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tatistikavajadus, kui selle täitmine kuulub Eesti Panga pädevusse</a:t>
            </a:r>
            <a:endParaRPr b="0" lang="en-US" sz="18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Avalikust huvist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ulenev statistikavajadus väljendub Eesti Panga seaduses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0:40:03Z</dcterms:created>
  <dc:creator>Jaanus Kroon</dc:creator>
  <dc:description/>
  <dc:language>en-US</dc:language>
  <cp:lastModifiedBy>Kristina Lauri</cp:lastModifiedBy>
  <dcterms:modified xsi:type="dcterms:W3CDTF">2011-04-15T12:08:53Z</dcterms:modified>
  <cp:revision>29</cp:revision>
  <dc:subject/>
  <dc:title>Esitluse teema</dc:title>
</cp:coreProperties>
</file>