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D2789-64BA-40CE-BADD-C08CE7B483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4F99D-2228-4DCD-8ED6-0AF20457CC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0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2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E2566-B572-471F-B64B-148864A303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014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014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214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214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3A19D-A88A-451F-B8BC-4AEB9007CD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014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7A66E-9EF8-4A2B-B466-DD07460CA4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A5187-114D-45D5-A529-B0D500AB46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014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15621-0FA4-4C65-8B7B-98F49B2A32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4BA92-07B1-421B-A929-F805113B39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2520" y="290520"/>
            <a:ext cx="59659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2FE21-838A-4FDF-93F8-A830A40B37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014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6093E-F85D-428D-ADF3-0F094129E9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0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2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DA2CF-5FE5-48A1-B755-2728598FD0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0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8D518-396E-4F73-A284-67733366F0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 rot="10800000">
            <a:off x="0" y="-360"/>
            <a:ext cx="9144000" cy="1136520"/>
          </a:xfrm>
          <a:prstGeom prst="rect">
            <a:avLst/>
          </a:prstGeom>
          <a:gradFill rotWithShape="0">
            <a:gsLst>
              <a:gs pos="0">
                <a:srgbClr val="3a75c4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 rot="10800000">
            <a:off x="0" y="1026360"/>
            <a:ext cx="914400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a75c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31656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a75c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logoparg"/>
          <p:cNvPicPr/>
          <p:nvPr/>
        </p:nvPicPr>
        <p:blipFill>
          <a:blip r:embed="rId2"/>
          <a:stretch/>
        </p:blipFill>
        <p:spPr>
          <a:xfrm>
            <a:off x="0" y="6089760"/>
            <a:ext cx="1368360" cy="76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3014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75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75c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a75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75c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a75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75c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a75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75c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a75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75c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75c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75c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1"/>
          </p:nvPr>
        </p:nvSpPr>
        <p:spPr>
          <a:xfrm>
            <a:off x="1382400" y="6321600"/>
            <a:ext cx="591012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3a75c4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3a75c4"/>
                </a:solidFill>
                <a:latin typeface="Arial"/>
              </a:rPr>
              <a:t>Autor – Esitluse nime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7778880" y="6338880"/>
            <a:ext cx="9079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DD34-E37F-4C85-9CFD-249F5FAAF3A8}" type="slidenum">
              <a:rPr b="0" lang="et-E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0"/>
          <p:cNvSpPr/>
          <p:nvPr/>
        </p:nvSpPr>
        <p:spPr>
          <a:xfrm>
            <a:off x="452520" y="1333440"/>
            <a:ext cx="8219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75c4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pic>
        <p:nvPicPr>
          <p:cNvPr id="9" name="Picture 13" descr="Eesti Pank White clear"/>
          <p:cNvPicPr/>
          <p:nvPr/>
        </p:nvPicPr>
        <p:blipFill>
          <a:blip r:embed="rId3"/>
          <a:stretch/>
        </p:blipFill>
        <p:spPr>
          <a:xfrm>
            <a:off x="7950240" y="93600"/>
            <a:ext cx="782640" cy="88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Jaluse kohatäide 3"/>
          <p:cNvSpPr/>
          <p:nvPr/>
        </p:nvSpPr>
        <p:spPr>
          <a:xfrm>
            <a:off x="1382760" y="6321600"/>
            <a:ext cx="59101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3a75c4"/>
                </a:solidFill>
                <a:latin typeface="Arial"/>
              </a:rPr>
              <a:t>Autor – Esitluse nime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9560" y="25048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3a75c4"/>
                </a:solidFill>
                <a:latin typeface="Arial"/>
              </a:rPr>
              <a:t>Eesti Panga presidendi kinnitatava statistikatööde loetelu ülesehituse ja koostamisprotsessi tutvustus</a:t>
            </a:r>
            <a:endParaRPr b="1" lang="en-US" sz="32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60680"/>
            <a:ext cx="6400800" cy="127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3a75c4"/>
                </a:solidFill>
                <a:latin typeface="Arial"/>
              </a:rPr>
              <a:t>12.04.2011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3a75c4"/>
                </a:solidFill>
                <a:latin typeface="Arial"/>
              </a:rPr>
              <a:t>Jaanus Kroon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631656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a75c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0" y="0"/>
            <a:ext cx="9144000" cy="1136520"/>
          </a:xfrm>
          <a:prstGeom prst="rect">
            <a:avLst/>
          </a:prstGeom>
          <a:gradFill rotWithShape="0">
            <a:gsLst>
              <a:gs pos="0">
                <a:srgbClr val="3a75c4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logoparg"/>
          <p:cNvPicPr/>
          <p:nvPr/>
        </p:nvPicPr>
        <p:blipFill>
          <a:blip r:embed="rId1"/>
          <a:stretch/>
        </p:blipFill>
        <p:spPr>
          <a:xfrm>
            <a:off x="0" y="6089760"/>
            <a:ext cx="1368360" cy="7682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2"/>
          <p:cNvSpPr/>
          <p:nvPr/>
        </p:nvSpPr>
        <p:spPr>
          <a:xfrm>
            <a:off x="0" y="998640"/>
            <a:ext cx="914400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a75c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3" descr="Eesti Pank sys text White clear"/>
          <p:cNvPicPr/>
          <p:nvPr/>
        </p:nvPicPr>
        <p:blipFill>
          <a:blip r:embed="rId2"/>
          <a:stretch/>
        </p:blipFill>
        <p:spPr>
          <a:xfrm>
            <a:off x="246240" y="74520"/>
            <a:ext cx="21081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ga statistikatööde loetelu koostamisprotsess (2)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34720" y="1487520"/>
            <a:ext cx="8677080" cy="29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EP statistikatööde loetelu koostamise ajakava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63680" y="2101680"/>
          <a:ext cx="8366040" cy="3794400"/>
        </p:xfrm>
        <a:graphic>
          <a:graphicData uri="http://schemas.openxmlformats.org/drawingml/2006/table">
            <a:tbl>
              <a:tblPr/>
              <a:tblGrid>
                <a:gridCol w="1415880"/>
                <a:gridCol w="6950160"/>
              </a:tblGrid>
              <a:tr h="144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ide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tepanekute kogumine koostatavate aegridade  struktuuri ja detailsuse muutmise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Eesti Panga sisesed kasutaj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älised kasutaja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hvusvahelised organisatsioonid (sh. EKP, Eurostat, BIS, IMF j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ugu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stikatööde ja nende raames avaldatavate näitajate loetelude koostam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pte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oskõlastamine  EP siseste statistikakasutajate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ktoo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stikanõukogu arvamuse kuulam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ktoo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utamine ja heakskiitmine Eesti Panga juhatuse laiendatud istung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ve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nitamine EP presidendi määruse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Jaluse kohatäide 3"/>
          <p:cNvSpPr/>
          <p:nvPr/>
        </p:nvSpPr>
        <p:spPr>
          <a:xfrm>
            <a:off x="1382760" y="6321600"/>
            <a:ext cx="59101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Teemad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Eesti Pank riikliku statistika tegijana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Eesti Panga statistikatööde loetelu ülesehitus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Eesti Panga statistikatööde loetelu koostamisprotsess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k riikliku statistika tegijana (1)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3014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RStS § 8. Riikliku statistika tegijad 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1) Riikliku statistika tegijad on Statistikaamet ja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Eesti Panga seaduse § 34 lõikes 1 sätestatud ulatuses Eesti Pank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EPS § 2. Eesti Panga eesmärk ja ülesanded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6) Eesti </a:t>
            </a:r>
            <a:r>
              <a:rPr b="0" lang="fi-FI" sz="2000" spc="-1" strike="noStrike">
                <a:solidFill>
                  <a:srgbClr val="ff0000"/>
                </a:solidFill>
                <a:latin typeface="Arial"/>
              </a:rPr>
              <a:t>maksebilansi koostamine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7) oma </a:t>
            </a:r>
            <a:r>
              <a:rPr b="0" lang="fi-FI" sz="2000" spc="-1" strike="noStrike">
                <a:solidFill>
                  <a:srgbClr val="ff0000"/>
                </a:solidFill>
                <a:latin typeface="Arial"/>
              </a:rPr>
              <a:t>ülesannete täitmiseks vajaliku statistika kogumine ja avaldamine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EPS § 34. Maksebilansi koostamine ja statistika kogumine 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1) Eesti Pank kogub andmeid oma ülesannete täitmiseks vajaliku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raha-, finants- ja maksebilansistatistika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saamiseks ja avaldamiseks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riikliku statistika seaduses sätestatud alustel ja korras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k riikliku statistika tegijana (2)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35080" y="1423800"/>
            <a:ext cx="847728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RStS  § 16. Riikliku statistika programmi osad 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1) Riikliku statistika programm koosneb: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1) Vabariigi Valitsuse kinnitatud statistikatööde loetelust;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Eesti Panga presidendi kinnitatud statistikatööde loetelust</a:t>
            </a:r>
            <a:r>
              <a:rPr b="0" lang="et-EE" sz="2000" spc="-1" strike="noStrike">
                <a:solidFill>
                  <a:srgbClr val="3a75c4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RStS § 17. Programmi koostamine 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2) Programmi koostamisel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lähtutakse avalikust huvist, allikate olemasolust, andmeesitajate koormusest ja riikliku statistika tegemise tasuvusest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. Lisaks võetakse arvesse riigieelarve strateegiat ja järgmise aasta riigieelarve projekti.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RStS  § 19. Programmi aruandlus 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4) Eesti Pank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annab ülevaate programmi täitmise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kohta oma pädevuse piires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Eesti Panga aastaaruandes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k riikliku statistika tegijana (3)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44600" y="2965320"/>
            <a:ext cx="8229600" cy="32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KrAS § 91. Aruanded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- (1) Eesti Pank kehtestab krediidiasutustele ja välisriigi krediidiasutuste filiaalidele: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3" marL="1771560" indent="-5140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aruannete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loetelu, nende esitamise perioodilisuse ja koostamise metoodika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3" marL="1771560" indent="-5140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aruannete esitamise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korra ja tähtajad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3) Eesti Pangal on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Eesti Panga seadusest tulenevate ülesannete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täitmiseks õigus nõuda krediidiasutuselt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täiendavat regulaarset aruandlust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. Aruandluse vormid kehtestab Eesti Pank.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63" name="TextBox 10"/>
          <p:cNvSpPr/>
          <p:nvPr/>
        </p:nvSpPr>
        <p:spPr>
          <a:xfrm>
            <a:off x="3030480" y="1332000"/>
            <a:ext cx="2586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Eesti Panga statis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1"/>
          <p:cNvSpPr/>
          <p:nvPr/>
        </p:nvSpPr>
        <p:spPr>
          <a:xfrm>
            <a:off x="1406520" y="2006640"/>
            <a:ext cx="25858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Riiklik statisti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(RS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2"/>
          <p:cNvSpPr/>
          <p:nvPr/>
        </p:nvSpPr>
        <p:spPr>
          <a:xfrm>
            <a:off x="4994280" y="2016000"/>
            <a:ext cx="2752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Järelevalvestatistika (Kr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irge noolkonnektor 14"/>
          <p:cNvCxnSpPr/>
          <p:nvPr/>
        </p:nvCxnSpPr>
        <p:spPr>
          <a:xfrm flipH="1">
            <a:off x="3094920" y="1749960"/>
            <a:ext cx="510120" cy="22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Sirge noolkonnektor 16"/>
          <p:cNvCxnSpPr/>
          <p:nvPr/>
        </p:nvCxnSpPr>
        <p:spPr>
          <a:xfrm>
            <a:off x="5238360" y="1736640"/>
            <a:ext cx="353160" cy="22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ga statistikatööde loetelu ülesehitus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35080" y="1331640"/>
            <a:ext cx="847728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RStS  § 16. Riikliku statistika programmi osad 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2) Programm sisaldab statistikatöö kohta järgmisi andmeid: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) nimetus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 2)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õiguslik alus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 3)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väljundnäitajad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 4)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sagedus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 5)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periood või moment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 6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) eeldatav maksumus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 7)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info kavandatavate metoodikamuudatuste kohta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ga statistikatööde loetelu ülesehitus (1)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71" name="Jaluse kohatäide 3"/>
          <p:cNvSpPr/>
          <p:nvPr/>
        </p:nvSpPr>
        <p:spPr>
          <a:xfrm>
            <a:off x="1382760" y="6321600"/>
            <a:ext cx="59101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3a75c4"/>
                </a:solidFill>
                <a:latin typeface="Arial"/>
              </a:rPr>
              <a:t>Autor – Esitluse nime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68200" y="1187280"/>
            <a:ext cx="870588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ga statistikatööde loetelu ülesehitus (1)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228680" y="1166760"/>
            <a:ext cx="650880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ga statistikatööde loetelu koostamisprotsess (1)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34720" y="1596600"/>
            <a:ext cx="86770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Olulised aspektid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Eesti Pank tegutseb iseseisvalt, kindlates raamides ning pädevuse piires.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Eesti Panga statistikavajaduse määravad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0000"/>
                </a:solidFill>
                <a:latin typeface="Arial"/>
              </a:rPr>
              <a:t>Eesti Panga tööülesanneteks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täitmisest tulenev otsene statistikavajadus</a:t>
            </a:r>
            <a:endParaRPr b="0" lang="en-US" sz="1800" spc="-1" strike="noStrike">
              <a:solidFill>
                <a:srgbClr val="3a75c4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0000"/>
                </a:solidFill>
                <a:latin typeface="Arial"/>
              </a:rPr>
              <a:t>Euroopa Keskpankade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(EKPS) </a:t>
            </a:r>
            <a:r>
              <a:rPr b="0" lang="et-EE" sz="1800" spc="-1" strike="noStrike">
                <a:solidFill>
                  <a:srgbClr val="ff0000"/>
                </a:solidFill>
                <a:latin typeface="Arial"/>
              </a:rPr>
              <a:t>statistikasüsteem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i statistikavajadus EKPS-i ülesannete täitmiseks</a:t>
            </a:r>
            <a:endParaRPr b="0" lang="en-US" sz="1800" spc="-1" strike="noStrike">
              <a:solidFill>
                <a:srgbClr val="3a75c4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eiste </a:t>
            </a:r>
            <a:r>
              <a:rPr b="0" lang="et-EE" sz="1800" spc="-1" strike="noStrike">
                <a:solidFill>
                  <a:srgbClr val="ff0000"/>
                </a:solidFill>
                <a:latin typeface="Arial"/>
              </a:rPr>
              <a:t>rahvusvaheliste organisatsioonide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tatistikavajadus, kui selle täitmine kuulub Eesti Panga pädevusse</a:t>
            </a:r>
            <a:endParaRPr b="0" lang="en-US" sz="18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Avalikust huvist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tulenev statistikavajadus väljendub Eesti Panga seaduses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0:40:03Z</dcterms:created>
  <dc:creator>Jaanus Kroon</dc:creator>
  <dc:description/>
  <dc:language>en-US</dc:language>
  <cp:lastModifiedBy>Kristina Lauri</cp:lastModifiedBy>
  <dcterms:modified xsi:type="dcterms:W3CDTF">2011-04-15T12:08:53Z</dcterms:modified>
  <cp:revision>29</cp:revision>
  <dc:subject/>
  <dc:title>Esitluse teema</dc:title>
</cp:coreProperties>
</file>