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814E-86AB-437C-8DB9-38996D666BB3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6D96-2DC4-4679-A057-F0FF15575E2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33640" y="701640"/>
            <a:ext cx="4590720" cy="34434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306000" y="4354560"/>
            <a:ext cx="6227640" cy="21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0DB5-5A9C-467C-9959-612970566A3A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0B4A-DA32-437F-87DE-D1074F7B3997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Statistikaameti poolt avaldatud info kajastamist meedias oli 2010.a. 6630 (rohkem kui 2–kordistunud vrld. 2007.a-ga , viimastel aastatel on see arv pidevalt ja selgelt kasvan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Vigu saab parandada siis, k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esin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otsitakse aktiivs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A000-4995-49D2-A786-516F6806C87F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Statistikaameti poolt avaldatud info kajastamist meedias oli 2010.a. 6630 (rohkem kui 2–kordistunud vrld. 2007.a-ga , viimastel aastatel on see arv pidevalt ja selgelt kasvanu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Vigu saab parandada siis, k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esin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Neid otsitakse aktiivs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4A06-1468-4911-9211-49C9F475AFA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8988-38DA-4D3E-B321-9DA3214AE88F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4E80-B606-49B2-A34E-680792F9EF05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7522-ACCD-433A-824D-4E7A86A9309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5560" y="4354560"/>
            <a:ext cx="500688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B2D7-F8C2-463C-AB56-00AAAC417BF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DA68-E64B-439F-ABBA-5C001EE1DA3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4FD1-AA38-4CF8-A24F-83374EC3C0B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3430-A282-4EA4-A639-3C094CD46711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6C1F-0A40-4EFB-A868-553EBA4E52E9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718B2-C325-4B23-A40C-1D6A4E11A265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757A-BC2F-4AFF-BC7E-A61E4144490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5560" y="4355640"/>
            <a:ext cx="50068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D3C2-2A9F-4064-A61B-CAA651317956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35080" y="7016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25560" y="4354200"/>
            <a:ext cx="5006880" cy="4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2.04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iit Potisepp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at.ee/aastaaruann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4586400" cy="12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600" spc="-1" strike="noStrike">
                <a:solidFill>
                  <a:srgbClr val="003951"/>
                </a:solidFill>
                <a:latin typeface="Arial"/>
              </a:rPr>
              <a:t>Statistikaameti 2010.a. aruanne, pikaajaliste eesmärkide täitmine</a:t>
            </a:r>
            <a:endParaRPr b="1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71640" y="256536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 12.04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Priit Potisepp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i peadirekto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1042920" y="3644640"/>
            <a:ext cx="7772400" cy="1410120"/>
          </a:xfrm>
          <a:prstGeom prst="rect">
            <a:avLst/>
          </a:prstGeom>
          <a:noFill/>
          <a:ln w="0">
            <a:noFill/>
          </a:ln>
        </p:spPr>
        <p:txBody>
          <a:bodyPr lIns="457200" rIns="0" tIns="0" bIns="0" anchor="t">
            <a:normAutofit fontScale="99000"/>
          </a:bodyPr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Patt oleks teadmisi, mille me saame statistikast, riigi juhti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mitte kasutada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Andrus Ansip, Eesti peaminister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60336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29.12.2010 Eesti Televisioon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AutoShape 3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AutoShape 5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AutoShape 6"/>
          <p:cNvSpPr/>
          <p:nvPr/>
        </p:nvSpPr>
        <p:spPr>
          <a:xfrm>
            <a:off x="3390840" y="2462040"/>
            <a:ext cx="2362320" cy="19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6012000" y="549360"/>
            <a:ext cx="2361960" cy="1933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1773360" y="189000"/>
            <a:ext cx="6138720" cy="640404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3"/>
          <p:cNvSpPr/>
          <p:nvPr/>
        </p:nvSpPr>
        <p:spPr>
          <a:xfrm>
            <a:off x="6804000" y="6308640"/>
            <a:ext cx="201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Source</a:t>
            </a:r>
            <a:r>
              <a:rPr b="1" lang="et-EE" sz="1000" spc="-1" strike="noStrike">
                <a:solidFill>
                  <a:srgbClr val="003951"/>
                </a:solidFill>
                <a:latin typeface="Arial"/>
              </a:rPr>
              <a:t>: Eurobarometer 323, 2009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2. Strateegiline eesmärk: Teenuse kõrge kvaliteet (1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7026120" cy="33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estamine tarbija vajadusega – 6,3 (2008) = rahuldav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innang meie professionaalsusele – 7,9 (2008) = he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etaandmetega kaetus AB’s – kasv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revideerimise ulatus – normaal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igade avastamise sagedus AB’s – trendi ei julge välja tuu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2. Strateegiline eesmärk: Teenuse kõrge kvaliteet (2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42920" y="1844280"/>
            <a:ext cx="70264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lvl="1" marL="10688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ohasus – ajavahemik vaatlusaluse perioodi lõpu ja avaldamiskuupäeva vahel on kokkuvõttes vähene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benõuete ja tellimustööde täitmise kiirus 7,3 (2008) = he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ähtajaks laekunud aruannete osakaal ettevõtetelt ei ole üldiselt halvenenud (2007-2010), kuu ja kvartal paranenud. Tase: aastaandmed 1/3, kuuandmed 3/5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-35964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 infosüsteemi suurte osade üheaegne arendus (iMETA, SRS, ADAM, andmekogumis - ja - töötlusrakenduse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688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013880" cy="92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3. Strateegiline eesmärk: Koostöö andmeesitajaga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00000" y="2060280"/>
            <a:ext cx="702648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uannete täitmise aeg on 3 aastaga (hinnanguliselt 1/10 võrra vähenenu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beril andmeesitamist vähendasime jõuga, elektrooniline andmeesitus on  kasv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5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STAT 2010: 70 % kuu-, 74 % kvartali-, 72 % poolaasta  ja  67 % aastaaruannetest suhtena laekunud aruannetess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üsitlus sülearvutitega – olulised plussid nii andmetöötluse kui maine aspektist vaadatun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uhtumine: püüdlused otse andmeesitaja koormust vähendad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RATEEGIAPERIOODI 2008-2011 VAHEKOKKUVÕT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826920" y="2205000"/>
            <a:ext cx="734724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del statistilistel andmetel on olnud kriitiline roll Eesti ühiskonda puudutavate valikute tegemi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tis statistilise andmestiku kasutamine kasvanud kuid statistiline kirjaoskus vajab tõstm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usvahelisel tasemel mitmeid “teste” läbit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stiku järjepidevus sai kriisis kohati kannatada, esineb puudusi ESS’is kokku lepitud kohustuste täitmi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 statistikaasutuse infotöötlussüsteemi arendusi, osad tulemused käes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15640" y="3213000"/>
            <a:ext cx="7024680" cy="8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itäh!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99" name="Picture 2" descr="vaheleh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6920" y="1196640"/>
            <a:ext cx="702468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042920" y="2349360"/>
            <a:ext cx="7129440" cy="25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Õiguslikud al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astaaruanne 2010 tutvust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rateegiliste eesmärkide täit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044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Õiguslikud a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826920" y="2205000"/>
            <a:ext cx="7347240" cy="34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§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9 – Programmi aruandlus (esmakordselt 31.03.201</a:t>
            </a:r>
            <a:r>
              <a:rPr b="0" lang="et-EE" sz="2000" spc="-1" strike="noStrike">
                <a:solidFill>
                  <a:srgbClr val="c32413"/>
                </a:solidFill>
                <a:latin typeface="Arial"/>
              </a:rPr>
              <a:t>2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, vastavalt 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§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 43 lg 3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eadirektor esitab iga aasta 31.märtsiks statistikanõukogule ja Rahandusministeeriumile programmi täitmise kohta oma pädevuse piires. Aastaaruanne avaldatakse Statistikaameti veebilehel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853920" indent="-280800">
              <a:lnSpc>
                <a:spcPct val="100000"/>
              </a:lnSpc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ndusminister esitab aruande Vabariigi Valitsusele koos statistikanõukogu tegevusaruand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aruanne 2010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Text Box 3"/>
          <p:cNvSpPr/>
          <p:nvPr/>
        </p:nvSpPr>
        <p:spPr>
          <a:xfrm>
            <a:off x="826920" y="2205000"/>
            <a:ext cx="734724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tud </a:t>
            </a:r>
            <a:r>
              <a:rPr b="0" lang="et-EE" sz="2000" spc="-1" strike="noStrike" u="sng">
                <a:solidFill>
                  <a:srgbClr val="b3a0a6"/>
                </a:solidFill>
                <a:uFillTx/>
                <a:latin typeface="Arial"/>
                <a:hlinkClick r:id="rId1"/>
              </a:rPr>
              <a:t>http://www.stat.ee/aastaaruan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irjas rahandusministrile 01.04.2011 sisaldusid viide avaldatud aastaaruandele ning andmed programmiväliste statistikatööde ja tellimustööde koh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lesehitus arvestab RStS nõudeid (et vältida dubleerivat aruandlustööd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34920" y="33336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programmi täit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1042920" y="1197000"/>
            <a:ext cx="734688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32 programmi kuuluvat tööd, kogumaksumusega 106,3 mln. kroon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luliste andmete (THI, valitsemissektori võla ja defitsiidi määr) avaldamine ja kvaliteedikontroll  seoses eurole ülemineku otsus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urole üleminekuga seonduvad arvutused ja ITS muuda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4 tööd esmakordselt (REGREL prooviloenduse ettevalmistus, kogumik “Infoühiskond ja IKT sektori aasta- ja kvartaliandmestik andmebaasis, sotsiaalse kaitse kulutuste arvepidamise, vaesuse teemaline kogumik)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llumajandusloendus ja rahva- ja eluruumide loenduse proov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asutuse uuring, tööelu-uuring ja innovatsiooniuuring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u statistika portaa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71280" y="1197000"/>
            <a:ext cx="702468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grammivälised 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826920" y="2205000"/>
            <a:ext cx="7347240" cy="40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5 tööd tõukefondidest või grantidest finantseerit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46 tellimustööd (valdavalt väikesemahulised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hukaimad täiskasvanute uuring (PIAAC), vanemaealiste uuring (SHARE) ja ettevõtlustoetuste mõju analüü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gukulud 10,1 mln. kr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Wiesbadeni Grupi konverents Tallinn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uroopa Geostatistika Foorum Tallinn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lemaailmse statistikapäeva tähistamine (20.10.2010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1640" y="1197000"/>
            <a:ext cx="7632720" cy="9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aruandes kaetud üldised 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826920" y="2205000"/>
            <a:ext cx="734724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4680" indent="-27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esitajakoormuse jagunemine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kulu andmete esitamise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gi andmekogude kvaliteedi hi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74680" indent="-274680">
              <a:spcBef>
                <a:spcPts val="1001"/>
              </a:spcBef>
              <a:buClr>
                <a:srgbClr val="b2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5640" y="2781000"/>
            <a:ext cx="734364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rateegilised eesmärgid ja mitmeaastased tulemuse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86920" y="1197000"/>
            <a:ext cx="701388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1. Strateegiline eesmärk: Riikliku statistika tuntus, respekteeritus ja mõju ühiskonna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15640" y="2349000"/>
            <a:ext cx="6953400" cy="32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1079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andmete kasutamine on meedias järsult kasvanud (6630 meediakajastust 2010.a. = 2-kordne kasv vrld. 2007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programmi täitmise ja avaldamis-tähtaegadest kinnipidamisega oleme hästi hakkama sa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seadus 2010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Faktipõhise arutelu ja otsuste sagene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b2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koolitust saanute arv kasvanu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ristina Lauri</cp:lastModifiedBy>
  <dcterms:modified xsi:type="dcterms:W3CDTF">2011-04-15T12:12:38Z</dcterms:modified>
  <cp:revision>67</cp:revision>
  <dc:subject/>
  <dc:title>Slide 1</dc:title>
</cp:coreProperties>
</file>