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E6F0-4E21-4634-AAE3-6F91C2EE8A6D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8062-223A-40BA-B183-30051E2D4651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33640" y="7016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06000" y="4354560"/>
            <a:ext cx="6227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B196-EA49-4868-BACF-D60309897078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393A-222C-4DDA-A6EB-7B10689BED84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5560" y="4354200"/>
            <a:ext cx="500688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Statistikaameti poolt avaldatud info kajastamist meedias oli 2010.a. 6630 (rohkem kui 2–kordistunud vrld. 2007.a-ga , viimastel aastatel on see arv pidevalt ja selgelt kasvan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Vigu saab parandada siis, k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Neid esin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Neid otsitakse aktiivs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1378-0C0F-46FF-B73D-20C4D40C159A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25560" y="4354200"/>
            <a:ext cx="500688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Statistikaameti poolt avaldatud info kajastamist meedias oli 2010.a. 6630 (rohkem kui 2–kordistunud vrld. 2007.a-ga , viimastel aastatel on see arv pidevalt ja selgelt kasvan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Vigu saab parandada siis, k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Neid esin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Neid otsitakse aktiivs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E4CE-9802-4A18-92AF-060E2786292B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25560" y="4354200"/>
            <a:ext cx="50068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9E05-6D92-4F9B-93AF-570D4D43DEE6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427F-3FF8-4A39-BC51-59A5D5ECE945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E424-071C-413B-8EEF-23D67D6E0A11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5560" y="4354560"/>
            <a:ext cx="500688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2C9F-8DA6-4E08-BDFC-207057DB9607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93C3-3B2A-49B6-BFF5-9924B1EB3214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2A29-BA3C-4F95-AFA8-51AD25CA0D56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CB35-8D80-4E6D-9661-BDE47F9E5F5B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89D8-4E44-4267-A90D-6418880AD914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330F-D6E2-41CC-A059-21BE91E0A66B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1648-1CBE-4D88-8219-E192AF68EEBB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2524-911F-41AB-824F-EEE816DC939B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25560" y="4354200"/>
            <a:ext cx="50068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01.01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Presentatsiooni pealkiri või esitaja nimi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2.04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79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Priit Potisepp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5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90"/>
          <p:cNvPicPr/>
          <p:nvPr/>
        </p:nvPicPr>
        <p:blipFill>
          <a:blip r:embed="rId3"/>
          <a:stretch/>
        </p:blipFill>
        <p:spPr>
          <a:xfrm>
            <a:off x="7334280" y="404640"/>
            <a:ext cx="1012680" cy="974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at.ee/aastaaruanne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4586400" cy="12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3951"/>
                </a:solidFill>
                <a:latin typeface="Arial"/>
              </a:rPr>
              <a:t>Statistikaameti 2010.a. aruanne, pikaajaliste eesmärkide täitmine</a:t>
            </a:r>
            <a:endParaRPr b="1" lang="en-US" sz="2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71640" y="256536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 12.04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Priit Potisepp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i peadirekto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1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042920" y="3644640"/>
            <a:ext cx="7772400" cy="1410120"/>
          </a:xfrm>
          <a:prstGeom prst="rect">
            <a:avLst/>
          </a:prstGeom>
          <a:noFill/>
          <a:ln w="0">
            <a:noFill/>
          </a:ln>
        </p:spPr>
        <p:txBody>
          <a:bodyPr lIns="457200" rIns="0" tIns="0" bIns="0" anchor="t">
            <a:normAutofit fontScale="99000"/>
          </a:bodyPr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Patt oleks teadmisi, mille me saame statistikast, riigi juhtimi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mitte kasutada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60336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Andrus Ansip, Eesti peaminister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60336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29.12.2010 Eesti Televisiooni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AutoShape 3"/>
          <p:cNvSpPr/>
          <p:nvPr/>
        </p:nvSpPr>
        <p:spPr>
          <a:xfrm>
            <a:off x="3390840" y="2462040"/>
            <a:ext cx="236232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3390840" y="2462040"/>
            <a:ext cx="236232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390840" y="2462040"/>
            <a:ext cx="236232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AutoShape 6"/>
          <p:cNvSpPr/>
          <p:nvPr/>
        </p:nvSpPr>
        <p:spPr>
          <a:xfrm>
            <a:off x="3390840" y="2462040"/>
            <a:ext cx="236232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2361960" cy="1933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773360" y="189000"/>
            <a:ext cx="6138720" cy="64040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6804000" y="6308640"/>
            <a:ext cx="201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Source</a:t>
            </a:r>
            <a:r>
              <a:rPr b="1" lang="et-EE" sz="1000" spc="-1" strike="noStrike">
                <a:solidFill>
                  <a:srgbClr val="003951"/>
                </a:solidFill>
                <a:latin typeface="Arial"/>
              </a:rPr>
              <a:t>: Eurobarometer 323, 2009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701388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2. Strateegiline eesmärk: Teenuse kõrge kvaliteet (1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702612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079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vestamine tarbija vajadusega – 6,3 (2008) = rahuldav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Hinnang meie professionaalsusele – 7,9 (2008) = he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etaandmetega kaetus AB’s – kasv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te revideerimise ulatus – normaal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igade avastamise sagedus AB’s – trendi ei julge välja tuu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701388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2. Strateegiline eesmärk: Teenuse kõrge kvaliteet (2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1068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-35964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jakohasus – ajavahemik vaatlusaluse perioodi lõpu ja avaldamiskuupäeva vahel on kokkuvõttes vähenenu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-35964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abenõuete ja tellimustööde täitmise kiirus 7,3 (2008) = he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-35964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ähtajaks laekunud aruannete osakaal ettevõtetelt ei ole üldiselt halvenenud (2007-2010), kuu ja kvartal paranenud. Tase: aastaandmed 1/3, kuuandmed 3/5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-35964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 infosüsteemi suurte osade üheaegne arendus (iMETA, SRS, ADAM, andmekogumis - ja - töötlusrakendused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701388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3. Strateegiline eesmärk: Koostöö andmeesitajaga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702648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0796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uannete täitmise aeg on 3 aastaga (hinnanguliselt 1/10 võrra vähenenud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beril andmeesitamist vähendasime jõuga, elektrooniline andmeesitus on  kasvanu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5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STAT 2010: 70 % kuu-, 74 % kvartali-, 72 % poolaasta  ja  67 % aastaaruannetest suhtena laekunud aruannetesse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üsitlus sülearvutitega – olulised plussid nii andmetöötluse kui maine aspektist vaadatun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uhtumine: püüdlused otse andmeesitaja koormust vähendad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STRATEEGIAPERIOODI 2008-2011 VAHEKOKKUVÕTE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826920" y="2205000"/>
            <a:ext cx="734724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ljudel statistilistel andmetel on olnud kriitiline roll Eesti ühiskonda puudutavate valikute tegemise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estis statistilise andmestiku kasutamine kasvanud kuid statistiline kirjaoskus vajab tõstmi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vusvahelisel tasemel mitmeid “teste” läbitu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stiku järjepidevus sai kriisis kohati kannatada, esineb puudusi ESS’is kokku lepitud kohustuste täitmise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lju statistikaasutuse infotöötlussüsteemi arendusi, osad tulemused käes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15640" y="3213000"/>
            <a:ext cx="702468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itäh!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99" name="Picture 2" descr="vahele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6920" y="1196640"/>
            <a:ext cx="702468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Teem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042920" y="2349360"/>
            <a:ext cx="7129440" cy="25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04472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Õiguslikud al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04472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astaaruanne 2010 tutvust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04472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rateegiliste eesmärkide täit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04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Õiguslikud al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826920" y="2205000"/>
            <a:ext cx="7347240" cy="34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StS </a:t>
            </a:r>
            <a:r>
              <a:rPr b="0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§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9 – Programmi aruandlus (esmakordselt 31.03.201</a:t>
            </a:r>
            <a:r>
              <a:rPr b="0" lang="et-EE" sz="2000" spc="-1" strike="noStrike">
                <a:solidFill>
                  <a:srgbClr val="c32413"/>
                </a:solidFill>
                <a:latin typeface="Arial"/>
              </a:rPr>
              <a:t>2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, vastavalt </a:t>
            </a:r>
            <a:r>
              <a:rPr b="0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§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 43 lg 3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853920" indent="-28080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eadirektor esitab iga aasta 31.märtsiks statistikanõukogule ja Rahandusministeeriumile programmi täitmise kohta oma pädevuse piires. Aastaaruanne avaldatakse Statistikaameti veebilehel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853920" indent="-28080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853920" indent="-28080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andusminister esitab aruande Vabariigi Valitsusele koos statistikanõukogu tegevusaruande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astaaruanne 2010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826920" y="2205000"/>
            <a:ext cx="7347240" cy="29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valdatud </a:t>
            </a:r>
            <a:r>
              <a:rPr b="0" lang="et-EE" sz="2000" spc="-1" strike="noStrike" u="sng">
                <a:solidFill>
                  <a:srgbClr val="b3a0a6"/>
                </a:solidFill>
                <a:uFillTx/>
                <a:latin typeface="Arial"/>
                <a:hlinkClick r:id="rId1"/>
              </a:rPr>
              <a:t>http://www.stat.ee/aastaaruan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irjas rahandusministrile 01.04.2011 sisaldusid viide avaldatud aastaaruandele ning andmed programmiväliste statistikatööde ja tellimustööde koht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Ülesehitus arvestab RStS nõudeid (et vältida dubleerivat aruandlustööd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kaprogrammi täit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042920" y="1197000"/>
            <a:ext cx="7346880" cy="54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32 programmi kuuluvat tööd, kogumaksumusega 106,3 mln. kroon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Oluliste andmete (THI, valitsemissektori võla ja defitsiidi määr) avaldamine ja kvaliteedikontroll  seoses eurole ülemineku otsuse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urole üleminekuga seonduvad arvutused ja ITS muudat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4 tööd esmakordselt (REGREL prooviloenduse ettevalmistus, kogumik “Infoühiskond ja IKT sektori aasta- ja kvartaliandmestik andmebaasis, sotsiaalse kaitse kulutuste arvepidamise, vaesuse teemaline kogumik)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õllumajandusloendus ja rahva- ja eluruumide loenduse proov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jakasutuse uuring, tööelu-uuring ja innovatsiooniuuring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iirkondliku statistika portaa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grammivälised 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826920" y="2205000"/>
            <a:ext cx="7347240" cy="40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35 tööd tõukefondidest või grantidest finantseeritu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346 tellimustööd (valdavalt väikesemahulised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ahukaimad täiskasvanute uuring (PIAAC), vanemaealiste uuring (SHARE) ja ettevõtlustoetuste mõju analüü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gukulud 10,1 mln. kr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Wiesbadeni Grupi konverents Tallinn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uroopa Geostatistika Foorum Tallinn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Ülemaailmse statistikapäeva tähistamine (20.10.2010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1640" y="1197000"/>
            <a:ext cx="763272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astaaruandes kaetud üldised teem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826920" y="2205000"/>
            <a:ext cx="734724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esitajakoormuse jagunemine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jakulu andmete esitamisel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gi andmekogude kvaliteedi hin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kliku statistika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5640" y="2781000"/>
            <a:ext cx="734364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Strateegilised eesmärgid ja mitmeaastased tulemused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86920" y="1197000"/>
            <a:ext cx="701388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1. Strateegiline eesmärk: Riikliku statistika tuntus, respekteeritus ja mõju ühiskonnas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5640" y="2349000"/>
            <a:ext cx="69534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079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 andmete kasutamine on meedias järsult kasvanud (6630 meediakajastust 2010.a. = 2-kordne kasv vrld. 2007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ööprogrammi täitmise ja avaldamis-tähtaegadest kinnipidamisega oleme hästi hakkama saanu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kliku statistika seadus 2010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Faktipõhise arutelu ja otsuste sagene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rbijakoolitust saanute arv kasvanu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Kristina Lauri</cp:lastModifiedBy>
  <dcterms:modified xsi:type="dcterms:W3CDTF">2011-04-15T12:12:38Z</dcterms:modified>
  <cp:revision>67</cp:revision>
  <dc:subject/>
  <dc:title>Slide 1</dc:title>
</cp:coreProperties>
</file>