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DD75-13E4-4472-94F3-7DC73BC7BB97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06D6-B827-42F8-95F3-31A729A0ECD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6000" y="4354560"/>
            <a:ext cx="6227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1436-6DD8-4877-BABE-2E31C7F1193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DE90-0C29-4D72-9F8D-A05255E36EE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D846-76D7-4F65-984C-48CCE0FE60E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F3A5-718A-42F6-A9E5-F5F82EF87E5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00EA-573F-46B2-896F-C7611F9F5C4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6A59-2659-4D34-B759-4568069FAB8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F011-D94E-4AFE-96B6-EE0D6FA2D97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5560" y="4354560"/>
            <a:ext cx="50068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B1A4-4016-4FB0-9B48-775E7037473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8B47-3D36-4478-B613-6CA42304AC3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9841-26A2-4ED9-95E7-D38A132445D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2AC9-B4BD-4653-BC46-6C6E70027F5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9009-B926-4697-B720-22D23D365BC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0C66-DB94-47ED-B932-8AD0D149DEB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FD28-0BEF-47F0-9F5B-B91E38660FC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15EE-CBA3-4717-85A2-281CB255C09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2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.ee/aastaaruann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58640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3951"/>
                </a:solidFill>
                <a:latin typeface="Arial"/>
              </a:rPr>
              <a:t>Statistikaameti 2010.a. aruanne, pikaajaliste eesmärkide täitmine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 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42920" y="3644640"/>
            <a:ext cx="7772400" cy="1410120"/>
          </a:xfrm>
          <a:prstGeom prst="rect">
            <a:avLst/>
          </a:prstGeom>
          <a:noFill/>
          <a:ln w="0">
            <a:noFill/>
          </a:ln>
        </p:spPr>
        <p:txBody>
          <a:bodyPr lIns="457200" rIns="0" tIns="0" bIns="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Patt oleks teadmisi, mille me saame statistikast, riigi juhti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mitte kasutada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Andrus Ansip, Eesti peaminister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29.12.2010 Eesti Televisioon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773360" y="189000"/>
            <a:ext cx="6138720" cy="6404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804000" y="6308640"/>
            <a:ext cx="201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Source</a:t>
            </a:r>
            <a:r>
              <a:rPr b="1" lang="et-EE" sz="1000" spc="-1" strike="noStrike">
                <a:solidFill>
                  <a:srgbClr val="003951"/>
                </a:solidFill>
                <a:latin typeface="Arial"/>
              </a:rPr>
              <a:t>: Eurobarometer 323, 2009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2. Strateegiline eesmärk: Teenuse kõrge kvaliteet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0261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estamine tarbija vajadusega – 6,3 (2008) = rahuldav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 meie professionaalsusele – 7,9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etaandmetega kaetus AB’s – kas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evideerimise ulatus – normaal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gade avastamise sagedus AB’s – trendi ei julge välja tuu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. Strateegiline eesmärk: Teenuse kõrge kvaliteet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068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ohasus – ajavahemik vaatlusaluse perioodi lõpu ja avaldamiskuupäeva vahel on kokkuvõttes vähene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benõuete ja tellimustööde täitmise kiirus 7,3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ähtajaks laekunud aruannete osakaal ettevõtetelt ei ole üldiselt halvenenud (2007-2010), kuu ja kvartal paranenud. Tase: aastaandmed 1/3, kuuandmed 3/5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 infosüsteemi suurte osade üheaegne arendus (iMETA, SRS, ADAM, andmekogumis - ja - töötlusrakendus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3. Strateegiline eesmärk: Koostöö andmeesitajag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0264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uannete täitmise aeg on 3 aastaga (hinnanguliselt 1/10 võrra vähenenu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beril andmeesitamist vähendasime jõuga, elektrooniline andmeesitus on 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5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STAT 2010: 70 % kuu-, 74 % kvartali-, 72 % poolaasta  ja  67 % aastaaruannetest suhtena laekunud aruannetess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tlus sülearvutitega – olulised plussid nii andmetöötluse kui maine aspektist vaadatun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uhtumine: püüdlused otse andmeesitaja koormust vähendad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APERIOODI 2008-2011 VAHEKOKKUVÕT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826920" y="2205000"/>
            <a:ext cx="734724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del statistilistel andmetel on olnud kriitiline roll Eesti ühiskonda puudutavate valikute tege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s statistilise andmestiku kasutamine kasvanud kuid statistiline kirjaoskus vajab tõst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usvahelisel tasemel mitmeid “teste” läb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stiku järjepidevus sai kriisis kohati kannatada, esineb puudusi ESS’is kokku lepitud kohustuste täit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statistikaasutuse infotöötlussüsteemi arendusi, osad tulemused käes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5640" y="3213000"/>
            <a:ext cx="70246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itäh!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99" name="Picture 2" descr="vahele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6920" y="1196640"/>
            <a:ext cx="702468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42920" y="2349360"/>
            <a:ext cx="712944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astaaruanne 2010 tutvust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rateegiliste eesmärkide täit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26920" y="2205000"/>
            <a:ext cx="734724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 – Programmi aruandlus (esmakordselt 31.03.201</a:t>
            </a:r>
            <a:r>
              <a:rPr b="0" lang="et-EE" sz="2000" spc="-1" strike="noStrike">
                <a:solidFill>
                  <a:srgbClr val="c32413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vastavalt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 43 lg 3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adirektor esitab iga aasta 31.märtsiks statistikanõukogule ja Rahandusministeeriumile programmi täitmise kohta oma pädevuse piires. Aastaaruanne avaldatakse Statistikaameti veebilehel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ndusminister esitab aruande Vabariigi Valitsusele koos statistikanõukogu tegevusaruand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ne 2010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826920" y="2205000"/>
            <a:ext cx="734724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tud </a:t>
            </a:r>
            <a:r>
              <a:rPr b="0" lang="et-EE" sz="2000" spc="-1" strike="noStrike" u="sng">
                <a:solidFill>
                  <a:srgbClr val="b3a0a6"/>
                </a:solidFill>
                <a:uFillTx/>
                <a:latin typeface="Arial"/>
                <a:hlinkClick r:id="rId1"/>
              </a:rPr>
              <a:t>http://www.stat.ee/aastaaruan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irjas rahandusministrile 01.04.2011 sisaldusid viide avaldatud aastaaruandele ning andmed programmiväliste statistikatööde ja tellimustöö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sehitus arvestab RStS nõudeid (et vältida dubleerivat aruandlustöö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programmi täit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42920" y="1197000"/>
            <a:ext cx="7346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2 programmi kuuluvat tööd, kogumaksumusega 106,3 mln. kroon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uliste andmete (THI, valitsemissektori võla ja defitsiidi määr) avaldamine ja kvaliteedikontroll  seoses eurole ülemineku ots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le üleminekuga seonduvad arvutused ja ITS muuda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4 tööd esmakordselt (REGREL prooviloenduse ettevalmistus, kogumik “Infoühiskond ja IKT sektori aasta- ja kvartaliandmestik andmebaasis, sotsiaalse kaitse kulutuste arvepidamise, vaesuse teemaline kogumik)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loendus ja rahva- ja eluruumide loenduse proov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asutuse uuring, tööelu-uuring ja innovatsiooniuuring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u statistika portaa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grammivälised 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826920" y="2205000"/>
            <a:ext cx="734724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5 tööd tõukefondidest või grantidest finantseer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46 tellimustööd (valdavalt väikesemahulise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hukaimad täiskasvanute uuring (PIAAC), vanemaealiste uuring (SHARE) ja ettevõtlustoetuste mõju analüü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gukulud 10,1 mln. k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Wiesbadeni Grupi konverents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opa Geostatistika Foorum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maailmse statistikapäeva tähistamine (20.10.2010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763272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des kaetud üldised 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2205000"/>
            <a:ext cx="73472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sitajakoormuse jagunemine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ulu andmete esitamis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andmekogude kvaliteedi hi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2781000"/>
            <a:ext cx="734364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lised eesmärgid ja mitmeaastased tulemus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6920" y="1197000"/>
            <a:ext cx="70138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1. Strateegiline eesmärk: Riikliku statistika tuntus, respekteeritus ja mõju ühiskonna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000"/>
            <a:ext cx="69534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andmete kasutamine on meedias järsult kasvanud (6630 meediakajastust 2010.a. = 2-kordne kasv vrld. 2007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programmi täitmise ja avaldamis-tähtaegadest kinnipidamisega oleme hästi hakkama sa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seadus 2010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aktipõhise arutelu ja otsuste sag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koolitust saanute arv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4-15T12:12:38Z</dcterms:modified>
  <cp:revision>67</cp:revision>
  <dc:subject/>
  <dc:title>Slide 1</dc:title>
</cp:coreProperties>
</file>