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5D59-F04E-443E-82E6-C51690EDC51B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9883-69F5-4BCD-AFD2-488D1E767638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33640" y="70164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306000" y="4354560"/>
            <a:ext cx="6227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8422-C741-4465-8FDD-1782AE910DF2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5045-2D3E-4D77-BC65-7B4C20BEDEFB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5560" y="4354200"/>
            <a:ext cx="5006880" cy="4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Statistikaameti poolt avaldatud info kajastamist meedias oli 2010.a. 6630 (rohkem kui 2–kordistunud vrld. 2007.a-ga , viimastel aastatel on see arv pidevalt ja selgelt kasvan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Vigu saab parandada siis, ku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Neid esin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Neid otsitakse aktiivs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B5ED-108E-4556-BF4B-C0FC978CC740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25560" y="4354200"/>
            <a:ext cx="5006880" cy="4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Statistikaameti poolt avaldatud info kajastamist meedias oli 2010.a. 6630 (rohkem kui 2–kordistunud vrld. 2007.a-ga , viimastel aastatel on see arv pidevalt ja selgelt kasvan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Vigu saab parandada siis, ku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Neid esin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Neid otsitakse aktiivs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B5F3-0908-40B1-A430-0B27F0B90F6C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25560" y="4354200"/>
            <a:ext cx="50068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97E0-6FA1-4205-AAFF-40A7ACA7FE88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AA2B-6500-4D47-9F63-2553502918DA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D0DC-8F60-49D0-8B63-2BF5CD084721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5560" y="4354560"/>
            <a:ext cx="500688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2FBC-F2E0-471A-9FF1-E4E97A69134B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B7D2-8CDD-49EC-94BE-20868CCA1183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CC5A-C969-4560-81F9-AAD1D20309B9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B26F-4166-4EB4-B25F-C58C17BE72AC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F551-EF68-4671-956F-F61167310874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069E-E29C-4E33-B8DB-A27E3E56E9FF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58F8-2D34-40D7-936D-436F6B1D2B67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0FA1-DA97-4439-8BB1-D4A9ECD9E00B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25560" y="4354200"/>
            <a:ext cx="50068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01.01.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Presentatsiooni pealkiri või esitaja nimi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12.04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79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Priit Potisepp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5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Eesti statistika_vahe_mereroh"/>
          <p:cNvPicPr/>
          <p:nvPr/>
        </p:nvPicPr>
        <p:blipFill>
          <a:blip r:embed="rId2"/>
          <a:stretch/>
        </p:blipFill>
        <p:spPr>
          <a:xfrm>
            <a:off x="-17640" y="-7920"/>
            <a:ext cx="9168120" cy="6883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90"/>
          <p:cNvPicPr/>
          <p:nvPr/>
        </p:nvPicPr>
        <p:blipFill>
          <a:blip r:embed="rId3"/>
          <a:stretch/>
        </p:blipFill>
        <p:spPr>
          <a:xfrm>
            <a:off x="7356600" y="404640"/>
            <a:ext cx="1103040" cy="106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Eesti statistika_vahe_laim"/>
          <p:cNvPicPr/>
          <p:nvPr/>
        </p:nvPicPr>
        <p:blipFill>
          <a:blip r:embed="rId2"/>
          <a:stretch/>
        </p:blipFill>
        <p:spPr>
          <a:xfrm>
            <a:off x="-9360" y="-9360"/>
            <a:ext cx="9171000" cy="6870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90"/>
          <p:cNvPicPr/>
          <p:nvPr/>
        </p:nvPicPr>
        <p:blipFill>
          <a:blip r:embed="rId3"/>
          <a:stretch/>
        </p:blipFill>
        <p:spPr>
          <a:xfrm>
            <a:off x="7342200" y="404640"/>
            <a:ext cx="1111320" cy="107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9" descr="Eesti statistika_suur"/>
          <p:cNvPicPr/>
          <p:nvPr/>
        </p:nvPicPr>
        <p:blipFill>
          <a:blip r:embed="rId2"/>
          <a:stretch/>
        </p:blipFill>
        <p:spPr>
          <a:xfrm>
            <a:off x="-7920" y="-11160"/>
            <a:ext cx="9186840" cy="6881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90"/>
          <p:cNvPicPr/>
          <p:nvPr/>
        </p:nvPicPr>
        <p:blipFill>
          <a:blip r:embed="rId3"/>
          <a:stretch/>
        </p:blipFill>
        <p:spPr>
          <a:xfrm>
            <a:off x="7346880" y="404640"/>
            <a:ext cx="1111320" cy="107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3" descr="Eesti statistika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90"/>
          <p:cNvPicPr/>
          <p:nvPr/>
        </p:nvPicPr>
        <p:blipFill>
          <a:blip r:embed="rId3"/>
          <a:stretch/>
        </p:blipFill>
        <p:spPr>
          <a:xfrm>
            <a:off x="7334280" y="404640"/>
            <a:ext cx="1012680" cy="9748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at.ee/aastaaruanne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4586400" cy="12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3951"/>
                </a:solidFill>
                <a:latin typeface="Arial"/>
              </a:rPr>
              <a:t>Statistikaameti 2010.a. aruanne, pikaajaliste eesmärkide täitmine</a:t>
            </a:r>
            <a:endParaRPr b="1" lang="en-US" sz="2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971640" y="2565360"/>
            <a:ext cx="4495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nõukogu  12.04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Priit Potisepp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ameti peadirektor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1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1042920" y="3644640"/>
            <a:ext cx="7772400" cy="1410120"/>
          </a:xfrm>
          <a:prstGeom prst="rect">
            <a:avLst/>
          </a:prstGeom>
          <a:noFill/>
          <a:ln w="0">
            <a:noFill/>
          </a:ln>
        </p:spPr>
        <p:txBody>
          <a:bodyPr lIns="457200" rIns="0" tIns="0" bIns="0" anchor="t">
            <a:normAutofit fontScale="99000"/>
          </a:bodyPr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Patt oleks teadmisi, mille me saame statistikast, riigi juhtimis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mitte kasutada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60336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Andrus Ansip, Eesti peaminister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60336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29.12.2010 Eesti Televisiooni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AutoShape 3"/>
          <p:cNvSpPr/>
          <p:nvPr/>
        </p:nvSpPr>
        <p:spPr>
          <a:xfrm>
            <a:off x="3390840" y="2462040"/>
            <a:ext cx="2362320" cy="19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7" name="AutoShape 4"/>
          <p:cNvSpPr/>
          <p:nvPr/>
        </p:nvSpPr>
        <p:spPr>
          <a:xfrm>
            <a:off x="3390840" y="2462040"/>
            <a:ext cx="2362320" cy="19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3390840" y="2462040"/>
            <a:ext cx="2362320" cy="19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AutoShape 6"/>
          <p:cNvSpPr/>
          <p:nvPr/>
        </p:nvSpPr>
        <p:spPr>
          <a:xfrm>
            <a:off x="3390840" y="2462040"/>
            <a:ext cx="2362320" cy="19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80" name="Picture 7" descr=""/>
          <p:cNvPicPr/>
          <p:nvPr/>
        </p:nvPicPr>
        <p:blipFill>
          <a:blip r:embed="rId1"/>
          <a:stretch/>
        </p:blipFill>
        <p:spPr>
          <a:xfrm>
            <a:off x="6012000" y="549360"/>
            <a:ext cx="2361960" cy="1933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1773360" y="189000"/>
            <a:ext cx="6138720" cy="64040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3"/>
          <p:cNvSpPr/>
          <p:nvPr/>
        </p:nvSpPr>
        <p:spPr>
          <a:xfrm>
            <a:off x="6804000" y="6308640"/>
            <a:ext cx="2016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951"/>
                </a:solidFill>
                <a:latin typeface="Arial"/>
              </a:rPr>
              <a:t>Source</a:t>
            </a:r>
            <a:r>
              <a:rPr b="1" lang="et-EE" sz="1000" spc="-1" strike="noStrike">
                <a:solidFill>
                  <a:srgbClr val="003951"/>
                </a:solidFill>
                <a:latin typeface="Arial"/>
              </a:rPr>
              <a:t>: Eurobarometer 323, 2009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86920" y="691920"/>
            <a:ext cx="701388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2. Strateegiline eesmärk: Teenuse kõrge kvaliteet (1)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15640" y="1915920"/>
            <a:ext cx="7026120" cy="33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079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rvestamine tarbija vajadusega – 6,3 (2008) = rahuldav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Hinnang meie professionaalsusele – 7,9 (2008) = he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Metaandmetega kaetus AB’s – kasv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te revideerimise ulatus – normaal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igade avastamise sagedus AB’s – trendi ei julge välja tuu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86920" y="691920"/>
            <a:ext cx="701388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2. Strateegiline eesmärk: Teenuse kõrge kvaliteet (2)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42920" y="1844280"/>
            <a:ext cx="70264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1068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68840" indent="-35964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jakohasus – ajavahemik vaatlusaluse perioodi lõpu ja avaldamiskuupäeva vahel on kokkuvõttes vähenenu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68840" indent="-35964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eabenõuete ja tellimustööde täitmise kiirus 7,3 (2008) = he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68840" indent="-35964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ähtajaks laekunud aruannete osakaal ettevõtetelt ei ole üldiselt halvenenud (2007-2010), kuu ja kvartal paranenud. Tase: aastaandmed 1/3, kuuandmed 3/5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68840" indent="-35964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e infosüsteemi suurte osade üheaegne arendus (iMETA, SRS, ADAM, andmekogumis - ja - töötlusrakendused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68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86920" y="691920"/>
            <a:ext cx="701388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3. Strateegiline eesmärk: Koostöö andmeesitajaga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00000" y="2060280"/>
            <a:ext cx="702648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0796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ruannete täitmise aeg on 3 aastaga (hinnanguliselt 1/10 võrra vähenenud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aberil andmeesitamist vähendasime jõuga, elektrooniline andmeesitus on  kasvanu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5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eSTAT 2010: 70 % kuu-, 74 % kvartali-, 72 % poolaasta  ja  67 % aastaaruannetest suhtena laekunud aruannetesse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üsitlus sülearvutitega – olulised plussid nii andmetöötluse kui maine aspektist vaadatun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uhtumine: püüdlused otse andmeesitaja koormust vähendad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71280" y="1197000"/>
            <a:ext cx="702468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STRATEEGIAPERIOODI 2008-2011 VAHEKOKKUVÕTE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826920" y="2205000"/>
            <a:ext cx="7347240" cy="36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aljudel statistilistel andmetel on olnud kriitiline roll Eesti ühiskonda puudutavate valikute tegemisel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estis statistilise andmestiku kasutamine kasvanud kuid statistiline kirjaoskus vajab tõstmis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ahvusvahelisel tasemel mitmeid “teste” läbitu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stiku järjepidevus sai kriisis kohati kannatada, esineb puudusi ESS’is kokku lepitud kohustuste täitmisel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alju statistikaasutuse infotöötlussüsteemi arendusi, osad tulemused käes.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15640" y="3213000"/>
            <a:ext cx="7024680" cy="8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itäh!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99" name="Picture 2" descr="vaheleh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86920" y="1196640"/>
            <a:ext cx="7024680" cy="8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Teema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042920" y="2349360"/>
            <a:ext cx="7129440" cy="25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044720">
              <a:lnSpc>
                <a:spcPct val="100000"/>
              </a:lnSpc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Õiguslikud alus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044720">
              <a:lnSpc>
                <a:spcPct val="100000"/>
              </a:lnSpc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astaaruanne 2010 tutvust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044720">
              <a:lnSpc>
                <a:spcPct val="100000"/>
              </a:lnSpc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rateegiliste eesmärkide täit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04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71280" y="1197000"/>
            <a:ext cx="702468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Õiguslikud al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826920" y="2205000"/>
            <a:ext cx="7347240" cy="34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StS </a:t>
            </a:r>
            <a:r>
              <a:rPr b="0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§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19 – Programmi aruandlus (esmakordselt 31.03.201</a:t>
            </a:r>
            <a:r>
              <a:rPr b="0" lang="et-EE" sz="2000" spc="-1" strike="noStrike">
                <a:solidFill>
                  <a:srgbClr val="c32413"/>
                </a:solidFill>
                <a:latin typeface="Arial"/>
              </a:rPr>
              <a:t>2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, vastavalt </a:t>
            </a:r>
            <a:r>
              <a:rPr b="0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§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 43 lg 3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853920" indent="-280800">
              <a:lnSpc>
                <a:spcPct val="100000"/>
              </a:lnSpc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eadirektor esitab iga aasta 31.märtsiks statistikanõukogule ja Rahandusministeeriumile programmi täitmise kohta oma pädevuse piires. Aastaaruanne avaldatakse Statistikaameti veebilehel.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853920" indent="-280800">
              <a:lnSpc>
                <a:spcPct val="100000"/>
              </a:lnSpc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853920" indent="-280800">
              <a:lnSpc>
                <a:spcPct val="100000"/>
              </a:lnSpc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ahandusminister esitab aruande Vabariigi Valitsusele koos statistikanõukogu tegevusaruandeg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71280" y="1197000"/>
            <a:ext cx="702468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astaaruanne 2010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826920" y="2205000"/>
            <a:ext cx="7347240" cy="29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valdatud </a:t>
            </a:r>
            <a:r>
              <a:rPr b="0" lang="et-EE" sz="2000" spc="-1" strike="noStrike" u="sng">
                <a:solidFill>
                  <a:srgbClr val="b3a0a6"/>
                </a:solidFill>
                <a:uFillTx/>
                <a:latin typeface="Arial"/>
                <a:hlinkClick r:id="rId1"/>
              </a:rPr>
              <a:t>http://www.stat.ee/aastaaruan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irjas rahandusministrile 01.04.2011 sisaldusid viide avaldatud aastaaruandele ning andmed programmiväliste statistikatööde ja tellimustööde koht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Ülesehitus arvestab RStS nõudeid (et vältida dubleerivat aruandlustööd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834920" y="333360"/>
            <a:ext cx="702468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tatistikaprogrammi täit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1042920" y="1197000"/>
            <a:ext cx="7346880" cy="54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132 programmi kuuluvat tööd, kogumaksumusega 106,3 mln. kroon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Oluliste andmete (THI, valitsemissektori võla ja defitsiidi määr) avaldamine ja kvaliteedikontroll  seoses eurole ülemineku otsuseg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urole üleminekuga seonduvad arvutused ja ITS muudatus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4 tööd esmakordselt (REGREL prooviloenduse ettevalmistus, kogumik “Infoühiskond ja IKT sektori aasta- ja kvartaliandmestik andmebaasis, sotsiaalse kaitse kulutuste arvepidamise, vaesuse teemaline kogumik)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õllumajandusloendus ja rahva- ja eluruumide loenduse prooviloend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jakasutuse uuring, tööelu-uuring ja innovatsiooniuuring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iirkondliku statistika portaal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71280" y="1197000"/>
            <a:ext cx="702468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rogrammivälised töö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826920" y="2205000"/>
            <a:ext cx="7347240" cy="40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35 tööd tõukefondidest või grantidest finantseeritu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346 tellimustööd (valdavalt väikesemahulised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Mahukaimad täiskasvanute uuring (PIAAC), vanemaealiste uuring (SHARE) ja ettevõtlustoetuste mõju analüü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ogukulud 10,1 mln. kr.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Wiesbadeni Grupi konverents Tallinna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uroopa Geostatistika Foorum Tallinna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Ülemaailmse statistikapäeva tähistamine (20.10.2010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71640" y="1197000"/>
            <a:ext cx="763272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astaaruandes kaetud üldised teema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826920" y="2205000"/>
            <a:ext cx="734724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esitajakoormuse jagunemine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jakulu andmete esitamisel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iigi andmekogude kvaliteedi hin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iikliku statistika kas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15640" y="2781000"/>
            <a:ext cx="7343640" cy="8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Strateegilised eesmärgid ja mitmeaastased tulemused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86920" y="1197000"/>
            <a:ext cx="7013880" cy="9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1. Strateegiline eesmärk: Riikliku statistika tuntus, respekteeritus ja mõju ühiskonnas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15640" y="2349000"/>
            <a:ext cx="69534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079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A andmete kasutamine on meedias järsult kasvanud (6630 meediakajastust 2010.a. = 2-kordne kasv vrld. 2007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ööprogrammi täitmise ja avaldamis-tähtaegadest kinnipidamisega oleme hästi hakkama saanu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iikliku statistika seadus 2010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Faktipõhise arutelu ja otsuste sagene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arbijakoolitust saanute arv kasvanu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Kristina Lauri</cp:lastModifiedBy>
  <dcterms:modified xsi:type="dcterms:W3CDTF">2011-04-15T12:12:38Z</dcterms:modified>
  <cp:revision>67</cp:revision>
  <dc:subject/>
  <dc:title>Slide 1</dc:title>
</cp:coreProperties>
</file>