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F2FB484-64D3-4411-B2A1-98F1CE20F2D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54EBD5E-FA56-4482-A0FB-92A4B547A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68992F5-4253-4820-83FF-3B99B796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90AFC2C-6C0E-4D8D-96CC-5D11D6ED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C5D8875-F2EF-4222-B4B2-24570B4A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EC3C5F4-3AF1-440B-89D3-1376FF4E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C7739D-292E-45E1-ADF6-6BAA9B9F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Statistikaameti 2012.-2016. a statistikatööd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5280" y="1413000"/>
            <a:ext cx="83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1" lang="sv-SE" sz="2000" spc="-1" strike="noStrike">
                <a:solidFill>
                  <a:srgbClr val="003951"/>
                </a:solidFill>
                <a:latin typeface="Arial"/>
              </a:rPr>
              <a:t>Riikliku statistika programm ja statistikatöö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tatakse järgnevaks 5 aasta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rahvastiku-, sotsiaal-, majandus- ja keskkonnaalaste statistikatööde loetel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htub riigisisesest või rahvusvahelisest statistikavajadusest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: Riikliku statistika programm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RSP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VV korraldus ja lis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95280" y="1413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7 (6) Statistikaameti poolt tehtavate statistikatööde loetelu kinnitab Vabariigi Valitsus korraldusega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bariigi Valitsuse korral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1 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telu, väljund, sagedus, perioodid/momendid, maksum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2 – EL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õigusaktid või muud andmevajaduse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3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toodikamuudatusteg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statistika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55640" y="4567320"/>
          <a:ext cx="7315200" cy="1741320"/>
        </p:xfrm>
        <a:graphic>
          <a:graphicData uri="http://schemas.openxmlformats.org/drawingml/2006/table">
            <a:tbl>
              <a:tblPr/>
              <a:tblGrid>
                <a:gridCol w="522360"/>
                <a:gridCol w="1931760"/>
                <a:gridCol w="784440"/>
                <a:gridCol w="731880"/>
                <a:gridCol w="731880"/>
                <a:gridCol w="522000"/>
                <a:gridCol w="522360"/>
                <a:gridCol w="522360"/>
                <a:gridCol w="523800"/>
                <a:gridCol w="522360"/>
              </a:tblGrid>
              <a:tr h="66492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rk nr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tikatöö nimet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­tikatöö kood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ge­d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eriood või mo­ment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ksumus (tuhat eurot) 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õi töö tegemise 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2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3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4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5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6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38.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ide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20507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statistikatööde loetel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5280" y="1413000"/>
            <a:ext cx="820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SA 2012.-2016.a. statistikatööde loetelus on 251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 – 163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 statistika – 3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äljatöötamisjärgus statistikatööd (arendus) – 34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– 1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 – 2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rinevaid statistikatöid on 23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valt vajadusele on eelnev statistikatöö iseloomust lähtuv jaotus liigitatud valdkonniti: keskkond, majandus, rahvastik, sotsiaalelu, eri valdkondade statistika. 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2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2: osa 2012.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 2016. RSP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95280" y="1413000"/>
            <a:ext cx="8367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1.-2015. a programmis oli 2012. a planeeritud 20 uut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2.-2016. a programmi lisandus 19 uut tööd (12 -&gt; 2012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i nõuete aluse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 tarbijate ettepaneku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te kogumise ja haldamise arendamiseks 3 töö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lt tuli 92 ettepanekut, 69 juhul vastasime, et saame ettepanekut täielikult või osaliselt arvest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ittearvestamise sagedasemaiks põhjusteks oli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ovitud andmed juba toodetak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jakoormuse kasv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ebapiisavad ressurs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: lisaressursi vajad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95280" y="1413000"/>
            <a:ext cx="8367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2012. – 2016. a maksumus ei ole eelarvevahenditega kaetud!!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õigi uute 2012. a planeeritud tööde ärategemine nõuab lisaressurssi EUR 147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 töödele lisandunud ülesannete täitmine nõuab veel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EUR 24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1. a alustatud arenduste rahastamine – EUR 253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2. lisavajadused kokku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– EUR 425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 hinnangu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5-16T13:19:58Z</dcterms:modified>
  <cp:revision>134</cp:revision>
  <dc:subject/>
  <dc:title>Slide 1</dc:title>
</cp:coreProperties>
</file>