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7D7C56B-3139-4B42-8B8D-DDD630E7DAC8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43EFC4D-8E53-482E-9C4E-9F62ABD3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D6A87B6-357B-4C0A-A32F-C5A39FB1B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3E8190B-A9A6-4A34-ADBF-782CDF4DD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BDAD141-390A-4620-8284-EC4695C87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2832D7F-B1D3-46CC-A54A-F4E0D85C3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DCCBCDF-842F-49C1-9F93-E4717968E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6.05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Riikliku statistika programmi Statistikaameti 2012.-2016. a statistikatööd 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95280" y="1413000"/>
            <a:ext cx="83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. </a:t>
            </a:r>
            <a:r>
              <a:rPr b="1" lang="sv-SE" sz="2000" spc="-1" strike="noStrike">
                <a:solidFill>
                  <a:srgbClr val="003951"/>
                </a:solidFill>
                <a:latin typeface="Arial"/>
              </a:rPr>
              <a:t>Riikliku statistika programm ja statistikatöö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tatakse järgnevaks 5 aastaks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3951"/>
                </a:solidFill>
                <a:latin typeface="Arial"/>
              </a:rPr>
              <a:t>rahvastiku-, sotsiaal-, majandus- ja keskkonnaalaste statistikatööde loetelu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ähtub riigisisesest või rahvusvahelisest statistikavajadusest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7885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: Riikliku statistika programm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RSP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5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VV korraldus ja lis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6.05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95280" y="1413000"/>
            <a:ext cx="85694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tS 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§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7 (6) Statistikaameti poolt tehtavate statistikatööde loetelu kinnitab Vabariigi Valitsus korraldusega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bariigi Valitsuse korral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1 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telu, väljund, sagedus, perioodid/momendid, maksumu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2 – EL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õigusaktid või muud andmevajaduse al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sa 3</a:t>
            </a: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–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toodikamuudatusteg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statistika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755640" y="4567320"/>
          <a:ext cx="7315200" cy="1741320"/>
        </p:xfrm>
        <a:graphic>
          <a:graphicData uri="http://schemas.openxmlformats.org/drawingml/2006/table">
            <a:tbl>
              <a:tblPr/>
              <a:tblGrid>
                <a:gridCol w="522360"/>
                <a:gridCol w="1931760"/>
                <a:gridCol w="784440"/>
                <a:gridCol w="731880"/>
                <a:gridCol w="731880"/>
                <a:gridCol w="522000"/>
                <a:gridCol w="522360"/>
                <a:gridCol w="522360"/>
                <a:gridCol w="523800"/>
                <a:gridCol w="522360"/>
              </a:tblGrid>
              <a:tr h="664920"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Jrk nr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tikatöö nimet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tatis­tikatöö kood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age­dus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Periood või mo­ment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Maksumus (tuhat eurot) 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või töö tegemise 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2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3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4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5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l2016</a:t>
                      </a:r>
                      <a:endParaRPr b="1" lang="en-US" sz="13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38.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Side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20507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Aasta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951"/>
                          </a:solidFill>
                          <a:latin typeface="Times New Roman"/>
                          <a:ea typeface="Times New Roman"/>
                        </a:rPr>
                        <a:t>5,1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 – statistikatööde loetel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395280" y="1413000"/>
            <a:ext cx="8209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RSP SA 2012.-2016.a. statistikatööde loetelus on 251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[igal aastal tehtav]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 – 163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selt tehtav statistika – 3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äljatöötamisjärgus statistikatööd (arendus) – 34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951"/>
                </a:solidFill>
                <a:latin typeface="Arial"/>
              </a:rPr>
              <a:t>statistilise analüüsi tööd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– 16 rida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ste registrite pidamine – 2 ri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rinevaid statistikatöid on 23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valt vajadusele on eelnev statistikatöö iseloomust lähtuv jaotus liigitatud valdkonniti: keskkond, majandus, rahvastik, sotsiaalelu, eri valdkondade statistika. </a:t>
            </a: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1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" dur="1" fill="hold"/>
                                  <p:tgtEl>
                                    <p:spTgt spid="25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012: osa 2012. 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 2016. RSP-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95280" y="1413000"/>
            <a:ext cx="8367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1.-2015. a programmis oli 2012. a planeeritud 20 uut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2012.-2016. a programmi lisandus 19 uut tööd (12 -&gt; 2012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stati nõuete aluse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 tarbijate ettepanekul 8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te kogumise ja haldamise arendamiseks 3 tööd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tarbijatelt tuli 92 ettepanekut, 69 juhul vastasime, et saame ettepanekut täielikult või osaliselt arvest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ittearvestamise sagedasemaiks põhjusteks oli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ovitud andmed juba toodetak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stajakoormuse kasv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A ebapiisavad ressursi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26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225" dur="1" fill="hold"/>
                                  <p:tgtEl>
                                    <p:spTgt spid="262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: lisaressursi vajad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04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395280" y="1413000"/>
            <a:ext cx="836784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RSP 2012. – 2016. a maksumus ei ole eelarvevahenditega kaetud!!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Kõigi uute 2012. a planeeritud tööde ärategemine nõuab lisaressurssi EUR 147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 töödele lisandunud ülesannete täitmine nõuab veel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EUR 24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1. a alustatud arenduste rahastamine – EUR 253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2012. lisavajadused kokku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– EUR 425</a:t>
            </a: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000.-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1" dur="1" fill="hold"/>
                                  <p:tgtEl>
                                    <p:spTgt spid="26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ameti oo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2421000"/>
            <a:ext cx="77914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ldkondade omavahelistele proportsioonid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iirkondlikku ja üleriigilise statistika vahekorra optimaals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vamust, kas toodetu katab Eesti ühiskonna vajadus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astatusel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468360" y="1844640"/>
            <a:ext cx="8064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Statistikaamet ootab Statistikanõukogult hinnangut: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8" dur="1" fill="hold"/>
                                  <p:tgtEl>
                                    <p:spTgt spid="2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5-16T13:19:58Z</dcterms:modified>
  <cp:revision>134</cp:revision>
  <dc:subject/>
  <dc:title>Slide 1</dc:title>
</cp:coreProperties>
</file>