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3"/>
          </p:nvPr>
        </p:nvSpPr>
        <p:spPr>
          <a:xfrm>
            <a:off x="384948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4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5.10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5"/>
          </p:nvPr>
        </p:nvSpPr>
        <p:spPr>
          <a:xfrm>
            <a:off x="384948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1213C65-4983-41B5-A202-41EB6D6FCAA9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4A6DFF3-E44C-4501-99AF-732214E9C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ooter Placeholder 3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Slide Number Placeholder 4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4C46DE7-4A77-4000-B880-3364C7AD1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ooter Placeholder 3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05C9B6C-6A98-493E-A908-DE811826D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3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8" name="Slide Number Placeholder 4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A6CA64D-741E-4BC7-AF49-F835F66A9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3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21DF771-D633-4216-8E4E-D5C5F1994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9C9F8D0-429B-42C2-948D-BD49A324F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eng2"/>
          <p:cNvPicPr/>
          <p:nvPr/>
        </p:nvPicPr>
        <p:blipFill>
          <a:blip r:embed="rId2"/>
          <a:stretch/>
        </p:blipFill>
        <p:spPr>
          <a:xfrm>
            <a:off x="0" y="0"/>
            <a:ext cx="62229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1564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16.05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305320" y="6629400"/>
            <a:ext cx="308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SA 2012.-2016. a statistikatööd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58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16.05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305320" y="6629400"/>
            <a:ext cx="301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SA 2012.-2016. a statistikatööd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sinine_eng"/>
          <p:cNvPicPr/>
          <p:nvPr/>
        </p:nvPicPr>
        <p:blipFill>
          <a:blip r:embed="rId2"/>
          <a:stretch/>
        </p:blipFill>
        <p:spPr>
          <a:xfrm>
            <a:off x="-6480" y="0"/>
            <a:ext cx="915048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kollane_eng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punane_e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logo_eng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46800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3951"/>
                </a:solidFill>
                <a:latin typeface="Arial"/>
              </a:rPr>
              <a:t>Riikliku statistika programmi Statistikaameti 2012.-2016. a statistikatööd 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99640" y="227664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Meelis Somelar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951"/>
                </a:solidFill>
                <a:latin typeface="Arial"/>
              </a:rPr>
              <a:t>Plan</a:t>
            </a: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eerimis- ja rahvusvahelise koostöö talitus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Üldosakond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ame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16.05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1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6.05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395280" y="1413000"/>
            <a:ext cx="83678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tS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§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4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. </a:t>
            </a:r>
            <a:r>
              <a:rPr b="1" lang="sv-SE" sz="2000" spc="-1" strike="noStrike">
                <a:solidFill>
                  <a:srgbClr val="003951"/>
                </a:solidFill>
                <a:latin typeface="Arial"/>
              </a:rPr>
              <a:t>Riikliku statistika programm ja statistikatöö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    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    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oostatakse järgnevaks 5 aastaks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;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3951"/>
                </a:solidFill>
                <a:latin typeface="Arial"/>
              </a:rPr>
              <a:t>rahvastiku-, sotsiaal-, majandus- ja keskkonnaalaste statistikatööde loetelu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;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ähtub riigisisesest või rahvusvahelisest statistikavajadusest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katöö on näiteks statistiline uuring, loendus, statistikaväljaanne ja statistiline register.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Title 1"/>
          <p:cNvSpPr/>
          <p:nvPr/>
        </p:nvSpPr>
        <p:spPr>
          <a:xfrm>
            <a:off x="1258920" y="476280"/>
            <a:ext cx="7885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tS: Riikliku statistika programm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(RSP)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" dur="1" fill="hold"/>
                                  <p:tgtEl>
                                    <p:spTgt spid="25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 – VV korraldus ja lisa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6.05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395280" y="1413000"/>
            <a:ext cx="85694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tS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§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17 (6) Statistikaameti poolt tehtavate statistikatööde loetelu kinnitab Vabariigi Valitsus korraldusega</a:t>
            </a:r>
            <a:br>
              <a:rPr sz="2000"/>
            </a:b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Vabariigi Valitsuse korrald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isa 1 –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oetelu, väljund, sagedus, perioodid/momendid, maksumus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isa 2 – EL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õigusaktid või muud andmevajaduse al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isa 3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–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metoodikamuudatustega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statistika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755640" y="4567320"/>
          <a:ext cx="7315200" cy="1741320"/>
        </p:xfrm>
        <a:graphic>
          <a:graphicData uri="http://schemas.openxmlformats.org/drawingml/2006/table">
            <a:tbl>
              <a:tblPr/>
              <a:tblGrid>
                <a:gridCol w="522360"/>
                <a:gridCol w="1931760"/>
                <a:gridCol w="784440"/>
                <a:gridCol w="731880"/>
                <a:gridCol w="731880"/>
                <a:gridCol w="522000"/>
                <a:gridCol w="522360"/>
                <a:gridCol w="522360"/>
                <a:gridCol w="523800"/>
                <a:gridCol w="522360"/>
              </a:tblGrid>
              <a:tr h="664920">
                <a:tc rowSpan="2"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Jrk nr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Statistikatöö nimetus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Statis­tikatöö kood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Sage­dus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Periood või mo­ment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Maksumus (tuhat eurot) 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või töö tegemise aasta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aastal2012</a:t>
                      </a:r>
                      <a:endParaRPr b="1" lang="en-US" sz="13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aastal2013</a:t>
                      </a:r>
                      <a:endParaRPr b="1" lang="en-US" sz="13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aastal2014</a:t>
                      </a:r>
                      <a:endParaRPr b="1" lang="en-US" sz="13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aastal2015</a:t>
                      </a:r>
                      <a:endParaRPr b="1" lang="en-US" sz="13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aastal2016</a:t>
                      </a:r>
                      <a:endParaRPr b="1" lang="en-US" sz="13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38.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Side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20507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Aasta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Aasta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9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 – statistikatööde loetelu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95280" y="1413000"/>
            <a:ext cx="8209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P SA 2012.-2016.a. statistikatööde loetelus on 251 rid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[igal aastal tehtav]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õhistatistika – 163 rid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baregulaarselt tehtav statistika – 36 rida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väljatöötamisjärgus statistikatööd (arendus) – 34 rida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statistilise analüüsi tööd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– 16 rida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liste registrite pidamine – 2 rid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rinevaid statistikatöid on 236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Vastavalt vajadusele on eelnev statistikatöö iseloomust lähtuv jaotus liigitatud valdkonniti: keskkond, majandus, rahvastik, sotsiaalelu, eri valdkondade statistika. </a:t>
            </a:r>
            <a:br>
              <a:rPr sz="2000"/>
            </a:b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1000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6" dur="1" fill="hold"/>
                                  <p:tgtEl>
                                    <p:spTgt spid="25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2012: osa 2012. </a:t>
            </a: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–</a:t>
            </a: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 2016. RSP-s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395280" y="1413000"/>
            <a:ext cx="83678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A 2011.-2015. a programmis oli 2012. a planeeritud 20 uut 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A 2012.-2016. a programmi lisandus 19 uut tööd (12 -&gt; 2012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urostati nõuete alusel 8 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esti tarbijate ettepanekul 8 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andmete kogumise ja haldamise arendamiseks 3 tööd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õhitarbijatelt tuli 92 ettepanekut, 69 juhul vastasime, et saame ettepanekut täielikult või osaliselt arvestad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Mittearvestamise sagedasemaiks põhjusteks olid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oovitud andmed juba toodetaks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Vastajakoormuse kasv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A ebapiisavad ressursi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4" dur="1" fill="hold"/>
                                  <p:tgtEl>
                                    <p:spTgt spid="26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25" dur="1" fill="hold"/>
                                  <p:tgtEl>
                                    <p:spTgt spid="262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: lisaressursi vajadus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395280" y="1413000"/>
            <a:ext cx="836784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RSP 2012. – 2016. a maksumus ei ole eelarvevahenditega kaetud!!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Kõigi uute 2012. a planeeritud tööde ärategemine nõuab lisaressurssi EUR 147</a:t>
            </a:r>
            <a:r>
              <a:rPr b="1" lang="en-US" sz="1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000.-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Põhistatistika töödele lisandunud ülesannete täitmine nõuab veel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 EUR 24</a:t>
            </a:r>
            <a:r>
              <a:rPr b="1" lang="en-US" sz="1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000.-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2011. a alustatud arenduste rahastamine – EUR 253</a:t>
            </a:r>
            <a:r>
              <a:rPr b="1" lang="en-US" sz="1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000.-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2012. lisavajadused kokku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– EUR 425</a:t>
            </a:r>
            <a:r>
              <a:rPr b="1" lang="en-US" sz="1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000.-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1" dur="1" fill="hold"/>
                                  <p:tgtEl>
                                    <p:spTgt spid="26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tatistikaameti oot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99640" y="2421000"/>
            <a:ext cx="7791480" cy="14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aldkondade omavahelistele proportsioonidel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iirkondlikku ja üleriigilise statistika vahekorra optimaalsusel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rvamust, kas toodetu katab Eesti ühiskonna vajadusi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ahastatusel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2.03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468360" y="1844640"/>
            <a:ext cx="806436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Statistikaamet ootab Statistikanõukogult hinnangut: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8" dur="1" fill="hold"/>
                                  <p:tgtEl>
                                    <p:spTgt spid="2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Tänan tähelepanu eest !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2.03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8:03:18Z</dcterms:created>
  <dc:creator>user</dc:creator>
  <dc:description/>
  <dc:language>en-US</dc:language>
  <cp:lastModifiedBy>Kristina Lauri</cp:lastModifiedBy>
  <dcterms:modified xsi:type="dcterms:W3CDTF">2011-05-16T13:19:58Z</dcterms:modified>
  <cp:revision>134</cp:revision>
  <dc:subject/>
  <dc:title>Slide 1</dc:title>
</cp:coreProperties>
</file>