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12.jpeg" ContentType="image/jpeg"/>
  <Override PartName="/ppt/media/image6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3951"/>
                </a:solidFill>
                <a:latin typeface="Times New Roman"/>
              </a:defRPr>
            </a:lvl1pPr>
          </a:lstStyle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Times New Roman"/>
              </a:rPr>
              <a:t>16.05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8672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Anne Nuka</a:t>
            </a:r>
            <a:endParaRPr b="0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7334280" y="404640"/>
            <a:ext cx="1012680" cy="9748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898560"/>
            <a:ext cx="449892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914400" indent="517680" algn="ctr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3" marL="1371600" indent="603360" algn="ctr">
              <a:spcBef>
                <a:spcPts val="499"/>
              </a:spcBef>
              <a:buClr>
                <a:srgbClr val="00395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4" marL="1828800" indent="554040" algn="ctr">
              <a:spcBef>
                <a:spcPts val="499"/>
              </a:spcBef>
              <a:buClr>
                <a:srgbClr val="00395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5" marL="1828800" indent="554040">
              <a:spcBef>
                <a:spcPts val="499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6" marL="1828800" indent="554040">
              <a:spcBef>
                <a:spcPts val="499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ftr" idx="2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3951"/>
                </a:solidFill>
                <a:latin typeface="Times New Roman"/>
              </a:defRPr>
            </a:lvl1pPr>
          </a:lstStyle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Times New Roman"/>
              </a:rPr>
              <a:t>16.05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3564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Anne Nuka</a:t>
            </a:r>
            <a:endParaRPr b="0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-17640" y="-7920"/>
            <a:ext cx="9168120" cy="68835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7356600" y="404640"/>
            <a:ext cx="1103040" cy="106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-9360" y="-9360"/>
            <a:ext cx="9171000" cy="68706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7342200" y="404640"/>
            <a:ext cx="1111320" cy="107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-7920" y="-11160"/>
            <a:ext cx="9186840" cy="68817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7346880" y="404640"/>
            <a:ext cx="1111320" cy="107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040" y="898560"/>
            <a:ext cx="449892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t-EE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914400" y="1980720"/>
            <a:ext cx="44956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Ülevaade EV 100 tähistamise kavast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951"/>
                </a:solidFill>
                <a:latin typeface="Arial"/>
              </a:rPr>
              <a:t>Anne Nuka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951"/>
                </a:solidFill>
                <a:latin typeface="Arial"/>
              </a:rPr>
              <a:t>statistika levi osakonna juhataja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951"/>
                </a:solidFill>
                <a:latin typeface="Arial"/>
              </a:rPr>
              <a:t>Statistikanõukogu koosolek 16.05.2011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EV 100 kogumiku esialgne kontseptsioon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opulaarteaduslik kogumik laiale tarbijaskonnal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alüüsitakse perioodi 1918-2018 läbi statistiliste andmete tuues välja olulised indikaatori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Igale teemale kinnistatakse autor, kes vastutab selle teema indikaatorite väljakujundamise ee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õimalusel võrdlused teiste riikideg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Lisaks trükisele kaalutakse muude meediate kasutamist avaldamisel (I-Pad jms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aht 300 lk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-7920" y="-11160"/>
            <a:ext cx="9180360" cy="6877080"/>
            <a:chOff x="-7920" y="-11160"/>
            <a:chExt cx="9180360" cy="6877080"/>
          </a:xfrm>
        </p:grpSpPr>
        <p:pic>
          <p:nvPicPr>
            <p:cNvPr id="268" name="" descr=""/>
            <p:cNvPicPr/>
            <p:nvPr/>
          </p:nvPicPr>
          <p:blipFill>
            <a:blip r:embed="rId1"/>
            <a:stretch/>
          </p:blipFill>
          <p:spPr>
            <a:xfrm>
              <a:off x="-7920" y="-11160"/>
              <a:ext cx="9180360" cy="687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" descr=""/>
            <p:cNvPicPr/>
            <p:nvPr/>
          </p:nvPicPr>
          <p:blipFill>
            <a:blip r:embed="rId2"/>
            <a:stretch/>
          </p:blipFill>
          <p:spPr>
            <a:xfrm>
              <a:off x="7346880" y="404640"/>
              <a:ext cx="1111320" cy="1070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EV 100. juubeli tähistamin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uurem tähelepanu riiklikule statistikal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tatistika tegijate rolli tähtsust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Rahvusvaheline konverent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Analüütiline kogumik EV 100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Koostöö teiste riigiasutusteg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685800" y="1143000"/>
            <a:ext cx="777240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0" anchor="t">
            <a:sp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247" name="Picture 3" descr=""/>
          <p:cNvPicPr/>
          <p:nvPr/>
        </p:nvPicPr>
        <p:blipFill>
          <a:blip r:embed="rId1"/>
          <a:stretch/>
        </p:blipFill>
        <p:spPr>
          <a:xfrm>
            <a:off x="990720" y="1752480"/>
            <a:ext cx="2354040" cy="3276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"/>
          <p:cNvPicPr/>
          <p:nvPr/>
        </p:nvPicPr>
        <p:blipFill>
          <a:blip r:embed="rId2"/>
          <a:stretch/>
        </p:blipFill>
        <p:spPr>
          <a:xfrm>
            <a:off x="3733920" y="1752480"/>
            <a:ext cx="2276280" cy="32767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"/>
          <p:cNvPicPr/>
          <p:nvPr/>
        </p:nvPicPr>
        <p:blipFill>
          <a:blip r:embed="rId3"/>
          <a:stretch/>
        </p:blipFill>
        <p:spPr>
          <a:xfrm>
            <a:off x="6324480" y="1752480"/>
            <a:ext cx="2451240" cy="327672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437920" y="533160"/>
            <a:ext cx="53341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Statistikaväljaanded</a:t>
            </a:r>
            <a:r>
              <a:rPr b="1" lang="en-GB" sz="2400" spc="-1" strike="noStrike">
                <a:solidFill>
                  <a:srgbClr val="003951"/>
                </a:solidFill>
                <a:latin typeface="Arial"/>
              </a:rPr>
              <a:t> 1920-1940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Vanemad andmed statistika andmebaasi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ahvastik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l 1945 sünnid, surmad, tervishoiutöötajate arv, haiglate arv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l 1970 rahvastik soo ja vanuse järgi, abielud, lahutuse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otsiaalelu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l 1940 üldharidus, tervishoiutöötajate ja haiglate arv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ajand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l 1960 energiabilans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l 1980 kaubavedu, sõidukid, loomakasvatus, postiteenuse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Eesti Vabariik 90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ogumik Aegamööda asi kauni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Ilmus veebruaris 2008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iraa</a:t>
            </a:r>
            <a:r>
              <a:rPr b="0" lang="en-GB" sz="2400" spc="-1" strike="noStrike">
                <a:solidFill>
                  <a:srgbClr val="003951"/>
                </a:solidFill>
                <a:latin typeface="Arial"/>
              </a:rPr>
              <a:t>ž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: 10 000 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oostöö Riigikantseleig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Levitamine: linna ja valla raamatukogud, riigiasutused, raamatukauplused, haridusasutused, SA teabekeskus, SA veebileh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Probleemid eelmise kogumiku koostamisel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Vanemate perioodide andmete puudumine statistika andmebaasi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Ebaühtlased aegrea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Erinev analüüsisuutlikkus statistikavaldkonniti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Ebakindlus finantseerimis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Lühike aeg koostamis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Ettevalmistustööd aprill-mai 2011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70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Aegridade taastamise projekti kavandamine rahvastiku- ja sotsiaalstatistika osakonnas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(aprill, mai)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70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Töökorralduse kokkuleppimine SAs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Aegridade pikendamin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Eesmärk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Võimaldada ühiskonnas olnud/olevate olulisemate nähtuste, protsesside analüüsimi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Aegridade projekt on laiem, kui ainult EV 100 kogumikku vajalikku materjali otsi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Metoodika olulisus (kuidas koguti, mida sisaldab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Edasised tegevuse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Kogumiku kontseptsiooni koostamin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äiendavate tööde kaardistamine, mahu hindamin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otentsiaalsete autorite leidmin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egridade taastamine, töö arhiivide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egridade taastamistöödega alustamine, et kogumikus kajastuvad näitajad oleks eelisjärjekorra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Uute statistikatööde lisandumine statistikaprogrammi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jaloolise väärtusega trükiste skanneerimin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Kaalumisel endiste SA töötajate kaasamine koostamiss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Koostöö Riigikantseleiga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6:06:14Z</dcterms:created>
  <dc:creator>user</dc:creator>
  <dc:description/>
  <dc:language>en-US</dc:language>
  <cp:lastModifiedBy>Kristina Lauri</cp:lastModifiedBy>
  <dcterms:modified xsi:type="dcterms:W3CDTF">2011-05-17T11:35:58Z</dcterms:modified>
  <cp:revision>38</cp:revision>
  <dc:subject/>
  <dc:title>Slide 1</dc:title>
</cp:coreProperties>
</file>