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16. mai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ihkel Servinsk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16. mai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ihkel Servinsk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-9360" y="-12600"/>
            <a:ext cx="9171000" cy="6870600"/>
            <a:chOff x="-9360" y="-12600"/>
            <a:chExt cx="9171000" cy="687060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-9360" y="-12600"/>
              <a:ext cx="9171000" cy="687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7342200" y="404640"/>
              <a:ext cx="1111320" cy="10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Piirkondliku statistika portaali, sh </a:t>
            </a:r>
            <a:br>
              <a:rPr sz="2800"/>
            </a:b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-väljaande „Piirkondlik portree Eestist” arend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47760" y="2349360"/>
            <a:ext cx="751536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iirkondliku statistika portaali osade ar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osade lisamine piirkondliku statistika portaal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õigi omavalitsusüksuste andmete avaldamine </a:t>
            </a:r>
            <a:br>
              <a:rPr sz="24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-väljaande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-väljaandes avaldatavate näitajate ülevaatamine vastavalt tarbija soov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Kiiremate tarkvaraliste lahenduste otsimine!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esti piirkondlikku arengut analüüsiva kogumiku „Eesti piirkondlik areng” nüüdisajast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47760" y="2565360"/>
            <a:ext cx="751536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ontseptsiooni muut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okkuvõtt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 pole teadlikult rääkinud mõõdetavatest ressurssidest ja täpsest ajakavast – tahame sõnastada tee, mida mööda liikuda ehk prioriteed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gu piirkondliku statistika arengu võtmeks on koostöö. Koostöö statistika tarbijatega, administratiivsete andmeallikate valdajatega, kolleegidega teistest riikidest, statistikanõukoguga, piirkondliku statistika nõukoguga, eelkõige aga Statistikaameti osakondadega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6192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Piirkondliku statistika nõukogu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8007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oodustati Statistikaameti peadirektori 06.03.2009 käskkirjaga nr 6 koosseisus Mihkel Servinski, Sulev Liivik, Priidu Ristkok, Tiina Annus, Urve Valdmaa, Tiit Kirs, Rivo Noorkõi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märk: piirkondliku statistika tootmise parem, efektiivsem ja tarbijasõbralikum korral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sande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99"/>
              </a:spcBef>
              <a:buClr>
                <a:srgbClr val="a72f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üstemaatiline töö riikliku statistika programmiga, põhjendatud ettepanekute tegemine selle täiustamis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99"/>
              </a:spcBef>
              <a:buClr>
                <a:srgbClr val="a72f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te allikate kasutuselevõtu toe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99"/>
              </a:spcBef>
              <a:buClr>
                <a:srgbClr val="a72f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öö piirkondliku arengu analüüsimisel, uuringute tegemisel, tarbijate koolitamisel, piirkondliku statistika ja ruumiandmete ühiskasutamise edenda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99"/>
              </a:spcBef>
              <a:buClr>
                <a:srgbClr val="a72f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öö ESPON võrgustiku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99640" y="1413000"/>
            <a:ext cx="44989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Piirkondliku statistika tegemise põhimõtted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99640" y="292428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Mihkel Servinsk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eaanalüütik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 levi osakon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MISSIOON (põhieesmärk)</a:t>
            </a:r>
            <a:br>
              <a:rPr sz="2800"/>
            </a:b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86312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irkondliku statistika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(Statistikaameti) põhiülesanne on pakkuda ametiasutustele, äri- ja teadusringkondadele, rahvusvahelistele organisatsioonidele ning üksikisikutele usaldusväärset ja objektiivset infoteenust Eesti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irkondliku arengu olukorra ja trendide kohta keskkonna, rahvastiku, sotsiaalelu ja majanduse valdkonna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(keskkonna, rahvastiku, sotsiaalvaldkonna ja majanduse olukorra ning trendide kohta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ESMÄRGID</a:t>
            </a:r>
            <a:br>
              <a:rPr sz="2800"/>
            </a:b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751536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 Riikliku statistika tuntus, respekteeritus ja mõjus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1.3 Suurendada analüütiliste toodete maht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Mõõdik: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Analüütiliste väljundite kogus valdkondade kaupa (ETIS klassifikaatori alusel loodud SA klassifikaatori järg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1.4 Suurendada piirkondliku statistika maht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Mõõdiku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- Maakonna või omavalitsuse taseme näitajate kogus statistika andmebaasis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- Rahulolu piirkondliku statistika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1.4.2 Piirkondliku statistika ar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Statistikaameti ülesanded lihtsas keeles väljendatuna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1773360"/>
            <a:ext cx="751536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Statistika tegemine (kvaliteetne, tarbija vajadusi arvestav, metoodiliselt selg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oodetava piirkondliku statistika nüüdisajas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kogutud andmete efektiivsem kasu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Statistika avaldamine tarbijale kättesaadaval ja mugaval kuju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piirkondliku statistika esitamine statistika andmebaas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piirkondliku statistika portaali, sh e-väljaande “Piirkondlik portree Eestist” are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Statistika selgitamine tarbijale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kogumiku “Eesti piirkondlik areng” nüüdisajas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90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Lihtsad tõed piirkondliku statistika tegemisel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58920" y="2205000"/>
            <a:ext cx="751536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 piirkondlik statistika on riikliku statistika osa, mille areng ei ole </a:t>
            </a: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võimalik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ilma riikliku statistika arengu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piirkondliku statistika tegija </a:t>
            </a: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on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Statistikaame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sti piirkondlikku statistikat tehakse peamiselt maakondade ja </a:t>
            </a: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omavalitsusüksuste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akonnad ja eriti omavalitsusüksused on statistilises mõttes väike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7921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Piirkondliku statistika nüüdisajastamine</a:t>
            </a:r>
            <a:br>
              <a:rPr sz="2800"/>
            </a:b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47760" y="1773360"/>
            <a:ext cx="751536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iirkondliku statistika väljundnäitajate loetelu sisuline analüüs: vastavus tarbijate ootustele, täiendusettepanekute sõnastamine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õnastatud täiendusettepanekutele lahenduste leidmine ja rakendamine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iirkondliku statistika väljundnäitajate loetelu analüüsikõlblikuks muut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Kogutud andmete efektiivsem kasutamine – uute toodete ja teenuste loo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7280" y="2420640"/>
            <a:ext cx="751536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e andmete töötlemisel peale maakondade ja omavalitsusüksuste ka teiste gruppide kasutamine (näiteks Tallinn, maakonnakeskused ja suured linnad, maakonna-keskuste lähivallad, muud omavalitsusüksused)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batüüpiliste piirkondade ja üksikpiirkondade kohta lisatöötlussüsteemi loomine (näiteks Setomaa, Leader piirkonnad)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Statistika andmebaasis piirkondliku statistika osa arend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760" y="2923920"/>
            <a:ext cx="7515360" cy="34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sinevate puuduste kaardistamine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ardistatud puuduste kõrvaldamiseks lahenduste otsimine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eitud lahenduste elluviimine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osalemine andmebaasitabeli esitusstandardi koostamise lõpuleviimisel ja rakendamis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Taimi Rosenberg</cp:lastModifiedBy>
  <dcterms:modified xsi:type="dcterms:W3CDTF">2011-05-11T13:45:43Z</dcterms:modified>
  <cp:revision>55</cp:revision>
  <dc:subject/>
  <dc:title>Slide 1</dc:title>
</cp:coreProperties>
</file>