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872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20.06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ira Veelmaa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7334280" y="404640"/>
            <a:ext cx="1012680" cy="974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914400" indent="517680" algn="ctr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3" marL="1371600" indent="603360" algn="ctr">
              <a:spcBef>
                <a:spcPts val="499"/>
              </a:spcBef>
              <a:buClr>
                <a:srgbClr val="00395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4" marL="1828800" indent="554040" algn="ctr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5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6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01.01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Presentatsiooni pealkiri või esitaja nimi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lbert Pulleritsu preemia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914400" y="1980720"/>
            <a:ext cx="44956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Aira Veelma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Teabe ja levi talituse juhataj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Statistikanõukogus 20.06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-9360" y="-12600"/>
            <a:ext cx="9171000" cy="6870600"/>
            <a:chOff x="-9360" y="-12600"/>
            <a:chExt cx="9171000" cy="687060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-9360" y="-12600"/>
              <a:ext cx="9171000" cy="687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2"/>
            <a:stretch/>
          </p:blipFill>
          <p:spPr>
            <a:xfrm>
              <a:off x="7342200" y="404640"/>
              <a:ext cx="1111320" cy="107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685800" y="1143000"/>
            <a:ext cx="77724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t">
            <a:sp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338472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Albert Pullerits</a:t>
            </a:r>
            <a:br>
              <a:rPr sz="2400"/>
            </a:b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(1892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–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1967)</a:t>
            </a:r>
            <a:br>
              <a:rPr sz="2400"/>
            </a:b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simene ja ainus Eesti Statistika Keskbüroo peadirektor enne II maailmasõda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4427640" y="981000"/>
            <a:ext cx="409104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lbert Pulleritsu nimeline noore statistiku preemia 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36240" indent="-33624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951"/>
                </a:solidFill>
                <a:latin typeface="Arial"/>
              </a:rPr>
              <a:t>Eesmärk: 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04040" indent="-338040">
              <a:spcBef>
                <a:spcPts val="550"/>
              </a:spcBef>
              <a:buClr>
                <a:srgbClr val="a72f1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951"/>
                </a:solidFill>
                <a:latin typeface="Arial"/>
              </a:rPr>
              <a:t>innustada noori statistikaga tegelema ja seda arendama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04040" indent="-338040">
              <a:spcBef>
                <a:spcPts val="550"/>
              </a:spcBef>
              <a:buClr>
                <a:srgbClr val="a72f1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951"/>
                </a:solidFill>
                <a:latin typeface="Arial"/>
              </a:rPr>
              <a:t>tõhustada koostööd SA ja ülikoolide vahel (tagada statistikutele järelkasv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04040" indent="-338040">
              <a:spcBef>
                <a:spcPts val="550"/>
              </a:spcBef>
              <a:buClr>
                <a:srgbClr val="a72f1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951"/>
                </a:solidFill>
                <a:latin typeface="Arial"/>
              </a:rPr>
              <a:t>avaldada austust Eesti statistika rajajale ja juhtida tähelepanu Eesti Statistika 90. juubelil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040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951"/>
                </a:solidFill>
                <a:latin typeface="Arial"/>
              </a:rPr>
              <a:t>SA hakkab andma preemiat igal alates 2011. aastast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951"/>
                </a:solidFill>
                <a:latin typeface="Arial"/>
              </a:rPr>
              <a:t>Igal aastal määratakse teemavaldkond – 2011. aastal on teemaks rahvastiku- ja sotsiaalstatistika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andideerimise tingimused (I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951"/>
                </a:solidFill>
                <a:latin typeface="Arial"/>
              </a:rPr>
              <a:t>Preemiale võivad kandideerida kõik, kelle: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173240" indent="-4572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951"/>
                </a:solidFill>
                <a:latin typeface="Arial"/>
              </a:rPr>
              <a:t>doktori-, magistri-, bakalaureuse-, kursuse-, diplomitöö või publikatsioon (edaspidi </a:t>
            </a:r>
            <a:r>
              <a:rPr b="0" i="1" lang="en-US" sz="2200" spc="-1" strike="noStrike">
                <a:solidFill>
                  <a:srgbClr val="003951"/>
                </a:solidFill>
                <a:latin typeface="Arial"/>
              </a:rPr>
              <a:t>töö) </a:t>
            </a:r>
            <a:r>
              <a:rPr b="0" lang="en-US" sz="2200" spc="-1" strike="noStrike">
                <a:solidFill>
                  <a:srgbClr val="003951"/>
                </a:solidFill>
                <a:latin typeface="Arial"/>
              </a:rPr>
              <a:t>rakendab oluliselt või arendab mingit statistikameetodit ja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1732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173240" indent="-4572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951"/>
                </a:solidFill>
                <a:latin typeface="Arial"/>
              </a:rPr>
              <a:t>vanus on ei ole kandideerimisel aastal rohkem kui 25 ja 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1732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173240" indent="-4572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951"/>
                </a:solidFill>
                <a:latin typeface="Arial"/>
              </a:rPr>
              <a:t>alaline elukoht on Eestis.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andideerimise tingimused (II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951"/>
                </a:solidFill>
                <a:latin typeface="Arial"/>
              </a:rPr>
              <a:t>Töö võib olla eesti- või ingliskeeln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951"/>
                </a:solidFill>
                <a:latin typeface="Arial"/>
              </a:rPr>
              <a:t>Töö esitamise tähtaeg on</a:t>
            </a:r>
            <a:r>
              <a:rPr b="1" lang="en-US" sz="2200" spc="-1" strike="noStrike">
                <a:solidFill>
                  <a:srgbClr val="003951"/>
                </a:solidFill>
                <a:latin typeface="Arial"/>
              </a:rPr>
              <a:t> 5. september 2011</a:t>
            </a:r>
            <a:r>
              <a:rPr b="0" lang="en-US" sz="2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951"/>
                </a:solidFill>
                <a:latin typeface="Arial"/>
              </a:rPr>
              <a:t>Töö võib esitada nii selle autor või juhendaja. Üks juhendaja saab esitada ühe kandidaadi 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Tööde hin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Hindamiskomisjoni koosseis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A metoodika osakonna juhataj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metoodika osakonna metoodik, vanemmetoodik või metoodik-matemaatik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onkursi teemavaldkonnale vastava statistikaosakonna esindaja(d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A toimetuskolleegiumi esindaja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nõukogu liige (v. a SA esindaja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Võitja väljakuulut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õitja teeb SA teatavaks oma veebilehel ja pressiteates 20.10.2011 (ülemaailmne statistikapäev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eemiaks on iPhone (edaspidi võimalusel ka rahaline preemia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ii võitjale kui tema juhendajale SA poolt aukir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õitja töö avaldatakse SA veebileh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obiva töökoha olemasolul saab võitja soovi korral tööpraktika Statistikaameti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onkursist teavit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fo SA veebileh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fo ülikoolidele e-posti teel (juunis ja augusti lõpus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essitead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fo SA Facebooki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Aitäh!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Aira Veelmaa</cp:lastModifiedBy>
  <dcterms:modified xsi:type="dcterms:W3CDTF">2011-06-20T09:37:17Z</dcterms:modified>
  <cp:revision>35</cp:revision>
  <dc:subject/>
  <dc:title>Slide 1</dc:title>
</cp:coreProperties>
</file>