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54A3-8A46-43CB-979B-38344A5D5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5A9F-6EC7-455F-AB25-01EB9962E23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adresside korrastamine on üks võtmeküsimusi REGREL toimimisieks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n vaja lisaks registrite korrastamisele tõsta inimeste teadlikkust, et on vajalik registreerida oma eluko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706F-99E3-4262-B1CF-2B7E917E51EE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Loodud on ka komisjon projektide läbivaatamiseks, komisjoni juhib ja rahastamisega tegeleb Riigi infosüsteemide arenduskesk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D39A-01EA-408E-AAFE-236AFA1DB8CC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4900-2F56-4721-9420-707D59E145C5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Ülevaade rahva ja eluruumide registripõhise loenduse (REGREL) ettevalmistamise juhtimises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0.06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, Ph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a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Juhtrühm (REL Kogu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Juhtrühm on püsiv organ, mis täidab klassikalisi projekti juhatuse rol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 kuuluv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(loenduse läbiviija) asjaomased osakonnajuhataja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dusnõukogu esimee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M (loenduse tellija-rahastaj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eeriumi (registrite projektide rahastaja, riigi infosüsteemide arengu eestvedaja, riigi infosüsteemide haldaja ja koordinaator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eadusnõukog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1247760" y="184428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tarbijate vajadusi arvestavate võrreldavate andmeväljundite kavan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andmete analüüsi metoodika valik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REL valdkonnasõnastiku metoodilise juhendi koost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dab riske uute tehnoloogiliste vahendite kasutusele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registrite kasutuselevõtu küsimustes, sh milliseid tunnuseid millisest registrit ja millises järjekorr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õustab loendusmomendi ja andmekogumisperioodi määral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6240" indent="-336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projektirühma kuuluvad REGREL andmekogude eksperdid ning teemaprojektid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teemaprojekt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 (RR, EHIS, EHR, …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oom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25640" indent="-345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rkvaralahendus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META – integreeritud metaandme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AM – andmehõive andmekogu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RS – statistiliste registrite 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05320" indent="-34488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IS – vaatluste andmetöötluse infosüstee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43440" indent="-343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REGREL metoodika väljatöötamist ja REGREL ettevalmistamist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ettevalmistustööde aja- ja tegevuskava, planeerib ressursid ja  eelarve,  kaardistab riskid ning esitab juhtrühmale kinnit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teemaprojekte finantseerimisallikate leidmisel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rendab REGREL jaoks vajalikud IT-lahendused andmete hõivamiseks, uuendamiseks, töötlemiseks ja aval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rraldab koostööd andmekogude haldajate ja rahvusvaheliste statistikaorganisatsioonidega REGREL teadmuse omanda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4683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rdineerib riigi andmekogude andmekooseisu vastavusse viimist REGREL vajadustega, korraldab seda tagavate õigusaktide ettevalmistamis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oob kontaktvõrgustiku siseriiklikul tasandil, teeb intervjuud andmekogude haldajatega hindamaks andmekogude kaetust ja kvaliteet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b ja võrdleb registrites kasutuseolevaid klassifikaatoreid, definitsioone ja mõisteid, võttes aluseks rahvusvahelised standardid ja loenduse eesmärgid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ab REGREL valdkonnasõnastiku metoodilise juhend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eb Eesti õigusruumi sisuanalüüsi ja hindab selle mõju andmekogude andmekoosseisu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jektirühma ülesande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tab välja REGREL andmehõive protsessis osalevate andmekogude võrgustiku ja andmete hõivamise reeglistiku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nab aru  REL juhtrühmale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lgatab REL juhtrühma kokkukutsumise selle pädevusse kuuluvate otsuste tegemiseks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andmekogude korrastamise ja kvaliteedi parendamise protsessi klassifikaatorite ja andmeformaatide ühtlustamise ettepanekute läbi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nõustab koosvõimelise isiku ja eluruumi registripõhise andmekorje (andmehõive) protsessi loomi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tevalmist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ameti statistikatööde loetellu on lisatud registripõhise rahva ja eluruumide prooviloenduse ettevalmi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s RStSis on loodud eeldused registripõhise statistika tege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jektorganisatsiooni kohta ettepanekute tegemine,  vajalike dokumentide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REGREL metoodika proje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gatatud on vajalikud IT-projekt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amisvõimalused registrite kohand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fookus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13920" y="1999800"/>
            <a:ext cx="79297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eskonna komplekteer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teemaprojektist (2010–2013) tulemuste sa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T-arendusprojektides REGREL vajaduste arve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REGRELks kohandamine (ADS rakendamine  ja liidestumine X-teega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põhise rahvaloenduse metoodika teemaproj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: registripõhise rahva ja eluruumide loenduse (REGREL) metoodika arendamine isiku ja eluruumi tunnuste osas ning neid tunnuseid sisaldavate registrite kvaliteedi ja koostoime analüü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rtnerid: Ernst &amp; Young Baltic AS, Eesti Demograafia Instituu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jakava: oktoober 2010-august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eeritud struktuurivahenditest “Tarkade otsuste fond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metoodika teemaprojekti alameesmär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rida isiku- ja eluruumi andmeid sisaldavaid registreid ja nende seostatav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gevdada koostööd erinevate ametkondade va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ta registripõhise RELi korraldamise võimalikk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da meetmeid,  mis võimaldaksid kõrvaldada kitsaskohti isiku- ja eluruumi andmeid sisaldavate registrite süsteem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etoodika väljatöötamisel tugineda Euroopa parimale praktika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 ja eluruumide loenduse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 ja eluruumide loenduse eesmärk on põhjalike, kvaliteedikriteeriumitele vastavate andmete kogumine ja avaldamine elanikkonna, leibkondade ja elamistingim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raditsioonilise ja registripõhise rahvaloenduse ettevalmistuse, andmekogumise ja andmetöötluse protsessid on kardinaalselt erinevad, kuid eesmärk on sa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aasatud regist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896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stiku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hariduse info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ehitis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süst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Äri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ksukohustuslast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tegev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vikindlustuse andmekog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klik pensionikindlustus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alternatiivsed riiklikud kui ka erasektori regist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1052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unnuste olemasolu ja puudused (valikuline väljavõte, seisuga veebr. 2010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8160" y="1844640"/>
          <a:ext cx="8367840" cy="4389480"/>
        </p:xfrm>
        <a:graphic>
          <a:graphicData uri="http://schemas.openxmlformats.org/drawingml/2006/table">
            <a:tbl>
              <a:tblPr/>
              <a:tblGrid>
                <a:gridCol w="2789280"/>
                <a:gridCol w="2789280"/>
                <a:gridCol w="278928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UNN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NDMEKOGU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ETU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1368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ünniaeg ja van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ugu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dakonds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0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ahv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7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alise elukoha aadres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-75 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aridu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HIS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2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eseisun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TA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~8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-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ibkonnaliikmete omavahelised seosed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R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-50%</a:t>
                      </a:r>
                      <a:endParaRPr b="1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3951"/>
                      </a:solidFill>
                    </a:lnL>
                    <a:lnR w="1368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13680">
                      <a:solidFill>
                        <a:srgbClr val="00395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Metoodika projekti esimesed tulemused: probleemsed tunn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uvad täielikult registrit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me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oimla, tegevusal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ne ka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aridustase – olemas ainult nooremat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d – EHRis osa eluruume puu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valiteedi probleem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 – aadressistandard andmekogudes juurutam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i ettevalmistamiseks registrite korrastamine</a:t>
            </a:r>
            <a:br>
              <a:rPr sz="3200"/>
            </a:b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- ja kommunikatsiooniministri 2011.05.02 käskkiri nr 11-0146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simene etapp – aadressiandmete süsteemi (ADS) rakenda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a-aadresside määramine ja es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andmete töötle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valiteedi tõst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iigieelarve eraldis 1 360 041 euro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-amet on esitanud taotlu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põhise loenduse ettevalmistamine on pikaajaline ja töömahukas protses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jalikud on suuremahulised tööd registrite kohandamisel REGREL vajadust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avalikkuse positiivne suhtumine ja teadlikkus, et vajalik on iga inimese panus oma registriandmete aktualis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6.05.2011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08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309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0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14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315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6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7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8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9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0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1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2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3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4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5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6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7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8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29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0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1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2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3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6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7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8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39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0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41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õimalik registrite süsteem Eest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Footer Placeholder 2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48" name="Group 6"/>
          <p:cNvGrpSpPr/>
          <p:nvPr/>
        </p:nvGrpSpPr>
        <p:grpSpPr>
          <a:xfrm>
            <a:off x="1044720" y="1436760"/>
            <a:ext cx="6561000" cy="5087880"/>
            <a:chOff x="1044720" y="1436760"/>
            <a:chExt cx="6561000" cy="5087880"/>
          </a:xfrm>
        </p:grpSpPr>
        <p:sp>
          <p:nvSpPr>
            <p:cNvPr id="349" name="AutoShape 35"/>
            <p:cNvSpPr/>
            <p:nvPr/>
          </p:nvSpPr>
          <p:spPr>
            <a:xfrm>
              <a:off x="1548720" y="1436760"/>
              <a:ext cx="6057000" cy="50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0" name="Oval 34"/>
            <p:cNvSpPr/>
            <p:nvPr/>
          </p:nvSpPr>
          <p:spPr>
            <a:xfrm>
              <a:off x="312336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1" name="Oval 33"/>
            <p:cNvSpPr/>
            <p:nvPr/>
          </p:nvSpPr>
          <p:spPr>
            <a:xfrm>
              <a:off x="312336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2" name="Oval 32"/>
            <p:cNvSpPr/>
            <p:nvPr/>
          </p:nvSpPr>
          <p:spPr>
            <a:xfrm>
              <a:off x="4819320" y="2520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3" name="Oval 31"/>
            <p:cNvSpPr/>
            <p:nvPr/>
          </p:nvSpPr>
          <p:spPr>
            <a:xfrm>
              <a:off x="4819320" y="4095000"/>
              <a:ext cx="1332360" cy="133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4" name="Text Box 30"/>
            <p:cNvSpPr/>
            <p:nvPr/>
          </p:nvSpPr>
          <p:spPr>
            <a:xfrm>
              <a:off x="3244680" y="2883600"/>
              <a:ext cx="118332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 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5" name="Text Box 29"/>
            <p:cNvSpPr/>
            <p:nvPr/>
          </p:nvSpPr>
          <p:spPr>
            <a:xfrm>
              <a:off x="3204000" y="4381200"/>
              <a:ext cx="122400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Hoonete ja ruumide 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6" name="Text Box 28"/>
            <p:cNvSpPr/>
            <p:nvPr/>
          </p:nvSpPr>
          <p:spPr>
            <a:xfrm>
              <a:off x="4940640" y="4292640"/>
              <a:ext cx="1090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Majandus-üksuste statistiline register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7" name="Text Box 27"/>
            <p:cNvSpPr/>
            <p:nvPr/>
          </p:nvSpPr>
          <p:spPr>
            <a:xfrm>
              <a:off x="4698360" y="2862360"/>
              <a:ext cx="1574640" cy="85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Tegevuste</a:t>
              </a: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 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statistiline register</a:t>
              </a:r>
              <a:endParaRPr b="1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8" name="Line 26"/>
            <p:cNvSpPr/>
            <p:nvPr/>
          </p:nvSpPr>
          <p:spPr>
            <a:xfrm>
              <a:off x="4456080" y="3246840"/>
              <a:ext cx="3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4456080" y="4700520"/>
              <a:ext cx="3632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0" name="Line 24"/>
            <p:cNvSpPr/>
            <p:nvPr/>
          </p:nvSpPr>
          <p:spPr>
            <a:xfrm>
              <a:off x="372924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1" name="Line 23"/>
            <p:cNvSpPr/>
            <p:nvPr/>
          </p:nvSpPr>
          <p:spPr>
            <a:xfrm>
              <a:off x="5546160" y="3859560"/>
              <a:ext cx="720" cy="24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2" name="Line 20"/>
            <p:cNvSpPr/>
            <p:nvPr/>
          </p:nvSpPr>
          <p:spPr>
            <a:xfrm>
              <a:off x="2396520" y="312588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>
              <a:off x="2396520" y="4700520"/>
              <a:ext cx="72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4" name="Line 18"/>
            <p:cNvSpPr/>
            <p:nvPr/>
          </p:nvSpPr>
          <p:spPr>
            <a:xfrm flipH="1">
              <a:off x="6152040" y="470052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 flipH="1">
              <a:off x="6152040" y="3125880"/>
              <a:ext cx="60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66" name="Rectangle 13"/>
            <p:cNvSpPr/>
            <p:nvPr/>
          </p:nvSpPr>
          <p:spPr>
            <a:xfrm>
              <a:off x="1044720" y="2830680"/>
              <a:ext cx="1502280" cy="669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Rahvastikuregister,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000" spc="-1" strike="noStrike">
                  <a:solidFill>
                    <a:srgbClr val="003951"/>
                  </a:solidFill>
                  <a:latin typeface="Arial"/>
                  <a:ea typeface="Times New Roman"/>
                </a:rPr>
                <a:t>EHIS</a:t>
              </a:r>
              <a:endParaRPr b="1" lang="en-US" sz="10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367" name="Text Box 28"/>
          <p:cNvSpPr/>
          <p:nvPr/>
        </p:nvSpPr>
        <p:spPr>
          <a:xfrm>
            <a:off x="5713560" y="3716280"/>
            <a:ext cx="10904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Registri-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411280" y="3716280"/>
            <a:ext cx="1090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4129200" y="22766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Isiku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Text Box 28"/>
          <p:cNvSpPr/>
          <p:nvPr/>
        </p:nvSpPr>
        <p:spPr>
          <a:xfrm>
            <a:off x="4129200" y="5288040"/>
            <a:ext cx="1090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  <a:ea typeface="Times New Roman"/>
              </a:rPr>
              <a:t>ADS kood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1116000" y="44877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tisregister, Kinnistusraamat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Aadressiandmete 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Rectangle 13"/>
          <p:cNvSpPr/>
          <p:nvPr/>
        </p:nvSpPr>
        <p:spPr>
          <a:xfrm>
            <a:off x="6732720" y="278136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MTA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EHIS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SKA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Rectangle 13"/>
          <p:cNvSpPr/>
          <p:nvPr/>
        </p:nvSpPr>
        <p:spPr>
          <a:xfrm>
            <a:off x="6732720" y="4414680"/>
            <a:ext cx="1368360" cy="669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Äriregister, RKOARR,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  <a:ea typeface="Times New Roman"/>
              </a:rPr>
              <a:t>MTR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1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 Roots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6" name="Footer Placeholder 3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77" name="Picture 5" descr=""/>
          <p:cNvPicPr/>
          <p:nvPr/>
        </p:nvPicPr>
        <p:blipFill>
          <a:blip r:embed="rId1"/>
          <a:stretch/>
        </p:blipFill>
        <p:spPr>
          <a:xfrm>
            <a:off x="684360" y="1901880"/>
            <a:ext cx="8402400" cy="45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loenduse meeto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parlamendi ja nõukogu määrus rahva ja eluruumide loenduste kohta (Artikkel 4.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Liikmesriigid saavad statistika tegemisel toetud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itmesugustele andmeallikatele ja eelkõig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le loenduse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avapära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valikvaatl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registripõhise loenduse ja tavapärase loenduse kombinatsioonile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asjakohasele uuringule vahelduvate valimitega (jadaloendus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5783400" cy="551664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5"/>
          <p:cNvSpPr/>
          <p:nvPr/>
        </p:nvSpPr>
        <p:spPr>
          <a:xfrm>
            <a:off x="7093080" y="5661000"/>
            <a:ext cx="1871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Allikas: Population &amp; Societies 467, mai 2010 </a:t>
            </a:r>
            <a:endParaRPr b="1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etap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–2013 ettevalmistav faas.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 pilootloendus põhi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4–2017 jätkusuutlikkuse tagamise faas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7 prooviloendus kõigi hõlmatud registrite alu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8–2021 juurutamise fa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lemu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amiselt registripõhine REL ehk REGREL 2020. aasta loendusvoor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REL organisatsio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kontseptsiooni ja metoodika väljatöötamine ning loenduse ettevalmistamine eeldab sellist organisatsiooni, mis toetab erinevate SA siseste üksuste tegevuste ning teiste asutuste tegevuste head koordineeri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ettevalmistamise juhtimine põhineb ametlikul koordineerimisraamistiku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REL saab reaalsuseks üksnes erinevate osapoolte tugeva vabatahtliku pühendumise ja positiivse suhtumise korra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55280" y="907920"/>
            <a:ext cx="7993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visioon REL ja REGREL juhtimi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63" name="Picture 5" descr="skeem-3"/>
          <p:cNvPicPr/>
          <p:nvPr/>
        </p:nvPicPr>
        <p:blipFill>
          <a:blip r:embed="rId1"/>
          <a:stretch/>
        </p:blipFill>
        <p:spPr>
          <a:xfrm>
            <a:off x="1476360" y="1484280"/>
            <a:ext cx="603108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bariigi Valitsuse Rahvaloenduskomisjon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RK on valitsusasutuste vahelise koordineerimiskomisjon, mille koosseisu kuuluvad ministeeriumide kantslerid ja asutuste juh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aegu töötav VVRK omab mandaati RStS §  44 lg 2 alusel kuni 2011.a. REL ettevalmistustööde lõppemisen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§ 21 lg 3 Vabariigi Valitsusele võimaluse moodustada loenduskomisjon 2021.a. loenduse (REGREL) ettevalmista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abariigi Valitsuse rahvaloenduskomisjon tuleks 2012. aastal uuesti moodustad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2536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VRK ülesand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247760" y="1988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b VVle ettepanekuid loenduse korraldamisega seonduvate õigusaktide  ettevalmis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rdineerib loenduse korraldamist valitsusasutuste tasemel ning suunab riigiasutuste koostööd loenduse korralda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tab registrite korrastamise projektide rahastamise põhim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kõlastab  tegevus- ja ajakava ning jälgib nende täit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alüüsib loenduse korraldamise kulu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21840" indent="-321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dab muid loenduse ettevalmistamisega seotud ülesan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ristina Lauri</cp:lastModifiedBy>
  <dcterms:modified xsi:type="dcterms:W3CDTF">2011-06-21T08:28:19Z</dcterms:modified>
  <cp:revision>67</cp:revision>
  <dc:subject/>
  <dc:title>Slide 1</dc:title>
</cp:coreProperties>
</file>