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B00-A983-411C-8662-8321240C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6816-40DA-4D43-AA28-A465BF8B882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adresside korrastamine on üks võtmeküsimusi REGREL toimimisieks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n vaja lisaks registrite korrastamisele tõsta inimeste teadlikkust, et on vajalik registreerida oma eluko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82C3-6B3A-4299-A693-1C1D9726EDBF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Loodud on ka komisjon projektide läbivaatamiseks, komisjoni juhib ja rahastamisega tegeleb Riigi infosüsteemide arenduskesk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ED14-B51E-469D-9D97-77FE3E8ABC65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39B5-52B1-4B29-8CA3-2CB8B186DA22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Ülevaade rahva ja eluruumide registripõhise loenduse (REGREL) ettevalmistamise juhtimises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uhtrühm (REL Kogu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uhtrühm on püsiv organ, mis täidab klassikalisi projekti juhatuse rol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 kuuluv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(loenduse läbiviija) asjaomased osakonnajuhataj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nõukogu esimee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M (loenduse tellija-rahast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eeriumi (registrite projektide rahastaja, riigi infosüsteemide arengu eestvedaja, riigi infosüsteemide haldaja ja koordinaator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adusnõukog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47760" y="184428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tarbijate vajadusi arvestavate võrreldavate andmeväljundite kavan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andmete analüüsi metoodika valik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REL valdkonnasõnastiku metoodilise juhendi koos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dab riske uute tehnoloogiliste vahendite kasutusele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te kasutuselevõtu küsimustes, sh milliseid tunnuseid millisest registrit ja millises järjekorr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loendusmomendi ja andmekogumisperioodi määral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projektirühma kuuluvad REGREL andmekogude eksperdid ning teemaprojektid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teemaprojekt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 (RR, EHIS, EHR, …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oo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kvaralahend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ETA – integreeritud metaandme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AM – andmehõive andmekogu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RS – statistiliste registri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IS – vaatluste andmetöötluse info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REGREL metoodika väljatöötamist ja REGREL ettevalmistamist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ettevalmistustööde aja- ja tegevuskava, planeerib ressursid ja  eelarve,  kaardistab riskid ning esitab juhtrühmale kinnit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teemaprojekte finantseerimisallikate leidmisel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endab REGREL jaoks vajalikud IT-lahendused andmete hõivamiseks, uuendamiseks, töötlemiseks ja aval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koostööd andmekogude haldajate ja rahvusvaheliste statistikaorganisatsioonidega REGREL teadmuse oman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4683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rdineerib riigi andmekogude andmekooseisu vastavusse viimist REGREL vajadustega, korraldab seda tagavate õigusaktide ettevalmistamis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oob kontaktvõrgustiku siseriiklikul tasandil, teeb intervjuud andmekogude haldajatega hindamaks andmekogude kaetust ja kvaliteet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b ja võrdleb registrites kasutuseolevaid klassifikaatoreid, definitsioone ja mõisteid, võttes aluseks rahvusvahelised standardid ja loenduse eesmärgid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REGREL valdkonnasõnastiku metoodilise juhend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eb Eesti õigusruumi sisuanalüüsi ja hindab selle mõju andmekogude andmekoosseisu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tab välja REGREL andmehõive protsessis osalevate andmekogude võrgustiku ja andmete hõivamise reeglistiku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nab aru  REL juhtrühma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lgatab REL juhtrühma kokkukutsumise selle pädevusse kuuluvate otsuste tege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andmekogude korrastamise ja kvaliteedi parendamise protsessi klassifikaatorite ja andmeformaatide ühtlustamise ettepanekute läb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koosvõimelise isiku ja eluruumi registripõhise andmekorje (andmehõive) protsessi loo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tevalmis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 statistikatööde loetellu on lisatud registripõhise rahva ja eluruumide prooviloenduse ettevalmi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s RStSis on loodud eeldused registripõhise statistika teg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jektorganisatsiooni kohta ettepanekute tegemine,  vajalike dokumentide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REGREL metoodika proje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vajalikud IT-projekt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amisvõimalused registrite koha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fookus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eskonna komplek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teemaprojektist (2010–2013) tulemuste sa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T-arendusprojektides REGREL vajaduste arve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REGRELks kohandamine (ADS rakendamine  ja liidestumine X-teeg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põhise rahvaloenduse metoodika teemaproj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: registripõhise rahva ja eluruumide loenduse (REGREL) metoodika arendamine isiku ja eluruumi tunnuste osas ning neid tunnuseid sisaldavate registrite kvaliteedi ja koostoime analüü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tnerid: Ernst &amp; Young Baltic AS, Eesti Demograafia Institu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va: oktoober 2010-august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eeritud struktuurivahenditest “Tarkade otsuste fond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metoodika teemaprojekti alameesmär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isiku- ja eluruumi andmeid sisaldavaid registreid ja nende seostatav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gevdada koostööd erinevate ametkondade va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ta registripõhise RELi korraldamise võima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da meetmeid,  mis võimaldaksid kõrvaldada kitsaskohti isiku- ja eluruumi andmeid sisaldavate registrite süsteem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sel tugineda Euroopa parimale prak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 ja eluruumide loendus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 ja eluruumide loenduse eesmärk on põhjalike, kvaliteedikriteeriumitele vastavate andmete kogumine ja avaldamine elanikkonna, leibkondade ja elamistingim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raditsioonilise ja registripõhise rahvaloenduse ettevalmistuse, andmekogumise ja andmetöötluse protsessid on kardinaalselt erinevad, kuid eesmärk on sa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satud regist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hariduse info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ehitis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kohustuslast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tegev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vikindlustuse andmekog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pensionikindlust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alternatiivsed riiklikud kui ka erasektori regist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unnuste olemasolu ja puudused (valikuline väljavõte, seisuga veebr. 2010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8160" y="1844640"/>
          <a:ext cx="8367840" cy="4389480"/>
        </p:xfrm>
        <a:graphic>
          <a:graphicData uri="http://schemas.openxmlformats.org/drawingml/2006/table">
            <a:tbl>
              <a:tblPr/>
              <a:tblGrid>
                <a:gridCol w="2789280"/>
                <a:gridCol w="2789280"/>
                <a:gridCol w="278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UNN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NDMEKOGU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ET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ünniaeg ja van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ugu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dakonds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ahv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7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alise elukoha aadres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-75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arid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HI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2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eseisun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8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ibkonnaliikmete omavahelised seose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-5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toodika projekti esimesed tulemused: probleemsed 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täielikult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la, tegevusal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ne ka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tase – olemas ainult noorema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d – EHRis osa eluruume puu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 probl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 – aadressistandard andmekogudes juurutam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i ettevalmistamiseks registrite korrastamine</a:t>
            </a:r>
            <a:br>
              <a:rPr sz="3200"/>
            </a:b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ri 2011.05.02 käskkiri nr 11-014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etapp – aadressiandmete süsteemi (ADS) rakend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a-aadresside määramine ja 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töötl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valiteedi tõs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gieelarve eraldis 1 360 041 euro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-amet on esitanud taotlu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põhise loenduse ettevalmistamine on pikaajaline ja töömahukas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ud on suuremahulised tööd registrite kohandamisel REGREL vajadust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avalikkuse positiivne suhtumine ja teadlikkus, et vajalik on iga inimese panus oma registriandmete aktualis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6.05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309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315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0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1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5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0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õimalik registrite süsteem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044720" y="1436760"/>
            <a:ext cx="6561000" cy="5087880"/>
            <a:chOff x="1044720" y="1436760"/>
            <a:chExt cx="6561000" cy="5087880"/>
          </a:xfrm>
        </p:grpSpPr>
        <p:sp>
          <p:nvSpPr>
            <p:cNvPr id="349" name="AutoShape 35"/>
            <p:cNvSpPr/>
            <p:nvPr/>
          </p:nvSpPr>
          <p:spPr>
            <a:xfrm>
              <a:off x="1548720" y="1436760"/>
              <a:ext cx="6057000" cy="50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312336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12336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2" name="Oval 32"/>
            <p:cNvSpPr/>
            <p:nvPr/>
          </p:nvSpPr>
          <p:spPr>
            <a:xfrm>
              <a:off x="481932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481932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4" name="Text Box 30"/>
            <p:cNvSpPr/>
            <p:nvPr/>
          </p:nvSpPr>
          <p:spPr>
            <a:xfrm>
              <a:off x="3244680" y="2883600"/>
              <a:ext cx="118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 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3204000" y="4381200"/>
              <a:ext cx="1224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Hoonete ja ruumide 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940640" y="4292640"/>
              <a:ext cx="1090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Majandus-üksuste statistiline register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4698360" y="2862360"/>
              <a:ext cx="157464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Tegevuste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4456080" y="32468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4456080" y="4700520"/>
              <a:ext cx="363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372924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>
              <a:off x="554616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396520" y="31258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2396520" y="470052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 flipH="1">
              <a:off x="6152040" y="470052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6152040" y="31258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1044720" y="2830680"/>
              <a:ext cx="1502280" cy="66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register,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EHIS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367" name="Text Box 28"/>
          <p:cNvSpPr/>
          <p:nvPr/>
        </p:nvSpPr>
        <p:spPr>
          <a:xfrm>
            <a:off x="5713560" y="3716280"/>
            <a:ext cx="1090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Registri-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411280" y="3716280"/>
            <a:ext cx="1090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4129200" y="22766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Isiku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4129200" y="52880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1116000" y="44877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tisregister, Kinnistusraamat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Aadressiandmete 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6732720" y="27813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MTA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S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SK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32720" y="441468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Äriregister, RKOARR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MTR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 Root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684360" y="1901880"/>
            <a:ext cx="8402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loenduse meeto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parlamendi ja nõukogu määrus rahva ja eluruumide loenduste kohta (Artikkel 4.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sriigid saavad statistika tegemisel toetud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itmesugustele andmeallikatele ja eelkõig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tavapärase loend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sjakohasele uuringule vahelduvate valimitega (jadaloendus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783400" cy="5516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7093080" y="5661000"/>
            <a:ext cx="187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llikas: Population &amp; Societies 467, mai 2010 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–2013 ettevalmistav faas.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 pilootloendus põhi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–2017 jätkusuutlikkuse tagamise faas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7 prooviloendus kõigi hõlmatud 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8–2021 juurutamise fa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registripõhine REL ehk REGREL 2020. aasta loendusvoor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organisatsio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kontseptsiooni ja metoodika väljatöötamine ning loenduse ettevalmistamine eeldab sellist organisatsiooni, mis toetab erinevate SA siseste üksuste tegevuste ning teiste asutuste tegevuste head koordin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ettevalmistamise juhtimine põhineb ametlikul koordineerimisraamistiku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saab reaalsuseks üksnes erinevate osapoolte tugeva vabatahtliku pühendumise ja positiivse suhtumise korr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visioon REL ja REGREL juhti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Picture 5" descr="skeem-3"/>
          <p:cNvPicPr/>
          <p:nvPr/>
        </p:nvPicPr>
        <p:blipFill>
          <a:blip r:embed="rId1"/>
          <a:stretch/>
        </p:blipFill>
        <p:spPr>
          <a:xfrm>
            <a:off x="1476360" y="1484280"/>
            <a:ext cx="6031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bariigi Valitsuse Rahvaloenduskomisj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RK on valitsusasutuste vahelise koordineerimiskomisjon, mille koosseisu kuuluvad ministeeriumide kantslerid ja asutust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v VVRK omab mandaati RStS §  44 lg 2 alusel kuni 2011.a. REL ettevalmistustööde lõppemisen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§ 21 lg 3 Vabariigi Valitsusele võimaluse moodustada loenduskomisjon 2021.a. loenduse (REGREL) ettevalmista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bariigi Valitsuse rahvaloenduskomisjon tuleks 2012. aastal uuesti moodust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VRK ülesand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47760" y="1988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b VVle ettepanekuid loenduse korraldamisega seonduvate õigusaktide  ettevalmi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rdineerib loenduse korraldamist valitsusasutuste tasemel ning suunab riigiasutuste koostööd loenduse korral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tab registrite korrastamise projektide rahastamise põhim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kõlastab  tegevus- ja ajakava ning jälgib nende täit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b loenduse korraldamise kulu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dab muid loenduse ettevalmistamisega seotud ülesan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6-21T08:28:19Z</dcterms:modified>
  <cp:revision>67</cp:revision>
  <dc:subject/>
  <dc:title>Slide 1</dc:title>
</cp:coreProperties>
</file>