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80D2A-7A39-419B-B4EF-F9EA13F967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6BE8D-4D7E-4D98-B450-02C6585BBB03}" type="slidenum">
              <a:rPr b="1" lang="et-EE" sz="1200" spc="-1" strike="noStrike">
                <a:solidFill>
                  <a:srgbClr val="003951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Aadresside korrastamine on üks võtmeküsimusi REGREL toimimisieks 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On vaja lisaks registrite korrastamisele tõsta inimeste teadlikkust, et on vajalik registreerida oma eluko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F2011-6530-4C5F-850B-A677CF6B5BFB}" type="slidenum">
              <a:rPr b="1" lang="en-US" sz="1200" spc="-1" strike="noStrike">
                <a:solidFill>
                  <a:srgbClr val="003951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Loodud on ka komisjon projektide läbivaatamiseks, komisjoni juhib ja rahastamisega tegeleb Riigi infosüsteemide arenduskesk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49B4A-17E2-4FE5-8E02-4D152B2C1D76}" type="slidenum">
              <a:rPr b="1" lang="en-US" sz="1200" spc="-1" strike="noStrike">
                <a:solidFill>
                  <a:srgbClr val="003951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2F2C3-8A0D-4B12-BC45-1564C6158B4E}" type="slidenum">
              <a:rPr b="1" lang="en-US" sz="1200" spc="-1" strike="noStrike">
                <a:solidFill>
                  <a:srgbClr val="003951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47760" y="4396320"/>
            <a:ext cx="75153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4776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9868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88640" y="220464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9520" y="220464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47760" y="439632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88640" y="439632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9520" y="439632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58560" y="1268280"/>
            <a:ext cx="7489800" cy="30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4776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9868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47760" y="4396320"/>
            <a:ext cx="75153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47760" y="4396320"/>
            <a:ext cx="75153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4776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9868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88640" y="220464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29520" y="220464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47760" y="439632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788640" y="439632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29520" y="439632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258560" y="1268280"/>
            <a:ext cx="7489800" cy="30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24776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9868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247760" y="4396320"/>
            <a:ext cx="75153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247760" y="4396320"/>
            <a:ext cx="75153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24776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509868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788640" y="220464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329520" y="220464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247760" y="439632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788640" y="439632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329520" y="439632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258560" y="1268280"/>
            <a:ext cx="7489800" cy="30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24776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09868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247760" y="4396320"/>
            <a:ext cx="75153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247760" y="4396320"/>
            <a:ext cx="75153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24776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09868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788640" y="220464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329520" y="220464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247760" y="439632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788640" y="439632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329520" y="439632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1258560" y="1268280"/>
            <a:ext cx="7489800" cy="30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24776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509868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247760" y="4396320"/>
            <a:ext cx="75153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1247760" y="4396320"/>
            <a:ext cx="75153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124776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509868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58560" y="1268280"/>
            <a:ext cx="7489800" cy="30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788640" y="220464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329520" y="220464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1247760" y="439632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788640" y="439632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329520" y="439632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1258560" y="1268280"/>
            <a:ext cx="7489800" cy="30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124776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09868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1247760" y="4396320"/>
            <a:ext cx="75153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4776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1247760" y="4396320"/>
            <a:ext cx="75153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124776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509868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788640" y="220464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329520" y="220464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1247760" y="439632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788640" y="439632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329520" y="439632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9868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47760" y="4396320"/>
            <a:ext cx="75153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Eesti statistika_1"/>
          <p:cNvPicPr/>
          <p:nvPr/>
        </p:nvPicPr>
        <p:blipFill>
          <a:blip r:embed="rId2"/>
          <a:stretch/>
        </p:blipFill>
        <p:spPr>
          <a:xfrm>
            <a:off x="-17640" y="-17640"/>
            <a:ext cx="9193320" cy="6888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124740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26.05.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58672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ftr" idx="2"/>
          </p:nvPr>
        </p:nvSpPr>
        <p:spPr>
          <a:xfrm>
            <a:off x="124740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26.05.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579600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45" name="Picture 10" descr="Eesti statistika_2"/>
          <p:cNvPicPr/>
          <p:nvPr/>
        </p:nvPicPr>
        <p:blipFill>
          <a:blip r:embed="rId2"/>
          <a:stretch/>
        </p:blipFill>
        <p:spPr>
          <a:xfrm>
            <a:off x="-7920" y="-15840"/>
            <a:ext cx="1095480" cy="1095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1" descr="Eesti statistika_vahe_mereroh"/>
          <p:cNvPicPr/>
          <p:nvPr/>
        </p:nvPicPr>
        <p:blipFill>
          <a:blip r:embed="rId2"/>
          <a:stretch/>
        </p:blipFill>
        <p:spPr>
          <a:xfrm>
            <a:off x="-17640" y="-7920"/>
            <a:ext cx="9168120" cy="68835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9" descr="90"/>
          <p:cNvPicPr/>
          <p:nvPr/>
        </p:nvPicPr>
        <p:blipFill>
          <a:blip r:embed="rId3"/>
          <a:stretch/>
        </p:blipFill>
        <p:spPr>
          <a:xfrm>
            <a:off x="7356600" y="404640"/>
            <a:ext cx="1103040" cy="1063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7" descr="Eesti statistika_vahe_laim"/>
          <p:cNvPicPr/>
          <p:nvPr/>
        </p:nvPicPr>
        <p:blipFill>
          <a:blip r:embed="rId2"/>
          <a:stretch/>
        </p:blipFill>
        <p:spPr>
          <a:xfrm>
            <a:off x="-9360" y="-9360"/>
            <a:ext cx="9171000" cy="68706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90"/>
          <p:cNvPicPr/>
          <p:nvPr/>
        </p:nvPicPr>
        <p:blipFill>
          <a:blip r:embed="rId3"/>
          <a:stretch/>
        </p:blipFill>
        <p:spPr>
          <a:xfrm>
            <a:off x="7342200" y="404640"/>
            <a:ext cx="1111320" cy="1071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9" descr="Eesti statistika_suur"/>
          <p:cNvPicPr/>
          <p:nvPr/>
        </p:nvPicPr>
        <p:blipFill>
          <a:blip r:embed="rId2"/>
          <a:stretch/>
        </p:blipFill>
        <p:spPr>
          <a:xfrm>
            <a:off x="-7920" y="-11160"/>
            <a:ext cx="9186840" cy="688176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6" descr="90"/>
          <p:cNvPicPr/>
          <p:nvPr/>
        </p:nvPicPr>
        <p:blipFill>
          <a:blip r:embed="rId3"/>
          <a:stretch/>
        </p:blipFill>
        <p:spPr>
          <a:xfrm>
            <a:off x="7346880" y="404640"/>
            <a:ext cx="1111320" cy="107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13" descr="Eesti statistika"/>
          <p:cNvPicPr/>
          <p:nvPr/>
        </p:nvPicPr>
        <p:blipFill>
          <a:blip r:embed="rId2"/>
          <a:stretch/>
        </p:blipFill>
        <p:spPr>
          <a:xfrm>
            <a:off x="0" y="3240"/>
            <a:ext cx="9144000" cy="68515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8" descr="90"/>
          <p:cNvPicPr/>
          <p:nvPr/>
        </p:nvPicPr>
        <p:blipFill>
          <a:blip r:embed="rId3"/>
          <a:stretch/>
        </p:blipFill>
        <p:spPr>
          <a:xfrm>
            <a:off x="7334280" y="404640"/>
            <a:ext cx="1012680" cy="97488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body"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4400" y="692280"/>
            <a:ext cx="5602320" cy="19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000" spc="-1" strike="noStrike">
                <a:solidFill>
                  <a:srgbClr val="003951"/>
                </a:solidFill>
                <a:latin typeface="Arial"/>
              </a:rPr>
              <a:t>Ülevaade rahva ja eluruumide registripõhise loenduse (REGREL) ettevalmistamise juhtimisest</a:t>
            </a:r>
            <a:endParaRPr b="1" lang="en-US" sz="3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914400" y="3044880"/>
            <a:ext cx="4495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Statistikanõukogu koosolek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20.06.2011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Kaja Sõstra, PhD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Metoodika osakonna juhataja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Juhtrühm (REL Kogu)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343440" indent="-3434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Juhtrühm on püsiv organ, mis täidab klassikalisi projekti juhatuse roll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43440" indent="-3434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Koosseisu kuuluvad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25640" indent="-345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SA (loenduse läbiviija) asjaomased osakonnajuhatajad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25640" indent="-345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Teadusnõukogu esimees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25640" indent="-345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RM (loenduse tellija-rahastaja)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25640" indent="-345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Majandus- ja Kommunikatsiooniministeeriumi (registrite projektide rahastaja, riigi infosüsteemide arengu eestvedaja, riigi infosüsteemide haldaja ja koordinaator)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258560" y="105228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Teadusnõukogu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1247760" y="184428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336240" indent="-336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nõustab tarbijate vajadusi arvestavate võrreldavate andmeväljundite kavandamis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36240" indent="-336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nõustab registriandmete analüüsi metoodika valiku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36240" indent="-336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nõustab REGREL valdkonnasõnastiku metoodilise juhendi koostamis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36240" indent="-336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hindab riske uute tehnoloogiliste vahendite kasutuselevõtmis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36240" indent="-336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nõustab registrite kasutuselevõtu küsimustes, sh milliseid tunnuseid millisest registrit ja millises järjekorra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36240" indent="-336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nõustab loendusmomendi ja andmekogumisperioodi määralemis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36240" indent="-336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Projektirühm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343440" indent="-3434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REGREL projektirühma kuuluvad REGREL andmekogude eksperdid ning teemaprojektide juhid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43440" indent="-3434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REGREL teemaprojektid: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25640" indent="-345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Metoodika väljatöötamin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25640" indent="-345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ndmekogud (RR, EHIS, EHR, …)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25640" indent="-345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Õigusloom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25640" indent="-345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Tarkvaralahendused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05320" indent="-34488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iMETA – integreeritud metaandmete süsteem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1705320" indent="-34488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ADAM – andmehõive andmekogudest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1705320" indent="-34488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SRS – statistiliste registrite süsteem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1705320" indent="-34488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VAIS – vaatluste andmetöötluse infosüsteem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43440" indent="-3434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Projektirühma ülesanded (1)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korraldab REGREL metoodika väljatöötamist ja REGREL ettevalmistamist;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koostab ettevalmistustööde aja- ja tegevuskava, planeerib ressursid ja  eelarve,  kaardistab riskid ning esitab juhtrühmale kinnitamiseks;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nõustab teemaprojekte finantseerimisallikate leidmisel;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arendab REGREL jaoks vajalikud IT-lahendused andmete hõivamiseks, uuendamiseks, töötlemiseks ja avaldamiseks;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korraldab koostööd andmekogude haldajate ja rahvusvaheliste statistikaorganisatsioonidega REGREL teadmuse omandamiseks;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6" name="Footer Placeholder 3"/>
          <p:cNvSpPr/>
          <p:nvPr/>
        </p:nvSpPr>
        <p:spPr>
          <a:xfrm>
            <a:off x="4683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Projektirühma ülesanded (2)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koordineerib riigi andmekogude andmekooseisu vastavusse viimist REGREL vajadustega, korraldab seda tagavate õigusaktide ettevalmistamise;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loob kontaktvõrgustiku siseriiklikul tasandil, teeb intervjuud andmekogude haldajatega hindamaks andmekogude kaetust ja kvaliteeti;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analüüsib ja võrdleb registrites kasutuseolevaid klassifikaatoreid, definitsioone ja mõisteid, võttes aluseks rahvusvahelised standardid ja loenduse eesmärgid;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koostab REGREL valdkonnasõnastiku metoodilise juhendi;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teeb Eesti õigusruumi sisuanalüüsi ja hindab selle mõju andmekogude andmekoosseisule;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9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Projektirühma ülesanded (3)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töötab välja REGREL andmehõive protsessis osalevate andmekogude võrgustiku ja andmete hõivamise reeglistiku;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annab aru  REL juhtrühmale;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algatab REL juhtrühma kokkukutsumise selle pädevusse kuuluvate otsuste tegemiseks;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nõustab andmekogude korrastamise ja kvaliteedi parendamise protsessi klassifikaatorite ja andmeformaatide ühtlustamise ettepanekute läbi;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nõustab koosvõimelise isiku ja eluruumi registripõhise andmekorje (andmehõive) protsessi loomist.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REGREL ettevalmistused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Statistikaameti statistikatööde loetellu on lisatud registripõhise rahva ja eluruumide prooviloenduse ettevalmistamin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Uues RStSis on loodud eeldused registripõhise statistika tegemisek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Projektorganisatsiooni kohta ettepanekute tegemine,  vajalike dokumentide koostamin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lgatatud on REGREL metoodika projek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lgatatud on vajalikud IT-projektid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Rahastamisvõimalused registrite kohandamisek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4" name="Footer Placeholder 3"/>
          <p:cNvSpPr/>
          <p:nvPr/>
        </p:nvSpPr>
        <p:spPr>
          <a:xfrm>
            <a:off x="5857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REGREL fookus 2011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213920" y="1999800"/>
            <a:ext cx="79297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meeskonna komplekteerimin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metoodika teemaprojektist (2010–2013) tulemuste saamin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IT-arendusprojektides REGREL vajaduste arvestamin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registrite REGRELks kohandamine (ADS rakendamine  ja liidestumine X-teega)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Registripõhise rahvaloenduse metoodika teemaprojek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Eesmärk: registripõhise rahva ja eluruumide loenduse (REGREL) metoodika arendamine isiku ja eluruumi tunnuste osas ning neid tunnuseid sisaldavate registrite kvaliteedi ja koostoime analüü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Partnerid: Ernst &amp; Young Baltic AS, Eesti Demograafia Instituu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jakava: oktoober 2010-august 2013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Finantseeritud struktuurivahenditest “Tarkade otsuste fond”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9" name="Footer Placeholder 3"/>
          <p:cNvSpPr/>
          <p:nvPr/>
        </p:nvSpPr>
        <p:spPr>
          <a:xfrm>
            <a:off x="5857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REGREL metoodika teemaprojekti alameesmärgid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uurida isiku- ja eluruumi andmeid sisaldavaid registreid ja nende seostatavus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tugevdada koostööd erinevate ametkondade vah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hinnata registripõhise RELi korraldamise võimalikkus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nalüüsida meetmeid,  mis võimaldaksid kõrvaldada kitsaskohti isiku- ja eluruumi andmeid sisaldavate registrite süsteemi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metoodika väljatöötamisel tugineda Euroopa parimale praktikal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2" name="Footer Placeholder 3"/>
          <p:cNvSpPr/>
          <p:nvPr/>
        </p:nvSpPr>
        <p:spPr>
          <a:xfrm>
            <a:off x="5857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Rahva ja eluruumide loenduse eesmärk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Rahva ja eluruumide loenduse eesmärk on põhjalike, kvaliteedikriteeriumitele vastavate andmete kogumine ja avaldamine elanikkonna, leibkondade ja elamistingimuste kohta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Traditsioonilise ja registripõhise rahvaloenduse ettevalmistuse, andmekogumise ja andmetöötluse protsessid on kardinaalselt erinevad, kuid eesmärk on sama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Kaasatud registrid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78962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54240" indent="-354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Rahvastikuregister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54240" indent="-354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Eesti hariduse infosüsteem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54240" indent="-354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Riiklik ehitisregister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54240" indent="-354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adressiandmete süsteem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54240" indent="-354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Äriregister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54240" indent="-354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Maksukohustuslaste register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54240" indent="-354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Majandustegevuse register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54240" indent="-354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Ravikindlustuse andmekogu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54240" indent="-354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Riiklik pensionikindlustuse register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54240" indent="-354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muud alternatiivsed riiklikud kui ka erasektori registrid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258560" y="105228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Tunnuste olemasolu ja puudused (valikuline väljavõte, seisuga veebr. 2010)</a:t>
            </a:r>
            <a:endParaRPr b="1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668160" y="1844640"/>
          <a:ext cx="8367840" cy="4389480"/>
        </p:xfrm>
        <a:graphic>
          <a:graphicData uri="http://schemas.openxmlformats.org/drawingml/2006/table">
            <a:tbl>
              <a:tblPr/>
              <a:tblGrid>
                <a:gridCol w="2789280"/>
                <a:gridCol w="2789280"/>
                <a:gridCol w="278928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20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TUNNUS</a:t>
                      </a:r>
                      <a:endParaRPr b="1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3951"/>
                      </a:solidFill>
                    </a:lnL>
                    <a:lnR w="5760">
                      <a:solidFill>
                        <a:srgbClr val="003951"/>
                      </a:solidFill>
                    </a:lnR>
                    <a:lnT w="13680">
                      <a:solidFill>
                        <a:srgbClr val="003951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20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ANDMEKOGU</a:t>
                      </a:r>
                      <a:endParaRPr b="1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3951"/>
                      </a:solidFill>
                    </a:lnL>
                    <a:lnR w="5760">
                      <a:solidFill>
                        <a:srgbClr val="003951"/>
                      </a:solidFill>
                    </a:lnR>
                    <a:lnT w="13680">
                      <a:solidFill>
                        <a:srgbClr val="003951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20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KAETUS</a:t>
                      </a:r>
                      <a:endParaRPr b="1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3951"/>
                      </a:solidFill>
                    </a:lnL>
                    <a:lnR w="13680">
                      <a:solidFill>
                        <a:srgbClr val="003951"/>
                      </a:solidFill>
                    </a:lnR>
                    <a:lnT w="13680">
                      <a:solidFill>
                        <a:srgbClr val="003951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Sünniaeg ja vanus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3951"/>
                      </a:solidFill>
                    </a:lnL>
                    <a:lnR w="5760">
                      <a:solidFill>
                        <a:srgbClr val="003951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RR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3951"/>
                      </a:solidFill>
                    </a:lnL>
                    <a:lnR w="5760">
                      <a:solidFill>
                        <a:srgbClr val="003951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100 %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3951"/>
                      </a:solidFill>
                    </a:lnL>
                    <a:lnR w="13680">
                      <a:solidFill>
                        <a:srgbClr val="003951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noFill/>
                  </a:tcPr>
                </a:tc>
              </a:tr>
              <a:tr h="4251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Sugu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3951"/>
                      </a:solidFill>
                    </a:lnL>
                    <a:lnR w="5760">
                      <a:solidFill>
                        <a:srgbClr val="003951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RR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3951"/>
                      </a:solidFill>
                    </a:lnL>
                    <a:lnR w="5760">
                      <a:solidFill>
                        <a:srgbClr val="003951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100%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3951"/>
                      </a:solidFill>
                    </a:lnL>
                    <a:lnR w="13680">
                      <a:solidFill>
                        <a:srgbClr val="003951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Kodakondsus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3951"/>
                      </a:solidFill>
                    </a:lnL>
                    <a:lnR w="5760">
                      <a:solidFill>
                        <a:srgbClr val="003951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RR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3951"/>
                      </a:solidFill>
                    </a:lnL>
                    <a:lnR w="5760">
                      <a:solidFill>
                        <a:srgbClr val="003951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100 %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3951"/>
                      </a:solidFill>
                    </a:lnL>
                    <a:lnR w="13680">
                      <a:solidFill>
                        <a:srgbClr val="003951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Rahvus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3951"/>
                      </a:solidFill>
                    </a:lnL>
                    <a:lnR w="5760">
                      <a:solidFill>
                        <a:srgbClr val="003951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RR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3951"/>
                      </a:solidFill>
                    </a:lnL>
                    <a:lnR w="5760">
                      <a:solidFill>
                        <a:srgbClr val="003951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87%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3951"/>
                      </a:solidFill>
                    </a:lnL>
                    <a:lnR w="13680">
                      <a:solidFill>
                        <a:srgbClr val="003951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Alalise elukoha aadress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3951"/>
                      </a:solidFill>
                    </a:lnL>
                    <a:lnR w="5760">
                      <a:solidFill>
                        <a:srgbClr val="003951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RR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3951"/>
                      </a:solidFill>
                    </a:lnL>
                    <a:lnR w="5760">
                      <a:solidFill>
                        <a:srgbClr val="003951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70-75 %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3951"/>
                      </a:solidFill>
                    </a:lnL>
                    <a:lnR w="13680">
                      <a:solidFill>
                        <a:srgbClr val="003951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Haridus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3951"/>
                      </a:solidFill>
                    </a:lnL>
                    <a:lnR w="5760">
                      <a:solidFill>
                        <a:srgbClr val="003951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EHIS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3951"/>
                      </a:solidFill>
                    </a:lnL>
                    <a:lnR w="5760">
                      <a:solidFill>
                        <a:srgbClr val="003951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~20%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3951"/>
                      </a:solidFill>
                    </a:lnL>
                    <a:lnR w="13680">
                      <a:solidFill>
                        <a:srgbClr val="003951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Hõiveseisund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3951"/>
                      </a:solidFill>
                    </a:lnL>
                    <a:lnR w="5760">
                      <a:solidFill>
                        <a:srgbClr val="003951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MTA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3951"/>
                      </a:solidFill>
                    </a:lnL>
                    <a:lnR w="5760">
                      <a:solidFill>
                        <a:srgbClr val="003951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~80%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3951"/>
                      </a:solidFill>
                    </a:lnL>
                    <a:lnR w="13680">
                      <a:solidFill>
                        <a:srgbClr val="003951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Amet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3951"/>
                      </a:solidFill>
                    </a:lnL>
                    <a:lnR w="5760">
                      <a:solidFill>
                        <a:srgbClr val="003951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-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3951"/>
                      </a:solidFill>
                    </a:lnL>
                    <a:lnR w="5760">
                      <a:solidFill>
                        <a:srgbClr val="003951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0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3951"/>
                      </a:solidFill>
                    </a:lnL>
                    <a:lnR w="13680">
                      <a:solidFill>
                        <a:srgbClr val="003951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Leibkonnaliikmete omavahelised seosed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3951"/>
                      </a:solidFill>
                    </a:lnL>
                    <a:lnR w="5760">
                      <a:solidFill>
                        <a:srgbClr val="003951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13680">
                      <a:solidFill>
                        <a:srgbClr val="003951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RR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3951"/>
                      </a:solidFill>
                    </a:lnL>
                    <a:lnR w="5760">
                      <a:solidFill>
                        <a:srgbClr val="003951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13680">
                      <a:solidFill>
                        <a:srgbClr val="003951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40-50%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3951"/>
                      </a:solidFill>
                    </a:lnL>
                    <a:lnR w="13680">
                      <a:solidFill>
                        <a:srgbClr val="003951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13680">
                      <a:solidFill>
                        <a:srgbClr val="00395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Metoodika projekti esimesed tulemused: probleemsed tunnused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Puuduvad täielikult registrites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me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Toimla, tegevusala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Osaline kaetu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Haridustase – olemas ainult nooremat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Eluruumid – EHRis osa eluruume puudu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Kvaliteedi probleem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adressid – aadressistandard andmekogudes juurutamata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9" name="Footer Placeholder 3"/>
          <p:cNvSpPr/>
          <p:nvPr/>
        </p:nvSpPr>
        <p:spPr>
          <a:xfrm>
            <a:off x="5857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REGRELi ettevalmistamiseks registrite korrastamine</a:t>
            </a:r>
            <a:br>
              <a:rPr sz="3200"/>
            </a:b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Majandus- ja kommunikatsiooniministri 2011.05.02 käskkiri nr 11-0146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Esimene etapp – aadressiandmete süsteemi (ADS) rakendamine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koha-aadresside määramine ja esitamin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adressiandmete töötlemin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ndmekvaliteedi tõstmine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Riigieelarve eraldis 1 360 041 eurot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Maa-amet on esitanud taotlus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Footer Placeholder 3"/>
          <p:cNvSpPr/>
          <p:nvPr/>
        </p:nvSpPr>
        <p:spPr>
          <a:xfrm>
            <a:off x="5857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Kokkuvõte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Registripõhise loenduse ettevalmistamine on pikaajaline ja töömahukas protses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Vajalikud on suuremahulised tööd registrite kohandamisel REGREL vajadustek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Oluline on avalikkuse positiivne suhtumine ja teadlikkus, et vajalik on iga inimese panus oma registriandmete aktualiseerimisek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6.05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grpSp>
        <p:nvGrpSpPr>
          <p:cNvPr id="308" name="Group 4"/>
          <p:cNvGrpSpPr/>
          <p:nvPr/>
        </p:nvGrpSpPr>
        <p:grpSpPr>
          <a:xfrm>
            <a:off x="-7920" y="-7920"/>
            <a:ext cx="9159840" cy="6877080"/>
            <a:chOff x="-7920" y="-7920"/>
            <a:chExt cx="9159840" cy="6877080"/>
          </a:xfrm>
        </p:grpSpPr>
        <p:pic>
          <p:nvPicPr>
            <p:cNvPr id="309" name="Picture 5" descr="Eesti statistika_vahe_mereroh"/>
            <p:cNvPicPr/>
            <p:nvPr/>
          </p:nvPicPr>
          <p:blipFill>
            <a:blip r:embed="rId1"/>
            <a:stretch/>
          </p:blipFill>
          <p:spPr>
            <a:xfrm>
              <a:off x="-7920" y="-7920"/>
              <a:ext cx="9159840" cy="687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0" name="Picture 6" descr="90"/>
            <p:cNvPicPr/>
            <p:nvPr/>
          </p:nvPicPr>
          <p:blipFill>
            <a:blip r:embed="rId2"/>
            <a:stretch/>
          </p:blipFill>
          <p:spPr>
            <a:xfrm>
              <a:off x="7356600" y="404640"/>
              <a:ext cx="1103040" cy="1063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Administratiivsest andmeallikast statistiliseks registriks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lnSpc>
                <a:spcPct val="9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Administratiivsed näitajad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Administratiivsed üksused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90000"/>
              </a:lnSpc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90000"/>
              </a:lnSpc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Kodeerimine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90000"/>
              </a:lnSpc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Parandamine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90000"/>
              </a:lnSpc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Puuduvate väärtustega</a:t>
            </a:r>
            <a:br>
              <a:rPr sz="1800"/>
            </a:b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tegelemine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90000"/>
              </a:lnSpc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Seostamine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90000"/>
              </a:lnSpc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Statistiliste üksuste ja </a:t>
            </a:r>
            <a:br>
              <a:rPr sz="1800"/>
            </a:b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näitajate moodustamine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Statistiline üldkogum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Statistilised näitajad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Statistilised üksused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3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grpSp>
        <p:nvGrpSpPr>
          <p:cNvPr id="314" name="Group 4"/>
          <p:cNvGrpSpPr/>
          <p:nvPr/>
        </p:nvGrpSpPr>
        <p:grpSpPr>
          <a:xfrm>
            <a:off x="5281560" y="2290680"/>
            <a:ext cx="2819520" cy="3801960"/>
            <a:chOff x="5281560" y="2290680"/>
            <a:chExt cx="2819520" cy="3801960"/>
          </a:xfrm>
        </p:grpSpPr>
        <p:sp>
          <p:nvSpPr>
            <p:cNvPr id="315" name="AutoShape 3"/>
            <p:cNvSpPr/>
            <p:nvPr/>
          </p:nvSpPr>
          <p:spPr>
            <a:xfrm>
              <a:off x="5281560" y="2290680"/>
              <a:ext cx="2819520" cy="38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16" name="Rectangle 7"/>
            <p:cNvSpPr/>
            <p:nvPr/>
          </p:nvSpPr>
          <p:spPr>
            <a:xfrm>
              <a:off x="5336640" y="2368440"/>
              <a:ext cx="709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2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17" name="Rectangle 8"/>
            <p:cNvSpPr/>
            <p:nvPr/>
          </p:nvSpPr>
          <p:spPr>
            <a:xfrm>
              <a:off x="5651280" y="2662200"/>
              <a:ext cx="230220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18" name="Rectangle 9"/>
            <p:cNvSpPr/>
            <p:nvPr/>
          </p:nvSpPr>
          <p:spPr>
            <a:xfrm>
              <a:off x="5443920" y="2666880"/>
              <a:ext cx="2567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951"/>
                  </a:solidFill>
                  <a:latin typeface="Arial"/>
                </a:rPr>
                <a:t>Administrati</a:t>
              </a:r>
              <a:r>
                <a:rPr b="1" lang="et-EE" sz="1600" spc="-1" strike="noStrike">
                  <a:solidFill>
                    <a:srgbClr val="003951"/>
                  </a:solidFill>
                  <a:latin typeface="Arial"/>
                </a:rPr>
                <a:t>ivsed registrid</a:t>
              </a:r>
              <a:endParaRPr b="1" lang="en-US" sz="16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19" name="Rectangle 10"/>
            <p:cNvSpPr/>
            <p:nvPr/>
          </p:nvSpPr>
          <p:spPr>
            <a:xfrm>
              <a:off x="7980840" y="266688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1" lang="en-US" sz="16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20" name="Rectangle 11"/>
            <p:cNvSpPr/>
            <p:nvPr/>
          </p:nvSpPr>
          <p:spPr>
            <a:xfrm>
              <a:off x="5608440" y="3843360"/>
              <a:ext cx="1986120" cy="26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21" name="Rectangle 12"/>
            <p:cNvSpPr/>
            <p:nvPr/>
          </p:nvSpPr>
          <p:spPr>
            <a:xfrm>
              <a:off x="5680080" y="384804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1" lang="en-US" sz="16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22" name="Rectangle 13"/>
            <p:cNvSpPr/>
            <p:nvPr/>
          </p:nvSpPr>
          <p:spPr>
            <a:xfrm>
              <a:off x="6534000" y="3848040"/>
              <a:ext cx="360" cy="49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23" name="Rectangle 14"/>
            <p:cNvSpPr/>
            <p:nvPr/>
          </p:nvSpPr>
          <p:spPr>
            <a:xfrm>
              <a:off x="6599160" y="3848040"/>
              <a:ext cx="360" cy="49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24" name="Rectangle 15"/>
            <p:cNvSpPr/>
            <p:nvPr/>
          </p:nvSpPr>
          <p:spPr>
            <a:xfrm>
              <a:off x="7572960" y="384804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1" lang="en-US" sz="16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25" name="Rectangle 16"/>
            <p:cNvSpPr/>
            <p:nvPr/>
          </p:nvSpPr>
          <p:spPr>
            <a:xfrm>
              <a:off x="5837040" y="4127400"/>
              <a:ext cx="145260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26" name="Rectangle 17"/>
            <p:cNvSpPr/>
            <p:nvPr/>
          </p:nvSpPr>
          <p:spPr>
            <a:xfrm>
              <a:off x="6036480" y="4132080"/>
              <a:ext cx="1360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t-EE" sz="1600" spc="-1" strike="noStrike">
                  <a:solidFill>
                    <a:srgbClr val="003951"/>
                  </a:solidFill>
                  <a:latin typeface="Arial"/>
                </a:rPr>
                <a:t>Andmetöötlus</a:t>
              </a:r>
              <a:endParaRPr b="1" lang="en-US" sz="16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27" name="Rectangle 18"/>
            <p:cNvSpPr/>
            <p:nvPr/>
          </p:nvSpPr>
          <p:spPr>
            <a:xfrm>
              <a:off x="7144200" y="413208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1" lang="en-US" sz="16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28" name="Rectangle 19"/>
            <p:cNvSpPr/>
            <p:nvPr/>
          </p:nvSpPr>
          <p:spPr>
            <a:xfrm>
              <a:off x="5848200" y="5511600"/>
              <a:ext cx="1903680" cy="2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29" name="Rectangle 20"/>
            <p:cNvSpPr/>
            <p:nvPr/>
          </p:nvSpPr>
          <p:spPr>
            <a:xfrm>
              <a:off x="5738760" y="5518080"/>
              <a:ext cx="200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951"/>
                  </a:solidFill>
                  <a:latin typeface="Arial"/>
                </a:rPr>
                <a:t>Statisti</a:t>
              </a:r>
              <a:r>
                <a:rPr b="1" lang="et-EE" sz="1600" spc="-1" strike="noStrike">
                  <a:solidFill>
                    <a:srgbClr val="003951"/>
                  </a:solidFill>
                  <a:latin typeface="Arial"/>
                </a:rPr>
                <a:t>lised registrid</a:t>
              </a:r>
              <a:endParaRPr b="1" lang="en-US" sz="16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30" name="Rectangle 21"/>
            <p:cNvSpPr/>
            <p:nvPr/>
          </p:nvSpPr>
          <p:spPr>
            <a:xfrm>
              <a:off x="7739640" y="551808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1" lang="en-US" sz="16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31" name="Line 22"/>
            <p:cNvSpPr/>
            <p:nvPr/>
          </p:nvSpPr>
          <p:spPr>
            <a:xfrm flipV="1">
              <a:off x="6659640" y="4752720"/>
              <a:ext cx="1087200" cy="331560"/>
            </a:xfrm>
            <a:prstGeom prst="line">
              <a:avLst/>
            </a:prstGeom>
            <a:ln w="25560">
              <a:solidFill>
                <a:srgbClr val="00395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32" name="Line 23"/>
            <p:cNvSpPr/>
            <p:nvPr/>
          </p:nvSpPr>
          <p:spPr>
            <a:xfrm flipH="1" flipV="1">
              <a:off x="5557320" y="4752720"/>
              <a:ext cx="1101960" cy="331560"/>
            </a:xfrm>
            <a:prstGeom prst="line">
              <a:avLst/>
            </a:prstGeom>
            <a:ln w="25560">
              <a:solidFill>
                <a:srgbClr val="00395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33" name="Line 24"/>
            <p:cNvSpPr/>
            <p:nvPr/>
          </p:nvSpPr>
          <p:spPr>
            <a:xfrm flipV="1">
              <a:off x="5557680" y="3270240"/>
              <a:ext cx="1800" cy="1184400"/>
            </a:xfrm>
            <a:prstGeom prst="line">
              <a:avLst/>
            </a:prstGeom>
            <a:ln w="25560">
              <a:solidFill>
                <a:srgbClr val="00395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5557680" y="3270240"/>
              <a:ext cx="2176560" cy="1440"/>
            </a:xfrm>
            <a:prstGeom prst="line">
              <a:avLst/>
            </a:prstGeom>
            <a:ln w="25560">
              <a:solidFill>
                <a:srgbClr val="00395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>
              <a:off x="7726320" y="3289320"/>
              <a:ext cx="1440" cy="1170000"/>
            </a:xfrm>
            <a:prstGeom prst="line">
              <a:avLst/>
            </a:prstGeom>
            <a:ln w="25560">
              <a:solidFill>
                <a:srgbClr val="00395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36" name="Freeform 27"/>
            <p:cNvSpPr/>
            <p:nvPr/>
          </p:nvSpPr>
          <p:spPr>
            <a:xfrm>
              <a:off x="5557680" y="4649760"/>
              <a:ext cx="292320" cy="92160"/>
            </a:xfrm>
            <a:custGeom>
              <a:avLst/>
              <a:gdLst>
                <a:gd name="textAreaLeft" fmla="*/ 0 w 292320"/>
                <a:gd name="textAreaRight" fmla="*/ 292680 w 29232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369" h="115">
                  <a:moveTo>
                    <a:pt x="0" y="115"/>
                  </a:moveTo>
                  <a:lnTo>
                    <a:pt x="73" y="111"/>
                  </a:lnTo>
                  <a:lnTo>
                    <a:pt x="142" y="103"/>
                  </a:lnTo>
                  <a:lnTo>
                    <a:pt x="206" y="94"/>
                  </a:lnTo>
                  <a:lnTo>
                    <a:pt x="259" y="80"/>
                  </a:lnTo>
                  <a:lnTo>
                    <a:pt x="305" y="63"/>
                  </a:lnTo>
                  <a:lnTo>
                    <a:pt x="340" y="46"/>
                  </a:lnTo>
                  <a:lnTo>
                    <a:pt x="353" y="34"/>
                  </a:lnTo>
                  <a:lnTo>
                    <a:pt x="363" y="25"/>
                  </a:lnTo>
                  <a:lnTo>
                    <a:pt x="367" y="9"/>
                  </a:lnTo>
                  <a:lnTo>
                    <a:pt x="369" y="0"/>
                  </a:lnTo>
                </a:path>
              </a:pathLst>
            </a:custGeom>
            <a:noFill/>
            <a:ln w="25560">
              <a:solidFill>
                <a:srgbClr val="0039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37" name="Freeform 28"/>
            <p:cNvSpPr/>
            <p:nvPr/>
          </p:nvSpPr>
          <p:spPr>
            <a:xfrm>
              <a:off x="7427880" y="4622760"/>
              <a:ext cx="309600" cy="133200"/>
            </a:xfrm>
            <a:custGeom>
              <a:avLst/>
              <a:gdLst>
                <a:gd name="textAreaLeft" fmla="*/ 0 w 309600"/>
                <a:gd name="textAreaRight" fmla="*/ 309960 w 3096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389" h="167">
                  <a:moveTo>
                    <a:pt x="389" y="167"/>
                  </a:moveTo>
                  <a:lnTo>
                    <a:pt x="309" y="163"/>
                  </a:lnTo>
                  <a:lnTo>
                    <a:pt x="236" y="154"/>
                  </a:lnTo>
                  <a:lnTo>
                    <a:pt x="169" y="138"/>
                  </a:lnTo>
                  <a:lnTo>
                    <a:pt x="113" y="119"/>
                  </a:lnTo>
                  <a:lnTo>
                    <a:pt x="67" y="94"/>
                  </a:lnTo>
                  <a:lnTo>
                    <a:pt x="29" y="65"/>
                  </a:lnTo>
                  <a:lnTo>
                    <a:pt x="15" y="48"/>
                  </a:lnTo>
                  <a:lnTo>
                    <a:pt x="6" y="35"/>
                  </a:lnTo>
                  <a:lnTo>
                    <a:pt x="4" y="17"/>
                  </a:lnTo>
                  <a:lnTo>
                    <a:pt x="0" y="0"/>
                  </a:lnTo>
                </a:path>
              </a:pathLst>
            </a:custGeom>
            <a:noFill/>
            <a:ln w="25560">
              <a:solidFill>
                <a:srgbClr val="0039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38" name="Freeform 29"/>
            <p:cNvSpPr/>
            <p:nvPr/>
          </p:nvSpPr>
          <p:spPr>
            <a:xfrm>
              <a:off x="5557680" y="4454640"/>
              <a:ext cx="292320" cy="201600"/>
            </a:xfrm>
            <a:custGeom>
              <a:avLst/>
              <a:gdLst>
                <a:gd name="textAreaLeft" fmla="*/ 0 w 292320"/>
                <a:gd name="textAreaRight" fmla="*/ 292680 w 292320"/>
                <a:gd name="textAreaTop" fmla="*/ 0 h 201600"/>
                <a:gd name="textAreaBottom" fmla="*/ 201960 h 201600"/>
              </a:gdLst>
              <a:ahLst/>
              <a:rect l="textAreaLeft" t="textAreaTop" r="textAreaRight" b="textAreaBottom"/>
              <a:pathLst>
                <a:path w="369" h="255">
                  <a:moveTo>
                    <a:pt x="0" y="0"/>
                  </a:moveTo>
                  <a:lnTo>
                    <a:pt x="73" y="8"/>
                  </a:lnTo>
                  <a:lnTo>
                    <a:pt x="142" y="21"/>
                  </a:lnTo>
                  <a:lnTo>
                    <a:pt x="206" y="46"/>
                  </a:lnTo>
                  <a:lnTo>
                    <a:pt x="259" y="77"/>
                  </a:lnTo>
                  <a:lnTo>
                    <a:pt x="305" y="111"/>
                  </a:lnTo>
                  <a:lnTo>
                    <a:pt x="340" y="157"/>
                  </a:lnTo>
                  <a:lnTo>
                    <a:pt x="353" y="179"/>
                  </a:lnTo>
                  <a:lnTo>
                    <a:pt x="363" y="202"/>
                  </a:lnTo>
                  <a:lnTo>
                    <a:pt x="367" y="230"/>
                  </a:lnTo>
                  <a:lnTo>
                    <a:pt x="369" y="255"/>
                  </a:lnTo>
                </a:path>
              </a:pathLst>
            </a:custGeom>
            <a:noFill/>
            <a:ln w="25560">
              <a:solidFill>
                <a:srgbClr val="0039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39" name="Freeform 30"/>
            <p:cNvSpPr/>
            <p:nvPr/>
          </p:nvSpPr>
          <p:spPr>
            <a:xfrm>
              <a:off x="7427880" y="4454640"/>
              <a:ext cx="309600" cy="172800"/>
            </a:xfrm>
            <a:custGeom>
              <a:avLst/>
              <a:gdLst>
                <a:gd name="textAreaLeft" fmla="*/ 0 w 309600"/>
                <a:gd name="textAreaRight" fmla="*/ 309960 w 309600"/>
                <a:gd name="textAreaTop" fmla="*/ 0 h 172800"/>
                <a:gd name="textAreaBottom" fmla="*/ 173160 h 172800"/>
              </a:gdLst>
              <a:ahLst/>
              <a:rect l="textAreaLeft" t="textAreaTop" r="textAreaRight" b="textAreaBottom"/>
              <a:pathLst>
                <a:path w="389" h="219">
                  <a:moveTo>
                    <a:pt x="389" y="0"/>
                  </a:moveTo>
                  <a:lnTo>
                    <a:pt x="309" y="4"/>
                  </a:lnTo>
                  <a:lnTo>
                    <a:pt x="236" y="17"/>
                  </a:lnTo>
                  <a:lnTo>
                    <a:pt x="169" y="38"/>
                  </a:lnTo>
                  <a:lnTo>
                    <a:pt x="113" y="63"/>
                  </a:lnTo>
                  <a:lnTo>
                    <a:pt x="67" y="98"/>
                  </a:lnTo>
                  <a:lnTo>
                    <a:pt x="29" y="132"/>
                  </a:lnTo>
                  <a:lnTo>
                    <a:pt x="15" y="154"/>
                  </a:lnTo>
                  <a:lnTo>
                    <a:pt x="6" y="175"/>
                  </a:lnTo>
                  <a:lnTo>
                    <a:pt x="4" y="200"/>
                  </a:lnTo>
                  <a:lnTo>
                    <a:pt x="0" y="219"/>
                  </a:lnTo>
                </a:path>
              </a:pathLst>
            </a:custGeom>
            <a:noFill/>
            <a:ln w="25560">
              <a:solidFill>
                <a:srgbClr val="0039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40" name="Oval 31"/>
            <p:cNvSpPr/>
            <p:nvPr/>
          </p:nvSpPr>
          <p:spPr>
            <a:xfrm>
              <a:off x="5307120" y="2357280"/>
              <a:ext cx="2793960" cy="817560"/>
            </a:xfrm>
            <a:prstGeom prst="ellipse">
              <a:avLst/>
            </a:prstGeom>
            <a:noFill/>
            <a:ln w="25560">
              <a:solidFill>
                <a:srgbClr val="00395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41" name="Oval 32"/>
            <p:cNvSpPr/>
            <p:nvPr/>
          </p:nvSpPr>
          <p:spPr>
            <a:xfrm>
              <a:off x="5281560" y="5208480"/>
              <a:ext cx="2787480" cy="817560"/>
            </a:xfrm>
            <a:prstGeom prst="ellipse">
              <a:avLst/>
            </a:prstGeom>
            <a:noFill/>
            <a:ln w="25560">
              <a:solidFill>
                <a:srgbClr val="00395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graphicFrame>
        <p:nvGraphicFramePr>
          <p:cNvPr id="343" name="Object 2"/>
          <p:cNvGraphicFramePr/>
          <p:nvPr/>
        </p:nvGraphicFramePr>
        <p:xfrm>
          <a:off x="755640" y="598320"/>
          <a:ext cx="7632720" cy="588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598320"/>
                    <a:ext cx="7632720" cy="58849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Footer Placeholder 1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Võimalik registrite süsteem Eestis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7" name="Footer Placeholder 2"/>
          <p:cNvSpPr/>
          <p:nvPr/>
        </p:nvSpPr>
        <p:spPr>
          <a:xfrm>
            <a:off x="5857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grpSp>
        <p:nvGrpSpPr>
          <p:cNvPr id="348" name="Group 6"/>
          <p:cNvGrpSpPr/>
          <p:nvPr/>
        </p:nvGrpSpPr>
        <p:grpSpPr>
          <a:xfrm>
            <a:off x="1044720" y="1436760"/>
            <a:ext cx="6561000" cy="5087880"/>
            <a:chOff x="1044720" y="1436760"/>
            <a:chExt cx="6561000" cy="5087880"/>
          </a:xfrm>
        </p:grpSpPr>
        <p:sp>
          <p:nvSpPr>
            <p:cNvPr id="349" name="AutoShape 35"/>
            <p:cNvSpPr/>
            <p:nvPr/>
          </p:nvSpPr>
          <p:spPr>
            <a:xfrm>
              <a:off x="1548720" y="1436760"/>
              <a:ext cx="6057000" cy="508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50" name="Oval 34"/>
            <p:cNvSpPr/>
            <p:nvPr/>
          </p:nvSpPr>
          <p:spPr>
            <a:xfrm>
              <a:off x="3123360" y="2520000"/>
              <a:ext cx="1332360" cy="1332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51" name="Oval 33"/>
            <p:cNvSpPr/>
            <p:nvPr/>
          </p:nvSpPr>
          <p:spPr>
            <a:xfrm>
              <a:off x="3123360" y="4095000"/>
              <a:ext cx="1332360" cy="1332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52" name="Oval 32"/>
            <p:cNvSpPr/>
            <p:nvPr/>
          </p:nvSpPr>
          <p:spPr>
            <a:xfrm>
              <a:off x="4819320" y="2520000"/>
              <a:ext cx="1332360" cy="1332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53" name="Oval 31"/>
            <p:cNvSpPr/>
            <p:nvPr/>
          </p:nvSpPr>
          <p:spPr>
            <a:xfrm>
              <a:off x="4819320" y="4095000"/>
              <a:ext cx="1332360" cy="1332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54" name="Text Box 30"/>
            <p:cNvSpPr/>
            <p:nvPr/>
          </p:nvSpPr>
          <p:spPr>
            <a:xfrm>
              <a:off x="3244680" y="2883600"/>
              <a:ext cx="118332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951"/>
                  </a:solidFill>
                  <a:latin typeface="Arial"/>
                  <a:ea typeface="Times New Roman"/>
                </a:rPr>
                <a:t>Rahvastiku statistiline register</a:t>
              </a:r>
              <a:endParaRPr b="1" lang="en-US" sz="14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55" name="Text Box 29"/>
            <p:cNvSpPr/>
            <p:nvPr/>
          </p:nvSpPr>
          <p:spPr>
            <a:xfrm>
              <a:off x="3204000" y="4381200"/>
              <a:ext cx="1224000" cy="84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t-EE" sz="1400" spc="-1" strike="noStrike">
                  <a:solidFill>
                    <a:srgbClr val="003951"/>
                  </a:solidFill>
                  <a:latin typeface="Arial"/>
                  <a:ea typeface="Times New Roman"/>
                </a:rPr>
                <a:t>Hoonete ja ruumide </a:t>
              </a:r>
              <a:r>
                <a:rPr b="1" lang="en-US" sz="1400" spc="-1" strike="noStrike">
                  <a:solidFill>
                    <a:srgbClr val="003951"/>
                  </a:solidFill>
                  <a:latin typeface="Arial"/>
                  <a:ea typeface="Times New Roman"/>
                </a:rPr>
                <a:t>statistiline register</a:t>
              </a:r>
              <a:endParaRPr b="1" lang="en-US" sz="14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56" name="Text Box 28"/>
            <p:cNvSpPr/>
            <p:nvPr/>
          </p:nvSpPr>
          <p:spPr>
            <a:xfrm>
              <a:off x="4940640" y="4292640"/>
              <a:ext cx="10900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951"/>
                  </a:solidFill>
                  <a:latin typeface="Arial"/>
                  <a:ea typeface="Times New Roman"/>
                </a:rPr>
                <a:t>Majandus-üksuste statistiline register </a:t>
              </a:r>
              <a:endParaRPr b="1" lang="en-US" sz="14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57" name="Text Box 27"/>
            <p:cNvSpPr/>
            <p:nvPr/>
          </p:nvSpPr>
          <p:spPr>
            <a:xfrm>
              <a:off x="4698360" y="2862360"/>
              <a:ext cx="1574640" cy="85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t-EE" sz="1400" spc="-1" strike="noStrike">
                  <a:solidFill>
                    <a:srgbClr val="003951"/>
                  </a:solidFill>
                  <a:latin typeface="Arial"/>
                  <a:ea typeface="Times New Roman"/>
                </a:rPr>
                <a:t>Tegevuste</a:t>
              </a:r>
              <a:r>
                <a:rPr b="1" lang="en-US" sz="1400" spc="-1" strike="noStrike">
                  <a:solidFill>
                    <a:srgbClr val="003951"/>
                  </a:solidFill>
                  <a:latin typeface="Arial"/>
                  <a:ea typeface="Times New Roman"/>
                </a:rPr>
                <a:t> </a:t>
              </a:r>
              <a:endParaRPr b="1" lang="en-US" sz="1400" spc="-1" strike="noStrike">
                <a:solidFill>
                  <a:srgbClr val="00395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951"/>
                  </a:solidFill>
                  <a:latin typeface="Arial"/>
                  <a:ea typeface="Times New Roman"/>
                </a:rPr>
                <a:t>statistiline register</a:t>
              </a:r>
              <a:endParaRPr b="1" lang="en-US" sz="14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58" name="Line 26"/>
            <p:cNvSpPr/>
            <p:nvPr/>
          </p:nvSpPr>
          <p:spPr>
            <a:xfrm>
              <a:off x="4456080" y="3246840"/>
              <a:ext cx="363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59" name="Line 25"/>
            <p:cNvSpPr/>
            <p:nvPr/>
          </p:nvSpPr>
          <p:spPr>
            <a:xfrm>
              <a:off x="4456080" y="4700520"/>
              <a:ext cx="36324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60" name="Line 24"/>
            <p:cNvSpPr/>
            <p:nvPr/>
          </p:nvSpPr>
          <p:spPr>
            <a:xfrm>
              <a:off x="3729240" y="3859560"/>
              <a:ext cx="720" cy="24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61" name="Line 23"/>
            <p:cNvSpPr/>
            <p:nvPr/>
          </p:nvSpPr>
          <p:spPr>
            <a:xfrm>
              <a:off x="5546160" y="3859560"/>
              <a:ext cx="720" cy="24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62" name="Line 20"/>
            <p:cNvSpPr/>
            <p:nvPr/>
          </p:nvSpPr>
          <p:spPr>
            <a:xfrm>
              <a:off x="2396520" y="3125880"/>
              <a:ext cx="726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63" name="Line 19"/>
            <p:cNvSpPr/>
            <p:nvPr/>
          </p:nvSpPr>
          <p:spPr>
            <a:xfrm>
              <a:off x="2396520" y="4700520"/>
              <a:ext cx="726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64" name="Line 18"/>
            <p:cNvSpPr/>
            <p:nvPr/>
          </p:nvSpPr>
          <p:spPr>
            <a:xfrm flipH="1">
              <a:off x="6152040" y="4700520"/>
              <a:ext cx="605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65" name="Line 17"/>
            <p:cNvSpPr/>
            <p:nvPr/>
          </p:nvSpPr>
          <p:spPr>
            <a:xfrm flipH="1">
              <a:off x="6152040" y="3125880"/>
              <a:ext cx="605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66" name="Rectangle 13"/>
            <p:cNvSpPr/>
            <p:nvPr/>
          </p:nvSpPr>
          <p:spPr>
            <a:xfrm>
              <a:off x="1044720" y="2830680"/>
              <a:ext cx="1502280" cy="6696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000" spc="-1" strike="noStrike">
                  <a:solidFill>
                    <a:srgbClr val="003951"/>
                  </a:solidFill>
                  <a:latin typeface="Arial"/>
                  <a:ea typeface="Times New Roman"/>
                </a:rPr>
                <a:t>Rahvastikuregister,</a:t>
              </a:r>
              <a:endParaRPr b="1" lang="en-US" sz="1000" spc="-1" strike="noStrike">
                <a:solidFill>
                  <a:srgbClr val="00395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000" spc="-1" strike="noStrike">
                  <a:solidFill>
                    <a:srgbClr val="003951"/>
                  </a:solidFill>
                  <a:latin typeface="Arial"/>
                  <a:ea typeface="Times New Roman"/>
                </a:rPr>
                <a:t>EHIS</a:t>
              </a:r>
              <a:endParaRPr b="1" lang="en-US" sz="1000" spc="-1" strike="noStrike">
                <a:solidFill>
                  <a:srgbClr val="003951"/>
                </a:solidFill>
                <a:latin typeface="Arial"/>
              </a:endParaRPr>
            </a:p>
          </p:txBody>
        </p:sp>
      </p:grpSp>
      <p:sp>
        <p:nvSpPr>
          <p:cNvPr id="367" name="Text Box 28"/>
          <p:cNvSpPr/>
          <p:nvPr/>
        </p:nvSpPr>
        <p:spPr>
          <a:xfrm>
            <a:off x="5713560" y="3716280"/>
            <a:ext cx="1090440" cy="7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400" spc="-1" strike="noStrike">
                <a:solidFill>
                  <a:srgbClr val="003951"/>
                </a:solidFill>
                <a:latin typeface="Arial"/>
                <a:ea typeface="Times New Roman"/>
              </a:rPr>
              <a:t>Registri-kood</a:t>
            </a:r>
            <a:endParaRPr b="1" lang="en-US" sz="1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411280" y="3716280"/>
            <a:ext cx="1090800" cy="7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400" spc="-1" strike="noStrike">
                <a:solidFill>
                  <a:srgbClr val="003951"/>
                </a:solidFill>
                <a:latin typeface="Arial"/>
                <a:ea typeface="Times New Roman"/>
              </a:rPr>
              <a:t>ADS kood</a:t>
            </a:r>
            <a:endParaRPr b="1" lang="en-US" sz="1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69" name="Text Box 28"/>
          <p:cNvSpPr/>
          <p:nvPr/>
        </p:nvSpPr>
        <p:spPr>
          <a:xfrm>
            <a:off x="4129200" y="2276640"/>
            <a:ext cx="1090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400" spc="-1" strike="noStrike">
                <a:solidFill>
                  <a:srgbClr val="003951"/>
                </a:solidFill>
                <a:latin typeface="Arial"/>
                <a:ea typeface="Times New Roman"/>
              </a:rPr>
              <a:t>Isikukood</a:t>
            </a:r>
            <a:endParaRPr b="1" lang="en-US" sz="1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70" name="Text Box 28"/>
          <p:cNvSpPr/>
          <p:nvPr/>
        </p:nvSpPr>
        <p:spPr>
          <a:xfrm>
            <a:off x="4129200" y="5288040"/>
            <a:ext cx="1090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400" spc="-1" strike="noStrike">
                <a:solidFill>
                  <a:srgbClr val="003951"/>
                </a:solidFill>
                <a:latin typeface="Arial"/>
                <a:ea typeface="Times New Roman"/>
              </a:rPr>
              <a:t>ADS kood</a:t>
            </a:r>
            <a:endParaRPr b="1" lang="en-US" sz="1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71" name="Rectangle 13"/>
          <p:cNvSpPr/>
          <p:nvPr/>
        </p:nvSpPr>
        <p:spPr>
          <a:xfrm>
            <a:off x="1116000" y="4487760"/>
            <a:ext cx="1368360" cy="6699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  <a:ea typeface="Times New Roman"/>
              </a:rPr>
              <a:t>Ehitisregister, Kinnistusraamat,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  <a:ea typeface="Times New Roman"/>
              </a:rPr>
              <a:t>Aadressiandmete süsteem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72" name="Rectangle 13"/>
          <p:cNvSpPr/>
          <p:nvPr/>
        </p:nvSpPr>
        <p:spPr>
          <a:xfrm>
            <a:off x="6732720" y="2781360"/>
            <a:ext cx="1368360" cy="6699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  <a:ea typeface="Times New Roman"/>
              </a:rPr>
              <a:t>EMTA,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  <a:ea typeface="Times New Roman"/>
              </a:rPr>
              <a:t>EHIS,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  <a:ea typeface="Times New Roman"/>
              </a:rPr>
              <a:t>SKA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73" name="Rectangle 13"/>
          <p:cNvSpPr/>
          <p:nvPr/>
        </p:nvSpPr>
        <p:spPr>
          <a:xfrm>
            <a:off x="6732720" y="4414680"/>
            <a:ext cx="1368360" cy="6699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  <a:ea typeface="Times New Roman"/>
              </a:rPr>
              <a:t>Äriregister, RKOARR,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  <a:ea typeface="Times New Roman"/>
              </a:rPr>
              <a:t>MTR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Footer Placeholder 1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Registrite süsteem Rootsis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76" name="Footer Placeholder 3"/>
          <p:cNvSpPr/>
          <p:nvPr/>
        </p:nvSpPr>
        <p:spPr>
          <a:xfrm>
            <a:off x="5857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377" name="Picture 5" descr=""/>
          <p:cNvPicPr/>
          <p:nvPr/>
        </p:nvPicPr>
        <p:blipFill>
          <a:blip r:embed="rId1"/>
          <a:stretch/>
        </p:blipFill>
        <p:spPr>
          <a:xfrm>
            <a:off x="684360" y="1901880"/>
            <a:ext cx="8402400" cy="45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Rahvaloenduse meetodid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Euroopa parlamendi ja nõukogu määrus rahva ja eluruumide loenduste kohta (Artikkel 4.1)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Liikmesriigid saavad statistika tegemisel toetuda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mitmesugustele andmeallikatele ja eelkõige: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951"/>
                </a:solidFill>
                <a:latin typeface="Arial"/>
              </a:rPr>
              <a:t>tavapärasele loendusele; 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951"/>
                </a:solidFill>
                <a:latin typeface="Arial"/>
              </a:rPr>
              <a:t>registripõhisele loendusele; 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951"/>
                </a:solidFill>
                <a:latin typeface="Arial"/>
              </a:rPr>
              <a:t>tavapärase loenduse ja valikvaatluse kombinatsioonile; 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951"/>
                </a:solidFill>
                <a:latin typeface="Arial"/>
              </a:rPr>
              <a:t>registripõhise loenduse ja valikvaatluse kombinatsioonile; 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951"/>
                </a:solidFill>
                <a:latin typeface="Arial"/>
              </a:rPr>
              <a:t>registripõhise loenduse ja tavapärase loenduse kombinatsioonile; 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951"/>
                </a:solidFill>
                <a:latin typeface="Arial"/>
              </a:rPr>
              <a:t>asjakohasele uuringule vahelduvate valimitega (jadaloendus).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5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4" descr=""/>
          <p:cNvPicPr/>
          <p:nvPr/>
        </p:nvPicPr>
        <p:blipFill>
          <a:blip r:embed="rId1"/>
          <a:stretch/>
        </p:blipFill>
        <p:spPr>
          <a:xfrm>
            <a:off x="1187280" y="765000"/>
            <a:ext cx="5783400" cy="5516640"/>
          </a:xfrm>
          <a:prstGeom prst="rect">
            <a:avLst/>
          </a:prstGeom>
          <a:ln w="0">
            <a:noFill/>
          </a:ln>
        </p:spPr>
      </p:pic>
      <p:sp>
        <p:nvSpPr>
          <p:cNvPr id="257" name="Text Box 5"/>
          <p:cNvSpPr/>
          <p:nvPr/>
        </p:nvSpPr>
        <p:spPr>
          <a:xfrm>
            <a:off x="7093080" y="5661000"/>
            <a:ext cx="18716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Allikas: Population &amp; Societies 467, mai 2010 </a:t>
            </a:r>
            <a:endParaRPr b="1" lang="en-US" sz="1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REGREL etapid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2010–2013 ettevalmistav faas.</a:t>
            </a:r>
            <a:br>
              <a:rPr sz="2400"/>
            </a:b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Tulemus:</a:t>
            </a:r>
            <a:br>
              <a:rPr sz="2400"/>
            </a:b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2014 pilootloendus põhiregistrite alus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2014–2017 jätkusuutlikkuse tagamise faas</a:t>
            </a:r>
            <a:br>
              <a:rPr sz="2400"/>
            </a:b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Tulemus:</a:t>
            </a:r>
            <a:br>
              <a:rPr sz="2400"/>
            </a:b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2017 prooviloendus kõigi hõlmatud registrite alus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2018–2021 juurutamise faa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361800" indent="-361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Tulemus: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361800" indent="-361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peamiselt registripõhine REL ehk REGREL 2020. aasta loendusvooru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REGREL organisatsioon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REGREL kontseptsiooni ja metoodika väljatöötamine ning loenduse ettevalmistamine eeldab sellist organisatsiooni, mis toetab erinevate SA siseste üksuste tegevuste ning teiste asutuste tegevuste head koordineerimis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REGREL ettevalmistamise juhtimine põhineb ametlikul koordineerimisraamistikul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REGREL saab reaalsuseks üksnes erinevate osapoolte tugeva vabatahtliku pühendumise ja positiivse suhtumise korra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55280" y="907920"/>
            <a:ext cx="799308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SA visioon REL ja REGREL juhtimises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263" name="Picture 5" descr="skeem-3"/>
          <p:cNvPicPr/>
          <p:nvPr/>
        </p:nvPicPr>
        <p:blipFill>
          <a:blip r:embed="rId1"/>
          <a:stretch/>
        </p:blipFill>
        <p:spPr>
          <a:xfrm>
            <a:off x="1476360" y="1484280"/>
            <a:ext cx="6031080" cy="52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Vabariigi Valitsuse Rahvaloenduskomisjon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54240" indent="-354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VVRK on valitsusasutuste vahelise koordineerimiskomisjon, mille koosseisu kuuluvad ministeeriumide kantslerid ja asutuste juhid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54240" indent="-354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Praegu töötav VVRK omab mandaati RStS §  44 lg 2 alusel kuni 2011.a. REL ettevalmistustööde lõppemiseni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54240" indent="-354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RStS § 21 lg 3 Vabariigi Valitsusele võimaluse moodustada loenduskomisjon 2021.a. loenduse (REGREL) ettevalmistamiseks.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54240" indent="-354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Vabariigi Valitsuse rahvaloenduskomisjon tuleks 2012. aastal uuesti moodustada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58560" y="112536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VVRK ülesanded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1247760" y="1988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marL="321840" indent="-3218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teeb VVle ettepanekuid loenduse korraldamisega seonduvate õigusaktide  ettevalmistamisek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21840" indent="-3218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koordineerib loenduse korraldamist valitsusasutuste tasemel ning suunab riigiasutuste koostööd loenduse korraldamis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21840" indent="-3218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kinnitab registrite korrastamise projektide rahastamise põhimõtted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21840" indent="-3218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kooskõlastab  tegevus- ja ajakava ning jälgib nende täitmis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21840" indent="-3218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nalüüsib loenduse korraldamise kulusid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21840" indent="-3218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täidab muid loenduse ettevalmistamisega seotud ülesandeid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3T06:06:14Z</dcterms:created>
  <dc:creator>user</dc:creator>
  <dc:description/>
  <dc:language>en-US</dc:language>
  <cp:lastModifiedBy>Kristina Lauri</cp:lastModifiedBy>
  <dcterms:modified xsi:type="dcterms:W3CDTF">2011-06-21T08:28:19Z</dcterms:modified>
  <cp:revision>67</cp:revision>
  <dc:subject/>
  <dc:title>Slide 1</dc:title>
</cp:coreProperties>
</file>