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878A-CF20-46DF-BC9E-41F51F13D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7974-F7CA-4534-8A14-65C4DD23AA83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Aadresside korrastamine on üks võtmeküsimusi REGREL toimimisieks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On vaja lisaks registrite korrastamisele tõsta inimeste teadlikkust, et on vajalik registreerida oma eluko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5A3E-73B1-42F6-B133-0F48FF46D263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Loodud on ka komisjon projektide läbivaatamiseks, komisjoni juhib ja rahastamisega tegeleb Riigi infosüsteemide arenduskesk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AD2E-7CD8-4CD2-9359-CFF3531378E1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99D5-99C6-4ED1-89EC-808698CEC52D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79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90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560232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Ülevaade rahva ja eluruumide registripõhise loenduse (REGREL) ettevalmistamise juhtimisest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304488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0.06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Kaja Sõstra, Ph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toodika osakonna juhata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Juhtrühm (REL Kogu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Juhtrühm on püsiv organ, mis täidab klassikalisi projekti juhatuse rol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seisu kuuluva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(loenduse läbiviija) asjaomased osakonnajuhataja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adusnõukogu esimee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M (loenduse tellija-rahastaja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- ja Kommunikatsiooniministeeriumi (registrite projektide rahastaja, riigi infosüsteemide arengu eestvedaja, riigi infosüsteemide haldaja ja koordinaator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eadusnõukog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247760" y="184428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tarbijate vajadusi arvestavate võrreldavate andmeväljundite kavanda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registriandmete analüüsi metoodika valiku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REGREL valdkonnasõnastiku metoodilise juhendi koost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indab riske uute tehnoloogiliste vahendite kasutuselevõt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registrite kasutuselevõtu küsimustes, sh milliseid tunnuseid millisest registrit ja millises järjekorra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loendusmomendi ja andmekogumisperioodi määral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projektirühma kuuluvad REGREL andmekogude eksperdid ning teemaprojektide juh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teemaprojekt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toodika väljatöö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 (RR, EHIS, EHR, …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loom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rkvaralahendus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META – integreeritud metaandmete süstee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AM – andmehõive andmekogude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RS – statistiliste registrite süstee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IS – vaatluste andmetöötluse infosüstee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a ülesande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rraldab REGREL metoodika väljatöötamist ja REGREL ettevalmistamist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ab ettevalmistustööde aja- ja tegevuskava, planeerib ressursid ja  eelarve,  kaardistab riskid ning esitab juhtrühmale kinnita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õustab teemaprojekte finantseerimisallikate leidmisel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endab REGREL jaoks vajalikud IT-lahendused andmete hõivamiseks, uuendamiseks, töötlemiseks ja avalda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rraldab koostööd andmekogude haldajate ja rahvusvaheliste statistikaorganisatsioonidega REGREL teadmuse omanda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4683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a ülesanded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rdineerib riigi andmekogude andmekooseisu vastavusse viimist REGREL vajadustega, korraldab seda tagavate õigusaktide ettevalmistamise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oob kontaktvõrgustiku siseriiklikul tasandil, teeb intervjuud andmekogude haldajatega hindamaks andmekogude kaetust ja kvaliteeti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alüüsib ja võrdleb registrites kasutuseolevaid klassifikaatoreid, definitsioone ja mõisteid, võttes aluseks rahvusvahelised standardid ja loenduse eesmärgid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ab REGREL valdkonnasõnastiku metoodilise juhendi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eb Eesti õigusruumi sisuanalüüsi ja hindab selle mõju andmekogude andmekoosseisule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a ülesanded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öötab välja REGREL andmehõive protsessis osalevate andmekogude võrgustiku ja andmete hõivamise reeglistiku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nab aru  REL juhtrühmale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lgatab REL juhtrühma kokkukutsumise selle pädevusse kuuluvate otsuste tege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õustab andmekogude korrastamise ja kvaliteedi parendamise protsessi klassifikaatorite ja andmeformaatide ühtlustamise ettepanekute läbi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õustab koosvõimelise isiku ja eluruumi registripõhise andmekorje (andmehõive) protsessi loomist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ettevalmist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meti statistikatööde loetellu on lisatud registripõhise rahva ja eluruumide prooviloenduse ettevalmi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es RStSis on loodud eeldused registripõhise statistika tege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ojektorganisatsiooni kohta ettepanekute tegemine,  vajalike dokumentide koo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gatatud on REGREL metoodika projek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gatatud on vajalikud IT-projekt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astamisvõimalused registrite kohand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fookus 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13920" y="199980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eskonna komplekteeri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toodika teemaprojektist (2010–2013) tulemuste sa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T-arendusprojektides REGREL vajaduste arve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te REGRELks kohandamine (ADS rakendamine  ja liidestumine X-teega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istripõhise rahvaloenduse metoodika teemaprojek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märk: registripõhise rahva ja eluruumide loenduse (REGREL) metoodika arendamine isiku ja eluruumi tunnuste osas ning neid tunnuseid sisaldavate registrite kvaliteedi ja koostoime analüü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artnerid: Ernst &amp; Young Baltic AS, Eesti Demograafia Instituu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jakava: oktoober 2010-august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Finantseeritud struktuurivahenditest “Tarkade otsuste fond”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metoodika teemaprojekti alameesmärg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rida isiku- ja eluruumi andmeid sisaldavaid registreid ja nende seostatav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gevdada koostööd erinevate ametkondade vah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innata registripõhise RELi korraldamise võimalikk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alüüsida meetmeid,  mis võimaldaksid kõrvaldada kitsaskohti isiku- ja eluruumi andmeid sisaldavate registrite süsteem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toodika väljatöötamisel tugineda Euroopa parimale praktika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va ja eluruumide loenduse eesmär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 ja eluruumide loenduse eesmärk on põhjalike, kvaliteedikriteeriumitele vastavate andmete kogumine ja avaldamine elanikkonna, leibkondade ja elamistingimust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raditsioonilise ja registripõhise rahvaloenduse ettevalmistuse, andmekogumise ja andmetöötluse protsessid on kardinaalselt erinevad, kuid eesmärk on sam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aasatud registr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896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stiku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hariduse infosüstee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 ehitis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andmete süstee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Äri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ksukohustuslast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tegevus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vikindlustuse andmekog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 pensionikindlustus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uud alternatiivsed riiklikud kui ka erasektori registr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Tunnuste olemasolu ja puudused (valikuline väljavõte, seisuga veebr. 2010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68160" y="1844640"/>
          <a:ext cx="8367840" cy="4389480"/>
        </p:xfrm>
        <a:graphic>
          <a:graphicData uri="http://schemas.openxmlformats.org/drawingml/2006/table">
            <a:tbl>
              <a:tblPr/>
              <a:tblGrid>
                <a:gridCol w="2789280"/>
                <a:gridCol w="2789280"/>
                <a:gridCol w="278928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UNNUS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NDMEKOGU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AETUS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ünniaeg ja van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0 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ugu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odakonds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0 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ahv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7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lalise elukoha aadres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0-75 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Harid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HI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~2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Hõiveseisund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MTA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~8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met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-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eibkonnaliikmete omavahelised seosed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0-5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Metoodika projekti esimesed tulemused: probleemsed tunn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uuduvad täielikult registri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me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oimla, tegevusal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saline kae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aridustase – olemas ainult nooremat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uruumid – EHRis osa eluruume puud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valiteedi problee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d – aadressistandard andmekogudes juurutama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i ettevalmistamiseks registrite korrastamine</a:t>
            </a:r>
            <a:br>
              <a:rPr sz="3200"/>
            </a:b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- ja kommunikatsiooniministri 2011.05.02 käskkiri nr 11-0146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simene etapp – aadressiandmete süsteemi (ADS) rakenda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ha-aadresside määramine ja esi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andmete töötle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valiteedi tõst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gieelarve eraldis 1 360 041 euro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a-amet on esitanud taotlus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kkuvõt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põhise loenduse ettevalmistamine on pikaajaline ja töömahukas protses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jalikud on suuremahulised tööd registrite kohandamisel REGREL vajadust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luline on avalikkuse positiivne suhtumine ja teadlikkus, et vajalik on iga inimese panus oma registriandmete aktualiseeri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6.05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-7920" y="-7920"/>
            <a:ext cx="9159840" cy="6877080"/>
            <a:chOff x="-7920" y="-7920"/>
            <a:chExt cx="9159840" cy="6877080"/>
          </a:xfrm>
        </p:grpSpPr>
        <p:pic>
          <p:nvPicPr>
            <p:cNvPr id="309" name="Picture 5" descr="Eesti statistika_vahe_mereroh"/>
            <p:cNvPicPr/>
            <p:nvPr/>
          </p:nvPicPr>
          <p:blipFill>
            <a:blip r:embed="rId1"/>
            <a:stretch/>
          </p:blipFill>
          <p:spPr>
            <a:xfrm>
              <a:off x="-7920" y="-7920"/>
              <a:ext cx="9159840" cy="687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6" descr="90"/>
            <p:cNvPicPr/>
            <p:nvPr/>
          </p:nvPicPr>
          <p:blipFill>
            <a:blip r:embed="rId2"/>
            <a:stretch/>
          </p:blipFill>
          <p:spPr>
            <a:xfrm>
              <a:off x="7356600" y="404640"/>
              <a:ext cx="1103040" cy="1063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dministratiivsest andmeallikast statistiliseks registri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deeri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uuduvate väärtustega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egele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eo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tatistiliste üksuste ja 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ajate moodu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ne üldkogu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314" name="Group 4"/>
          <p:cNvGrpSpPr/>
          <p:nvPr/>
        </p:nvGrpSpPr>
        <p:grpSpPr>
          <a:xfrm>
            <a:off x="5281560" y="2290680"/>
            <a:ext cx="2819520" cy="3801960"/>
            <a:chOff x="5281560" y="2290680"/>
            <a:chExt cx="2819520" cy="3801960"/>
          </a:xfrm>
        </p:grpSpPr>
        <p:sp>
          <p:nvSpPr>
            <p:cNvPr id="315" name="AutoShape 3"/>
            <p:cNvSpPr/>
            <p:nvPr/>
          </p:nvSpPr>
          <p:spPr>
            <a:xfrm>
              <a:off x="5281560" y="2290680"/>
              <a:ext cx="2819520" cy="38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6" name="Rectangle 7"/>
            <p:cNvSpPr/>
            <p:nvPr/>
          </p:nvSpPr>
          <p:spPr>
            <a:xfrm>
              <a:off x="5336640" y="23684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7" name="Rectangle 8"/>
            <p:cNvSpPr/>
            <p:nvPr/>
          </p:nvSpPr>
          <p:spPr>
            <a:xfrm>
              <a:off x="5651280" y="2662200"/>
              <a:ext cx="23022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8" name="Rectangle 9"/>
            <p:cNvSpPr/>
            <p:nvPr/>
          </p:nvSpPr>
          <p:spPr>
            <a:xfrm>
              <a:off x="5443920" y="2666880"/>
              <a:ext cx="25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Administra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iv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9" name="Rectangle 10"/>
            <p:cNvSpPr/>
            <p:nvPr/>
          </p:nvSpPr>
          <p:spPr>
            <a:xfrm>
              <a:off x="7980840" y="26668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0" name="Rectangle 11"/>
            <p:cNvSpPr/>
            <p:nvPr/>
          </p:nvSpPr>
          <p:spPr>
            <a:xfrm>
              <a:off x="5608440" y="3843360"/>
              <a:ext cx="19861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1" name="Rectangle 12"/>
            <p:cNvSpPr/>
            <p:nvPr/>
          </p:nvSpPr>
          <p:spPr>
            <a:xfrm>
              <a:off x="568008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2" name="Rectangle 13"/>
            <p:cNvSpPr/>
            <p:nvPr/>
          </p:nvSpPr>
          <p:spPr>
            <a:xfrm>
              <a:off x="653400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3" name="Rectangle 14"/>
            <p:cNvSpPr/>
            <p:nvPr/>
          </p:nvSpPr>
          <p:spPr>
            <a:xfrm>
              <a:off x="659916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4" name="Rectangle 15"/>
            <p:cNvSpPr/>
            <p:nvPr/>
          </p:nvSpPr>
          <p:spPr>
            <a:xfrm>
              <a:off x="757296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5" name="Rectangle 16"/>
            <p:cNvSpPr/>
            <p:nvPr/>
          </p:nvSpPr>
          <p:spPr>
            <a:xfrm>
              <a:off x="5837040" y="4127400"/>
              <a:ext cx="14526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6" name="Rectangle 17"/>
            <p:cNvSpPr/>
            <p:nvPr/>
          </p:nvSpPr>
          <p:spPr>
            <a:xfrm>
              <a:off x="6036480" y="4132080"/>
              <a:ext cx="136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Andmetöötlus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7" name="Rectangle 18"/>
            <p:cNvSpPr/>
            <p:nvPr/>
          </p:nvSpPr>
          <p:spPr>
            <a:xfrm>
              <a:off x="7144200" y="4132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8" name="Rectangle 19"/>
            <p:cNvSpPr/>
            <p:nvPr/>
          </p:nvSpPr>
          <p:spPr>
            <a:xfrm>
              <a:off x="5848200" y="5511600"/>
              <a:ext cx="19036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9" name="Rectangle 20"/>
            <p:cNvSpPr/>
            <p:nvPr/>
          </p:nvSpPr>
          <p:spPr>
            <a:xfrm>
              <a:off x="5738760" y="5518080"/>
              <a:ext cx="200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Statis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li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0" name="Rectangle 21"/>
            <p:cNvSpPr/>
            <p:nvPr/>
          </p:nvSpPr>
          <p:spPr>
            <a:xfrm>
              <a:off x="7739640" y="551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1" name="Line 22"/>
            <p:cNvSpPr/>
            <p:nvPr/>
          </p:nvSpPr>
          <p:spPr>
            <a:xfrm flipV="1">
              <a:off x="6659640" y="4752720"/>
              <a:ext cx="108720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2" name="Line 23"/>
            <p:cNvSpPr/>
            <p:nvPr/>
          </p:nvSpPr>
          <p:spPr>
            <a:xfrm flipH="1" flipV="1">
              <a:off x="5557320" y="4752720"/>
              <a:ext cx="110196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3" name="Line 24"/>
            <p:cNvSpPr/>
            <p:nvPr/>
          </p:nvSpPr>
          <p:spPr>
            <a:xfrm flipV="1">
              <a:off x="5557680" y="3270240"/>
              <a:ext cx="1800" cy="11844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5557680" y="3270240"/>
              <a:ext cx="2176560" cy="144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>
              <a:off x="7726320" y="3289320"/>
              <a:ext cx="1440" cy="11700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6" name="Freeform 27"/>
            <p:cNvSpPr/>
            <p:nvPr/>
          </p:nvSpPr>
          <p:spPr>
            <a:xfrm>
              <a:off x="5557680" y="4649760"/>
              <a:ext cx="292320" cy="92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69" h="115">
                  <a:moveTo>
                    <a:pt x="0" y="115"/>
                  </a:moveTo>
                  <a:lnTo>
                    <a:pt x="73" y="111"/>
                  </a:lnTo>
                  <a:lnTo>
                    <a:pt x="142" y="103"/>
                  </a:lnTo>
                  <a:lnTo>
                    <a:pt x="206" y="94"/>
                  </a:lnTo>
                  <a:lnTo>
                    <a:pt x="259" y="80"/>
                  </a:lnTo>
                  <a:lnTo>
                    <a:pt x="305" y="63"/>
                  </a:lnTo>
                  <a:lnTo>
                    <a:pt x="340" y="46"/>
                  </a:lnTo>
                  <a:lnTo>
                    <a:pt x="353" y="34"/>
                  </a:lnTo>
                  <a:lnTo>
                    <a:pt x="363" y="25"/>
                  </a:lnTo>
                  <a:lnTo>
                    <a:pt x="367" y="9"/>
                  </a:lnTo>
                  <a:lnTo>
                    <a:pt x="369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7" name="Freeform 28"/>
            <p:cNvSpPr/>
            <p:nvPr/>
          </p:nvSpPr>
          <p:spPr>
            <a:xfrm>
              <a:off x="7427880" y="4622760"/>
              <a:ext cx="309600" cy="1332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389" h="167">
                  <a:moveTo>
                    <a:pt x="389" y="167"/>
                  </a:moveTo>
                  <a:lnTo>
                    <a:pt x="309" y="163"/>
                  </a:lnTo>
                  <a:lnTo>
                    <a:pt x="236" y="154"/>
                  </a:lnTo>
                  <a:lnTo>
                    <a:pt x="169" y="138"/>
                  </a:lnTo>
                  <a:lnTo>
                    <a:pt x="113" y="119"/>
                  </a:lnTo>
                  <a:lnTo>
                    <a:pt x="67" y="94"/>
                  </a:lnTo>
                  <a:lnTo>
                    <a:pt x="29" y="65"/>
                  </a:lnTo>
                  <a:lnTo>
                    <a:pt x="15" y="48"/>
                  </a:lnTo>
                  <a:lnTo>
                    <a:pt x="6" y="35"/>
                  </a:lnTo>
                  <a:lnTo>
                    <a:pt x="4" y="17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8" name="Freeform 29"/>
            <p:cNvSpPr/>
            <p:nvPr/>
          </p:nvSpPr>
          <p:spPr>
            <a:xfrm>
              <a:off x="5557680" y="4454640"/>
              <a:ext cx="292320" cy="2016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69" h="255">
                  <a:moveTo>
                    <a:pt x="0" y="0"/>
                  </a:moveTo>
                  <a:lnTo>
                    <a:pt x="73" y="8"/>
                  </a:lnTo>
                  <a:lnTo>
                    <a:pt x="142" y="21"/>
                  </a:lnTo>
                  <a:lnTo>
                    <a:pt x="206" y="46"/>
                  </a:lnTo>
                  <a:lnTo>
                    <a:pt x="259" y="77"/>
                  </a:lnTo>
                  <a:lnTo>
                    <a:pt x="305" y="111"/>
                  </a:lnTo>
                  <a:lnTo>
                    <a:pt x="340" y="157"/>
                  </a:lnTo>
                  <a:lnTo>
                    <a:pt x="353" y="179"/>
                  </a:lnTo>
                  <a:lnTo>
                    <a:pt x="363" y="202"/>
                  </a:lnTo>
                  <a:lnTo>
                    <a:pt x="367" y="230"/>
                  </a:lnTo>
                  <a:lnTo>
                    <a:pt x="369" y="255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9" name="Freeform 30"/>
            <p:cNvSpPr/>
            <p:nvPr/>
          </p:nvSpPr>
          <p:spPr>
            <a:xfrm>
              <a:off x="7427880" y="4454640"/>
              <a:ext cx="309600" cy="172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89" h="219">
                  <a:moveTo>
                    <a:pt x="389" y="0"/>
                  </a:moveTo>
                  <a:lnTo>
                    <a:pt x="309" y="4"/>
                  </a:lnTo>
                  <a:lnTo>
                    <a:pt x="236" y="17"/>
                  </a:lnTo>
                  <a:lnTo>
                    <a:pt x="169" y="38"/>
                  </a:lnTo>
                  <a:lnTo>
                    <a:pt x="113" y="63"/>
                  </a:lnTo>
                  <a:lnTo>
                    <a:pt x="67" y="98"/>
                  </a:lnTo>
                  <a:lnTo>
                    <a:pt x="29" y="132"/>
                  </a:lnTo>
                  <a:lnTo>
                    <a:pt x="15" y="154"/>
                  </a:lnTo>
                  <a:lnTo>
                    <a:pt x="6" y="175"/>
                  </a:lnTo>
                  <a:lnTo>
                    <a:pt x="4" y="200"/>
                  </a:lnTo>
                  <a:lnTo>
                    <a:pt x="0" y="219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40" name="Oval 31"/>
            <p:cNvSpPr/>
            <p:nvPr/>
          </p:nvSpPr>
          <p:spPr>
            <a:xfrm>
              <a:off x="5307120" y="2357280"/>
              <a:ext cx="279396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41" name="Oval 32"/>
            <p:cNvSpPr/>
            <p:nvPr/>
          </p:nvSpPr>
          <p:spPr>
            <a:xfrm>
              <a:off x="5281560" y="5208480"/>
              <a:ext cx="278748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43" name="Object 2"/>
          <p:cNvGraphicFramePr/>
          <p:nvPr/>
        </p:nvGraphicFramePr>
        <p:xfrm>
          <a:off x="755640" y="598320"/>
          <a:ext cx="7632720" cy="58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98320"/>
                    <a:ext cx="7632720" cy="588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õimalik registrite süsteem Eest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Footer Placeholder 2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348" name="Group 6"/>
          <p:cNvGrpSpPr/>
          <p:nvPr/>
        </p:nvGrpSpPr>
        <p:grpSpPr>
          <a:xfrm>
            <a:off x="1044720" y="1436760"/>
            <a:ext cx="6561000" cy="5087880"/>
            <a:chOff x="1044720" y="1436760"/>
            <a:chExt cx="6561000" cy="5087880"/>
          </a:xfrm>
        </p:grpSpPr>
        <p:sp>
          <p:nvSpPr>
            <p:cNvPr id="349" name="AutoShape 35"/>
            <p:cNvSpPr/>
            <p:nvPr/>
          </p:nvSpPr>
          <p:spPr>
            <a:xfrm>
              <a:off x="1548720" y="1436760"/>
              <a:ext cx="6057000" cy="50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0" name="Oval 34"/>
            <p:cNvSpPr/>
            <p:nvPr/>
          </p:nvSpPr>
          <p:spPr>
            <a:xfrm>
              <a:off x="3123360" y="2520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1" name="Oval 33"/>
            <p:cNvSpPr/>
            <p:nvPr/>
          </p:nvSpPr>
          <p:spPr>
            <a:xfrm>
              <a:off x="3123360" y="4095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2" name="Oval 32"/>
            <p:cNvSpPr/>
            <p:nvPr/>
          </p:nvSpPr>
          <p:spPr>
            <a:xfrm>
              <a:off x="4819320" y="2520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3" name="Oval 31"/>
            <p:cNvSpPr/>
            <p:nvPr/>
          </p:nvSpPr>
          <p:spPr>
            <a:xfrm>
              <a:off x="4819320" y="4095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4" name="Text Box 30"/>
            <p:cNvSpPr/>
            <p:nvPr/>
          </p:nvSpPr>
          <p:spPr>
            <a:xfrm>
              <a:off x="3244680" y="2883600"/>
              <a:ext cx="1183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Rahvastiku statistiline register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5" name="Text Box 29"/>
            <p:cNvSpPr/>
            <p:nvPr/>
          </p:nvSpPr>
          <p:spPr>
            <a:xfrm>
              <a:off x="3204000" y="4381200"/>
              <a:ext cx="1224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Hoonete ja ruumide </a:t>
              </a: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statistiline register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6" name="Text Box 28"/>
            <p:cNvSpPr/>
            <p:nvPr/>
          </p:nvSpPr>
          <p:spPr>
            <a:xfrm>
              <a:off x="4940640" y="4292640"/>
              <a:ext cx="1090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Majandus-üksuste statistiline register 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7" name="Text Box 27"/>
            <p:cNvSpPr/>
            <p:nvPr/>
          </p:nvSpPr>
          <p:spPr>
            <a:xfrm>
              <a:off x="4698360" y="2862360"/>
              <a:ext cx="1574640" cy="8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Tegevuste</a:t>
              </a: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 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statistiline register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8" name="Line 26"/>
            <p:cNvSpPr/>
            <p:nvPr/>
          </p:nvSpPr>
          <p:spPr>
            <a:xfrm>
              <a:off x="4456080" y="3246840"/>
              <a:ext cx="3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9" name="Line 25"/>
            <p:cNvSpPr/>
            <p:nvPr/>
          </p:nvSpPr>
          <p:spPr>
            <a:xfrm>
              <a:off x="4456080" y="4700520"/>
              <a:ext cx="363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0" name="Line 24"/>
            <p:cNvSpPr/>
            <p:nvPr/>
          </p:nvSpPr>
          <p:spPr>
            <a:xfrm>
              <a:off x="3729240" y="3859560"/>
              <a:ext cx="720" cy="2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1" name="Line 23"/>
            <p:cNvSpPr/>
            <p:nvPr/>
          </p:nvSpPr>
          <p:spPr>
            <a:xfrm>
              <a:off x="5546160" y="3859560"/>
              <a:ext cx="720" cy="2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2" name="Line 20"/>
            <p:cNvSpPr/>
            <p:nvPr/>
          </p:nvSpPr>
          <p:spPr>
            <a:xfrm>
              <a:off x="2396520" y="3125880"/>
              <a:ext cx="72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>
              <a:off x="2396520" y="4700520"/>
              <a:ext cx="72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4" name="Line 18"/>
            <p:cNvSpPr/>
            <p:nvPr/>
          </p:nvSpPr>
          <p:spPr>
            <a:xfrm flipH="1">
              <a:off x="6152040" y="4700520"/>
              <a:ext cx="6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5" name="Line 17"/>
            <p:cNvSpPr/>
            <p:nvPr/>
          </p:nvSpPr>
          <p:spPr>
            <a:xfrm flipH="1">
              <a:off x="6152040" y="3125880"/>
              <a:ext cx="6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1044720" y="2830680"/>
              <a:ext cx="1502280" cy="669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0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Rahvastikuregister,</a:t>
              </a:r>
              <a:endParaRPr b="1" lang="en-US" sz="1000" spc="-1" strike="noStrike">
                <a:solidFill>
                  <a:srgbClr val="00395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0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EHIS</a:t>
              </a:r>
              <a:endParaRPr b="1" lang="en-US" sz="10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  <p:sp>
        <p:nvSpPr>
          <p:cNvPr id="367" name="Text Box 28"/>
          <p:cNvSpPr/>
          <p:nvPr/>
        </p:nvSpPr>
        <p:spPr>
          <a:xfrm>
            <a:off x="5713560" y="3716280"/>
            <a:ext cx="10904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Registri-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411280" y="3716280"/>
            <a:ext cx="1090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ADS 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4129200" y="2276640"/>
            <a:ext cx="109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Isiku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0" name="Text Box 28"/>
          <p:cNvSpPr/>
          <p:nvPr/>
        </p:nvSpPr>
        <p:spPr>
          <a:xfrm>
            <a:off x="4129200" y="5288040"/>
            <a:ext cx="109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ADS 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1116000" y="4487760"/>
            <a:ext cx="1368360" cy="66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Ehitisregister, Kinnistusraamat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Aadressiandmete süsteem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2" name="Rectangle 13"/>
          <p:cNvSpPr/>
          <p:nvPr/>
        </p:nvSpPr>
        <p:spPr>
          <a:xfrm>
            <a:off x="6732720" y="2781360"/>
            <a:ext cx="1368360" cy="66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EMTA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EHIS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SKA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6732720" y="4414680"/>
            <a:ext cx="1368360" cy="66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Äriregister, RKOARR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MTR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istrite süsteem Roots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6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684360" y="1901880"/>
            <a:ext cx="840240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valoenduse meetod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parlamendi ja nõukogu määrus rahva ja eluruumide loenduste kohta (Artikkel 4.1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Liikmesriigid saavad statistika tegemisel toetud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mitmesugustele andmeallikatele ja eelkõige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avapärasele loenduse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registripõhisele loenduse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avapärase loenduse ja valikvaatluse kombinatsiooni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registripõhise loenduse ja valikvaatluse kombinatsiooni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registripõhise loenduse ja tavapärase loenduse kombinatsiooni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asjakohasele uuringule vahelduvate valimitega (jadaloendus)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5783400" cy="55166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7093080" y="5661000"/>
            <a:ext cx="1871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Allikas: Population &amp; Societies 467, mai 2010 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etap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0–2013 ettevalmistav faas.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lemus: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4 pilootloendus põhiregistrite alu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4–2017 jätkusuutlikkuse tagamise faas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lemus: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7 prooviloendus kõigi hõlmatud registrite alu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8–2021 juurutamise faa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lemus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amiselt registripõhine REL ehk REGREL 2020. aasta loendusvoor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organisatsioon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kontseptsiooni ja metoodika väljatöötamine ning loenduse ettevalmistamine eeldab sellist organisatsiooni, mis toetab erinevate SA siseste üksuste tegevuste ning teiste asutuste tegevuste head koordineeri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ettevalmistamise juhtimine põhineb ametlikul koordineerimisraamistikul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saab reaalsuseks üksnes erinevate osapoolte tugeva vabatahtliku pühendumise ja positiivse suhtumise korra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280" y="907920"/>
            <a:ext cx="799308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A visioon REL ja REGREL juhtimise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63" name="Picture 5" descr="skeem-3"/>
          <p:cNvPicPr/>
          <p:nvPr/>
        </p:nvPicPr>
        <p:blipFill>
          <a:blip r:embed="rId1"/>
          <a:stretch/>
        </p:blipFill>
        <p:spPr>
          <a:xfrm>
            <a:off x="1476360" y="1484280"/>
            <a:ext cx="603108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abariigi Valitsuse Rahvaloenduskomisjon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VRK on valitsusasutuste vahelise koordineerimiskomisjon, mille koosseisu kuuluvad ministeeriumide kantslerid ja asutuste juh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aegu töötav VVRK omab mandaati RStS §  44 lg 2 alusel kuni 2011.a. REL ettevalmistustööde lõppemisen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tS § 21 lg 3 Vabariigi Valitsusele võimaluse moodustada loenduskomisjon 2021.a. loenduse (REGREL) ettevalmistamiseks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bariigi Valitsuse rahvaloenduskomisjon tuleks 2012. aastal uuesti moodustad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112536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VRK ülesand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247760" y="1988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eb VVle ettepanekuid loenduse korraldamisega seonduvate õigusaktide  ettevalmist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rdineerib loenduse korraldamist valitsusasutuste tasemel ning suunab riigiasutuste koostööd loenduse korralda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innitab registrite korrastamise projektide rahastamise põhimõtt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kõlastab  tegevus- ja ajakava ning jälgib nende täit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alüüsib loenduse korraldamise kulus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idab muid loenduse ettevalmistamisega seotud ülesande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ristina Lauri</cp:lastModifiedBy>
  <dcterms:modified xsi:type="dcterms:W3CDTF">2011-06-21T08:28:19Z</dcterms:modified>
  <cp:revision>67</cp:revision>
  <dc:subject/>
  <dc:title>Slide 1</dc:title>
</cp:coreProperties>
</file>