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7213153-C7D6-476E-AE05-1A008B6380E6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CAA0A78-821D-408B-8CFF-E655DD8A787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Directeurs Généraux des Instituts Nationaux de Statistique (DG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The DGINS Conference was created on 15 July 1953 in Luxembourg and was acting then as the predecessor of the Statistical Programme Committee (SPC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D9BC44A-94AE-483D-A3CC-46B5DAD3E97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PG – 10 liiget; valitud eesistuja, 2xEurostat, Pres-1,Pres,Pres+1, 4 valitud lii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Euroopa statistika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1908000" y="1052640"/>
            <a:ext cx="5472360" cy="5472000"/>
          </a:xfrm>
          <a:prstGeom prst="rect">
            <a:avLst/>
          </a:prstGeom>
          <a:solidFill>
            <a:srgbClr val="cfeea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ESS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34000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987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63528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42829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5435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60847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859280" y="5037120"/>
            <a:ext cx="50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2771640" y="5577120"/>
            <a:ext cx="16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Liikmesriigi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5651640" y="5577120"/>
            <a:ext cx="72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FTA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395280" y="36882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KP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1476360" y="383220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Text Box 28"/>
          <p:cNvSpPr/>
          <p:nvPr/>
        </p:nvSpPr>
        <p:spPr>
          <a:xfrm>
            <a:off x="395280" y="455328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IMF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1476360" y="4697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95280" y="42516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ÜRO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1476360" y="440856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395280" y="397692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OEC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Line 35"/>
          <p:cNvSpPr/>
          <p:nvPr/>
        </p:nvSpPr>
        <p:spPr>
          <a:xfrm>
            <a:off x="1476360" y="4121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5580000" y="3469680"/>
            <a:ext cx="1079640" cy="366120"/>
          </a:xfrm>
          <a:prstGeom prst="rect">
            <a:avLst/>
          </a:prstGeom>
          <a:solidFill>
            <a:srgbClr val="339933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GIN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2"/>
          <p:cNvGrpSpPr/>
          <p:nvPr/>
        </p:nvGrpSpPr>
        <p:grpSpPr>
          <a:xfrm>
            <a:off x="2627280" y="2708280"/>
            <a:ext cx="3673440" cy="2305080"/>
            <a:chOff x="2627280" y="2708280"/>
            <a:chExt cx="3673440" cy="2305080"/>
          </a:xfrm>
        </p:grpSpPr>
        <p:sp>
          <p:nvSpPr>
            <p:cNvPr id="272" name="Line 41"/>
            <p:cNvSpPr/>
            <p:nvPr/>
          </p:nvSpPr>
          <p:spPr>
            <a:xfrm>
              <a:off x="4716360" y="2708280"/>
              <a:ext cx="0" cy="5032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 flipH="1">
              <a:off x="2627280" y="3500280"/>
              <a:ext cx="144000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Line 15"/>
            <p:cNvSpPr/>
            <p:nvPr/>
          </p:nvSpPr>
          <p:spPr>
            <a:xfrm flipH="1" flipV="1">
              <a:off x="5076720" y="335736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Line 16"/>
            <p:cNvSpPr/>
            <p:nvPr/>
          </p:nvSpPr>
          <p:spPr>
            <a:xfrm flipH="1">
              <a:off x="3203640" y="335772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Line 17"/>
            <p:cNvSpPr/>
            <p:nvPr/>
          </p:nvSpPr>
          <p:spPr>
            <a:xfrm flipH="1">
              <a:off x="4500360" y="3500280"/>
              <a:ext cx="21564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Line 18"/>
            <p:cNvSpPr/>
            <p:nvPr/>
          </p:nvSpPr>
          <p:spPr>
            <a:xfrm flipH="1">
              <a:off x="3851280" y="3429000"/>
              <a:ext cx="72072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Line 19"/>
            <p:cNvSpPr/>
            <p:nvPr/>
          </p:nvSpPr>
          <p:spPr>
            <a:xfrm flipH="1" flipV="1">
              <a:off x="4932360" y="3428640"/>
              <a:ext cx="79200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Text Box 36"/>
            <p:cNvSpPr/>
            <p:nvPr/>
          </p:nvSpPr>
          <p:spPr>
            <a:xfrm>
              <a:off x="3492360" y="3068640"/>
              <a:ext cx="2376720" cy="42696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ESS komitee</a:t>
              </a:r>
              <a:endParaRPr b="1" lang="en-US" sz="28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3203640" y="2288880"/>
            <a:ext cx="2952720" cy="48780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ST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1" name="Group 45"/>
          <p:cNvGrpSpPr/>
          <p:nvPr/>
        </p:nvGrpSpPr>
        <p:grpSpPr>
          <a:xfrm>
            <a:off x="2341440" y="3094920"/>
            <a:ext cx="1150920" cy="366120"/>
            <a:chOff x="2341440" y="3094920"/>
            <a:chExt cx="1150920" cy="366120"/>
          </a:xfrm>
        </p:grpSpPr>
        <p:sp>
          <p:nvSpPr>
            <p:cNvPr id="282" name="Line 44"/>
            <p:cNvSpPr/>
            <p:nvPr/>
          </p:nvSpPr>
          <p:spPr>
            <a:xfrm>
              <a:off x="3059280" y="3284640"/>
              <a:ext cx="433080" cy="0"/>
            </a:xfrm>
            <a:prstGeom prst="line">
              <a:avLst/>
            </a:prstGeom>
            <a:ln w="9360">
              <a:solidFill>
                <a:srgbClr val="00395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Text Box 43"/>
            <p:cNvSpPr/>
            <p:nvPr/>
          </p:nvSpPr>
          <p:spPr>
            <a:xfrm>
              <a:off x="2341440" y="3094920"/>
              <a:ext cx="790560" cy="36612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G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4" name="Text Box 49"/>
          <p:cNvSpPr/>
          <p:nvPr/>
        </p:nvSpPr>
        <p:spPr>
          <a:xfrm>
            <a:off x="2268360" y="1201320"/>
            <a:ext cx="4824720" cy="366120"/>
          </a:xfrm>
          <a:prstGeom prst="rect">
            <a:avLst/>
          </a:prstGeom>
          <a:solidFill>
            <a:srgbClr val="cfeea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uroopa  statistika tegevusjuhi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5" name="Group 67"/>
          <p:cNvGrpSpPr/>
          <p:nvPr/>
        </p:nvGrpSpPr>
        <p:grpSpPr>
          <a:xfrm>
            <a:off x="2771640" y="1632960"/>
            <a:ext cx="2590920" cy="932400"/>
            <a:chOff x="2771640" y="1632960"/>
            <a:chExt cx="2590920" cy="932400"/>
          </a:xfrm>
        </p:grpSpPr>
        <p:sp>
          <p:nvSpPr>
            <p:cNvPr id="286" name="Text Box 52"/>
            <p:cNvSpPr/>
            <p:nvPr/>
          </p:nvSpPr>
          <p:spPr>
            <a:xfrm>
              <a:off x="3995640" y="1632960"/>
              <a:ext cx="1366920" cy="366120"/>
            </a:xfrm>
            <a:prstGeom prst="rect">
              <a:avLst/>
            </a:prstGeom>
            <a:solidFill>
              <a:srgbClr val="cfeea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51"/>
                  </a:solidFill>
                  <a:latin typeface="Arial"/>
                </a:rPr>
                <a:t>ESGAB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grpSp>
          <p:nvGrpSpPr>
            <p:cNvPr id="287" name="Group 60"/>
            <p:cNvGrpSpPr/>
            <p:nvPr/>
          </p:nvGrpSpPr>
          <p:grpSpPr>
            <a:xfrm>
              <a:off x="2771640" y="1844640"/>
              <a:ext cx="1224000" cy="720720"/>
              <a:chOff x="2771640" y="1844640"/>
              <a:chExt cx="1224000" cy="720720"/>
            </a:xfrm>
          </p:grpSpPr>
          <p:sp>
            <p:nvSpPr>
              <p:cNvPr id="288" name="Line 57"/>
              <p:cNvSpPr/>
              <p:nvPr/>
            </p:nvSpPr>
            <p:spPr>
              <a:xfrm flipH="1">
                <a:off x="2771640" y="1844640"/>
                <a:ext cx="122400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89" name="Line 58"/>
              <p:cNvSpPr/>
              <p:nvPr/>
            </p:nvSpPr>
            <p:spPr>
              <a:xfrm>
                <a:off x="2771640" y="1844640"/>
                <a:ext cx="0" cy="72072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90" name="Line 59"/>
              <p:cNvSpPr/>
              <p:nvPr/>
            </p:nvSpPr>
            <p:spPr>
              <a:xfrm>
                <a:off x="2772000" y="2565360"/>
                <a:ext cx="43164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Line 65"/>
          <p:cNvSpPr/>
          <p:nvPr/>
        </p:nvSpPr>
        <p:spPr>
          <a:xfrm>
            <a:off x="7934400" y="2025720"/>
            <a:ext cx="743040" cy="0"/>
          </a:xfrm>
          <a:prstGeom prst="line">
            <a:avLst/>
          </a:prstGeom>
          <a:ln w="9360">
            <a:solidFill>
              <a:srgbClr val="00395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Text Box 66"/>
          <p:cNvSpPr/>
          <p:nvPr/>
        </p:nvSpPr>
        <p:spPr>
          <a:xfrm>
            <a:off x="6732720" y="1848960"/>
            <a:ext cx="1203120" cy="366120"/>
          </a:xfrm>
          <a:prstGeom prst="rect">
            <a:avLst/>
          </a:prstGeom>
          <a:solidFill>
            <a:srgbClr val="cfeea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SAC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ext Box 63"/>
          <p:cNvSpPr/>
          <p:nvPr/>
        </p:nvSpPr>
        <p:spPr>
          <a:xfrm>
            <a:off x="8172360" y="1484280"/>
            <a:ext cx="360360" cy="3413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ARB I JA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Text Box 72"/>
          <p:cNvSpPr/>
          <p:nvPr/>
        </p:nvSpPr>
        <p:spPr>
          <a:xfrm>
            <a:off x="8675640" y="1484280"/>
            <a:ext cx="289080" cy="4022280"/>
          </a:xfrm>
          <a:prstGeom prst="rect">
            <a:avLst/>
          </a:prstGeom>
          <a:noFill/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RESPONDEND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I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D</a:t>
            </a:r>
            <a:endParaRPr b="1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SS komitee (ESSK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4000" y="1413000"/>
            <a:ext cx="8856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odi Euroopa statistika määrusega 11.03.2009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neb rahvuslike statistikaorganisatsioonide esindaja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“peab andma ESS-le professionaalset nõu Euroopa statistika arendamiseks, tootmiseks ja levitamiseks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Komisjon peab konsulteerima ESSK-ga järgmistel teemadel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tmed Euroopa statistika arendamiseks, tootmiseks, levi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programm, 1 a tööprogramm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 tegevusjuhise (CoP) ar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b kokku 4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artnerlusgrupp (PG) – ülesandeks on ESSK efektiivs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                                       funktsioneerimise tag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29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uroopa statistika haldamise nõuandekogu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European Statistical Governance Advisory Board (ESGAB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anda sõltumatu hinnang ESS toimimisele CoP –ist lähtuva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nab Eurostatile nõu järgmiste meetmete osa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ellurak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ommunikeerimine tarbijatele ja andmeesitajat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aasajas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-aastane raport EP ja nõukogule CoP –i ellurakendamise Eurostatiga seotud aspektide kohta. Sisaldab hinnangut CoP –i ellurakendatusest ESS –i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7, tuleb kokku 6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30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 nõuandekomitee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pean Statistical Advisory Committee (ESAC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sindab kasutajaid, andmeesitajaid ja teisi Euroopa statistika huvipooli (nt teadlaskond), aga ka institutsionaalseid kasutajaid (nt EP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tagama, et Statistikaprogrammi koostamisel on arvesse võetu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asutajate vajad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esitajate vastajakoor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avaldama arvamust statistikaprogrammi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24; 3 tegutsemisaasta jooksul 8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nõupida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3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õiguslik alus: EL v 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332000" y="2543040"/>
          <a:ext cx="7346880" cy="2211480"/>
        </p:xfrm>
        <a:graphic>
          <a:graphicData uri="http://schemas.openxmlformats.org/drawingml/2006/table">
            <a:tbl>
              <a:tblPr/>
              <a:tblGrid>
                <a:gridCol w="588960"/>
                <a:gridCol w="1278000"/>
                <a:gridCol w="604800"/>
                <a:gridCol w="604800"/>
                <a:gridCol w="588960"/>
                <a:gridCol w="587160"/>
                <a:gridCol w="588960"/>
                <a:gridCol w="588960"/>
                <a:gridCol w="638280"/>
                <a:gridCol w="639720"/>
                <a:gridCol w="638280"/>
              </a:tblGrid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Valdkonna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okku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h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eskkond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ajandus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rahvastik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otsiaa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ri valdkondad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442"/>
          <p:cNvSpPr/>
          <p:nvPr/>
        </p:nvSpPr>
        <p:spPr>
          <a:xfrm>
            <a:off x="1332000" y="1655640"/>
            <a:ext cx="734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Euroopa Liidu õigusaktidel (EL) ja Eesti tarbijate tellimusel (EE) põhinevate Statistikatööde vahekord *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58920" y="5445000"/>
            <a:ext cx="748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* Suur erinevus statistikatööde arvus 2010 v 2011 tuleneb statistikatöö definitsiooni täpsustumisest, aga ka osade vaatluste jagunemisest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9-08T06:01:38Z</dcterms:modified>
  <cp:revision>171</cp:revision>
  <dc:subject/>
  <dc:title>Slide 1</dc:title>
</cp:coreProperties>
</file>