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422F9BE-3EEB-45E2-807A-4EB093F7667E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D71B2ED-90EB-4F7F-A198-9860F9CE9367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Directeurs Généraux des Instituts Nationaux de Statistique (DG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The DGINS Conference was created on 15 July 1953 in Luxembourg and was acting then as the predecessor of the Statistical Programme Committee (SPC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3DD9A5D-E471-40D7-BD3A-6A9C20FBC428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PG – 10 liiget; valitud eesistuja, 2xEurostat, Pres-1,Pres,Pres+1, 4 valitud lii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20.06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SA 2012.-2016. a statistikatööd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05.09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Euroopa statistikasüsteem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3951"/>
                </a:solidFill>
                <a:latin typeface="Arial"/>
              </a:rPr>
              <a:t>Euroopa statistikasüsteem 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5"/>
          <p:cNvSpPr/>
          <p:nvPr/>
        </p:nvSpPr>
        <p:spPr>
          <a:xfrm>
            <a:off x="1908000" y="1052640"/>
            <a:ext cx="5472360" cy="5472000"/>
          </a:xfrm>
          <a:prstGeom prst="rect">
            <a:avLst/>
          </a:prstGeom>
          <a:solidFill>
            <a:srgbClr val="cfeea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Footer Placeholder 1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Title 1"/>
          <p:cNvSpPr/>
          <p:nvPr/>
        </p:nvSpPr>
        <p:spPr>
          <a:xfrm>
            <a:off x="1258920" y="47628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uroopa statistikasüsteem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(ESS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2340000" y="5041440"/>
            <a:ext cx="50472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987640" y="5041440"/>
            <a:ext cx="50472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3635280" y="5041440"/>
            <a:ext cx="50508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4282920" y="5041440"/>
            <a:ext cx="50508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5435640" y="5041440"/>
            <a:ext cx="50472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6084720" y="5041440"/>
            <a:ext cx="50508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859280" y="5037120"/>
            <a:ext cx="50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2771640" y="5577120"/>
            <a:ext cx="16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Liikmesriigid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5651640" y="5577120"/>
            <a:ext cx="72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EFTA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395280" y="368820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EKP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Line 26"/>
          <p:cNvSpPr/>
          <p:nvPr/>
        </p:nvSpPr>
        <p:spPr>
          <a:xfrm>
            <a:off x="1476360" y="383220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Text Box 28"/>
          <p:cNvSpPr/>
          <p:nvPr/>
        </p:nvSpPr>
        <p:spPr>
          <a:xfrm>
            <a:off x="395280" y="455328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IMF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Line 29"/>
          <p:cNvSpPr/>
          <p:nvPr/>
        </p:nvSpPr>
        <p:spPr>
          <a:xfrm>
            <a:off x="1476360" y="469728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395280" y="425160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ÜRO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Line 32"/>
          <p:cNvSpPr/>
          <p:nvPr/>
        </p:nvSpPr>
        <p:spPr>
          <a:xfrm>
            <a:off x="1476360" y="440856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395280" y="397692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OECD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Line 35"/>
          <p:cNvSpPr/>
          <p:nvPr/>
        </p:nvSpPr>
        <p:spPr>
          <a:xfrm>
            <a:off x="1476360" y="412128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Text Box 71"/>
          <p:cNvSpPr/>
          <p:nvPr/>
        </p:nvSpPr>
        <p:spPr>
          <a:xfrm>
            <a:off x="5580000" y="3469680"/>
            <a:ext cx="1079640" cy="366120"/>
          </a:xfrm>
          <a:prstGeom prst="rect">
            <a:avLst/>
          </a:prstGeom>
          <a:solidFill>
            <a:srgbClr val="339933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GIN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71" name="Group 42"/>
          <p:cNvGrpSpPr/>
          <p:nvPr/>
        </p:nvGrpSpPr>
        <p:grpSpPr>
          <a:xfrm>
            <a:off x="2627280" y="2708280"/>
            <a:ext cx="3673440" cy="2305080"/>
            <a:chOff x="2627280" y="2708280"/>
            <a:chExt cx="3673440" cy="2305080"/>
          </a:xfrm>
        </p:grpSpPr>
        <p:sp>
          <p:nvSpPr>
            <p:cNvPr id="272" name="Line 41"/>
            <p:cNvSpPr/>
            <p:nvPr/>
          </p:nvSpPr>
          <p:spPr>
            <a:xfrm>
              <a:off x="4716360" y="2708280"/>
              <a:ext cx="0" cy="50328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 flipH="1">
              <a:off x="2627280" y="3500280"/>
              <a:ext cx="1440000" cy="151308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4" name="Line 15"/>
            <p:cNvSpPr/>
            <p:nvPr/>
          </p:nvSpPr>
          <p:spPr>
            <a:xfrm flipH="1" flipV="1">
              <a:off x="5076720" y="3357360"/>
              <a:ext cx="1224000" cy="165564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5" name="Line 16"/>
            <p:cNvSpPr/>
            <p:nvPr/>
          </p:nvSpPr>
          <p:spPr>
            <a:xfrm flipH="1">
              <a:off x="3203640" y="3357720"/>
              <a:ext cx="1224000" cy="165564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6" name="Line 17"/>
            <p:cNvSpPr/>
            <p:nvPr/>
          </p:nvSpPr>
          <p:spPr>
            <a:xfrm flipH="1">
              <a:off x="4500360" y="3500280"/>
              <a:ext cx="215640" cy="151308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7" name="Line 18"/>
            <p:cNvSpPr/>
            <p:nvPr/>
          </p:nvSpPr>
          <p:spPr>
            <a:xfrm flipH="1">
              <a:off x="3851280" y="3429000"/>
              <a:ext cx="720720" cy="158436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8" name="Line 19"/>
            <p:cNvSpPr/>
            <p:nvPr/>
          </p:nvSpPr>
          <p:spPr>
            <a:xfrm flipH="1" flipV="1">
              <a:off x="4932360" y="3428640"/>
              <a:ext cx="792000" cy="158436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9" name="Text Box 36"/>
            <p:cNvSpPr/>
            <p:nvPr/>
          </p:nvSpPr>
          <p:spPr>
            <a:xfrm>
              <a:off x="3492360" y="3068640"/>
              <a:ext cx="2376720" cy="426960"/>
            </a:xfrm>
            <a:prstGeom prst="rect">
              <a:avLst/>
            </a:prstGeom>
            <a:solidFill>
              <a:srgbClr val="008000">
                <a:alpha val="93000"/>
              </a:srgbClr>
            </a:solidFill>
            <a:ln w="93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ESS komitee</a:t>
              </a:r>
              <a:endParaRPr b="1" lang="en-US" sz="28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  <p:sp>
        <p:nvSpPr>
          <p:cNvPr id="280" name="Text Box 20"/>
          <p:cNvSpPr/>
          <p:nvPr/>
        </p:nvSpPr>
        <p:spPr>
          <a:xfrm>
            <a:off x="3203640" y="2288880"/>
            <a:ext cx="2952720" cy="48780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ST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81" name="Group 45"/>
          <p:cNvGrpSpPr/>
          <p:nvPr/>
        </p:nvGrpSpPr>
        <p:grpSpPr>
          <a:xfrm>
            <a:off x="2341440" y="3094920"/>
            <a:ext cx="1150920" cy="366120"/>
            <a:chOff x="2341440" y="3094920"/>
            <a:chExt cx="1150920" cy="366120"/>
          </a:xfrm>
        </p:grpSpPr>
        <p:sp>
          <p:nvSpPr>
            <p:cNvPr id="282" name="Line 44"/>
            <p:cNvSpPr/>
            <p:nvPr/>
          </p:nvSpPr>
          <p:spPr>
            <a:xfrm>
              <a:off x="3059280" y="3284640"/>
              <a:ext cx="433080" cy="0"/>
            </a:xfrm>
            <a:prstGeom prst="line">
              <a:avLst/>
            </a:prstGeom>
            <a:ln w="9360">
              <a:solidFill>
                <a:srgbClr val="00395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3" name="Text Box 43"/>
            <p:cNvSpPr/>
            <p:nvPr/>
          </p:nvSpPr>
          <p:spPr>
            <a:xfrm>
              <a:off x="2341440" y="3094920"/>
              <a:ext cx="790560" cy="366120"/>
            </a:xfrm>
            <a:prstGeom prst="rect">
              <a:avLst/>
            </a:prstGeom>
            <a:solidFill>
              <a:srgbClr val="008000">
                <a:alpha val="93000"/>
              </a:srgbClr>
            </a:solidFill>
            <a:ln w="93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G</a:t>
              </a:r>
              <a:endParaRPr b="1" lang="en-US" sz="24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  <p:sp>
        <p:nvSpPr>
          <p:cNvPr id="284" name="Text Box 49"/>
          <p:cNvSpPr/>
          <p:nvPr/>
        </p:nvSpPr>
        <p:spPr>
          <a:xfrm>
            <a:off x="2268360" y="1201320"/>
            <a:ext cx="4824720" cy="366120"/>
          </a:xfrm>
          <a:prstGeom prst="rect">
            <a:avLst/>
          </a:prstGeom>
          <a:solidFill>
            <a:srgbClr val="cfeea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uroopa  statistika tegevusjuhi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85" name="Group 67"/>
          <p:cNvGrpSpPr/>
          <p:nvPr/>
        </p:nvGrpSpPr>
        <p:grpSpPr>
          <a:xfrm>
            <a:off x="2771640" y="1632960"/>
            <a:ext cx="2590920" cy="932400"/>
            <a:chOff x="2771640" y="1632960"/>
            <a:chExt cx="2590920" cy="932400"/>
          </a:xfrm>
        </p:grpSpPr>
        <p:sp>
          <p:nvSpPr>
            <p:cNvPr id="286" name="Text Box 52"/>
            <p:cNvSpPr/>
            <p:nvPr/>
          </p:nvSpPr>
          <p:spPr>
            <a:xfrm>
              <a:off x="3995640" y="1632960"/>
              <a:ext cx="1366920" cy="366120"/>
            </a:xfrm>
            <a:prstGeom prst="rect">
              <a:avLst/>
            </a:prstGeom>
            <a:solidFill>
              <a:srgbClr val="cfeea0">
                <a:alpha val="93000"/>
              </a:srgbClr>
            </a:solidFill>
            <a:ln w="93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951"/>
                  </a:solidFill>
                  <a:latin typeface="Arial"/>
                </a:rPr>
                <a:t>ESGAB</a:t>
              </a:r>
              <a:endParaRPr b="1" lang="en-US" sz="2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grpSp>
          <p:nvGrpSpPr>
            <p:cNvPr id="287" name="Group 60"/>
            <p:cNvGrpSpPr/>
            <p:nvPr/>
          </p:nvGrpSpPr>
          <p:grpSpPr>
            <a:xfrm>
              <a:off x="2771640" y="1844640"/>
              <a:ext cx="1224000" cy="720720"/>
              <a:chOff x="2771640" y="1844640"/>
              <a:chExt cx="1224000" cy="720720"/>
            </a:xfrm>
          </p:grpSpPr>
          <p:sp>
            <p:nvSpPr>
              <p:cNvPr id="288" name="Line 57"/>
              <p:cNvSpPr/>
              <p:nvPr/>
            </p:nvSpPr>
            <p:spPr>
              <a:xfrm flipH="1">
                <a:off x="2771640" y="1844640"/>
                <a:ext cx="1224000" cy="0"/>
              </a:xfrm>
              <a:prstGeom prst="line">
                <a:avLst/>
              </a:prstGeom>
              <a:ln w="12600">
                <a:solidFill>
                  <a:srgbClr val="003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3951"/>
                  </a:solidFill>
                  <a:latin typeface="Arial"/>
                </a:endParaRPr>
              </a:p>
            </p:txBody>
          </p:sp>
          <p:sp>
            <p:nvSpPr>
              <p:cNvPr id="289" name="Line 58"/>
              <p:cNvSpPr/>
              <p:nvPr/>
            </p:nvSpPr>
            <p:spPr>
              <a:xfrm>
                <a:off x="2771640" y="1844640"/>
                <a:ext cx="0" cy="720720"/>
              </a:xfrm>
              <a:prstGeom prst="line">
                <a:avLst/>
              </a:prstGeom>
              <a:ln w="12600">
                <a:solidFill>
                  <a:srgbClr val="003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3951"/>
                  </a:solidFill>
                  <a:latin typeface="Arial"/>
                </a:endParaRPr>
              </a:p>
            </p:txBody>
          </p:sp>
          <p:sp>
            <p:nvSpPr>
              <p:cNvPr id="290" name="Line 59"/>
              <p:cNvSpPr/>
              <p:nvPr/>
            </p:nvSpPr>
            <p:spPr>
              <a:xfrm>
                <a:off x="2772000" y="2565360"/>
                <a:ext cx="431640" cy="0"/>
              </a:xfrm>
              <a:prstGeom prst="line">
                <a:avLst/>
              </a:prstGeom>
              <a:ln w="12600">
                <a:solidFill>
                  <a:srgbClr val="00395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3951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Line 65"/>
          <p:cNvSpPr/>
          <p:nvPr/>
        </p:nvSpPr>
        <p:spPr>
          <a:xfrm>
            <a:off x="7934400" y="2025720"/>
            <a:ext cx="743040" cy="0"/>
          </a:xfrm>
          <a:prstGeom prst="line">
            <a:avLst/>
          </a:prstGeom>
          <a:ln w="9360">
            <a:solidFill>
              <a:srgbClr val="00395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Text Box 66"/>
          <p:cNvSpPr/>
          <p:nvPr/>
        </p:nvSpPr>
        <p:spPr>
          <a:xfrm>
            <a:off x="6732720" y="1848960"/>
            <a:ext cx="1203120" cy="366120"/>
          </a:xfrm>
          <a:prstGeom prst="rect">
            <a:avLst/>
          </a:prstGeom>
          <a:solidFill>
            <a:srgbClr val="cfeea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ESAC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Text Box 63"/>
          <p:cNvSpPr/>
          <p:nvPr/>
        </p:nvSpPr>
        <p:spPr>
          <a:xfrm>
            <a:off x="8172360" y="1484280"/>
            <a:ext cx="360360" cy="3413160"/>
          </a:xfrm>
          <a:prstGeom prst="rect">
            <a:avLst/>
          </a:prstGeom>
          <a:solidFill>
            <a:srgbClr val="ffffff"/>
          </a:solidFill>
          <a:ln w="648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ARB I JA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Text Box 72"/>
          <p:cNvSpPr/>
          <p:nvPr/>
        </p:nvSpPr>
        <p:spPr>
          <a:xfrm>
            <a:off x="8675640" y="1484280"/>
            <a:ext cx="289080" cy="4022280"/>
          </a:xfrm>
          <a:prstGeom prst="rect">
            <a:avLst/>
          </a:prstGeom>
          <a:noFill/>
          <a:ln w="648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951"/>
                </a:solidFill>
                <a:latin typeface="Arial"/>
              </a:rPr>
              <a:t>RESPONDEND</a:t>
            </a:r>
            <a:br>
              <a:rPr sz="2200"/>
            </a:br>
            <a:r>
              <a:rPr b="1" lang="en-US" sz="2200" spc="-1" strike="noStrike">
                <a:solidFill>
                  <a:srgbClr val="003951"/>
                </a:solidFill>
                <a:latin typeface="Arial"/>
              </a:rPr>
              <a:t>I</a:t>
            </a:r>
            <a:br>
              <a:rPr sz="2200"/>
            </a:br>
            <a:r>
              <a:rPr b="1" lang="en-US" sz="2200" spc="-1" strike="noStrike">
                <a:solidFill>
                  <a:srgbClr val="003951"/>
                </a:solidFill>
                <a:latin typeface="Arial"/>
              </a:rPr>
              <a:t>D</a:t>
            </a:r>
            <a:endParaRPr b="1" lang="en-US" sz="2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SS komitee (ESSK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24000" y="1413000"/>
            <a:ext cx="8856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oodi Euroopa statistika määrusega 11.03.2009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neb rahvuslike statistikaorganisatsioonide esindajai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Ülesanne: “peab andma ESS-le professionaalset nõu Euroopa statistika arendamiseks, tootmiseks ja levitamiseks”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opa Komisjon peab konsulteerima ESSK-ga järgmistel teemadel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eetmed Euroopa statistika arendamiseks, tootmiseks, levi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opa statistikaprogramm, 1 a tööprogramm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line konfidentsiaals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opa statistika tegevusjuhise (CoP) aren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uleb kokku 4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korda aast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artnerlusgrupp (PG) – ülesandeks on ESSK efektiivse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                                         funktsioneerimise tag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297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634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uroopa statistika haldamise nõuandekogu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60360" y="1413000"/>
            <a:ext cx="8820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European Statistical Governance Advisory Board (ESGAB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Ülesanne: anda sõltumatu hinnang ESS toimimisele CoP –ist lähtuval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nnab Eurostatile nõu järgmiste meetmete osas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CoP –i elluraken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CoP –i kommunikeerimine tarbijatele ja andmeesitajatel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CoP –i kaasajas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Iga-aastane raport EP ja nõukogule CoP –i ellurakendamise Eurostatiga seotud aspektide kohta. Sisaldab hinnangut CoP –i ellurakendatusest ESS –i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ikmeid on 7, tuleb kokku 6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korda aast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30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634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uroopa statistika nõuandekomitee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60360" y="1413000"/>
            <a:ext cx="8820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pean Statistical Advisory Committee (ESAC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sindab kasutajaid, andmeesitajaid ja teisi Euroopa statistika huvipooli (nt teadlaskond), aga ka institutsionaalseid kasutajaid (nt EP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eab tagama, et Statistikaprogrammi koostamisel on arvesse võetud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asutajate vajad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ndmeesitajate vastajakoorm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eab avaldama arvamust statistikaprogrammide koht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ikmeid on 24; 3 tegutsemisaasta jooksul 8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nõupidami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3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õiguslik alus: EL v E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332000" y="2543040"/>
          <a:ext cx="7346880" cy="2211480"/>
        </p:xfrm>
        <a:graphic>
          <a:graphicData uri="http://schemas.openxmlformats.org/drawingml/2006/table">
            <a:tbl>
              <a:tblPr/>
              <a:tblGrid>
                <a:gridCol w="588960"/>
                <a:gridCol w="1278000"/>
                <a:gridCol w="604800"/>
                <a:gridCol w="604800"/>
                <a:gridCol w="588960"/>
                <a:gridCol w="587160"/>
                <a:gridCol w="588960"/>
                <a:gridCol w="588960"/>
                <a:gridCol w="638280"/>
                <a:gridCol w="639720"/>
                <a:gridCol w="638280"/>
              </a:tblGrid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Valdkonnad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arv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arv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arv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kokku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sh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keskkond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majandus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rahvastik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sotsiaa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ri valdkondad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Text Box 442"/>
          <p:cNvSpPr/>
          <p:nvPr/>
        </p:nvSpPr>
        <p:spPr>
          <a:xfrm>
            <a:off x="1332000" y="1655640"/>
            <a:ext cx="7343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Euroopa Liidu õigusaktidel (EL) ja Eesti tarbijate tellimusel (EE) põhinevate Statistikatööde vahekord *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258920" y="5445000"/>
            <a:ext cx="748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* Suur erinevus statistikatööde arvus 2010 v 2011 tuleneb statistikatöö definitsiooni täpsustumisest, aga ka osade vaatluste jagunemisest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2.03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09-08T06:01:38Z</dcterms:modified>
  <cp:revision>171</cp:revision>
  <dc:subject/>
  <dc:title>Slide 1</dc:title>
</cp:coreProperties>
</file>