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75153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47760" y="4355280"/>
            <a:ext cx="75153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4776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868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206064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9520" y="206064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47760" y="435528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5528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9520" y="435528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47760" y="2060640"/>
            <a:ext cx="75153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75153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58560" y="119664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4776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47760" y="2060640"/>
            <a:ext cx="75153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9868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47760" y="4355280"/>
            <a:ext cx="75153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75153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47760" y="4355280"/>
            <a:ext cx="75153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4776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9868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88640" y="206064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29520" y="206064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47760" y="435528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88640" y="435528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29520" y="435528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47760" y="2060640"/>
            <a:ext cx="75153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75153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75153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560" y="119664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4776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9868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47760" y="4355280"/>
            <a:ext cx="75153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75153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247760" y="4355280"/>
            <a:ext cx="75153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4776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9868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788640" y="206064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329520" y="206064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247760" y="435528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788640" y="435528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329520" y="435528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47760" y="2060640"/>
            <a:ext cx="75153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75153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560" y="119664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24776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9868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247760" y="4355280"/>
            <a:ext cx="75153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75153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247760" y="4355280"/>
            <a:ext cx="75153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24776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09868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788640" y="206064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329520" y="206064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247760" y="435528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788640" y="435528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329520" y="435528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247760" y="2060640"/>
            <a:ext cx="75153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75153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119664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4776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9868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247760" y="4355280"/>
            <a:ext cx="75153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75153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247760" y="4355280"/>
            <a:ext cx="75153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24776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09868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119664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788640" y="206064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329520" y="206064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247760" y="435528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788640" y="435528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329520" y="435528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247760" y="2060640"/>
            <a:ext cx="75153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75153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58560" y="119664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4776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09868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247760" y="4355280"/>
            <a:ext cx="75153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4776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75153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247760" y="4355280"/>
            <a:ext cx="75153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24776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9868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788640" y="206064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329520" y="206064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247760" y="435528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788640" y="435528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329520" y="435528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868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47760" y="4355280"/>
            <a:ext cx="75153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060640"/>
            <a:ext cx="75153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05.0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0532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Viive Aasa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914400" indent="517680" algn="ctr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3" marL="1371600" indent="603360" algn="ctr">
              <a:spcBef>
                <a:spcPts val="499"/>
              </a:spcBef>
              <a:buClr>
                <a:srgbClr val="00395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4" marL="1828800" indent="554040" algn="ctr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5" marL="1828800" indent="554040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6" marL="1828800" indent="554040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23.03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0532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Viive Aasa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83" name="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951"/>
                </a:solidFill>
                <a:latin typeface="Arial"/>
              </a:rPr>
              <a:t>2012. aasta eelarve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99640" y="1988640"/>
            <a:ext cx="4496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Viive Aasa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Finantsjuht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Finantseerimise allika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75153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Riigieelarvest eraldatavad vahendid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Majandustegevusest laekunud tulu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Välisvahendid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58560" y="90792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elarve koostamise protses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47640" y="1557360"/>
            <a:ext cx="70948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Riigi eelarvestrateegia (RES) 2012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2015 koostamise lähtealused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(14.02.11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1. Konservatiivsus, jätkusuutlikkus ja efektiivsus- märksõnad, millest tuli lähtuda ka järgnevate aastate tegevuste kavandamis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2. Uute tegevuste alustamine eeldab seniste poliitikate rahastamise ülevaatamist ning valdkondade siseselt prioriteetide seadmist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3. Tegevuskulude kasvu kehtiv eelarvestrateegia eelolevateks aastateks ette ei näinud.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Avalike teenuste pakkumise kvaliteedi tõstmine ning samaaegselt ressursside kasutamise tõhususe suurenda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402920" y="1484280"/>
            <a:ext cx="698508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RES finantsplaani koostamine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1. Statistikaprogrammi 2011-2015 ülevaata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Planeerimiskomitee – uued töö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PJK – IT arenduse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2. Uute tegevuste kohta lisataotluse koostamine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Finantsplaani ja lisataotluse esitamine – 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märt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2012. aasta eelarve  - 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juuli</a:t>
            </a: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68000" y="981000"/>
            <a:ext cx="64803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2012. aasta eelarve projekt </a:t>
            </a:r>
            <a:br>
              <a:rPr sz="2800"/>
            </a:b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uhat eurot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187280" y="1773360"/>
          <a:ext cx="7129800" cy="2592360"/>
        </p:xfrm>
        <a:graphic>
          <a:graphicData uri="http://schemas.openxmlformats.org/drawingml/2006/table">
            <a:tbl>
              <a:tblPr/>
              <a:tblGrid>
                <a:gridCol w="1729080"/>
                <a:gridCol w="1008000"/>
                <a:gridCol w="788760"/>
                <a:gridCol w="1420920"/>
                <a:gridCol w="1055880"/>
                <a:gridCol w="1127160"/>
              </a:tblGrid>
              <a:tr h="431640"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A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OT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VÄ + KF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EL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REGREL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011. aasta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4985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526+198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5 453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776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012. aasta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4985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92+96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9 875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sitatud l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sataotlused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505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-34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TEKK edastatud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  <a:p>
                      <a:pPr marL="361800" indent="-361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l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sataotlused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77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-34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0" name=""/>
          <p:cNvSpPr/>
          <p:nvPr/>
        </p:nvSpPr>
        <p:spPr>
          <a:xfrm>
            <a:off x="900000" y="4437000"/>
            <a:ext cx="792000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Personalikulude lisataotlus</a:t>
            </a:r>
            <a:r>
              <a:rPr b="1" lang="en-US" sz="1800" spc="-1" strike="noStrike">
                <a:solidFill>
                  <a:srgbClr val="003951"/>
                </a:solidFill>
                <a:latin typeface="Arial"/>
              </a:rPr>
              <a:t>  - </a:t>
            </a:r>
            <a:r>
              <a:rPr b="0" lang="en-US" sz="1600" spc="-1" strike="noStrike">
                <a:solidFill>
                  <a:srgbClr val="003951"/>
                </a:solidFill>
                <a:latin typeface="Arial"/>
              </a:rPr>
              <a:t>225  tuhat eurot</a:t>
            </a:r>
            <a:r>
              <a:rPr b="1" lang="en-US" sz="1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951"/>
                </a:solidFill>
                <a:latin typeface="Arial"/>
              </a:rPr>
              <a:t>uute statistikatööde finantseerimiseks 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Majandamiskulude lisataotlus -  </a:t>
            </a:r>
            <a:r>
              <a:rPr b="0" lang="en-US" sz="1600" spc="-1" strike="noStrike">
                <a:solidFill>
                  <a:srgbClr val="003951"/>
                </a:solidFill>
                <a:latin typeface="Arial"/>
              </a:rPr>
              <a:t>54 tuhat eurot, sh 20 tuhat eurot üürihinna tõusu kompenseerimiseks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Investeeringute lisataotlus</a:t>
            </a:r>
            <a:r>
              <a:rPr b="0" lang="en-US" sz="1600" spc="-1" strike="noStrike">
                <a:solidFill>
                  <a:srgbClr val="003951"/>
                </a:solidFill>
                <a:latin typeface="Arial"/>
              </a:rPr>
              <a:t> – 227 tuhat eurot, sh 189 tuhat eurot  VVIS IV etapp, 38 tuhat eurot arendusele “Majandusüksuste aruannete eeltäitmine admin.andmetega” </a:t>
            </a: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3951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63280" y="836640"/>
            <a:ext cx="6985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2012. aasta eelarve projekti hetkeseis 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187280" y="1484280"/>
          <a:ext cx="7129800" cy="3168360"/>
        </p:xfrm>
        <a:graphic>
          <a:graphicData uri="http://schemas.openxmlformats.org/drawingml/2006/table">
            <a:tbl>
              <a:tblPr/>
              <a:tblGrid>
                <a:gridCol w="1729080"/>
                <a:gridCol w="1008000"/>
                <a:gridCol w="788760"/>
                <a:gridCol w="1420920"/>
                <a:gridCol w="1055880"/>
                <a:gridCol w="1127160"/>
              </a:tblGrid>
              <a:tr h="43164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A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OT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VÄ + KF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EL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REGREL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011. aasta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4985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526+198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5 453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776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012. aasta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4985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92+96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9 875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sitatud l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sataotlused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505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-34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TEKK edastatud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  <a:p>
                      <a:pPr marL="361800" indent="-361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l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sataotlused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77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-34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VV edastatud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  <a:p>
                      <a:pPr marL="361800" indent="-361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l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sataotlused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0+34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"/>
          <p:cNvSpPr/>
          <p:nvPr/>
        </p:nvSpPr>
        <p:spPr>
          <a:xfrm>
            <a:off x="900000" y="4797360"/>
            <a:ext cx="79200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Majandamiskulude lisataotlus -  </a:t>
            </a:r>
            <a:r>
              <a:rPr b="0" lang="en-US" sz="1600" spc="-1" strike="noStrike">
                <a:solidFill>
                  <a:srgbClr val="003951"/>
                </a:solidFill>
                <a:latin typeface="Arial"/>
              </a:rPr>
              <a:t>üürihinna tõusu kompenseerimiseks 20 tuhat eurot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Investeeringute lisataotlus</a:t>
            </a:r>
            <a:r>
              <a:rPr b="0" lang="en-US" sz="1600" spc="-1" strike="noStrike">
                <a:solidFill>
                  <a:srgbClr val="003951"/>
                </a:solidFill>
                <a:latin typeface="Arial"/>
              </a:rPr>
              <a:t> –arendusele “Majandusüksuste aruannete eeltäitmine admin.andmetega” </a:t>
            </a: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951"/>
                </a:solidFill>
                <a:latin typeface="Arial"/>
              </a:rPr>
              <a:t>34 tuhat eurot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REGREL 2011. aasta ülejäägist</a:t>
            </a:r>
            <a:r>
              <a:rPr b="0" lang="en-US" sz="1600" spc="-1" strike="noStrike">
                <a:solidFill>
                  <a:srgbClr val="003951"/>
                </a:solidFill>
                <a:latin typeface="Arial"/>
              </a:rPr>
              <a:t> finantseerime VVIS IV etapi arenduste jätkamise 189 tuhat eurot ja katame majandamiskulu 33 tuhat eurot (eritarkvara hooldus ja SAS litsentside soetus) 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programm 2012-2016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58920" y="2349360"/>
            <a:ext cx="751536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nõukogule esitatud programmi maksumus 2012. aastal 16,3 miljonit euro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elarve läbivaatamine VV kestab kuni 29.09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rogrammi maksumuse muutmise vajadus peale VV otsu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1258920" y="2060640"/>
            <a:ext cx="75153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änan tähelepanu e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Kristina Lauri</cp:lastModifiedBy>
  <dcterms:modified xsi:type="dcterms:W3CDTF">2011-09-05T07:44:09Z</dcterms:modified>
  <cp:revision>26</cp:revision>
  <dc:subject/>
  <dc:title>Slide 1</dc:title>
</cp:coreProperties>
</file>