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B21B8-5EB8-4B7F-A530-1A4C9332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A59132-8F7E-482D-9CFD-DC8AD235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20C9-D019-48A1-9FCD-41FECDDF1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AC40E8-93B2-4228-BAAA-4B4DAAE5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B28D1-451A-4EC1-A530-09E7FEA08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2CE43-5CF1-44E1-A603-5F8A1906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DE315-577A-427F-9A8B-34FFFFA6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31EA-C261-4122-A47A-690BAC1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1E3FD4-26AA-4D23-AFD2-E57CC794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EE1A9-3CBD-46A6-9AB7-4025A44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1F1E0-D1E3-49E7-B628-9BFD3DEC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5733B-9B60-4BDA-858A-D589EEAE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E7C85-2E2E-4D3E-B1FF-B2401EAE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58A0B-3AA6-46D7-AAB0-3E5959A5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AA54B-4725-4B1E-86E8-5F6F2851B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AE321-6934-4AE4-B4BD-9FA7FE77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98B330-D629-4A6C-B793-00ED335D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302B8-E18C-4156-B09A-B9D2D3E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2DCBE3-3EAA-4837-8E34-9EDFF8E2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9759C-9B50-4263-8775-DD630C6F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F7B9D9-27A0-44E4-B150-3F93B8FC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C15DA-430D-4E8E-A220-A117FB7A1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6343B-1BE7-40F9-BC2E-0A14DF542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12B7B-1A75-48F5-A3FF-C5980CD9C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1.01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Presentatsiooni pealkiri või esitaja nimi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62640" y="279360"/>
            <a:ext cx="2400480" cy="8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900000" y="3473280"/>
            <a:ext cx="3816360" cy="1295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05.0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093080" y="271440"/>
            <a:ext cx="1670040" cy="565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-12600" y="-11160"/>
            <a:ext cx="91692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-6480" y="-9360"/>
            <a:ext cx="9176040" cy="687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A052-0783-4494-93D1-1716A1372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7920" y="-7920"/>
            <a:ext cx="917244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B9E8-3965-498D-A584-09617F89F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9360" y="-9360"/>
            <a:ext cx="9167760" cy="686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-7920" y="-11160"/>
            <a:ext cx="9169560" cy="68691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951"/>
                </a:solidFill>
                <a:latin typeface="Arial"/>
              </a:rPr>
              <a:t>REL 2011 teavitustegevused</a:t>
            </a:r>
            <a:endParaRPr b="1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899640" y="2420640"/>
            <a:ext cx="250524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Kristo Mäe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avalike suhete projektijuht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384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kampaania senised tulemused I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Üle 4500 loendustöö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lise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palgatakse ca 2400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ugev meedia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toimumise kohta (nii kohalikul kui üleriiklikul tasandil, ka venekeelse meedia huv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lanikkonna suurenenud huvi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REL 2011 vastu (sh päringud Statistikaametisse) 2011. aast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Huvi kasvamine rahvastikuga seotud temaatika vast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2011. aastal (nii meedia kui üldine huvi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ahvastiku ja loendusteema käsitlemine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arvamusliidrite poolt alates 2011. aasta kevad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268360" y="2997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Igaüks loeb!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280" y="909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Milles seisneb väljakutse REL 2011 kommunikatsioonis? 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67840" cy="34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muste suur ühiskondlik mõjujõud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ja tähtsus, nt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gelik elanike arv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ränne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anikkonna paiknemine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puudutab igat Eesti elanikku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rasematest loendustest erinev korraldus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jaliselt pikk (3 kuud) ja kahes etapis (e-loendus/küsitlusloendus),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58040" indent="-3560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smakordne e-loendus vajab elanike aktiivsus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alju huvitatud osapooli, palju erinevaid sihtgruppe (alates KOV-dest ja lõpetades erivajadustega inimestega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esmärgid REL 2011 kommunikatsiooni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6748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likkuse tõst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ja REL 2011 eesmärkide tutv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L 2011 vajalike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idusrühmade teavit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ja kaas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inisteeriumid, riigiasutused, KOV-d, MV-d jne)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valoendaja töö hõlbust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rrektsete andmete saamine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-loendu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sakaa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53840" y="62028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mmunikeeritavad valdkonn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367840" cy="28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loendus on rahvusvaheline ettevõtmin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kogu maailma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küsitletakse elanikkonda (alates 2010. aasta sügisest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 ja vajalikkus Eesti ühiskonnale –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põhiküsimused Eesti kohta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millele REL 2011 vastab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EL 2011 korraldus (sh osalemine)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muste avalda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6920" y="620280"/>
            <a:ext cx="7490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eskne sõnum “Igaüks loeb”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36784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i="1" lang="en-US" sz="1800" spc="-1" strike="noStrike">
                <a:solidFill>
                  <a:srgbClr val="003951"/>
                </a:solidFill>
                <a:latin typeface="Arial"/>
              </a:rPr>
              <a:t>Keskne sõnum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Väljendab rahvaloenduse ideed – see on kõikne ja selle </a:t>
            </a: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õnnestumisel on iga inimese osalemine tähtis</a:t>
            </a: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. Keskne sõnum viitab esmakordsele võimalusele end ise veebis loendada, aga ka iga Eesti inimese väärtuslikkusele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argumend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VAJALIKKUS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SALD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OTSTARBE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UUENDUSLIKKUS/SÄÄSTLIKK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LIHT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GLOBAALS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vitustegevused alates 2011. aasta kevades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avalik ülevaade tööde edenemisest, erinevad üritused). Oluliste sihtgruppide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briifi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Värbamis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mai-oktoober 2011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olmeetapiline reklaamikampaani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detsember – märts (üldised teemad, e-loendus, küsitlusloendus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tsepostitus kõigisse teadaolevatesse eluruumidess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15. detsembriks 2011, riigiportaali @eesti.ee aadressidele teavitamine, e-posti kampaani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uidas jõuame inimesteni? II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asutame </a:t>
            </a: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võimalikult palju olemasolevaid (tasuta) kanaleid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– nt SA enda kirjavahetus (ca 100 000 aastas), KOV-de reklaamipin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Rõhk PR-tegevusel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võimalusel sihtgruppidega otsesuhtlusel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ulekul: erinevad üritused ja koostööprojektid, väljaande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Teavitustegevused paralleelselt eesti ja vene keel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, töö venekeelse meediag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55280" y="54900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eavitustegevuste senised tulemused I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6784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L 2011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oimumisest on teadlik veidi üle poole 15-74-aastastest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elanikest – 57%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endust peetakse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üldiselt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estile vajalikuks (93%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, st väga vajalik 69%, pigem vajalik 24%)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õige olulisemaks peetakse Eesti tegeliku rahvaarvu väljaselgitamist (62%),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ellele järgnevad andmed Eesti rahva elamistingimuste kohta (39%) ning Eestist väljarännanute hulk ja perede koosseis/suurus (mõlemad 22%)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64% küsitletuist on teadlikud, et loendusel osalemine on kohustuslik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kõikidele Eesti püsielanikele, veerand küsitletuist peab loendusel osalemist vabatahtlikuk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0" algn="r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400" spc="-1" strike="noStrike">
                <a:solidFill>
                  <a:srgbClr val="003951"/>
                </a:solidFill>
                <a:latin typeface="Arial"/>
              </a:rPr>
              <a:t>Allikas: REL 2011 teadlikkuse uuring, Faktum &amp; Ariko (august 2011)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RM</cp:lastModifiedBy>
  <dcterms:modified xsi:type="dcterms:W3CDTF">2011-09-05T05:11:49Z</dcterms:modified>
  <cp:revision>67</cp:revision>
  <dc:subject/>
  <dc:title>Slide 1</dc:title>
</cp:coreProperties>
</file>