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74BDCA-544B-4722-8E3D-418F5AA4B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95A8AC-957A-48D8-92D8-5A3902D32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B8BC44-3013-4050-A043-91B60CA93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04D11E-1D0B-424D-966D-2EBE38B31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01FD59-337C-4FCF-8498-499F0F949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BDDBE5-8753-4FF8-BD58-29244D6B2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62A5B2-DC79-408B-9812-975BF65F4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311905-663E-4D8E-A501-62727F013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2ED2CE-5D1C-48A1-9402-02F0FAA0C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709289-6753-4D10-8EAF-EAB3D17E1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12D5CA-397E-428E-8547-B6823AF4D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61D1E8-8B90-463D-ACBE-7ED7F189D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8522D9-8885-4339-85BF-4BEDB32BD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C25AA0-A026-4CA5-AE5C-47BD93071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ACDA25-8B8C-4AAF-A6C7-00CFB07A8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A3E3C0-1A8B-4C12-A0BE-955F21632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0F9436-18EE-4936-A71C-7C6EDC1AA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7FCDEF-CD17-419F-94E1-905D9280C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3DE4DA-522A-47E2-9CBF-212E0003B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46D6B4-6BBE-4185-957B-2434CE064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99CB97-E8E8-436E-8EB6-6A098B065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89F529-764F-4C2D-8FC6-359987749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0F8609-A661-4A09-A9AB-F7EACCCB6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507C99-90EC-4E95-B25D-48B869E0A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17640" y="-17640"/>
            <a:ext cx="9193320" cy="6888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124740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3951"/>
                </a:solidFill>
                <a:latin typeface="Times New Roman"/>
              </a:defRPr>
            </a:lvl1pPr>
          </a:lstStyle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Times New Roman"/>
              </a:rPr>
              <a:t>01.01.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8672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Presentatsiooni pealkiri või esitaja nimi</a:t>
            </a:r>
            <a:endParaRPr b="0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6362640" y="279360"/>
            <a:ext cx="2400480" cy="814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324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898560"/>
            <a:ext cx="4498920" cy="85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900000" y="3473280"/>
            <a:ext cx="3816360" cy="12956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914400" indent="517680" algn="ctr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3" marL="1371600" indent="603360" algn="ctr">
              <a:spcBef>
                <a:spcPts val="499"/>
              </a:spcBef>
              <a:buClr>
                <a:srgbClr val="00395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4" marL="1828800" indent="554040" algn="ctr">
              <a:spcBef>
                <a:spcPts val="499"/>
              </a:spcBef>
              <a:buClr>
                <a:srgbClr val="00395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5" marL="1828800" indent="554040">
              <a:spcBef>
                <a:spcPts val="499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6" marL="1828800" indent="554040">
              <a:spcBef>
                <a:spcPts val="499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ftr" idx="2"/>
          </p:nvPr>
        </p:nvSpPr>
        <p:spPr>
          <a:xfrm>
            <a:off x="124740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3951"/>
                </a:solidFill>
                <a:latin typeface="Times New Roman"/>
              </a:defRPr>
            </a:lvl1pPr>
          </a:lstStyle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Times New Roman"/>
              </a:rPr>
              <a:t>05.09.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8672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Kristo Mäe</a:t>
            </a:r>
            <a:endParaRPr b="0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-7920" y="-15840"/>
            <a:ext cx="1095480" cy="10954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7093080" y="271440"/>
            <a:ext cx="1670040" cy="565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-12600" y="-11160"/>
            <a:ext cx="9169200" cy="6870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-6480" y="-9360"/>
            <a:ext cx="9176040" cy="687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DDE70-E85A-496A-ABE1-0176255D17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-7920" y="-7920"/>
            <a:ext cx="9172440" cy="687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49681-7999-4982-AE5C-9B37824C93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-9360" y="-9360"/>
            <a:ext cx="9167760" cy="6868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" descr=""/>
          <p:cNvPicPr/>
          <p:nvPr/>
        </p:nvPicPr>
        <p:blipFill>
          <a:blip r:embed="rId2"/>
          <a:stretch/>
        </p:blipFill>
        <p:spPr>
          <a:xfrm>
            <a:off x="-7920" y="-11160"/>
            <a:ext cx="9169560" cy="686916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3"/>
          <a:stretch/>
        </p:blipFill>
        <p:spPr>
          <a:xfrm>
            <a:off x="7346880" y="404640"/>
            <a:ext cx="1111320" cy="107028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914040" y="898560"/>
            <a:ext cx="4498920" cy="85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951"/>
                </a:solidFill>
                <a:latin typeface="Arial"/>
              </a:rPr>
              <a:t>REL 2011 teavitustegevused</a:t>
            </a:r>
            <a:endParaRPr b="1" lang="en-US" sz="26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899640" y="2420640"/>
            <a:ext cx="2505240" cy="5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3951"/>
                </a:solidFill>
                <a:latin typeface="Arial"/>
              </a:rPr>
              <a:t>Kristo Mäe</a:t>
            </a:r>
            <a:endParaRPr b="0" lang="en-US" sz="16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3951"/>
                </a:solidFill>
                <a:latin typeface="Arial"/>
              </a:rPr>
              <a:t>avalike suhete projektijuht</a:t>
            </a:r>
            <a:endParaRPr b="0" lang="en-US" sz="16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3840" y="54900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951"/>
                </a:solidFill>
                <a:latin typeface="Arial"/>
              </a:rPr>
              <a:t>Teavituskampaania senised tulemused II</a:t>
            </a:r>
            <a:endParaRPr b="1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951"/>
                </a:solidFill>
                <a:latin typeface="Arial"/>
              </a:rPr>
              <a:t>Üle 4500 loendustöö</a:t>
            </a: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951"/>
                </a:solidFill>
                <a:latin typeface="Arial"/>
              </a:rPr>
              <a:t>huvilise </a:t>
            </a: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(palgatakse ca 2400)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951"/>
                </a:solidFill>
                <a:latin typeface="Arial"/>
              </a:rPr>
              <a:t>Tugev meediahuvi</a:t>
            </a: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 REL 2011 toimumise kohta (nii kohalikul kui üleriiklikul tasandil, ka venekeelse meedia huvi)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951"/>
                </a:solidFill>
                <a:latin typeface="Arial"/>
              </a:rPr>
              <a:t>Elanikkonna suurenenud huvi</a:t>
            </a: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 REL 2011 vastu (sh päringud Statistikaametisse) 2011. aastal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951"/>
                </a:solidFill>
                <a:latin typeface="Arial"/>
              </a:rPr>
              <a:t>Huvi kasvamine rahvastikuga seotud temaatika vastu</a:t>
            </a: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 2011. aastal (nii meedia kui üldine huvi).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951"/>
                </a:solidFill>
                <a:latin typeface="Arial"/>
              </a:rPr>
              <a:t>Rahvastiku ja loendusteema käsitlemine</a:t>
            </a: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 arvamusliidrite poolt alates 2011. aasta kevadest.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2268360" y="2997360"/>
            <a:ext cx="46087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Igaüks loeb! 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55280" y="90936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951"/>
                </a:solidFill>
                <a:latin typeface="Arial"/>
              </a:rPr>
              <a:t>Milles seisneb väljakutse REL 2011 kommunikatsioonis? </a:t>
            </a:r>
            <a:endParaRPr b="1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95280" y="2060640"/>
            <a:ext cx="8367840" cy="34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54240" indent="-354240">
              <a:lnSpc>
                <a:spcPct val="9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REL 2011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tulemuste suur ühiskondlik mõjujõud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 ja tähtsus, nt: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58040" indent="-356040">
              <a:lnSpc>
                <a:spcPct val="9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tegelik elanike arv,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58040" indent="-356040">
              <a:lnSpc>
                <a:spcPct val="9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väljaränne,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58040" indent="-356040">
              <a:lnSpc>
                <a:spcPct val="9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elanikkonna paiknemine.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54240" indent="-354240">
              <a:lnSpc>
                <a:spcPct val="9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REL 2011 puudutab igat Eesti elanikku.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54240" indent="-354240">
              <a:lnSpc>
                <a:spcPct val="9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Varasematest loendustest erinev korraldus: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58040" indent="-356040">
              <a:lnSpc>
                <a:spcPct val="9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ajaliselt pikk (3 kuud) ja kahes etapis (e-loendus/küsitlusloendus),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58040" indent="-356040">
              <a:lnSpc>
                <a:spcPct val="9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esmakordne e-loendus vajab elanike aktiivsust.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54240" indent="-354240">
              <a:lnSpc>
                <a:spcPct val="9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Palju huvitatud osapooli, palju erinevaid sihtgruppe (alates KOV-dest ja lõpetades erivajadustega inimestega).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54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54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54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54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755280" y="62028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951"/>
                </a:solidFill>
                <a:latin typeface="Arial"/>
              </a:rPr>
              <a:t>Eesmärgid REL 2011 kommunikatsioonis</a:t>
            </a:r>
            <a:endParaRPr b="1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367480" cy="38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003951"/>
                </a:solidFill>
                <a:latin typeface="Arial"/>
              </a:rPr>
              <a:t>Teadlikkuse tõstmine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ja REL 2011 eesmärkide tutvustamine,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REL 2011 vajalike </a:t>
            </a:r>
            <a:r>
              <a:rPr b="1" lang="et-EE" sz="2400" spc="-1" strike="noStrike">
                <a:solidFill>
                  <a:srgbClr val="003951"/>
                </a:solidFill>
                <a:latin typeface="Arial"/>
              </a:rPr>
              <a:t>sidusrühmade teavitamine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400" spc="-1" strike="noStrike">
                <a:solidFill>
                  <a:srgbClr val="003951"/>
                </a:solidFill>
                <a:latin typeface="Arial"/>
              </a:rPr>
              <a:t>ja kaasamine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(ministeeriumid, riigiasutused, KOV-d, MV-d jne),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rahvaloendaja töö hõlbustamine,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korrektsete andmete saamine,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003951"/>
                </a:solidFill>
                <a:latin typeface="Arial"/>
              </a:rPr>
              <a:t>e-loenduse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400" spc="-1" strike="noStrike">
                <a:solidFill>
                  <a:srgbClr val="003951"/>
                </a:solidFill>
                <a:latin typeface="Arial"/>
              </a:rPr>
              <a:t>osakaal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53840" y="62028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Kommunikeeritavad valdkonnad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8367840" cy="28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Rahvaloendus on rahvusvaheline ettevõtmine – </a:t>
            </a:r>
            <a:r>
              <a:rPr b="1" lang="en-US" sz="2400" spc="-1" strike="noStrike">
                <a:solidFill>
                  <a:srgbClr val="003951"/>
                </a:solidFill>
                <a:latin typeface="Arial"/>
              </a:rPr>
              <a:t>kogu maailmas</a:t>
            </a: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 küsitletakse elanikkonda (alates 2010. aasta sügisest)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Kasu ja vajalikkus Eesti ühiskonnale – </a:t>
            </a:r>
            <a:r>
              <a:rPr b="1" lang="en-US" sz="2400" spc="-1" strike="noStrike">
                <a:solidFill>
                  <a:srgbClr val="003951"/>
                </a:solidFill>
                <a:latin typeface="Arial"/>
              </a:rPr>
              <a:t>põhiküsimused Eesti kohta</a:t>
            </a: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, millele REL 2011 vastab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REL 2011 korraldus (sh osalemine).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ulemuste avaldamine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26920" y="620280"/>
            <a:ext cx="749016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Keskne sõnum “Igaüks loeb”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395280" y="1699920"/>
            <a:ext cx="8367840" cy="18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951"/>
                </a:solidFill>
                <a:latin typeface="Arial"/>
              </a:rPr>
              <a:t>      </a:t>
            </a:r>
            <a:r>
              <a:rPr b="1" i="1" lang="en-US" sz="1800" spc="-1" strike="noStrike">
                <a:solidFill>
                  <a:srgbClr val="003951"/>
                </a:solidFill>
                <a:latin typeface="Arial"/>
              </a:rPr>
              <a:t>Keskne sõnum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951"/>
                </a:solidFill>
                <a:latin typeface="Arial"/>
              </a:rPr>
              <a:t>Väljendab rahvaloenduse ideed – see on kõikne ja selle </a:t>
            </a:r>
            <a:r>
              <a:rPr b="1" lang="en-US" sz="1800" spc="-1" strike="noStrike">
                <a:solidFill>
                  <a:srgbClr val="003951"/>
                </a:solidFill>
                <a:latin typeface="Arial"/>
              </a:rPr>
              <a:t>õnnestumisel on iga inimese osalemine tähtis</a:t>
            </a:r>
            <a:r>
              <a:rPr b="0" lang="en-US" sz="1800" spc="-1" strike="noStrike">
                <a:solidFill>
                  <a:srgbClr val="003951"/>
                </a:solidFill>
                <a:latin typeface="Arial"/>
              </a:rPr>
              <a:t>. Keskne sõnum viitab esmakordsele võimalusele end ise veebis loendada, aga ka iga Eesti inimese väärtuslikkusele. 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Põhiargumendid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lnSpc>
                <a:spcPct val="9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51"/>
                </a:solidFill>
                <a:latin typeface="Arial"/>
              </a:rPr>
              <a:t>VAJALIKKUS</a:t>
            </a:r>
            <a:r>
              <a:rPr b="0" lang="en-US" sz="2000" spc="-1" strike="noStrike">
                <a:solidFill>
                  <a:srgbClr val="003951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51"/>
                </a:solidFill>
                <a:latin typeface="Arial"/>
              </a:rPr>
              <a:t>USALDUS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51"/>
                </a:solidFill>
                <a:latin typeface="Arial"/>
              </a:rPr>
              <a:t>OTSTARBEKUS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51"/>
                </a:solidFill>
                <a:latin typeface="Arial"/>
              </a:rPr>
              <a:t>UUENDUSLIKKUS/SÄÄSTLIKKUS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51"/>
                </a:solidFill>
                <a:latin typeface="Arial"/>
              </a:rPr>
              <a:t>LIHTSUS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51"/>
                </a:solidFill>
                <a:latin typeface="Arial"/>
              </a:rPr>
              <a:t>GLOBAALSUS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Kuidas jõuame inimesteni?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003951"/>
                </a:solidFill>
                <a:latin typeface="Arial"/>
              </a:rPr>
              <a:t>Teavitustegevused alates 2011. aasta kevadest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(avalik ülevaade tööde edenemisest, erinevad üritused). Oluliste sihtgruppide </a:t>
            </a:r>
            <a:r>
              <a:rPr b="0" i="1" lang="et-EE" sz="2400" spc="-1" strike="noStrike">
                <a:solidFill>
                  <a:srgbClr val="003951"/>
                </a:solidFill>
                <a:latin typeface="Arial"/>
              </a:rPr>
              <a:t>briifimine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003951"/>
                </a:solidFill>
                <a:latin typeface="Arial"/>
              </a:rPr>
              <a:t>Värbamiskampaania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(mai-oktoober 2011)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003951"/>
                </a:solidFill>
                <a:latin typeface="Arial"/>
              </a:rPr>
              <a:t>Kolmeetapiline reklaamikampaania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detsember – märts (üldised teemad, e-loendus, küsitlusloendus)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003951"/>
                </a:solidFill>
                <a:latin typeface="Arial"/>
              </a:rPr>
              <a:t>Otsepostitus kõigisse teadaolevatesse eluruumidesse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15. detsembriks 2011, riigiportaali @eesti.ee aadressidele teavitamine, e-posti kampaania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Kuidas jõuame inimesteni? II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Kasutame </a:t>
            </a:r>
            <a:r>
              <a:rPr b="1" lang="en-US" sz="2400" spc="-1" strike="noStrike">
                <a:solidFill>
                  <a:srgbClr val="003951"/>
                </a:solidFill>
                <a:latin typeface="Arial"/>
              </a:rPr>
              <a:t>võimalikult palju olemasolevaid (tasuta) kanaleid </a:t>
            </a: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– nt SA enda kirjavahetus (ca 100 000 aastas), KOV-de reklaamipinnad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951"/>
                </a:solidFill>
                <a:latin typeface="Arial"/>
              </a:rPr>
              <a:t>Rõhk PR-tegevusel</a:t>
            </a: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, võimalusel sihtgruppidega otsesuhtlusel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ulekul: erinevad üritused ja koostööprojektid, väljaanded.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951"/>
                </a:solidFill>
                <a:latin typeface="Arial"/>
              </a:rPr>
              <a:t>Teavitustegevused paralleelselt eesti ja vene keeles</a:t>
            </a: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, töö venekeelse meediaga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755280" y="54900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951"/>
                </a:solidFill>
                <a:latin typeface="Arial"/>
              </a:rPr>
              <a:t>Teavitustegevuste senised tulemused I</a:t>
            </a:r>
            <a:endParaRPr b="1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36784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REL 2011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toimumisest on teadlik veidi üle poole 15-74-aastastest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 elanikest – 57%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Loendust peetakse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 üldiselt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Eestile vajalikuks (93%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, st väga vajalik 69%, pigem vajalik 24%). 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Kõige olulisemaks peetakse Eesti tegeliku rahvaarvu väljaselgitamist (62%), 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sellele järgnevad andmed Eesti rahva elamistingimuste kohta (39%) ning Eestist väljarännanute hulk ja perede koosseis/suurus (mõlemad 22%).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64% küsitletuist on teadlikud, et loendusel osalemine on kohustuslik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 kõikidele Eesti püsielanikele, veerand küsitletuist peab loendusel osalemist vabatahtlikuks.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0" algn="r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1400" spc="-1" strike="noStrike">
                <a:solidFill>
                  <a:srgbClr val="003951"/>
                </a:solidFill>
                <a:latin typeface="Arial"/>
              </a:rPr>
              <a:t>Allikas: REL 2011 teadlikkuse uuring, Faktum &amp; Ariko (august 2011)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3T08:03:18Z</dcterms:created>
  <dc:creator>user</dc:creator>
  <dc:description/>
  <dc:language>en-US</dc:language>
  <cp:lastModifiedBy>RM</cp:lastModifiedBy>
  <dcterms:modified xsi:type="dcterms:W3CDTF">2011-09-05T05:11:49Z</dcterms:modified>
  <cp:revision>67</cp:revision>
  <dc:subject/>
  <dc:title>Slide 1</dc:title>
</cp:coreProperties>
</file>