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44D1F-4615-4224-BA76-58FC5D41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A9925-BBC5-4439-8CB7-80F383C9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27992-7020-493A-AD04-4D6568C9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465F0-9656-4BB8-ADF6-3047516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D36FD-B267-4736-A33C-0F005219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EB2F6-FBF1-4B9E-BD8B-C46B288C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E330B-CA51-4D13-81B4-74D9AC71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17363-4881-41D7-8C9C-C1CAE31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40735-8D1B-48D2-AA42-015CB65F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B71CF-1902-4BAD-8320-6B48FE9A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A9CE7-C3B3-4191-94C5-2E006BF6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A1D5E-1CBF-4530-8FFA-F21FAF2C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44F90-E889-47F3-A6A1-27632587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F4651-EFCD-433C-9E7D-8CF03E1B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5D6E2-EAC4-4D06-B1BB-9F6F1713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9558E-E88F-4D27-AC0C-AC94F3AE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6561F-3343-4DFF-B18F-B61F794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FBFEC-B602-415F-8FFF-A9D59213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AA1F1-03D9-47A7-A0EE-CF2494B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BDB80-354F-4E59-979D-1B54083D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4511A-39FE-41C5-B41F-0E3EF7F0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0EDCF-154A-4EF3-B751-2FBFA6F3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C91DD-E944-42A6-A7D9-3E4DB0D5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E4188-506E-4A13-BA42-4BF4CD8F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5.0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C5AD-08B1-468F-A4FF-E45F319B9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A01F-668D-4D73-B851-E26A7B4E0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51"/>
                </a:solidFill>
                <a:latin typeface="Arial"/>
              </a:rPr>
              <a:t>REL 2011 teavitustegevu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2420640"/>
            <a:ext cx="2505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avalike suhete projektijuh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384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kampaania senised tulemused I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Üle 4500 loendustöö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lise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palgatakse ca 2400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ugev meedia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toimumise kohta (nii kohalikul kui üleriiklikul tasandil, ka venekeelse meedia huv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lanikkonna suurenenud 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vastu (sh päringud Statistikaametisse) 2011. aast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 kasvamine rahvastikuga seotud temaatika vast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2011. aastal (nii meedia kui üldine huvi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ahvastiku ja loendusteema käsitlemin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arvamusliidrite poolt alates 2011. aasta kevad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2997360"/>
            <a:ext cx="46087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Igaüks loeb!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280" y="909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lles seisneb väljakutse REL 2011 kommunikatsioonis?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678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muste suur ühiskondlik mõjujõu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ja tähtsus, n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gelik elanike arv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ränne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anikkonna paiknemin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puudutab igat Eesti elanikku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rasematest loendustest erinev korraldus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liselt pikk (3 kuud) ja kahes etapis (e-loendus/küsitlusloendus)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smakordne e-loendus vajab elanike aktiivsu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huvitatud osapooli, palju erinevaid sihtgruppe (alates KOV-dest ja lõpetades erivajadustega inimestega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märgid REL 2011 kommunikatsiooni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674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likkuse tõst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a REL 2011 eesmärkide tutv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L 2011 vajalik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idusrühmade teavit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ja kaas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inisteeriumid, riigiasutused, KOV-d, MV-d jne)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loendaja töö hõlb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rrektsete andmete sa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-loendu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sak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384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mmunikeeritavad valdkonn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67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loendus on rahvusvaheline ettevõtmin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kogu maailma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küsitletakse elanikkonda (alates 2010. aasta sügisest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 ja vajalikkus Eesti ühiskonnal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põhiküsimused Eesti kohta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millele REL 2011 vastab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L 2011 korraldus (sh osalemine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muste avalda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eskne sõnum “Igaüks loeb”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78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Keskne sõnum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äljendab rahvaloenduse ideed – see on kõikne ja selle 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õnnestumisel on iga inimese osalemine tähtis</a:t>
            </a: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. Keskne sõnum viitab esmakordsele võimalusele end ise veebis loendada, aga ka iga Eesti inimese väärtuslikkusele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argumen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VAJALIKKUS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SALD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OTSTARBE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UENDUSLIKKUS/SÄÄSTLIK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LIHT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GLOBAAL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vitustegevused alates 2011. aasta kevades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avalik ülevaade tööde edenemisest, erinevad üritused). Oluliste sihtgruppide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briifi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Värbamis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ai-oktoober 2011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olmeetapiline reklaami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detsember – märts (üldised teemad, e-loendus, küsitlusloendus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tsepostitus kõigisse teadaolevatesse eluruumides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15. detsembriks 2011, riigiportaali @eesti.ee aadressidele teavitamine, e-posti kampaani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 I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tame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võimalikult palju olemasolevaid (tasuta) kanaleid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 nt SA enda kirjavahetus (ca 100 000 aastas), KOV-de reklaamipinn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õhk PR-tegevusel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võimalusel sihtgruppidega otsesuhtlu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kul: erinevad üritused ja koostööprojektid, väljaande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eavitustegevused paralleelselt eesti ja vene keel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töö venekeelse meedia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tegevuste senised tulemused 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oimumisest on teadlik veidi üle poole 15-74-aastastest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elanikest – 57%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ndust peetakse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üldisel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le vajalikuks (93%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st väga vajalik 69%, pigem vajalik 24%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õige olulisemaks peetakse Eesti tegeliku rahvaarvu väljaselgitamist (62%),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llele järgnevad andmed Eesti rahva elamistingimuste kohta (39%) ning Eestist väljarännanute hulk ja perede koosseis/suurus (mõlemad 22%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64% küsitletuist on teadlikud, et loendusel osalemine on kohustuslik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kõikidele Eesti püsielanikele, veerand küsitletuist peab loendusel osalemist vabatahtliku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3951"/>
                </a:solidFill>
                <a:latin typeface="Arial"/>
              </a:rPr>
              <a:t>Allikas: REL 2011 teadlikkuse uuring, Faktum &amp; Ariko (august 2011)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RM</cp:lastModifiedBy>
  <dcterms:modified xsi:type="dcterms:W3CDTF">2011-09-05T05:11:49Z</dcterms:modified>
  <cp:revision>67</cp:revision>
  <dc:subject/>
  <dc:title>Slide 1</dc:title>
</cp:coreProperties>
</file>