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49B21-00F8-4F8F-A514-E35CB0E2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72915-5C63-4EB1-8665-18EE3BA0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9C83D-1F37-45A0-8152-837995DB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76733-D204-418F-83EE-29744D4D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CBFC4-71B2-4222-8345-A4FC7653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1DCC5-8FAD-46E4-96B6-BC726565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FDBDE-7166-48E5-B3D8-E9CA21EA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BC2C1-5709-418E-8723-121B575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37783-C5F5-422B-9E4A-C62EDDCC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68E3A-E622-49B1-8DC6-0D899329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595DD-1E24-460B-A288-0CA36AB5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FCA0F-64A3-4341-BDB2-C54CA8FF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54582-C916-45DC-BA18-E2620BE2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1E458-60A7-49F5-ACE4-0B996797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1B450-F587-41CA-8AB1-3904EDED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1D12F-C503-4B7B-A302-5DD7A567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C7AE7-B56F-41E2-AB40-79DD67A1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6ED83-6D4E-4220-9257-80054C2B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B2BB2-AD75-40B2-B4DF-E637882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AB5D5-4D12-4E8D-9B76-2CC3F964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0E6AF-6137-4CA2-B59A-051991AF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348D9-9B73-409E-9491-F103EE2D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76912-BB08-4C82-AA06-42DCD471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2DA9B-6C39-4F13-B252-4B186494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5.0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B70E-B47F-488B-B344-1128DECB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FF62-3F39-4104-9CD7-4090AFEEB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51"/>
                </a:solidFill>
                <a:latin typeface="Arial"/>
              </a:rPr>
              <a:t>REL 2011 teavitustegevus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9640" y="2420640"/>
            <a:ext cx="2505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avalike suhete projektijuht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384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kampaania senised tulemused I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Üle 4500 loendustöö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lise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palgatakse ca 2400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ugev meedia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toimumise kohta (nii kohalikul kui üleriiklikul tasandil, ka venekeelse meedia huv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lanikkonna suurenenud 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vastu (sh päringud Statistikaametisse) 2011. aast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 kasvamine rahvastikuga seotud temaatika vast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2011. aastal (nii meedia kui üldine huvi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ahvastiku ja loendusteema käsitlemine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arvamusliidrite poolt alates 2011. aasta kevad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2997360"/>
            <a:ext cx="46087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Igaüks loeb!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280" y="909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Milles seisneb väljakutse REL 2011 kommunikatsioonis?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678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muste suur ühiskondlik mõjujõu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ja tähtsus, n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gelik elanike arv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ränne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anikkonna paiknemine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puudutab igat Eesti elanikku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rasematest loendustest erinev korraldus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liselt pikk (3 kuud) ja kahes etapis (e-loendus/küsitlusloendus)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smakordne e-loendus vajab elanike aktiivsu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huvitatud osapooli, palju erinevaid sihtgruppe (alates KOV-dest ja lõpetades erivajadustega inimestega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esmärgid REL 2011 kommunikatsiooni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674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likkuse tõst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ja REL 2011 eesmärkide tutv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L 2011 vajalik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idusrühmade teavit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ja kaas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inisteeriumid, riigiasutused, KOV-d, MV-d jne)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loendaja töö hõlb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rrektsete andmete sa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-loendu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sak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384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mmunikeeritavad valdkonn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67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loendus on rahvusvaheline ettevõtmin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kogu maailma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küsitletakse elanikkonda (alates 2010. aasta sügisest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 ja vajalikkus Eesti ühiskonnal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põhiküsimused Eesti kohta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millele REL 2011 vastab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EL 2011 korraldus (sh osalemine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muste avalda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490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eskne sõnum “Igaüks loeb”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678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Keskne sõnum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Väljendab rahvaloenduse ideed – see on kõikne ja selle 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õnnestumisel on iga inimese osalemine tähtis</a:t>
            </a: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. Keskne sõnum viitab esmakordsele võimalusele end ise veebis loendada, aga ka iga Eesti inimese väärtuslikkusele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argumen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VAJALIKKUS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SALD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OTSTARBE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UENDUSLIKKUS/SÄÄSTLIK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LIHT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GLOBAAL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vitustegevused alates 2011. aasta kevades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avalik ülevaade tööde edenemisest, erinevad üritused). Oluliste sihtgruppide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briifi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Värbamis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ai-oktoober 2011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olmeetapiline reklaami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detsember – märts (üldised teemad, e-loendus, küsitlusloendus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tsepostitus kõigisse teadaolevatesse eluruumides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15. detsembriks 2011, riigiportaali @eesti.ee aadressidele teavitamine, e-posti kampaani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 I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tame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võimalikult palju olemasolevaid (tasuta) kanaleid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– nt SA enda kirjavahetus (ca 100 000 aastas), KOV-de reklaamipinna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õhk PR-tegevusel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võimalusel sihtgruppidega otsesuhtlu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kul: erinevad üritused ja koostööprojektid, väljaanded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eavitustegevused paralleelselt eesti ja vene keel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töö venekeelse meedia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tegevuste senised tulemused 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7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oimumisest on teadlik veidi üle poole 15-74-aastastest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elanikest – 57%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ndust peetakse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üldisel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le vajalikuks (93%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st väga vajalik 69%, pigem vajalik 24%)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õige olulisemaks peetakse Eesti tegeliku rahvaarvu väljaselgitamist (62%),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llele järgnevad andmed Eesti rahva elamistingimuste kohta (39%) ning Eestist väljarännanute hulk ja perede koosseis/suurus (mõlemad 22%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64% küsitletuist on teadlikud, et loendusel osalemine on kohustuslik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kõikidele Eesti püsielanikele, veerand küsitletuist peab loendusel osalemist vabatahtliku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3951"/>
                </a:solidFill>
                <a:latin typeface="Arial"/>
              </a:rPr>
              <a:t>Allikas: REL 2011 teadlikkuse uuring, Faktum &amp; Ariko (august 2011)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RM</cp:lastModifiedBy>
  <dcterms:modified xsi:type="dcterms:W3CDTF">2011-09-05T05:11:49Z</dcterms:modified>
  <cp:revision>67</cp:revision>
  <dc:subject/>
  <dc:title>Slide 1</dc:title>
</cp:coreProperties>
</file>