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2575C-109C-4761-B705-1046AA70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B7566-D997-4B46-A840-293C946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F166C-141D-4FC5-9353-6EDF27FB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426D3-E52F-4E3F-BD5D-1EDB4AF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F6A4E-33D8-402C-84E3-209DD553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27C06-D11A-49D4-8693-BB2D542E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1DD71-702A-4457-8D7B-57D0C80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C25C6-8016-4E51-B772-59C22E09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196D1-4046-4758-A966-4838FBD1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7371E-68C3-4426-9837-A85B836D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B6856-ECD9-4148-A5D7-7FC4EAF1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1D1C7-9133-4B7B-91CC-6FAE65A6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BD361-CAF0-4A6C-9B0D-398590B9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BF327-7E40-4821-8E21-7B198679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5D5D2-DA88-46B6-8704-518B661D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29FEE-920F-4A1E-8317-E677A993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2CCF3-B929-4986-A8D8-6010B2E8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79F33-3298-4C1E-B201-DA846BC0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195C5-E8AA-4781-BE44-58DFD4F6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A9479-8D6D-4485-8873-F8B1565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5D8E8-D24A-4C47-8810-0846BBB8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E15D3-438C-425A-B6A8-F1A2B21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20F36-8F3C-483A-B09F-2F7BC96C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D2BDB-7411-4A78-B631-0CED2F40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5.0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046D-ACCC-4471-A1CD-AEC5A2C63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4A69-C380-4DAB-8462-4252891C4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51"/>
                </a:solidFill>
                <a:latin typeface="Arial"/>
              </a:rPr>
              <a:t>REL 2011 teavitustegevu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2420640"/>
            <a:ext cx="2505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avalike suhete projektijuh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384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kampaania senised tulemused I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Üle 4500 loendustöö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lise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palgatakse ca 2400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ugev meedia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toimumise kohta (nii kohalikul kui üleriiklikul tasandil, ka venekeelse meedia huv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lanikkonna suurenenud 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vastu (sh päringud Statistikaametisse) 2011. aast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 kasvamine rahvastikuga seotud temaatika vast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2011. aastal (nii meedia kui üldine huvi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ahvastiku ja loendusteema käsitlemin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arvamusliidrite poolt alates 2011. aasta kevad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2997360"/>
            <a:ext cx="46087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Igaüks loeb!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280" y="909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lles seisneb väljakutse REL 2011 kommunikatsioonis?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678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muste suur ühiskondlik mõjujõu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ja tähtsus, n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gelik elanike arv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ränne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anikkonna paiknemin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puudutab igat Eesti elanikku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rasematest loendustest erinev korraldus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liselt pikk (3 kuud) ja kahes etapis (e-loendus/küsitlusloendus)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smakordne e-loendus vajab elanike aktiivsu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huvitatud osapooli, palju erinevaid sihtgruppe (alates KOV-dest ja lõpetades erivajadustega inimestega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märgid REL 2011 kommunikatsiooni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674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likkuse tõst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a REL 2011 eesmärkide tutv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L 2011 vajalik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idusrühmade teavit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ja kaas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inisteeriumid, riigiasutused, KOV-d, MV-d jne)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loendaja töö hõlb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rrektsete andmete sa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-loendu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sak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384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mmunikeeritavad valdkonn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67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loendus on rahvusvaheline ettevõtmin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kogu maailma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küsitletakse elanikkonda (alates 2010. aasta sügisest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 ja vajalikkus Eesti ühiskonnal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põhiküsimused Eesti kohta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millele REL 2011 vastab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L 2011 korraldus (sh osalemine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muste avalda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eskne sõnum “Igaüks loeb”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78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Keskne sõnum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äljendab rahvaloenduse ideed – see on kõikne ja selle 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õnnestumisel on iga inimese osalemine tähtis</a:t>
            </a: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. Keskne sõnum viitab esmakordsele võimalusele end ise veebis loendada, aga ka iga Eesti inimese väärtuslikkusele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argumen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VAJALIKKUS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SALD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OTSTARBE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UENDUSLIKKUS/SÄÄSTLIK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LIHT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GLOBAAL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vitustegevused alates 2011. aasta kevades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avalik ülevaade tööde edenemisest, erinevad üritused). Oluliste sihtgruppide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briifi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Värbamis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ai-oktoober 2011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olmeetapiline reklaami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detsember – märts (üldised teemad, e-loendus, küsitlusloendus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tsepostitus kõigisse teadaolevatesse eluruumides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15. detsembriks 2011, riigiportaali @eesti.ee aadressidele teavitamine, e-posti kampaani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 I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tame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võimalikult palju olemasolevaid (tasuta) kanaleid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 nt SA enda kirjavahetus (ca 100 000 aastas), KOV-de reklaamipinn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õhk PR-tegevusel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võimalusel sihtgruppidega otsesuhtlu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kul: erinevad üritused ja koostööprojektid, väljaande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eavitustegevused paralleelselt eesti ja vene keel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töö venekeelse meedia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tegevuste senised tulemused 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oimumisest on teadlik veidi üle poole 15-74-aastastest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elanikest – 57%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ndust peetakse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üldisel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le vajalikuks (93%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st väga vajalik 69%, pigem vajalik 24%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õige olulisemaks peetakse Eesti tegeliku rahvaarvu väljaselgitamist (62%),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llele järgnevad andmed Eesti rahva elamistingimuste kohta (39%) ning Eestist väljarännanute hulk ja perede koosseis/suurus (mõlemad 22%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64% küsitletuist on teadlikud, et loendusel osalemine on kohustuslik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kõikidele Eesti püsielanikele, veerand küsitletuist peab loendusel osalemist vabatahtliku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3951"/>
                </a:solidFill>
                <a:latin typeface="Arial"/>
              </a:rPr>
              <a:t>Allikas: REL 2011 teadlikkuse uuring, Faktum &amp; Ariko (august 2011)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RM</cp:lastModifiedBy>
  <dcterms:modified xsi:type="dcterms:W3CDTF">2011-09-05T05:11:49Z</dcterms:modified>
  <cp:revision>67</cp:revision>
  <dc:subject/>
  <dc:title>Slide 1</dc:title>
</cp:coreProperties>
</file>