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mailto:kaia.oras@stat.ee" TargetMode="External"/><Relationship Id="rId4" Type="http://schemas.openxmlformats.org/officeDocument/2006/relationships/hyperlink" Target="mailto:agnes.naarits@stat.ee" TargetMode="External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5329080" cy="17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RIIKLIKU ja MITTERIIKLIKU KESKKONNASTATISTIKA KAARDISTUS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71640" y="5084280"/>
            <a:ext cx="4495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-7920" y="-11160"/>
            <a:ext cx="9180360" cy="6877080"/>
            <a:chOff x="-7920" y="-11160"/>
            <a:chExt cx="9180360" cy="6877080"/>
          </a:xfrm>
        </p:grpSpPr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-7920" y="-11160"/>
              <a:ext cx="918036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7346880" y="404640"/>
              <a:ext cx="1111320" cy="10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"/>
          <p:cNvSpPr/>
          <p:nvPr/>
        </p:nvSpPr>
        <p:spPr>
          <a:xfrm>
            <a:off x="611280" y="4221000"/>
            <a:ext cx="51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eie küsimused on oodatud.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5013360"/>
            <a:ext cx="518472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3"/>
              </a:rPr>
              <a:t>kaia.oras@stat.e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4"/>
              </a:rPr>
              <a:t>agnes.naarits@stat.e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951"/>
                </a:solidFill>
                <a:latin typeface="Arial"/>
              </a:rPr>
              <a:t>Lühendid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87280" y="1484280"/>
            <a:ext cx="360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Contribution to the European Topic Center/Air and Climate Change of the European Environment Agency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59280" y="2852640"/>
            <a:ext cx="71928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936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EMHI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4000" y="4365720"/>
            <a:ext cx="792000" cy="21564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EKA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4000" y="1413000"/>
            <a:ext cx="792000" cy="50328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ETC/ACC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59280" y="1413000"/>
            <a:ext cx="720720" cy="21564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KKM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1700280"/>
            <a:ext cx="72072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KTK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1989000"/>
            <a:ext cx="72072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KUK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59280" y="2276640"/>
            <a:ext cx="720720" cy="21564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MNT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51640" y="141300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Keskkonnaministeerium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651640" y="1700280"/>
            <a:ext cx="22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Keskkonnateabe Keskus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51640" y="1989000"/>
            <a:ext cx="23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Keskkonnauuringute Keskus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51640" y="2276640"/>
            <a:ext cx="151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Maanteeamet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8000" y="2852640"/>
            <a:ext cx="34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300" spc="-1" strike="noStrike">
                <a:solidFill>
                  <a:srgbClr val="003951"/>
                </a:solidFill>
                <a:latin typeface="Arial"/>
              </a:rPr>
              <a:t>Eesti Meteoroloogia ja Hüdroloogia Instituut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87280" y="436572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Euroopa Keskkonnaagentuur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87280" y="2349360"/>
            <a:ext cx="34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United Nations Economic Commission for Europ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59280" y="2565360"/>
            <a:ext cx="72072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SA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4000" y="350028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IPCC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4000" y="256536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UN BD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285264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FAO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2565360"/>
            <a:ext cx="180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87280" y="2565360"/>
            <a:ext cx="367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Secretariat of the Convention on Biological Diversity</a:t>
            </a: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87280" y="2852640"/>
            <a:ext cx="273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3951"/>
                </a:solidFill>
                <a:latin typeface="Arial"/>
              </a:rPr>
              <a:t>Food and Agriculture Organization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4000" y="198900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EFDAC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3141720"/>
            <a:ext cx="792000" cy="28728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MCPF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187280" y="198900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3951"/>
                </a:solidFill>
                <a:latin typeface="Arial"/>
              </a:rPr>
              <a:t>European Forest Data Center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87280" y="3141720"/>
            <a:ext cx="360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3951"/>
                </a:solidFill>
                <a:latin typeface="Arial"/>
              </a:rPr>
              <a:t>Ministerial Conference on the Protection of Forests in Europ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87280" y="3500280"/>
            <a:ext cx="37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Intergovernmental Panel on Climate Chang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4000" y="2276640"/>
            <a:ext cx="792000" cy="21564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UN EC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56360" y="134136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378936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ITTO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87280" y="3789360"/>
            <a:ext cx="37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International Tropical Timber Organization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87280" y="4076640"/>
            <a:ext cx="388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3951"/>
                </a:solidFill>
                <a:latin typeface="Arial"/>
              </a:rPr>
              <a:t>European </a:t>
            </a: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Common Database on Designated Areas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4000" y="407664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ECDDA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" y="4653000"/>
            <a:ext cx="792000" cy="216000"/>
          </a:xfrm>
          <a:prstGeom prst="rect">
            <a:avLst/>
          </a:prstGeom>
          <a:solidFill>
            <a:srgbClr val="b3a0a6">
              <a:alpha val="28000"/>
            </a:srgbClr>
          </a:solidFill>
          <a:ln w="1260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951"/>
                </a:solidFill>
                <a:latin typeface="Arial"/>
              </a:rPr>
              <a:t>GFRA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87280" y="465300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300" spc="-1" strike="noStrike">
                <a:solidFill>
                  <a:srgbClr val="003951"/>
                </a:solidFill>
                <a:latin typeface="Arial"/>
              </a:rPr>
              <a:t>Global Forest Resources Assessment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951"/>
                </a:solidFill>
                <a:latin typeface="Arial"/>
              </a:rPr>
              <a:t>Keskkonnaandmete tootjad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678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eskkonnaministeerium ja haldusala asut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Keskkonnateabe Keskus, Keskkonnaamet, Maa-amet,  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Eesti Meteoroloogia ja Hüdroloogia Instituu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Keskkonnauuringute Kesku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ministeerium ja haldusala asutuse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(Terviseamet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llumajandusministeerium ja haldusala asut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Põllumajandusamet, Põllumajandusuuringute Keskus, Jäneda Õppe- ja Nõuandekeskus, Põllumajanduse Registrite ja Informatsiooni Amet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ahandusministeerium ja haldusala asut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t Statistikaamet, Keskkonnainvesteeringute Kesku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ajandus- ja Kommunikatsiooniministeeri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t Maanteeamet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ikooli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(nt Tallinna Tehnikaülikool, Eesti Maaülikoo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 flipH="1">
            <a:off x="5003280" y="4292640"/>
            <a:ext cx="1800" cy="865080"/>
          </a:xfrm>
          <a:prstGeom prst="line">
            <a:avLst/>
          </a:prstGeom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003640" y="5157720"/>
            <a:ext cx="649440" cy="0"/>
          </a:xfrm>
          <a:prstGeom prst="line">
            <a:avLst/>
          </a:prstGeom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003640" y="4941720"/>
            <a:ext cx="649440" cy="0"/>
          </a:xfrm>
          <a:prstGeom prst="line">
            <a:avLst/>
          </a:prstGeom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417672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TK aruandlus rahvusvahelistele organisatsioonidele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907920"/>
            <a:ext cx="2879640" cy="216000"/>
          </a:xfrm>
          <a:prstGeom prst="rect">
            <a:avLst/>
          </a:prstGeom>
          <a:solidFill>
            <a:srgbClr val="b3a0a6"/>
          </a:solidFill>
          <a:ln w="1908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Looduskaits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34136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ECDDA - riiklikud looduskaitseala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12536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Bioloogilise mitmekesisuse konventsioon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55736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OECD biol. mitm. andmevoog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278136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E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51640" y="620640"/>
            <a:ext cx="3168360" cy="21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urostat/OECD ühis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404640"/>
            <a:ext cx="3168360" cy="216000"/>
          </a:xfrm>
          <a:prstGeom prst="rect">
            <a:avLst/>
          </a:prstGeom>
          <a:solidFill>
            <a:srgbClr val="b3a0a6"/>
          </a:solidFill>
          <a:ln w="1908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Jäätmete valdkon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651640" y="83664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Baseli konventsiooni aruandlus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51640" y="1052640"/>
            <a:ext cx="316836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Jooksvad küsimustikud, aruande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126828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Direktiiv ohtlike jäätmete koht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1484280"/>
            <a:ext cx="31701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Prügiladirektii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1700280"/>
            <a:ext cx="31701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Direk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.</a:t>
            </a: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 elektri- ja elektroonikajäätmete koht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2133720"/>
            <a:ext cx="316836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Direktiiv patareide ja akude koht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936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Direktiiv E-PRTR 166/2006 koht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256536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Pakendi ja pakendijäätmete direktii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1916280"/>
            <a:ext cx="317016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3951"/>
                </a:solidFill>
                <a:latin typeface="Arial"/>
              </a:rPr>
              <a:t>Direkt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0" lang="sv-SE" sz="1200" spc="-1" strike="noStrike">
                <a:solidFill>
                  <a:srgbClr val="003951"/>
                </a:solidFill>
                <a:latin typeface="Arial"/>
              </a:rPr>
              <a:t> kasutuse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lang="sv-SE" sz="1200" spc="-1" strike="noStrike">
                <a:solidFill>
                  <a:srgbClr val="003951"/>
                </a:solidFill>
                <a:latin typeface="Arial"/>
              </a:rPr>
              <a:t>t kõrvaldatud sõidukite koht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1989000"/>
            <a:ext cx="2879640" cy="216000"/>
          </a:xfrm>
          <a:prstGeom prst="rect">
            <a:avLst/>
          </a:prstGeom>
          <a:solidFill>
            <a:srgbClr val="b3a0a6"/>
          </a:solidFill>
          <a:ln w="1908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Vee valdkon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2637000"/>
            <a:ext cx="287964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EIONET võrgustiku andme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242100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Läänemere merekeskkonna kaits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2852640"/>
            <a:ext cx="2879640" cy="432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L-i</a:t>
            </a: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direktiiv</a:t>
            </a: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 saasteainete heitmete- ja ül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kande</a:t>
            </a: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registeri kohta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, EL 2006/166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393372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Vene Föderatsiooni ja Eesti kokkulep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3284640"/>
            <a:ext cx="287964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Asula reovee direktii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50028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Veepoliitika raamdirektii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371628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Nitraadidirektii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220500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urostat/OECD ühis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162864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220500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Eurostat</a:t>
            </a: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651640" y="2997360"/>
            <a:ext cx="3168360" cy="288720"/>
          </a:xfrm>
          <a:prstGeom prst="rect">
            <a:avLst/>
          </a:prstGeom>
          <a:solidFill>
            <a:srgbClr val="b3a0a6"/>
          </a:solidFill>
          <a:ln w="1908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Metsandusstatistik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350028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MCPFE 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371628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Puidukomitee 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458136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Metsasektori turuülevaad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1640" y="393372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Puiduenergia ühis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4365720"/>
            <a:ext cx="316836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200" spc="-1" strike="noStrike">
                <a:solidFill>
                  <a:srgbClr val="003951"/>
                </a:solidFill>
                <a:latin typeface="Arial"/>
              </a:rPr>
              <a:t>State of Environment</a:t>
            </a: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 küsimustiku metsa os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51640" y="479736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Metsasektori ühend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501336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Metsaressursside hindamise 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4365720"/>
            <a:ext cx="2879640" cy="215640"/>
          </a:xfrm>
          <a:prstGeom prst="rect">
            <a:avLst/>
          </a:prstGeom>
          <a:solidFill>
            <a:srgbClr val="b3a0a6"/>
          </a:solidFill>
          <a:ln w="19080">
            <a:solidFill>
              <a:srgbClr val="b3a0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Õhu valdkon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44500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Dir: 2001/80, 2001/81, 2004/42, 1999/13 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587700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L määrus EPER kohta 2006/166 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0920" y="501336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urostat/OECD õhuvaldkonna küsimustik 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630864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Õhuemissiooni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0920" y="6093000"/>
            <a:ext cx="287964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TC/AQQ küsimustiku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79736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IPCC dir 96/61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458136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L määrus POP-s, 850/24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0920" y="5229360"/>
            <a:ext cx="287964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EEA TERM küsimustik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11640" y="335772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HELCOM</a:t>
            </a: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1640" y="105264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UN B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11640" y="508464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11640" y="393372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EK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6237360"/>
            <a:ext cx="57600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FAO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01080" y="623736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ITTO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787640" y="4149720"/>
            <a:ext cx="647640" cy="0"/>
          </a:xfrm>
          <a:prstGeom prst="line">
            <a:avLst/>
          </a:prstGeom>
          <a:ln w="2556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1640" y="47628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S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19640" y="1628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1640" y="4508640"/>
            <a:ext cx="57636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951"/>
                </a:solidFill>
                <a:latin typeface="Arial"/>
              </a:rPr>
              <a:t>UN ECE</a:t>
            </a:r>
            <a:endParaRPr b="0" lang="en-US" sz="11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363640" y="4508640"/>
            <a:ext cx="287640" cy="50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219640" y="3645000"/>
            <a:ext cx="43200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0920" y="5661000"/>
            <a:ext cx="287964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aaste kauglevi konventsioon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51640" y="414972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Kliimakonventsiooni metsandusandmed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51640" y="5229360"/>
            <a:ext cx="316836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GFRA (metsaressursi hindamine)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51640" y="3284640"/>
            <a:ext cx="3168360" cy="21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Direktiiv 92/43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56360" y="6237360"/>
            <a:ext cx="64764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MCPF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93080" y="6237360"/>
            <a:ext cx="72072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951"/>
                </a:solidFill>
                <a:latin typeface="Arial"/>
              </a:rPr>
              <a:t>EFDAC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651640" y="5445000"/>
            <a:ext cx="3168360" cy="21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951"/>
                </a:solidFill>
                <a:latin typeface="Arial"/>
              </a:rPr>
              <a:t>MCPFE/EFDAC metsamajandusstatistik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8000" y="4149720"/>
            <a:ext cx="863640" cy="0"/>
          </a:xfrm>
          <a:prstGeom prst="line">
            <a:avLst/>
          </a:prstGeom>
          <a:ln w="2556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48000" y="1197000"/>
            <a:ext cx="0" cy="496872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573408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530064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32000" y="595008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2000" y="551664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616572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2000" y="141300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119700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35640" y="981000"/>
            <a:ext cx="0" cy="316872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435640" y="98100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4000" y="2997360"/>
            <a:ext cx="647640" cy="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219640" y="134136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219640" y="1341000"/>
            <a:ext cx="0" cy="201636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219640" y="155736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19640" y="177336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219640" y="198900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219640" y="220500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219640" y="242100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219640" y="263700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787640" y="2997360"/>
            <a:ext cx="431640" cy="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219640" y="335772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219640" y="5300640"/>
            <a:ext cx="433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219640" y="5084640"/>
            <a:ext cx="433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219640" y="4869000"/>
            <a:ext cx="433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35640" y="4653000"/>
            <a:ext cx="217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3789360"/>
            <a:ext cx="0" cy="151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132000" y="465300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132000" y="486900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132000" y="378936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132000" y="357336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132000" y="3357720"/>
            <a:ext cx="433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564000" y="2997000"/>
            <a:ext cx="0" cy="187164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435640" y="5157720"/>
            <a:ext cx="217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435640" y="4941720"/>
            <a:ext cx="217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435640" y="5373720"/>
            <a:ext cx="21744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4941720"/>
            <a:ext cx="0" cy="43200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35640" y="5373720"/>
            <a:ext cx="0" cy="863640"/>
          </a:xfrm>
          <a:prstGeom prst="line">
            <a:avLst/>
          </a:prstGeom>
          <a:ln w="255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03640" y="4292640"/>
            <a:ext cx="649440" cy="0"/>
          </a:xfrm>
          <a:prstGeom prst="line">
            <a:avLst/>
          </a:prstGeom>
          <a:ln w="255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788000" y="5157720"/>
            <a:ext cx="288720" cy="0"/>
          </a:xfrm>
          <a:prstGeom prst="line">
            <a:avLst/>
          </a:prstGeom>
          <a:ln w="255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076360" y="1844640"/>
            <a:ext cx="576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076360" y="2060640"/>
            <a:ext cx="576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76360" y="2276640"/>
            <a:ext cx="576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076360" y="2708280"/>
            <a:ext cx="576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076360" y="1844640"/>
            <a:ext cx="1800" cy="8636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788000" y="2492280"/>
            <a:ext cx="28872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32000" y="2349360"/>
            <a:ext cx="107964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32000" y="270828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32000" y="2924280"/>
            <a:ext cx="21600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1268280"/>
            <a:ext cx="10796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32000" y="6453360"/>
            <a:ext cx="576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708360" y="2491920"/>
            <a:ext cx="0" cy="396108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2000" y="2492280"/>
            <a:ext cx="576360" cy="0"/>
          </a:xfrm>
          <a:prstGeom prst="line">
            <a:avLst/>
          </a:prstGeom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08360" y="3573360"/>
            <a:ext cx="503280" cy="0"/>
          </a:xfrm>
          <a:prstGeom prst="line">
            <a:avLst/>
          </a:prstGeom>
          <a:ln w="255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675280" y="6381720"/>
            <a:ext cx="289080" cy="0"/>
          </a:xfrm>
          <a:prstGeom prst="line">
            <a:avLst/>
          </a:prstGeom>
          <a:ln w="2556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964720" y="4869000"/>
            <a:ext cx="0" cy="151272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820000" y="4869000"/>
            <a:ext cx="14472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3640" y="5877000"/>
            <a:ext cx="0" cy="361800"/>
          </a:xfrm>
          <a:prstGeom prst="line">
            <a:avLst/>
          </a:prstGeom>
          <a:ln w="255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51640" y="5805360"/>
            <a:ext cx="0" cy="433440"/>
          </a:xfrm>
          <a:prstGeom prst="line">
            <a:avLst/>
          </a:prstGeom>
          <a:ln w="2556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32000" y="5084640"/>
            <a:ext cx="7923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32000" y="2276640"/>
            <a:ext cx="7923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787640" y="692280"/>
            <a:ext cx="86364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24360" y="691920"/>
            <a:ext cx="0" cy="439236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24360" y="692280"/>
            <a:ext cx="28728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1700280"/>
            <a:ext cx="1079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00720" y="836640"/>
            <a:ext cx="0" cy="144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067280" y="981000"/>
            <a:ext cx="433440" cy="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67280" y="981000"/>
            <a:ext cx="0" cy="151128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67280" y="2492280"/>
            <a:ext cx="144360" cy="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19640" y="3789360"/>
            <a:ext cx="433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219640" y="4005360"/>
            <a:ext cx="433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92720" y="3573360"/>
            <a:ext cx="358920" cy="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2720" y="3573360"/>
            <a:ext cx="0" cy="230364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92720" y="5877000"/>
            <a:ext cx="1150920" cy="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924360" y="4437000"/>
            <a:ext cx="17272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32360" y="4508640"/>
            <a:ext cx="71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1700280"/>
            <a:ext cx="0" cy="280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787640" y="170028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08720" y="5589720"/>
            <a:ext cx="14436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5589720"/>
            <a:ext cx="0" cy="21564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08720" y="5805360"/>
            <a:ext cx="1942920" cy="0"/>
          </a:xfrm>
          <a:prstGeom prst="line">
            <a:avLst/>
          </a:prstGeom>
          <a:ln w="255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951"/>
                </a:solidFill>
                <a:latin typeface="Arial"/>
              </a:rPr>
              <a:t>Riikliku keskkonnastatistika programm 2011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2560" y="1916280"/>
            <a:ext cx="3024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ääruste ja pooltevaheliste kokkulepetega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(gentelmen`s agreement)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ogutavad ja edastatavad andme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1413000"/>
            <a:ext cx="4032360" cy="431640"/>
          </a:xfrm>
          <a:prstGeom prst="rect">
            <a:avLst/>
          </a:prstGeom>
          <a:solidFill>
            <a:srgbClr val="cfeea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19640" y="1413000"/>
            <a:ext cx="3456000" cy="431640"/>
          </a:xfrm>
          <a:prstGeom prst="rect">
            <a:avLst/>
          </a:prstGeom>
          <a:solidFill>
            <a:srgbClr val="cfeea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esti sisetarbij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19640" y="4724280"/>
            <a:ext cx="3384720" cy="432000"/>
          </a:xfrm>
          <a:prstGeom prst="rect">
            <a:avLst/>
          </a:prstGeom>
          <a:solidFill>
            <a:srgbClr val="cfeea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ai tarbijaskon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522936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Ülevaateartikl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Üldväljaande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tatistika andmeba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Teabenõuded, päringu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19640" y="1916280"/>
            <a:ext cx="3672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eskkonnasurve näitaj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eskkonnastrateegia näitaj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Maaelu arengukava näitaj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Ajaloolised aegread (nt aegread maavarade kaevandamise, metsanduse, õhu- ja veesaaste kohta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äästva arengu näitaj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4292640"/>
            <a:ext cx="93672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16000" y="3789360"/>
            <a:ext cx="93492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16000" y="3284640"/>
            <a:ext cx="93672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AO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0000" y="5300640"/>
            <a:ext cx="144000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DG ENV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340000" y="4292640"/>
            <a:ext cx="144000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DG REGIO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40000" y="3284640"/>
            <a:ext cx="144000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DG SANCO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4797360"/>
            <a:ext cx="144000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DG MAR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40000" y="3789360"/>
            <a:ext cx="1440000" cy="360360"/>
          </a:xfrm>
          <a:prstGeom prst="rect">
            <a:avLst/>
          </a:prstGeom>
          <a:solidFill>
            <a:srgbClr val="cfeea0"/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DG AGR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11640" y="1844640"/>
            <a:ext cx="0" cy="3600360"/>
          </a:xfrm>
          <a:prstGeom prst="line">
            <a:avLst/>
          </a:prstGeom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844640"/>
            <a:ext cx="0" cy="2592360"/>
          </a:xfrm>
          <a:prstGeom prst="line">
            <a:avLst/>
          </a:prstGeom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5640" y="3429000"/>
            <a:ext cx="36036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3933720"/>
            <a:ext cx="36036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4437000"/>
            <a:ext cx="36036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779640" y="3429000"/>
            <a:ext cx="43164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79640" y="3933720"/>
            <a:ext cx="43164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779640" y="4437000"/>
            <a:ext cx="43164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79640" y="4941720"/>
            <a:ext cx="43164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779640" y="5445000"/>
            <a:ext cx="43164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56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500" spc="-1" strike="noStrike">
                <a:solidFill>
                  <a:srgbClr val="003951"/>
                </a:solidFill>
                <a:latin typeface="Arial"/>
              </a:rPr>
              <a:t>SA poolt Eurostatile edastatav riiklik statistika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00000" y="1413000"/>
            <a:ext cx="43196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951"/>
                </a:solidFill>
                <a:uFillTx/>
                <a:latin typeface="Arial"/>
              </a:rPr>
              <a:t>Määruste alusel edastatav statistik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a72f1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eskkonnakaitsekulutuse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Taimekaitsevahend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alakasvatu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eskkonnaarvepidamise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998640" indent="-457200">
              <a:spcBef>
                <a:spcPts val="4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õhuheitmet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lvl="1" marL="998640" indent="-457200">
              <a:spcBef>
                <a:spcPts val="4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kogumajandusliku materjalivo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lvl="1" marL="998640" indent="-457200">
              <a:spcBef>
                <a:spcPts val="4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951"/>
                </a:solidFill>
                <a:latin typeface="Arial"/>
              </a:rPr>
              <a:t>keskkonnamaksude koht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Jäätme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alapüük ja loss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80000" y="249228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A kogub, töötleb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9280" y="2205000"/>
            <a:ext cx="287280" cy="1079640"/>
          </a:xfrm>
          <a:custGeom>
            <a:avLst/>
            <a:gdLst>
              <a:gd name="textAreaLeft" fmla="*/ 0 w 287280"/>
              <a:gd name="textAreaRight" fmla="*/ 103680 w 287280"/>
              <a:gd name="textAreaTop" fmla="*/ 51840 h 1079640"/>
              <a:gd name="textAreaBottom" fmla="*/ 10278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7"/>
                  <a:pt x="10800" y="3333"/>
                </a:cubicBezTo>
                <a:lnTo>
                  <a:pt x="10800" y="6409"/>
                </a:lnTo>
                <a:cubicBezTo>
                  <a:pt x="10800" y="8076"/>
                  <a:pt x="16200" y="9742"/>
                  <a:pt x="21600" y="9742"/>
                </a:cubicBezTo>
                <a:cubicBezTo>
                  <a:pt x="16200" y="9742"/>
                  <a:pt x="10800" y="11409"/>
                  <a:pt x="10800" y="13075"/>
                </a:cubicBezTo>
                <a:lnTo>
                  <a:pt x="10800" y="18267"/>
                </a:lnTo>
                <a:cubicBezTo>
                  <a:pt x="10800" y="199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51640" y="3716280"/>
            <a:ext cx="295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A koostab mitmete andme-allikate põhjal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59280" y="3500280"/>
            <a:ext cx="287280" cy="1150920"/>
          </a:xfrm>
          <a:custGeom>
            <a:avLst/>
            <a:gdLst>
              <a:gd name="textAreaLeft" fmla="*/ 0 w 287280"/>
              <a:gd name="textAreaRight" fmla="*/ 103680 w 287280"/>
              <a:gd name="textAreaTop" fmla="*/ 55440 h 1150920"/>
              <a:gd name="textAreaBottom" fmla="*/ 10954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7"/>
                  <a:pt x="10800" y="3333"/>
                </a:cubicBezTo>
                <a:lnTo>
                  <a:pt x="10800" y="6409"/>
                </a:lnTo>
                <a:cubicBezTo>
                  <a:pt x="10800" y="8076"/>
                  <a:pt x="16200" y="9742"/>
                  <a:pt x="21600" y="9742"/>
                </a:cubicBezTo>
                <a:cubicBezTo>
                  <a:pt x="16200" y="9742"/>
                  <a:pt x="10800" y="11409"/>
                  <a:pt x="10800" y="13075"/>
                </a:cubicBezTo>
                <a:lnTo>
                  <a:pt x="10800" y="18267"/>
                </a:lnTo>
                <a:cubicBezTo>
                  <a:pt x="10800" y="199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16360" y="5084640"/>
            <a:ext cx="50508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5805360"/>
            <a:ext cx="505080" cy="0"/>
          </a:xfrm>
          <a:prstGeom prst="line">
            <a:avLst/>
          </a:prstGeom>
          <a:ln w="19080">
            <a:solidFill>
              <a:srgbClr val="00395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1640" y="486900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TK kogub, SA töötleb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5516640"/>
            <a:ext cx="302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õllumajandusministeerium kogub, SA edastab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56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500" spc="-1" strike="noStrike">
                <a:solidFill>
                  <a:srgbClr val="003951"/>
                </a:solidFill>
                <a:latin typeface="Arial"/>
              </a:rPr>
              <a:t>SA poolt Eurostatile edastatav riiklik statistika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1844640"/>
            <a:ext cx="4753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s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Olmejäätmete andmestik struktuurnäita-jate jaok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iirkondlik keskkonna- ja sidusvaldkondade statistik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kaitsekulutuste lisaandme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Urban Audi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24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d-põllumajandusnäitajad, toitainete bilans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125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arvepidami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951480" indent="-256680">
              <a:spcBef>
                <a:spcPts val="4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eskkonnakaitsekulutust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lvl="1" marL="951480" indent="-256680">
              <a:spcBef>
                <a:spcPts val="4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eskkonnatooteid ja –teenuseid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lvl="1" marL="951480" indent="-256680">
              <a:spcBef>
                <a:spcPts val="400"/>
              </a:spcBef>
              <a:tabLst>
                <a:tab algn="l" pos="0"/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tootva sektori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lvl="1" marL="951480" indent="-256680">
              <a:spcBef>
                <a:spcPts val="4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859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energia koht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4360" y="1197000"/>
            <a:ext cx="63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800" spc="-1" strike="noStrike">
                <a:solidFill>
                  <a:srgbClr val="aa222c"/>
                </a:solidFill>
                <a:latin typeface="Arial"/>
              </a:rPr>
              <a:t>B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1800" spc="-1" strike="noStrike" u="sng">
                <a:solidFill>
                  <a:srgbClr val="003951"/>
                </a:solidFill>
                <a:uFillTx/>
                <a:latin typeface="Arial"/>
              </a:rPr>
              <a:t>Pooltevahelise kokkuleppe (</a:t>
            </a:r>
            <a:r>
              <a:rPr b="1" i="1" lang="et-EE" sz="1800" spc="-1" strike="noStrike" u="sng">
                <a:solidFill>
                  <a:srgbClr val="003951"/>
                </a:solidFill>
                <a:uFillTx/>
                <a:latin typeface="Arial"/>
              </a:rPr>
              <a:t>Gentelmen`s agreement</a:t>
            </a:r>
            <a:r>
              <a:rPr b="1" lang="et-EE" sz="1800" spc="-1" strike="noStrike" u="sng">
                <a:solidFill>
                  <a:srgbClr val="003951"/>
                </a:solidFill>
                <a:uFillTx/>
                <a:latin typeface="Arial"/>
              </a:rPr>
              <a:t>) alusel edastatav statistik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2133720"/>
            <a:ext cx="35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KTK kogub, SA analüüsib, täiendab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1916280"/>
            <a:ext cx="287280" cy="865080"/>
          </a:xfrm>
          <a:custGeom>
            <a:avLst/>
            <a:gdLst>
              <a:gd name="textAreaLeft" fmla="*/ 0 w 287280"/>
              <a:gd name="textAreaRight" fmla="*/ 103680 w 287280"/>
              <a:gd name="textAreaTop" fmla="*/ 41760 h 865080"/>
              <a:gd name="textAreaBottom" fmla="*/ 8233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7"/>
                  <a:pt x="10800" y="3333"/>
                </a:cubicBezTo>
                <a:lnTo>
                  <a:pt x="10800" y="6409"/>
                </a:lnTo>
                <a:cubicBezTo>
                  <a:pt x="10800" y="8076"/>
                  <a:pt x="16200" y="9742"/>
                  <a:pt x="21600" y="9742"/>
                </a:cubicBezTo>
                <a:cubicBezTo>
                  <a:pt x="16200" y="9742"/>
                  <a:pt x="10800" y="11409"/>
                  <a:pt x="10800" y="13075"/>
                </a:cubicBezTo>
                <a:lnTo>
                  <a:pt x="10800" y="18267"/>
                </a:lnTo>
                <a:cubicBezTo>
                  <a:pt x="10800" y="199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292720" y="3284640"/>
            <a:ext cx="295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A koostab mitmete andme-allikate põhjal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859280" y="2924280"/>
            <a:ext cx="287280" cy="1441440"/>
          </a:xfrm>
          <a:custGeom>
            <a:avLst/>
            <a:gdLst>
              <a:gd name="textAreaLeft" fmla="*/ 0 w 287280"/>
              <a:gd name="textAreaRight" fmla="*/ 103680 w 287280"/>
              <a:gd name="textAreaTop" fmla="*/ 69480 h 1441440"/>
              <a:gd name="textAreaBottom" fmla="*/ 137196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7"/>
                  <a:pt x="10800" y="3333"/>
                </a:cubicBezTo>
                <a:lnTo>
                  <a:pt x="10800" y="6409"/>
                </a:lnTo>
                <a:cubicBezTo>
                  <a:pt x="10800" y="8076"/>
                  <a:pt x="16200" y="9742"/>
                  <a:pt x="21600" y="9742"/>
                </a:cubicBezTo>
                <a:cubicBezTo>
                  <a:pt x="16200" y="9742"/>
                  <a:pt x="10800" y="11409"/>
                  <a:pt x="10800" y="13075"/>
                </a:cubicBezTo>
                <a:lnTo>
                  <a:pt x="10800" y="18267"/>
                </a:lnTo>
                <a:cubicBezTo>
                  <a:pt x="10800" y="199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92720" y="4508640"/>
            <a:ext cx="374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A kogub, Põllumajandusuuringute Keskus analüüsib ja täiendab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92720" y="5516640"/>
            <a:ext cx="37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SA hakkab koostama mitmete andmeallikate põhjal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59280" y="5373720"/>
            <a:ext cx="287280" cy="1295280"/>
          </a:xfrm>
          <a:custGeom>
            <a:avLst/>
            <a:gdLst>
              <a:gd name="textAreaLeft" fmla="*/ 0 w 287280"/>
              <a:gd name="textAreaRight" fmla="*/ 103680 w 287280"/>
              <a:gd name="textAreaTop" fmla="*/ 62280 h 1295280"/>
              <a:gd name="textAreaBottom" fmla="*/ 12330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7"/>
                  <a:pt x="10800" y="3333"/>
                </a:cubicBezTo>
                <a:lnTo>
                  <a:pt x="10800" y="6409"/>
                </a:lnTo>
                <a:cubicBezTo>
                  <a:pt x="10800" y="8076"/>
                  <a:pt x="16200" y="9742"/>
                  <a:pt x="21600" y="9742"/>
                </a:cubicBezTo>
                <a:cubicBezTo>
                  <a:pt x="16200" y="9742"/>
                  <a:pt x="10800" y="11409"/>
                  <a:pt x="10800" y="13075"/>
                </a:cubicBezTo>
                <a:lnTo>
                  <a:pt x="10800" y="18267"/>
                </a:lnTo>
                <a:cubicBezTo>
                  <a:pt x="10800" y="199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859280" y="4581360"/>
            <a:ext cx="287280" cy="576360"/>
          </a:xfrm>
          <a:custGeom>
            <a:avLst/>
            <a:gdLst>
              <a:gd name="textAreaLeft" fmla="*/ 0 w 287280"/>
              <a:gd name="textAreaRight" fmla="*/ 103680 w 28728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67"/>
                  <a:pt x="10800" y="3333"/>
                </a:cubicBezTo>
                <a:lnTo>
                  <a:pt x="10800" y="6409"/>
                </a:lnTo>
                <a:cubicBezTo>
                  <a:pt x="10800" y="8076"/>
                  <a:pt x="16200" y="9742"/>
                  <a:pt x="21600" y="9742"/>
                </a:cubicBezTo>
                <a:cubicBezTo>
                  <a:pt x="16200" y="9742"/>
                  <a:pt x="10800" y="11409"/>
                  <a:pt x="10800" y="13075"/>
                </a:cubicBezTo>
                <a:lnTo>
                  <a:pt x="10800" y="18267"/>
                </a:lnTo>
                <a:cubicBezTo>
                  <a:pt x="10800" y="1993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172872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951"/>
                </a:solidFill>
                <a:uFillTx/>
                <a:latin typeface="Arial"/>
              </a:rPr>
              <a:t>Skeem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Eesti õhuandmete aruandlus ja andmevoo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4959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951"/>
                </a:solidFill>
                <a:latin typeface="Arial"/>
              </a:rPr>
              <a:t>Arendusvaldkonnad         väljakutsed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360" y="5876640"/>
            <a:ext cx="842472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trateegia Euroopa 2020 ja OECD “rohelise kasvu” näitajate too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427640" y="836640"/>
            <a:ext cx="576000" cy="0"/>
          </a:xfrm>
          <a:prstGeom prst="line">
            <a:avLst/>
          </a:prstGeom>
          <a:ln w="50760">
            <a:solidFill>
              <a:srgbClr val="00395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5280" y="2060640"/>
            <a:ext cx="1512720" cy="792000"/>
          </a:xfrm>
          <a:prstGeom prst="rect">
            <a:avLst/>
          </a:prstGeom>
          <a:solidFill>
            <a:srgbClr val="00cc66">
              <a:alpha val="40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Õhuheitmete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5280" y="2997360"/>
            <a:ext cx="1512720" cy="792000"/>
          </a:xfrm>
          <a:prstGeom prst="rect">
            <a:avLst/>
          </a:prstGeom>
          <a:solidFill>
            <a:srgbClr val="00cc66">
              <a:alpha val="40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Keskkonna-maksude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5280" y="3933720"/>
            <a:ext cx="1512720" cy="792360"/>
          </a:xfrm>
          <a:prstGeom prst="rect">
            <a:avLst/>
          </a:prstGeom>
          <a:solidFill>
            <a:srgbClr val="00cc66">
              <a:alpha val="40000"/>
            </a:srgbClr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Kogumajandus-liku materjalivoo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11280" y="2060640"/>
            <a:ext cx="1440000" cy="792000"/>
          </a:xfrm>
          <a:prstGeom prst="rect">
            <a:avLst/>
          </a:prstGeom>
          <a:solidFill>
            <a:srgbClr val="33cccc">
              <a:alpha val="40000"/>
            </a:srgbClr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Keskkonnakait-sekulutuste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2997360"/>
            <a:ext cx="1440000" cy="792000"/>
          </a:xfrm>
          <a:prstGeom prst="rect">
            <a:avLst/>
          </a:prstGeom>
          <a:solidFill>
            <a:srgbClr val="33cccc">
              <a:alpha val="40000"/>
            </a:srgbClr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Keskkonna-kaupu ja –tooteid tootev sektor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11280" y="3933720"/>
            <a:ext cx="1440000" cy="792360"/>
          </a:xfrm>
          <a:prstGeom prst="rect">
            <a:avLst/>
          </a:prstGeom>
          <a:solidFill>
            <a:srgbClr val="33cccc">
              <a:alpha val="40000"/>
            </a:srgbClr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Energia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356000" y="2997360"/>
            <a:ext cx="1295640" cy="79200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Jäätmete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24720" y="2997360"/>
            <a:ext cx="1297080" cy="79200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V</a:t>
            </a:r>
            <a:r>
              <a:rPr b="1" lang="fi-FI" sz="1300" spc="-1" strike="noStrike">
                <a:solidFill>
                  <a:srgbClr val="003951"/>
                </a:solidFill>
                <a:latin typeface="Arial"/>
              </a:rPr>
              <a:t>ee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0920" y="1844640"/>
            <a:ext cx="1800000" cy="352908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1844640"/>
            <a:ext cx="1727280" cy="35290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88000" y="3933720"/>
            <a:ext cx="1295280" cy="79236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Metsa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6000" y="2997360"/>
            <a:ext cx="1584360" cy="79200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Ökosüsteemi teenuste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43280" y="2060640"/>
            <a:ext cx="1800360" cy="79200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1" lang="fi-FI" sz="1300" spc="-1" strike="noStrike">
                <a:solidFill>
                  <a:srgbClr val="003951"/>
                </a:solidFill>
                <a:latin typeface="Arial"/>
              </a:rPr>
              <a:t>essursside kasu</a:t>
            </a: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1" lang="fi-FI" sz="1300" spc="-1" strike="noStrike">
                <a:solidFill>
                  <a:srgbClr val="003951"/>
                </a:solidFill>
                <a:latin typeface="Arial"/>
              </a:rPr>
              <a:t>tus- ja halduskulu</a:t>
            </a: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1" lang="fi-FI" sz="1300" spc="-1" strike="noStrike">
                <a:solidFill>
                  <a:srgbClr val="003951"/>
                </a:solidFill>
                <a:latin typeface="Arial"/>
              </a:rPr>
              <a:t>de arvepidamine (RUMEA</a:t>
            </a: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11640" y="1844640"/>
            <a:ext cx="4753080" cy="352908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88000" y="2060640"/>
            <a:ext cx="1943280" cy="79200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3951"/>
                </a:solidFill>
                <a:latin typeface="Arial"/>
              </a:rPr>
              <a:t>Keskkonnaga seotud siirete (subsiidiumite) arvepida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3933720"/>
            <a:ext cx="2087640" cy="792360"/>
          </a:xfrm>
          <a:prstGeom prst="rect">
            <a:avLst/>
          </a:prstGeom>
          <a:solidFill>
            <a:srgbClr val="ff99cc">
              <a:alpha val="23000"/>
            </a:srgbClr>
          </a:solidFill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300" spc="-1" strike="noStrike">
                <a:solidFill>
                  <a:srgbClr val="003951"/>
                </a:solidFill>
                <a:latin typeface="Arial"/>
              </a:rPr>
              <a:t>Mittekasutatud kaevan-datud maa-ainese (sealhulgas pinnase) mõõtmine</a:t>
            </a:r>
            <a:endParaRPr b="0" lang="en-US" sz="13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5013360"/>
            <a:ext cx="158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951"/>
                </a:solidFill>
                <a:latin typeface="Arial"/>
              </a:rPr>
              <a:t>Kohustuslikud</a:t>
            </a:r>
            <a:endParaRPr b="0" lang="en-US" sz="1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340000" y="4797360"/>
            <a:ext cx="1584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951"/>
                </a:solidFill>
                <a:latin typeface="Arial"/>
              </a:rPr>
              <a:t>Lisanduvad kohustuslikud</a:t>
            </a:r>
            <a:endParaRPr b="0" lang="en-US" sz="1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00720" y="5013360"/>
            <a:ext cx="42480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951"/>
                </a:solidFill>
                <a:latin typeface="Arial"/>
              </a:rPr>
              <a:t>Väljaarendamisel</a:t>
            </a:r>
            <a:endParaRPr b="0" lang="en-US" sz="1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0920" y="1268280"/>
            <a:ext cx="669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eskkonnaarvepidamiste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951"/>
                </a:solidFill>
                <a:latin typeface="Arial"/>
              </a:rPr>
              <a:t>Põhilised probleemid</a:t>
            </a:r>
            <a:endParaRPr b="1" lang="en-US" sz="25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Inimressursi vähesus ja algandmete kohati kesine kvalite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000" spc="-1" strike="noStrike" u="sng">
                <a:solidFill>
                  <a:srgbClr val="003951"/>
                </a:solidFill>
                <a:uFillTx/>
                <a:latin typeface="Arial"/>
              </a:rPr>
              <a:t>Vaja on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987480" indent="-271440">
              <a:spcBef>
                <a:spcPts val="499"/>
              </a:spcBef>
              <a:buClr>
                <a:srgbClr val="a72f16"/>
              </a:buClr>
              <a:buSzPct val="155000"/>
              <a:buFont typeface="Arial Black"/>
              <a:buChar char="!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petsialiste,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ke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arvepidamised välja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töötak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tulevikus ka tooda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(2011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aastal on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eskkonnaarvepidamiste koostamiseks üks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põhikohaga ja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ks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kooseisuvä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ine juhtivstatistik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987480" indent="-271440">
              <a:spcBef>
                <a:spcPts val="499"/>
              </a:spcBef>
              <a:buClr>
                <a:srgbClr val="a72f16"/>
              </a:buClr>
              <a:buSzPct val="155000"/>
              <a:buFont typeface="Arial Black"/>
              <a:buChar char="!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d 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Statistikaameti ja teiste andmete tootjate vahel, et algandmed tekiksid arvepidamiste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vis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sobival kujul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Mida jätta tegemata piiratud ressursside tingimustes?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87480" indent="-2714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raditsiooniline keskkonnastatistika, keskkond–põllumajandusstatistika, säästev areng, arvepidamised, levitamine, analüü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ersti Salu</cp:lastModifiedBy>
  <dcterms:modified xsi:type="dcterms:W3CDTF">2011-09-02T11:33:21Z</dcterms:modified>
  <cp:revision>248</cp:revision>
  <dc:subject/>
  <dc:title>Slide 1</dc:title>
</cp:coreProperties>
</file>