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49F9-E8AB-4203-843D-E314F216E7E0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7E22-C446-4AA2-84AC-DD8094F0DB5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1020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492360" y="6629400"/>
            <a:ext cx="496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51120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 REL minipiloodi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449604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nõukogu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Rain Haviko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 süsteemide talituse juhataja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72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oiatus ebaturvalise veebilehekülje kasutamise e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keskkond  on ette nähtud koolituskeskkonnan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eebilehitsejad ei tunnista vaikimisi Sertifitseerimiskeskuse sertifikaat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GEOSTAT aadressiotsing ei olnud väliskasutajale kättesaadav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 loomisega alustati RM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u loomine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keedi kontrollide käivitumine lehekülje vahetusel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ikimisi seadistus muudeti arendaja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47760" y="198900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ja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L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keskkondade omavaheline konfli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30.08 kell 8:20, kui käivitati 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Live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ormustesti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d samas alamvõrgus, kus kõik WebLogic klastri sõlmed kasutasid  ühte IP-d ja porti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VIS töö normaalne taastus 30.08 kell 18:00, kui testimine lõpeti ja serverid </a:t>
            </a:r>
            <a:r>
              <a:rPr b="0" i="1" lang="en-US" sz="1800" spc="-1" strike="noStrike">
                <a:solidFill>
                  <a:srgbClr val="003951"/>
                </a:solidFill>
                <a:latin typeface="Arial"/>
              </a:rPr>
              <a:t>restar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dit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QureScript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igastest olukordadest teav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eks oli valesti konfigureeritud e-maili aadres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31.08 kell 12:20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QureScript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- ankeedi kontrollide (skriptide ) käivitamise mootor  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 aadressi märkimisel hoiatus ebaturvalise ühendus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veebiloenduse avamise järgsel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tas aadressikomponent, mis päris geoandmebaasist andmeid http ühendust kasutade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ei parandatud minipiloodi ajal, kuna see ei takistanud ankeedi täit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 märkimine Flash komponendi puudu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staja ei saanud aru, et aadressi saab märkida ilma Flash komponenti kasutam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ünnikoha märkimine isiku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ünnikoha märkimine uue haldusjaotuse järgi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ie/tema pöördumise kasutamine 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toodika osakond otsustas 21.09.2011, et kasutatakse pöördumist kujul Teie “Eesnimi”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ühjade eluruumide märki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sutajad ei lugenud hoolikalt selgitusi ja hakkasid ankeeti täitm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ntroll uue eluruumi lisamisel, kus juba eksisteeriva aadressi märkimisel uut eluruumi ei lis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uppude kirjad muudetu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mmentaarid “jutumullina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-vastaja ling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nkeet avaneb uues akna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hme kontrolli” veateadete kuv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Isikute tabeli täiend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, kuhu 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lis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kse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 ankeedi oleku tunn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lustamata”, “pooleli”, “lõpetatud” oleku tunnuste kasutamine isikute nimekirjas pärast leibkonna ankeedi sisesta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e märkimise ühtlu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Läbivalt ankeedis sama aadressiotsingu meetodi kasutamine (puu vs. tekstiotsing)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üsimuste täitmismugavus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Küsimustega seotud tekstide ja tõlget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iendavad kontroll- ja parandustegevus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ternet Explorer 9 kasutamisvõimalikk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nkadest autentimise tulemusena saadud nimede pöör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obiil-ID sisselog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b juhend telefoninumbri õigeks sisendamiseks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ffff"/>
                </a:solidFill>
                <a:latin typeface="Arial"/>
              </a:rPr>
              <a:t>Küsim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Rain Haviko</cp:lastModifiedBy>
  <dcterms:modified xsi:type="dcterms:W3CDTF">2011-10-11T14:23:55Z</dcterms:modified>
  <cp:revision>109</cp:revision>
  <dc:subject/>
  <dc:title>Slide 1</dc:title>
</cp:coreProperties>
</file>