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6439-EA5F-442B-86A4-468DFB5A1A4A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2986-BBE2-40BE-88F7-08076F8D99C3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1020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3492360" y="6629400"/>
            <a:ext cx="496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511200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kkuvõte REL minipiloodi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3429000"/>
            <a:ext cx="4496040" cy="11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Statistikanõukogu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Rain Haviko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Statistika süsteemide talituse juhataja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bleemid keskkonna kasutamisel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72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oiatus ebaturvalise veebilehekülje kasutamise e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Prelive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keskkond  on ette nähtud koolituskeskkonnana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eebilehitsejad ei tunnista vaikimisi Sertifitseerimiskeskuse sertifikaat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GEOSTAT aadressiotsing ei olnud väliskasutajale kättesaadav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urdepääs loomisega alustati RM poolt 28.09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urdepääsu loomine realiseeriti arendaja poolt 29.09 kell 12:20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keedi kontrollide käivitumine lehekülje vahetusel 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aikimisi seadistus muudeti arendaja poolt 28.09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randus realiseeriti arendaja poolt 29.09 kell 12:20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bleemid keskkonna kasutamisel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47760" y="1989000"/>
            <a:ext cx="751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Preliv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ja 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L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iv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keskkondade omavaheline konflik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 tekkis 30.08 kell 8:20, kui käivitati </a:t>
            </a:r>
            <a:r>
              <a:rPr b="0" i="1" lang="et-EE" sz="1800" spc="-1" strike="noStrike">
                <a:solidFill>
                  <a:srgbClr val="003951"/>
                </a:solidFill>
                <a:latin typeface="Arial"/>
              </a:rPr>
              <a:t>Live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eskkonna</a:t>
            </a:r>
            <a:r>
              <a:rPr b="0" i="1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ormustestid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eskkonnad samas alamvõrgus, kus kõik WebLogic klastri sõlmed kasutasid  ühte IP-d ja porti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VIS töö normaalne taastus 30.08 kell 18:00, kui testimine lõpeti ja serverid </a:t>
            </a:r>
            <a:r>
              <a:rPr b="0" i="1" lang="en-US" sz="1800" spc="-1" strike="noStrike">
                <a:solidFill>
                  <a:srgbClr val="003951"/>
                </a:solidFill>
                <a:latin typeface="Arial"/>
              </a:rPr>
              <a:t>restar</a:t>
            </a:r>
            <a:r>
              <a:rPr b="0" i="1" lang="et-EE" sz="1800" spc="-1" strike="noStrike">
                <a:solidFill>
                  <a:srgbClr val="003951"/>
                </a:solidFill>
                <a:latin typeface="Arial"/>
              </a:rPr>
              <a:t>diti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QureScript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igastest olukordadest teavi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i põhjuseks oli valesti konfigureeritud e-maili aadres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randus realiseeriti 31.08 kell 12:20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003951"/>
                </a:solidFill>
                <a:latin typeface="Arial"/>
              </a:rPr>
              <a:t>QureScript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- ankeedi kontrollide (skriptide ) käivitamise mootor  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bleemid keskkonna kasutamisel 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uruumi aadressi märkimisel hoiatus ebaturvalise ühendus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 tekkis veebiloenduse avamise järgselt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i põhjustas aadressikomponent, mis päris geoandmebaasist andmeid http ühendust kasutade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i ei parandatud minipiloodi ajal, kuna see ei takistanud ankeedi täitmist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 märkimine Flash komponendi puudu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astaja ei saanud aru, et aadressi saab märkida ilma Flash komponenti kasutamata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keedi täitmisega seotud probleemid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ünnikoha märkimine isikuankeedi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ünnikoha märkimine uue haldusjaotuse järgi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ie/tema pöördumise kasutamine ankeedi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etoodika osakond otsustas 21.09.2011, et kasutatakse pöördumist kujul Teie “Eesnimi”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ühjade eluruumide märkimin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asutajad ei lugenud hoolikalt selgitusi ja hakkasid ankeeti täitma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ntroll uue eluruumi lisamisel, kus juba eksisteeriva aadressi märkimisel uut eluruumi ei lisata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uppude kirjad muudetud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mmentaarid “jutumullina”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keedi täitmisega seotud probleemid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-vastaja ling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nkeet avaneb uues akna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“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ehme kontrolli” veateadete kuv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Isikute tabeli täienda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, kuhu </a:t>
            </a: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lis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akse</a:t>
            </a: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 ankeedi oleku tunn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“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lustamata”, “pooleli”, “lõpetatud” oleku tunnuste kasutamine isikute nimekirjas pärast leibkonna ankeedi sisestamist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keedi täitmisega seotud probleemid 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de märkimise ühtlu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Läbivalt ankeedis sama aadressiotsingu meetodi kasutamine (puu vs. tekstiotsing)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üsimuste täitmismugavuse ülevaa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Küsimustega seotud tekstide ja tõlgete ülevaa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Täiendavad kontroll- ja parandustegevused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ternet Explorer 9 kasutamisvõimalikk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ankadest autentimise tulemusena saadud nimede pöör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obiil-ID sisselogi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uudub juhend telefoninumbri õigeks sisendamiseks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ffffff"/>
                </a:solidFill>
                <a:latin typeface="Arial"/>
              </a:rPr>
              <a:t>Küsimu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Rain Haviko</cp:lastModifiedBy>
  <dcterms:modified xsi:type="dcterms:W3CDTF">2011-10-11T14:23:55Z</dcterms:modified>
  <cp:revision>109</cp:revision>
  <dc:subject/>
  <dc:title>Slide 1</dc:title>
</cp:coreProperties>
</file>