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A73C-C511-4824-8275-705F6AE0E6FA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66A4-7954-4E8B-873D-21AEB859EF2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10206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3492360" y="6629400"/>
            <a:ext cx="496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1125360"/>
            <a:ext cx="511200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 REL minipiloodi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429000"/>
            <a:ext cx="449604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nõukogu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Rain Haviko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Statistika süsteemide talituse juhataja</a:t>
            </a:r>
            <a:endParaRPr b="0" lang="en-US" sz="16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722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oiatus ebaturvalise veebilehekülje kasutamise e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keskkond  on ette nähtud koolituskeskkonnan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eebilehitsejad ei tunnista vaikimisi Sertifitseerimiskeskuse sertifikaat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GEOSTAT aadressiotsing ei olnud väliskasutajale kättesaadav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 loomisega alustati RM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urdepääsu loomine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keedi kontrollide käivitumine lehekülje vahetusel 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ikimisi seadistus muudeti arendaja poolt 28.09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arendaja poolt 29.09 kell 12:2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47760" y="1989000"/>
            <a:ext cx="75153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Prel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ja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L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iv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keskkondade omavaheline konflik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30.08 kell 8:20, kui käivitati 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Live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ormustesti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eskkonnad samas alamvõrgus, kus kõik WebLogic klastri sõlmed kasutasid  ühte IP-d ja porti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VIS töö normaalne taastus 30.08 kell 18:00, kui testimine lõpeti ja serverid </a:t>
            </a:r>
            <a:r>
              <a:rPr b="0" i="1" lang="en-US" sz="1800" spc="-1" strike="noStrike">
                <a:solidFill>
                  <a:srgbClr val="003951"/>
                </a:solidFill>
                <a:latin typeface="Arial"/>
              </a:rPr>
              <a:t>restar</a:t>
            </a: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diti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QureScript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igastest olukordadest teavi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eks oli valesti konfigureeritud e-maili aadres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us realiseeriti 31.08 kell 12:20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3951"/>
                </a:solidFill>
                <a:latin typeface="Arial"/>
              </a:rPr>
              <a:t>QureScript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- ankeedi kontrollide (skriptide ) käivitamise mootor 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robleemid keskkonna kasutamisel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uruumi aadressi märkimisel hoiatus ebaturvalise ühendus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 tekkis veebiloenduse avamise järgsel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põhjustas aadressikomponent, mis päris geoandmebaasist andmeid http ühendust kasutade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robleemi ei parandatud minipiloodi ajal, kuna see ei takistanud ankeedi täit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 märkimine Flash komponendi puudu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staja ei saanud aru, et aadressi saab märkida ilma Flash komponenti kasutam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ünnikoha märkimine isiku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ünnikoha märkimine uue haldusjaotuse järgi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ie/tema pöördumise kasutamine ankeedi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toodika osakond otsustas 21.09.2011, et kasutatakse pöördumist kujul Teie “Eesnimi”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ühjade eluruumide märkimin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sutajad ei lugenud hoolikalt selgitusi ja hakkasid ankeeti täitm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ntroll uue eluruumi lisamisel, kus juba eksisteeriva aadressi märkimisel uut eluruumi ei lisata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uppude kirjad muudetu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mmentaarid “jutumullina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-vastaja ling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nkeet avaneb uues akna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ehme kontrolli” veateadete kuv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Isikute tabeli täiendamine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, kuhu 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lis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akse</a:t>
            </a: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 ankeedi oleku tunn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lustamata”, “pooleli”, “lõpetatud” oleku tunnuste kasutamine isikute nimekirjas pärast leibkonna ankeedi sisestamis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keedi täitmisega seotud probleemid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adresside märkimise ühtlu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Läbivalt ankeedis sama aadressiotsingu meetodi kasutamine (puu vs. tekstiotsing)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üsimuste täitmismugavus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Küsimustega seotud tekstide ja tõlgete ülevaa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iendavad kontroll- ja parandustegevuse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ternet Explorer 9 kasutamisvõimalikk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ankadest autentimise tulemusena saadud nimede pöör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obiil-ID sisselogi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b juhend telefoninumbri õigeks sisendamiseks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ffffff"/>
                </a:solidFill>
                <a:latin typeface="Arial"/>
              </a:rPr>
              <a:t>Küsimus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Rain Haviko</cp:lastModifiedBy>
  <dcterms:modified xsi:type="dcterms:W3CDTF">2011-10-11T14:23:55Z</dcterms:modified>
  <cp:revision>109</cp:revision>
  <dc:subject/>
  <dc:title>Slide 1</dc:title>
</cp:coreProperties>
</file>