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90D0-564C-4395-B1ED-927E993B8D24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B160-7F39-4A49-AB31-9BEE8F3FF97B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koon2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1020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3492360" y="6629400"/>
            <a:ext cx="496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30532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sini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kolla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punane_est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511200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okkuvõte REL minipiloodis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99640" y="3429000"/>
            <a:ext cx="4496040" cy="11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Statistikanõukogu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Rain Haviko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Statistika süsteemide talituse juhataja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bleemid keskkonna kasutamisel 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722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Hoiatus ebaturvalise veebilehekülje kasutamise e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Prelive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keskkond  on ette nähtud koolituskeskkonnana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eebilehitsejad ei tunnista vaikimisi Sertifitseerimiskeskuse sertifikaat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GEOSTAT aadressiotsing ei olnud väliskasutajale kättesaadav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Juurdepääs loomisega alustati RM poolt 28.09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Juurdepääsu loomine realiseeriti arendaja poolt 29.09 kell 12:20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keedi kontrollide käivitumine lehekülje vahetusel 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aikimisi seadistus muudeti arendaja poolt 28.09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arandus realiseeriti arendaja poolt 29.09 kell 12:20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bleemid keskkonna kasutamisel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47760" y="1989000"/>
            <a:ext cx="75153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951"/>
                </a:solidFill>
                <a:latin typeface="Arial"/>
              </a:rPr>
              <a:t>Preliv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ja 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L</a:t>
            </a:r>
            <a:r>
              <a:rPr b="0" i="1" lang="en-US" sz="2400" spc="-1" strike="noStrike">
                <a:solidFill>
                  <a:srgbClr val="003951"/>
                </a:solidFill>
                <a:latin typeface="Arial"/>
              </a:rPr>
              <a:t>iv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keskkondade omavaheline konflik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robleem tekkis 30.08 kell 8:20, kui käivitati </a:t>
            </a:r>
            <a:r>
              <a:rPr b="0" i="1" lang="et-EE" sz="1800" spc="-1" strike="noStrike">
                <a:solidFill>
                  <a:srgbClr val="003951"/>
                </a:solidFill>
                <a:latin typeface="Arial"/>
              </a:rPr>
              <a:t>Live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eskkonna</a:t>
            </a:r>
            <a:r>
              <a:rPr b="0" i="1" lang="et-EE" sz="1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oormustestid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eskkonnad samas alamvõrgus, kus kõik WebLogic klastri sõlmed kasutasid  ühte IP-d ja porti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VIS töö normaalne taastus 30.08 kell 18:00, kui testimine lõpeti ja serverid </a:t>
            </a:r>
            <a:r>
              <a:rPr b="0" i="1" lang="en-US" sz="1800" spc="-1" strike="noStrike">
                <a:solidFill>
                  <a:srgbClr val="003951"/>
                </a:solidFill>
                <a:latin typeface="Arial"/>
              </a:rPr>
              <a:t>restar</a:t>
            </a:r>
            <a:r>
              <a:rPr b="0" i="1" lang="et-EE" sz="1800" spc="-1" strike="noStrike">
                <a:solidFill>
                  <a:srgbClr val="003951"/>
                </a:solidFill>
                <a:latin typeface="Arial"/>
              </a:rPr>
              <a:t>diti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QureScript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igastest olukordadest teavi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robleemi põhjuseks oli valesti konfigureeritud e-maili aadress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arandus realiseeriti 31.08 kell 12:20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800" spc="-1" strike="noStrike">
                <a:solidFill>
                  <a:srgbClr val="003951"/>
                </a:solidFill>
                <a:latin typeface="Arial"/>
              </a:rPr>
              <a:t>QureScript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- ankeedi kontrollide (skriptide ) käivitamise mootor  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bleemid keskkonna kasutamisel (3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uruumi aadressi märkimisel hoiatus ebaturvalise ühenduse koh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robleem tekkis veebiloenduse avamise järgselt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robleemi põhjustas aadressikomponent, mis päris geoandmebaasist andmeid http ühendust kasutades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robleemi ei parandatud minipiloodi ajal, kuna see ei takistanud ankeedi täitmist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adressi märkimine Flash komponendi puudu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astaja ei saanud aru, et aadressi saab märkida ilma Flash komponenti kasutamata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nkeedi täitmisega seotud probleemid 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ünnikoha märkimine isikuankeedi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ünnikoha märkimine uue haldusjaotuse järgi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ie/tema pöördumise kasutamine ankeedi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Metoodika osakond otsustas 21.09.2011, et kasutatakse pöördumist kujul Teie “Eesnimi”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ühjade eluruumide märkimin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asutajad ei lugenud hoolikalt selgitusi ja hakkasid ankeeti täitma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ontroll uue eluruumi lisamisel, kus juba eksisteeriva aadressi märkimisel uut eluruumi ei lisata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Nuppude kirjad muudetud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mmentaarid “jutumullina”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nkeedi täitmisega seotud probleemid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-vastaja ling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Ankeet avaneb uues aknas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“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ehme kontrolli” veateadete kuv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3951"/>
                </a:solidFill>
                <a:latin typeface="Arial"/>
              </a:rPr>
              <a:t>Isikute tabeli täiendamin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, kuhu </a:t>
            </a:r>
            <a:r>
              <a:rPr b="0" lang="fi-FI" sz="2400" spc="-1" strike="noStrike">
                <a:solidFill>
                  <a:srgbClr val="003951"/>
                </a:solidFill>
                <a:latin typeface="Arial"/>
              </a:rPr>
              <a:t>lisa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akse</a:t>
            </a:r>
            <a:r>
              <a:rPr b="0" lang="fi-FI" sz="2400" spc="-1" strike="noStrike">
                <a:solidFill>
                  <a:srgbClr val="003951"/>
                </a:solidFill>
                <a:latin typeface="Arial"/>
              </a:rPr>
              <a:t> ankeedi oleku tunn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“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Alustamata”, “pooleli”, “lõpetatud” oleku tunnuste kasutamine isikute nimekirjas pärast leibkonna ankeedi sisestamist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nkeedi täitmisega seotud probleemid (3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adresside märkimise ühtlus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Läbivalt ankeedis sama aadressiotsingu meetodi kasutamine (puu vs. tekstiotsing)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üsimuste täitmismugavuse ülevaa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3951"/>
                </a:solidFill>
                <a:latin typeface="Arial"/>
              </a:rPr>
              <a:t>Küsimustega seotud tekstide ja tõlgete ülevaa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Täiendavad kontroll- ja parandustegevused 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nternet Explorer 9 kasutamisvõimalikk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ankadest autentimise tulemusena saadud nimede pöör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obiil-ID sisselogi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uudub juhend telefoninumbri õigeks sisendamiseks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ffffff"/>
                </a:solidFill>
                <a:latin typeface="Arial"/>
              </a:rPr>
              <a:t>Küsimu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Rain Haviko</cp:lastModifiedBy>
  <dcterms:modified xsi:type="dcterms:W3CDTF">2011-10-11T14:23:55Z</dcterms:modified>
  <cp:revision>109</cp:revision>
  <dc:subject/>
  <dc:title>Slide 1</dc:title>
</cp:coreProperties>
</file>