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30DD-53FA-4F91-8AF0-F1C484735410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319E-39AA-40FF-BE06-430BA06E041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102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492360" y="6629400"/>
            <a:ext cx="49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5112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 REL minipilood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44960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nõukogu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Rain Havik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 süsteemide talituse juhataj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72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oiatus ebaturvalise veebilehekülje kasut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eskkond  on ette nähtud koolituskeskkonnan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ebilehitsejad ei tunnista vaikimisi Sertifitseerimiskeskuse sertifikaat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GEOSTAT aadressiotsing ei olnud väliskasutajale kättesaada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 loomisega alustati RM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u loomine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keedi kontrollide käivitumine lehekülje vahetusel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ikimisi seadistus muudeti arendaja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776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keskkondade omavaheline konfli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30.08 kell 8:20, kui käivitati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Live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rmustest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d samas alamvõrgus, kus kõik WebLogic klastri sõlmed kasutasid  ühte IP-d ja port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VIS töö normaalne taastus 30.08 kell 18:00, kui testimine lõpeti ja serverid </a:t>
            </a:r>
            <a:r>
              <a:rPr b="0" i="1" lang="en-US" sz="1800" spc="-1" strike="noStrike">
                <a:solidFill>
                  <a:srgbClr val="003951"/>
                </a:solidFill>
                <a:latin typeface="Arial"/>
              </a:rPr>
              <a:t>restar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dit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QureScript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gastest olukordadest teav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eks oli valesti konfigureeritud e-maili aadres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31.08 kell 12:20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QureScript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- ankeedi kontrollide (skriptide ) käivitamise mootor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 aadressi märkimisel hoiatus ebaturvalise ühendus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veebiloenduse avamise järgsel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tas aadressikomponent, mis päris geoandmebaasist andmeid http ühendust kasutade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ei parandatud minipiloodi ajal, kuna see ei takistanud ankeedi täit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 märkimine Flash komponendi puudu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staja ei saanud aru, et aadressi saab märkida ilma Flash komponenti kasutam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ünnikoha märkimine isiku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ünnikoha märkimine uue haldusjaotuse järgi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ie/tema pöördumise kasutamine 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toodika osakond otsustas 21.09.2011, et kasutatakse pöördumist kujul Teie “Eesnimi”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ühjade eluruumide märki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sutajad ei lugenud hoolikalt selgitusi ja hakkasid ankeeti täitm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ntroll uue eluruumi lisamisel, kus juba eksisteeriva aadressi märkimisel uut eluruumi ei lis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uppude kirjad muudetu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mentaarid “jutumullina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-vastaja ling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nkeet avaneb uues akn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hme kontrolli” veateadete kuv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Isikute tabeli täiend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, kuhu 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lis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kse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 ankeedi oleku tunn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lustamata”, “pooleli”, “lõpetatud” oleku tunnuste kasutamine isikute nimekirjas pärast leibkonna ankeedi sisesta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e märkimise ühtl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Läbivalt ankeedis sama aadressiotsingu meetodi kasutamine (puu vs. tekstiotsing)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muste täitmismugavus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Küsimustega seotud tekstide ja tõlget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iendavad kontroll- ja parandustegevus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 Explorer 9 kasutamisvõimalik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nkadest autentimise tulemusena saadud nimede pöör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biil-ID sisselog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b juhend telefoninumbri õigeks sisendamisek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Arial"/>
              </a:rPr>
              <a:t>Küsim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Rain Haviko</cp:lastModifiedBy>
  <dcterms:modified xsi:type="dcterms:W3CDTF">2011-10-11T14:23:55Z</dcterms:modified>
  <cp:revision>109</cp:revision>
  <dc:subject/>
  <dc:title>Slide 1</dc:title>
</cp:coreProperties>
</file>