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30699FA-BC8D-4567-9852-B1CD126348DF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18A00B7-BD69-404B-9425-7601A6892B9F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0.06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05.09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42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243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44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245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3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2.10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003951"/>
                </a:solidFill>
                <a:latin typeface="Arial"/>
              </a:rPr>
              <a:t>SA 2012.–2016. aasta statistikatööde loetelu projekti menetlusest</a:t>
            </a: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02.05.2011 – Statistikaprogramm 2012-2016  oli ‘ideaalsel’ kuju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2012. aasta  maksumus 16 592,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6.05.2011 – Statistikanõukogu koosolek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ärast eelarveläbirääkimisi (juunis) saime korralduse eelarvevahenditega mittekaetud tööd programmist välja võt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st läks välja 22 statistikatöö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õhistatistika – 9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baregulaarne statistika – 3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tatistika arendus – 10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maksu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Õhuemissiooni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ahjukindlustuse lisaand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ne 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Olmejäät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uuviljanduse uuring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24000" y="1413000"/>
            <a:ext cx="792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arendus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ksustamisandmete laialdasem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Uue ESA andmeedastusprogrammi juur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Äriteen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30.06.2011 - saatsime Statistikaprogrammi 2012-2016 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2012. aasta  maksumus 16 293,1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ga läks kaasa Statistikanõukogu arva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7.09.2011 - saatsime muudetud programmi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lisades on tehtud nõutud muudatus —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ja on jäetud statistikatöö “Majandusüksuste aruannete eeltäitmine administratiivsete andmetega”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uus 2012. a maksumus on 16 271, 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lates 27.09 toimub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 ülevaatamine Rahandusministeerium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äpne kuupäev, millal programm ministeeriumist välja kooskõlastusringile saadetakse pole tea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10-12T06:05:27Z</dcterms:modified>
  <cp:revision>175</cp:revision>
  <dc:subject/>
  <dc:title>Slide 1</dc:title>
</cp:coreProperties>
</file>