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E72083-35B3-4A11-9484-E7D4AAB3115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11D1106-DDCD-4036-B105-5F678ED67B4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243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45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2.10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02.05.2011 – Statistikaprogramm 2012-2016  oli ‘ideaalsel’ kuju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592,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6.05.2011 – Statistikanõukogu koosolek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ärast eelarveläbirääkimisi (juunis) saime korralduse eelarvevahenditega mittekaetud tööd programmist välja võt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st läks välja 22 statistikatöö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õhistatistika – 9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baregulaarne statistika – 3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tatistika arendus – 10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30.06.2011 - saatsime Statistikaprogrammi 2012-2016 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293,1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ga läks kaasa Statistikanõukogu arva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lisades on tehtud nõutud muudatus —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ja on jäetud statistikatöö “Majandusüksuste aruannete eeltäitmine administratiivsete andmetega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n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ates 27.09 toimu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ülevaatamine Rahandusministeerium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äpne kuupäev, millal programm ministeeriumist välja kooskõlastusringile saadetakse pole te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0-12T06:05:27Z</dcterms:modified>
  <cp:revision>175</cp:revision>
  <dc:subject/>
  <dc:title>Slide 1</dc:title>
</cp:coreProperties>
</file>