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 type="sldNum" idx="6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30C9C80-40C8-4758-A6DF-24E9ED1BD053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D33D625-CC5E-414D-B74E-F7BED479584D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20.06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05.09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42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243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44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245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3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2.10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46800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400" spc="-1" strike="noStrike">
                <a:solidFill>
                  <a:srgbClr val="003951"/>
                </a:solidFill>
                <a:latin typeface="Arial"/>
              </a:rPr>
              <a:t>SA 2012.–2016. aasta statistikatööde loetelu projekti menetlusest</a:t>
            </a:r>
            <a:r>
              <a:rPr b="0" lang="et-EE" sz="3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5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02.05.2011 – Statistikaprogramm 2012-2016  oli ‘ideaalsel’ kujul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2012. aasta  maksumus 16 592,6 tuhat euro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16.05.2011 – Statistikanõukogu koosolek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ärast eelarveläbirääkimisi (juunis) saime korralduse eelarvevahenditega mittekaetud tööd programmist välja võtt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rogrammist läks välja 22 statistikatööd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õhistatistika – 9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Ebaregulaarne statistika – 3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Statistika arendus – 10 töö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8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õhistatistika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maksude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Materjali voo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Õhuemissioonide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 ja põllumajanduse sidusnäitaja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ensionid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Kahjukindlustuse lisaandm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Teadus- ja arendustegevus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Väliskülastajad Eest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iir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1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baregulaarne statistika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Olmejäätm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uuviljanduse uuring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Sõiduautode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24000" y="1413000"/>
            <a:ext cx="792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tatistika arendus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Materjali voo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 ja põllumajanduse sidusnäitaja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Maksustamisandmete laialdasem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ensionid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Teadus- ja arendustegevus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Uue ESA andmeedastusprogrammi juur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Äriteen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Sõiduautode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Väliskülastajad Eest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iir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3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3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30.06.2011 - saatsime Statistikaprogrammi 2012-2016  RM-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2012. aasta  maksumus 16 293,1 tuhat euro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ga läks kaasa Statistikanõukogu arvam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27.09.2011 - saatsime muudetud programmi RM-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lisades on tehtud nõutud muudatus — 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välja on jäetud statistikatöö “Majandusüksuste aruannete eeltäitmine administratiivsete andmetega”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uus 2012. a maksumus on 16 271, 6 tuhat euro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Alates 27.09 toimub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rogrammi ülevaatamine Rahandusministeerium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Täpne kuupäev, millal programm ministeeriumist välja kooskõlastusringile saadetakse pole teada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3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2.10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10-12T06:05:27Z</dcterms:modified>
  <cp:revision>175</cp:revision>
  <dc:subject/>
  <dc:title>Slide 1</dc:title>
</cp:coreProperties>
</file>