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3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4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5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F717C79-D6D2-40EE-8146-F2D37E94CDFC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5D89CEB-D5BD-47FE-83D4-A0F9779D6D0B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eng2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156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14.12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305320" y="6629400"/>
            <a:ext cx="30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14.12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05320" y="6629400"/>
            <a:ext cx="301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sinine_eng"/>
          <p:cNvPicPr/>
          <p:nvPr/>
        </p:nvPicPr>
        <p:blipFill>
          <a:blip r:embed="rId2"/>
          <a:stretch/>
        </p:blipFill>
        <p:spPr>
          <a:xfrm>
            <a:off x="-6480" y="0"/>
            <a:ext cx="915048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kollane_eng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punane_e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logo_eng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46800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400" spc="-1" strike="noStrike">
                <a:solidFill>
                  <a:srgbClr val="003951"/>
                </a:solidFill>
                <a:latin typeface="Arial"/>
              </a:rPr>
              <a:t>SA 2012.–2016. aasta statistikatööde loetelu projekti menetlusest</a:t>
            </a:r>
            <a:r>
              <a:rPr b="0" lang="et-EE" sz="3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99640" y="227664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elis Somelar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951"/>
                </a:solidFill>
                <a:latin typeface="Arial"/>
              </a:rPr>
              <a:t>Plan</a:t>
            </a: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eerimis- ja rahvusvahelise koostöö talitus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Üldosako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14.12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4.12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324000" y="1413000"/>
            <a:ext cx="82803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27.09.2011 - saatsime muudetud programmi RM-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st oli välja jäetud 23 statistikatööd (9+3+11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 uus 2012. a maksumus oli 16 271, 6 tuhat euro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13.10.2011 saatis RM statistika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rogrammi kooskõlastusringil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Märkuste ja ettepanekuteta 2 (JUST, Eesti Linnade Liit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Ettepanekutega 6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Ei vastanud 5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ooskõlastusringi ajal saime grandipakkumise “Materjali voo arvepidamise” tegemiseks.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Aastateks 2012-2013 läks see statistikatöö programmi siss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29.11.2011 saatsime statistikaprogrammi uuesti RM-i Vabariigi Valitsusele esitamisek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-st välja jäetud statistika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4.12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324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Põhistatistika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Keskkonnamaksude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Õhuemissioonide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Keskkonna ja põllumajanduse sidusnäitaja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Pensionid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Kahjukindlustuse lisaandm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Teadus- ja arendustegevus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Väliskülastajad Eesti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Piiriloend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-st välja jäetud statistika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4.12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324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baregulaarne statistika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Olmejäätm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uuviljanduse uuring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Sõiduautode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-st välja jäetud statistika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4.12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324000" y="1413000"/>
            <a:ext cx="7920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Statistika arendus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Materjali voo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Keskkonna ja põllumajanduse sidusnäitaja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Maksustamisandmete laialdasem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Pensionid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Teadus- ja arendustegevus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Uue ESA andmeedastusprogrammi juur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Äriteen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Sõiduautode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Väliskülastajad Eesti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Piiriloend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Tänan tähelepanu eest !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4.12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Kristina Lauri</cp:lastModifiedBy>
  <dcterms:modified xsi:type="dcterms:W3CDTF">2011-12-20T07:07:36Z</dcterms:modified>
  <cp:revision>220</cp:revision>
  <dc:subject/>
  <dc:title>Slide 1</dc:title>
</cp:coreProperties>
</file>