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5.10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A595981-0C38-48B4-91A6-126007C72C44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5.10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9963B3B-D7B4-4D83-B28B-59F4783E21DA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8960" y="4716360"/>
            <a:ext cx="5435640" cy="44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eng2"/>
          <p:cNvPicPr/>
          <p:nvPr/>
        </p:nvPicPr>
        <p:blipFill>
          <a:blip r:embed="rId2"/>
          <a:stretch/>
        </p:blipFill>
        <p:spPr>
          <a:xfrm>
            <a:off x="0" y="0"/>
            <a:ext cx="6222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11564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4.12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305320" y="6629400"/>
            <a:ext cx="3083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t-EE" sz="1000" spc="-1" strike="noStrike">
                <a:solidFill>
                  <a:srgbClr val="000000"/>
                </a:solidFill>
                <a:latin typeface="Times New Roman"/>
              </a:rPr>
              <a:t>14.12.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305320" y="6629400"/>
            <a:ext cx="301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8" descr="sinine_eng"/>
          <p:cNvPicPr/>
          <p:nvPr/>
        </p:nvPicPr>
        <p:blipFill>
          <a:blip r:embed="rId2"/>
          <a:stretch/>
        </p:blipFill>
        <p:spPr>
          <a:xfrm>
            <a:off x="-6480" y="0"/>
            <a:ext cx="9150480" cy="687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kollane_eng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punane_eng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logo_eng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4680000" cy="14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400" spc="-1" strike="noStrike">
                <a:solidFill>
                  <a:srgbClr val="003951"/>
                </a:solidFill>
                <a:latin typeface="Arial"/>
              </a:rPr>
              <a:t>SA 2012.–2016. aasta statistikatööde loetelu projekti menetlusest</a:t>
            </a:r>
            <a:r>
              <a:rPr b="0" lang="et-EE" sz="3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227664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951"/>
                </a:solidFill>
                <a:latin typeface="Arial"/>
              </a:rPr>
              <a:t>Plan</a:t>
            </a: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eerimis- ja rahvusvahelise koostöö talitus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Üldosako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324000" y="1413000"/>
            <a:ext cx="8280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27.09.2011 - saatsime muudetud programmi RM-i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st oli välja jäetud 23 statistikatööd (9+3+11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rogrammi uus 2012. a maksumus oli 16 271, 6 tuhat eurot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13.10.2011 saatis RM statistika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programmi kooskõlastusringil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Märkuste ja ettepanekuteta 2 (JUST, Eesti Linnade Liit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Ettepanekutega 6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Ei vastanud 5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oskõlastusringi ajal saime grandipakkumise “Materjali voo arvepidamise” tegemiseks. 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Aastateks 2012-2013 läks see statistikatöö programmi siss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29.11.2011 saatsime statistikaprogrammi uuesti RM-i Vabariigi Valitsusele esitamisek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2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Põhi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maksu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Õhuemissioonide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ahjukindlustuse lisaand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10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1000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324000" y="1413000"/>
            <a:ext cx="79200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baregulaarne statistika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Olmejäätm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Puuviljanduse uuring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RSP-st välja jäetud statistikatöö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Footer Placeholder 2"/>
          <p:cNvSpPr/>
          <p:nvPr/>
        </p:nvSpPr>
        <p:spPr>
          <a:xfrm>
            <a:off x="1258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24000" y="1413000"/>
            <a:ext cx="7920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3951"/>
                </a:solidFill>
                <a:latin typeface="Arial"/>
              </a:rPr>
              <a:t>Statistika arendus: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Materjali voo arvepid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Keskkonna ja põllumajanduse sidusnäitaja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Maksustamisandmete laialdasem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ensionid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Teadus- ja arendustegevuse satelliitkonto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Uue ESA andmeedastusprogrammi juur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Äriteenused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Sõiduautode kasutamine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Väliskülastajad Eesti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951"/>
                </a:solidFill>
                <a:latin typeface="Arial"/>
                <a:ea typeface="Arial"/>
              </a:rPr>
              <a:t>Piiriloendus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1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Tänan tähelepanu eest !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Footer Placeholder 3"/>
          <p:cNvSpPr/>
          <p:nvPr/>
        </p:nvSpPr>
        <p:spPr>
          <a:xfrm>
            <a:off x="111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14.12.2011</a:t>
            </a:r>
            <a:endParaRPr b="1" lang="en-US" sz="1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8:03:18Z</dcterms:created>
  <dc:creator>user</dc:creator>
  <dc:description/>
  <dc:language>en-US</dc:language>
  <cp:lastModifiedBy>Kristina Lauri</cp:lastModifiedBy>
  <dcterms:modified xsi:type="dcterms:W3CDTF">2011-12-20T07:07:36Z</dcterms:modified>
  <cp:revision>220</cp:revision>
  <dc:subject/>
  <dc:title>Slide 1</dc:title>
</cp:coreProperties>
</file>