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EED1042-2FAB-48A9-92E8-FF6A16F9431E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186E9BF-4B6C-4150-8379-7AEF80EC727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24000" y="141300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st oli välja jäetud 23 statistikatööd (9+3+11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li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3.10.2011 saatis RM statistik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kooskõlastusringi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ärkuste ja ettepanekuteta 2 (JUST, Eesti Linnade Lii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ttepanekutega 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i vastanud 5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usringi ajal saime grandipakkumise “Materjali voo arvepidamise” tegemiseks.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Aastateks 2012-2013 läks see statistikatöö programmi sis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9.11.2011 saatsime statistikaprogrammi uuesti RM-i Vabariigi Valitsusele esi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2-20T07:07:36Z</dcterms:modified>
  <cp:revision>220</cp:revision>
  <dc:subject/>
  <dc:title>Slide 1</dc:title>
</cp:coreProperties>
</file>