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8561213-43FE-4345-B840-7A32FED2FE00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A632371-9BE3-41F9-85B2-BC8172F2065C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4.12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4.12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46800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400" spc="-1" strike="noStrike">
                <a:solidFill>
                  <a:srgbClr val="003951"/>
                </a:solidFill>
                <a:latin typeface="Arial"/>
              </a:rPr>
              <a:t>SA 2012.–2016. aasta statistikatööde loetelu projekti menetlusest</a:t>
            </a:r>
            <a:r>
              <a:rPr b="0" lang="et-EE" sz="3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324000" y="1413000"/>
            <a:ext cx="8280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27.09.2011 - saatsime muudetud programmi RM-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st oli välja jäetud 23 statistikatööd (9+3+11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uus 2012. a maksumus oli 16 271, 6 tuhat euro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13.10.2011 saatis RM statistika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rogrammi kooskõlastusringil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Märkuste ja ettepanekuteta 2 (JUST, Eesti Linnade Liit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Ettepanekutega 6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Ei vastanud 5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oskõlastusringi ajal saime grandipakkumise “Materjali voo arvepidamise” tegemiseks.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Aastateks 2012-2013 läks see statistikatöö programmi siss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29.11.2011 saatsime statistikaprogrammi uuesti RM-i Vabariigi Valitsusele esitamisek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Põhistatistika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maksude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Õhuemissioonide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 ja põllumajanduse sidusnäitaja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Pensionid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Kahjukindlustuse lisaandm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Teadus- ja arendustegevus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Väliskülastajad Eest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Piir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baregulaarne statistika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Olmejäätm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uuviljanduse uuring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Sõiduautode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24000" y="1413000"/>
            <a:ext cx="792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Statistika arendus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Materjali voo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 ja põllumajanduse sidusnäitaja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Maksustamisandmete laialdasem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Pensionid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Teadus- ja arendustegevus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Uue ESA andmeedastusprogrammi juur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Äriteen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Sõiduautode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Väliskülastajad Eest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Piir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12-20T07:07:36Z</dcterms:modified>
  <cp:revision>220</cp:revision>
  <dc:subject/>
  <dc:title>Slide 1</dc:title>
</cp:coreProperties>
</file>