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2521-8EC0-466F-A31D-BEF964FD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töötluse maht suureneb kahel põhjus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ksuste arv suureneb tunduvalt võrreldes valikuuringu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kogust saadavad tunnused ei vasta statistilistele definitsioonidele, vaja on mudelite abil moodustada uusi näitajaid, mis toob kaasa lisatööd andmete kontrollimise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6831-9C57-4E97-B613-65F1F15C6EB1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õige suurem lisakulu on ettevalmistuse osa, mis eeldab teatud aja paralleeltoot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910A-E32D-488E-8F76-94F0FFB7AD6F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saame koondandmed, siis on meil kõige väiksem töömaht, eeldab definitsioonide täielikku sobiv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ndandmete kasutamisvõimalused on tänaseks juba ammendumas, puuduvad võimalused andmete linkimise abil statistikaametis andmetele lisaväärtust 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salise kasutuse korral on kindlasti vaja andmekogust saada üksikandmed. See on tulevikusu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5BB2-3841-424E-AE80-59A0C0FB14F4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Ülevaade administratiivsete andmeallikate kasutamisest: olukord, probleemid, areng ja perspektiiv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5.02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Administratiivsete andmete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kasutamin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statistikatöödes,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58920" y="2060640"/>
          <a:ext cx="6337440" cy="3535200"/>
        </p:xfrm>
        <a:graphic>
          <a:graphicData uri="http://schemas.openxmlformats.org/drawingml/2006/table">
            <a:tbl>
              <a:tblPr/>
              <a:tblGrid>
                <a:gridCol w="3776760"/>
                <a:gridCol w="1784160"/>
                <a:gridCol w="776520"/>
              </a:tblGrid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tatistikatööde arv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2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i kasuta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3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uginevad täielikult administratiivsetel andmetel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2,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asutatakse osaliselt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3,8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gumikud, metoodilised tööd, arendustööd, s.t andmekogumist ei toim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272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leminek andmekogude kasutamis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 ülemine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metaanalüüs (kaetus, definitsioonid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detailanalüüs (andmekvaliteet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hõive korraldamine (leping, IT-lahend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ekogumise ja andmetöötluse juurutamine (paralleelne toot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eb andmekogumise maht ja koormus isikutele või majandusüks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maht suureneb tunduva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töötluse mahu muu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tunduvalt üksuste arv (kordades), mis suurendab andmekontrolli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telt majandusüksustelt peab andmeid edasi kogu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eri andmeallikate andmete se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imputeerimise maht, sest ka andmekogudes on puuduvaid andm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statistiliste näitajate moodustamise vaja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arendused andmekogude andmete kasutuselevõtu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majandusaasta aruande (EMA) andmete kasutamine statistiliste aruannete eeltäit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äibemaksudeklaratsiooni andmete kasutamine statistikatöös “Müügitulu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ne tulude andmeallikana Sotsiaaluuring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ed registripõhiseks rahva ja eluruumide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täidetavad aruanded EMA baasi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OMAR, 26 aruannet (valimi suurus 10 63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-, metsamajandus-, kalandus- ja jahindusettevõtete majandustegevus (1 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 (1 268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Korteri- ja elamuühistu (53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Garaaži, aiandus-, vee-, majaomanike ja hooneühistu (9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vahendus ja finantsvahenduse abitegevus (3352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kasutuselevõtu kulud SA-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6000" y="2133720"/>
          <a:ext cx="7416720" cy="4064040"/>
        </p:xfrm>
        <a:graphic>
          <a:graphicData uri="http://schemas.openxmlformats.org/drawingml/2006/table">
            <a:tbl>
              <a:tblPr/>
              <a:tblGrid>
                <a:gridCol w="4081320"/>
                <a:gridCol w="1482840"/>
                <a:gridCol w="18525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ulu kirjeldus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tunnid, tuhat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jõukulu/Tee-nuse maksumus tuh EUR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aksonoomia elementide ja statistiliste näitajate seostamine (Eurostati poolt rahastatud gran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arendamine (SF rahastus, sisseostetud teenused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0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edasiarendus 2012 (hinnang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2009-2011 (SA eelarves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4,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(SA eelarvest), 2012 hinnang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9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eeltäitmisest tulenev halduskoormuse vähen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MA baasil saab eeltäita maksimaalselt 43%-79% statistikaaruande lahtritest (EKOMAR 49%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täitmise keskmine aeg oli 2010. aastal vahemikus 75-445 minutit (EKOMAR 276 min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eeltäitmisega saavutatav tööaja kokkuhoid on 33 810 tundi (EKOMAR 23 962 tund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tööjõukulude kokkuhoid on kokku 247,5 tuhat eurot (EKOMAR 175,4 tuhat euro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 on suures osas täide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bleeme on andmekogude “statistilise” kvaliteediga, sest Eesti inimese suhtumine andmekogude rolli on väga erinev Põhjamaa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suurimaks probleemiks on ressursside vähesus metoodika väljatöötamiseks ja juuru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jätkab andmekogude kasutuselevõttu statistikatöödes vastavalt võimalustele, sh välisrahastuse ab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mmud üleminekuks andmekogu kasutam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SA-s andmekogude kasutuselevõt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aasta aruande kasutuselevõ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dused andmekogude kasutamiseks riik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seadusandlus peab toetama administratiivsete andmekogude andmete kasutamist statistilisel otstarbel, mis annab statistikaametile õig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gipääsuks administratiivsetele üksikandmetele koos identifikaatorit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linkimiseks erinevatest administratiivsetest andmeallikat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aitse reeglistik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hesuunalise liikluse printsiip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andmed statistiliseks otstarb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andmed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l eesmärki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dusuuringut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47560"/>
                </a:solidFill>
                <a:latin typeface="Arial"/>
              </a:rPr>
              <a:t>Mitte kunagi administratiivsetel eesmärkidel</a:t>
            </a:r>
            <a:r>
              <a:rPr b="0" lang="en-GB" sz="1800" spc="-1" strike="noStrike">
                <a:solidFill>
                  <a:srgbClr val="b3a0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positiivne 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htumine on erinevates riikides erinev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vaatsuse rikkumine (Suur Vend teab kõike)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sentraliseeritud süsteemis on andmed paremini kaitstu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 ei soovi andmeid anda dubleerivalt statistikaametile, kui need andmed on juba esitatud administratiivseteks eesmärki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jamaade prak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kasutamise teema peab olema av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tud diskussioonid ja avalik debat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numbrilised identifikaatorid andmesubjekti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, ettevõtted, toimlad, aadressi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nkimine on võimalik ka ilma identifikaatoriteta, aga see on raske ja töömahuk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d, mida kasutavad paljud institutsioonid, on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ajad, mis on olulised andmekogu pidajale, on üldiselt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ne” kvaliteet pole alati sarnane “statistilise”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ostöö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vaheline koostöö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ja statistikaameti vaheline koostöö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kõigil organisatsiooni tase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epoolne või riiklik foor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vajab palju infot registrite koht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ulatsioonid ja registripidamise prakti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u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d peavad informeerima tehtud muutustest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informeerib registrit kvaliteediprobleemi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valiselt mitte individuaal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elikult andmekogude andmet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koond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üksik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selt andmekogud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te täpsustamiseks, impu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semate üksuste jaoks andm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tud tunnus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mustiku eeltäit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hteandmebaasi täiendamiseks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ja Sõstra</cp:lastModifiedBy>
  <dcterms:modified xsi:type="dcterms:W3CDTF">2012-02-14T16:38:39Z</dcterms:modified>
  <cp:revision>87</cp:revision>
  <dc:subject/>
  <dc:title>Slide 1</dc:title>
</cp:coreProperties>
</file>