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BFB5-4233-40BF-AD85-DF09C34CA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töötluse maht suureneb kahel põhjuse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ksuste arv suureneb tunduvalt võrreldes valikuuringu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Andmekogust saadavad tunnused ei vasta statistilistele definitsioonidele, vaja on mudelite abil moodustada uusi näitajaid, mis toob kaasa lisatööd andmete kontrollimisel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B97C-901B-4B04-BF76-23F058471774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õige suurem lisakulu on ettevalmistuse osa, mis eeldab teatud aja paralleeltoot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4BAE-4856-40BD-B085-228F8A1BF045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ui saame koondandmed, siis on meil kõige väiksem töömaht, eeldab definitsioonide täielikku sobiv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koondandmete kasutamisvõimalused on tänaseks juba ammendumas, puuduvad võimalused andmete linkimise abil statistikaametis andmetele lisaväärtust and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Osalise kasutuse korral on kindlasti vaja andmekogust saada üksikandmed. See on tulevikusu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F7CB-6713-4137-8F36-B7994A248968}" type="slidenum">
              <a:rPr b="1" lang="en-US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258560" y="1268280"/>
            <a:ext cx="748980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78864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329520" y="220464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124776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78864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329520" y="4396320"/>
            <a:ext cx="24195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9632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204640"/>
            <a:ext cx="366732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96320"/>
            <a:ext cx="7515360" cy="200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58672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6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579600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90"/>
          <p:cNvPicPr/>
          <p:nvPr/>
        </p:nvPicPr>
        <p:blipFill>
          <a:blip r:embed="rId3"/>
          <a:stretch/>
        </p:blipFill>
        <p:spPr>
          <a:xfrm>
            <a:off x="7334280" y="404640"/>
            <a:ext cx="1012680" cy="97488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5602320" cy="19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000" spc="-1" strike="noStrike">
                <a:solidFill>
                  <a:srgbClr val="003951"/>
                </a:solidFill>
                <a:latin typeface="Arial"/>
              </a:rPr>
              <a:t>Ülevaade administratiivsete andmeallikate kasutamisest: olukord, probleemid, areng ja perspektiiv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304488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Metoodika osakonna juhatj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15.02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Administratiivsete andmete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kasutamine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statistikatöödes,</a:t>
            </a:r>
            <a:r>
              <a:rPr b="1" lang="en-US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58920" y="2060640"/>
          <a:ext cx="6337440" cy="3535200"/>
        </p:xfrm>
        <a:graphic>
          <a:graphicData uri="http://schemas.openxmlformats.org/drawingml/2006/table">
            <a:tbl>
              <a:tblPr/>
              <a:tblGrid>
                <a:gridCol w="3776760"/>
                <a:gridCol w="1784160"/>
                <a:gridCol w="776520"/>
              </a:tblGrid>
              <a:tr h="452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tatistikatööde arv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2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i kasuta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3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uginevad täielikult administratiivsetel andmetel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2,3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23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asutatakse osaliselt administratiivseid andmeid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3,8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gumikud, metoodilised tööd, arendustööd, s.t andmekogumist ei toim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07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00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dministratiivsest andmeallikast statistiliseks registri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deeri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rand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uuduvate väärtustega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egele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eo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liste üksuste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ajate moodustami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ne üldkog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näitaja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üksused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5281560" y="2290680"/>
            <a:ext cx="2819520" cy="3801960"/>
            <a:chOff x="5281560" y="2290680"/>
            <a:chExt cx="2819520" cy="3801960"/>
          </a:xfrm>
        </p:grpSpPr>
        <p:sp>
          <p:nvSpPr>
            <p:cNvPr id="272" name="AutoShape 3"/>
            <p:cNvSpPr/>
            <p:nvPr/>
          </p:nvSpPr>
          <p:spPr>
            <a:xfrm>
              <a:off x="5281560" y="2290680"/>
              <a:ext cx="2819520" cy="38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Rectangle 7"/>
            <p:cNvSpPr/>
            <p:nvPr/>
          </p:nvSpPr>
          <p:spPr>
            <a:xfrm>
              <a:off x="5336640" y="2368440"/>
              <a:ext cx="70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Rectangle 8"/>
            <p:cNvSpPr/>
            <p:nvPr/>
          </p:nvSpPr>
          <p:spPr>
            <a:xfrm>
              <a:off x="5651280" y="2662200"/>
              <a:ext cx="23022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Rectangle 9"/>
            <p:cNvSpPr/>
            <p:nvPr/>
          </p:nvSpPr>
          <p:spPr>
            <a:xfrm>
              <a:off x="5443920" y="2666880"/>
              <a:ext cx="256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Administra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iv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Rectangle 10"/>
            <p:cNvSpPr/>
            <p:nvPr/>
          </p:nvSpPr>
          <p:spPr>
            <a:xfrm>
              <a:off x="7980840" y="26668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Rectangle 11"/>
            <p:cNvSpPr/>
            <p:nvPr/>
          </p:nvSpPr>
          <p:spPr>
            <a:xfrm>
              <a:off x="5608440" y="3843360"/>
              <a:ext cx="198612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Rectangle 12"/>
            <p:cNvSpPr/>
            <p:nvPr/>
          </p:nvSpPr>
          <p:spPr>
            <a:xfrm>
              <a:off x="568008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Rectangle 13"/>
            <p:cNvSpPr/>
            <p:nvPr/>
          </p:nvSpPr>
          <p:spPr>
            <a:xfrm>
              <a:off x="653400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0" name="Rectangle 14"/>
            <p:cNvSpPr/>
            <p:nvPr/>
          </p:nvSpPr>
          <p:spPr>
            <a:xfrm>
              <a:off x="6599160" y="3848040"/>
              <a:ext cx="3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1" name="Rectangle 15"/>
            <p:cNvSpPr/>
            <p:nvPr/>
          </p:nvSpPr>
          <p:spPr>
            <a:xfrm>
              <a:off x="7572960" y="384804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2" name="Rectangle 16"/>
            <p:cNvSpPr/>
            <p:nvPr/>
          </p:nvSpPr>
          <p:spPr>
            <a:xfrm>
              <a:off x="5837040" y="4127400"/>
              <a:ext cx="14526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Rectangle 17"/>
            <p:cNvSpPr/>
            <p:nvPr/>
          </p:nvSpPr>
          <p:spPr>
            <a:xfrm>
              <a:off x="6036480" y="41320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Andmetöötlus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4" name="Rectangle 18"/>
            <p:cNvSpPr/>
            <p:nvPr/>
          </p:nvSpPr>
          <p:spPr>
            <a:xfrm>
              <a:off x="7144200" y="4132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5" name="Rectangle 19"/>
            <p:cNvSpPr/>
            <p:nvPr/>
          </p:nvSpPr>
          <p:spPr>
            <a:xfrm>
              <a:off x="5848200" y="5511600"/>
              <a:ext cx="1903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6" name="Rectangle 20"/>
            <p:cNvSpPr/>
            <p:nvPr/>
          </p:nvSpPr>
          <p:spPr>
            <a:xfrm>
              <a:off x="5738760" y="5518080"/>
              <a:ext cx="200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951"/>
                  </a:solidFill>
                  <a:latin typeface="Arial"/>
                </a:rPr>
                <a:t>Statisti</a:t>
              </a:r>
              <a:r>
                <a:rPr b="1" lang="et-EE" sz="1600" spc="-1" strike="noStrike">
                  <a:solidFill>
                    <a:srgbClr val="003951"/>
                  </a:solidFill>
                  <a:latin typeface="Arial"/>
                </a:rPr>
                <a:t>lised registrid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7" name="Rectangle 21"/>
            <p:cNvSpPr/>
            <p:nvPr/>
          </p:nvSpPr>
          <p:spPr>
            <a:xfrm>
              <a:off x="7739640" y="5518080"/>
              <a:ext cx="57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6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8" name="Line 22"/>
            <p:cNvSpPr/>
            <p:nvPr/>
          </p:nvSpPr>
          <p:spPr>
            <a:xfrm flipV="1">
              <a:off x="6659640" y="4752720"/>
              <a:ext cx="108720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9" name="Line 23"/>
            <p:cNvSpPr/>
            <p:nvPr/>
          </p:nvSpPr>
          <p:spPr>
            <a:xfrm flipH="1" flipV="1">
              <a:off x="5557320" y="4752720"/>
              <a:ext cx="1101960" cy="33156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0" name="Line 24"/>
            <p:cNvSpPr/>
            <p:nvPr/>
          </p:nvSpPr>
          <p:spPr>
            <a:xfrm flipV="1">
              <a:off x="5557680" y="3270240"/>
              <a:ext cx="1800" cy="11844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1" name="Line 25"/>
            <p:cNvSpPr/>
            <p:nvPr/>
          </p:nvSpPr>
          <p:spPr>
            <a:xfrm>
              <a:off x="5557680" y="3270240"/>
              <a:ext cx="2176560" cy="144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2" name="Line 26"/>
            <p:cNvSpPr/>
            <p:nvPr/>
          </p:nvSpPr>
          <p:spPr>
            <a:xfrm>
              <a:off x="7726320" y="3289320"/>
              <a:ext cx="1440" cy="1170000"/>
            </a:xfrm>
            <a:prstGeom prst="line">
              <a:avLst/>
            </a:prstGeom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3" name="Freeform 27"/>
            <p:cNvSpPr/>
            <p:nvPr/>
          </p:nvSpPr>
          <p:spPr>
            <a:xfrm>
              <a:off x="5557680" y="4649760"/>
              <a:ext cx="292320" cy="9216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369" h="115">
                  <a:moveTo>
                    <a:pt x="0" y="115"/>
                  </a:moveTo>
                  <a:lnTo>
                    <a:pt x="73" y="111"/>
                  </a:lnTo>
                  <a:lnTo>
                    <a:pt x="142" y="103"/>
                  </a:lnTo>
                  <a:lnTo>
                    <a:pt x="206" y="94"/>
                  </a:lnTo>
                  <a:lnTo>
                    <a:pt x="259" y="80"/>
                  </a:lnTo>
                  <a:lnTo>
                    <a:pt x="305" y="63"/>
                  </a:lnTo>
                  <a:lnTo>
                    <a:pt x="340" y="46"/>
                  </a:lnTo>
                  <a:lnTo>
                    <a:pt x="353" y="34"/>
                  </a:lnTo>
                  <a:lnTo>
                    <a:pt x="363" y="25"/>
                  </a:lnTo>
                  <a:lnTo>
                    <a:pt x="367" y="9"/>
                  </a:lnTo>
                  <a:lnTo>
                    <a:pt x="369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4" name="Freeform 28"/>
            <p:cNvSpPr/>
            <p:nvPr/>
          </p:nvSpPr>
          <p:spPr>
            <a:xfrm>
              <a:off x="7427880" y="4622760"/>
              <a:ext cx="309600" cy="1332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89" h="167">
                  <a:moveTo>
                    <a:pt x="389" y="167"/>
                  </a:moveTo>
                  <a:lnTo>
                    <a:pt x="309" y="163"/>
                  </a:lnTo>
                  <a:lnTo>
                    <a:pt x="236" y="154"/>
                  </a:lnTo>
                  <a:lnTo>
                    <a:pt x="169" y="138"/>
                  </a:lnTo>
                  <a:lnTo>
                    <a:pt x="113" y="119"/>
                  </a:lnTo>
                  <a:lnTo>
                    <a:pt x="67" y="94"/>
                  </a:lnTo>
                  <a:lnTo>
                    <a:pt x="29" y="65"/>
                  </a:lnTo>
                  <a:lnTo>
                    <a:pt x="15" y="48"/>
                  </a:lnTo>
                  <a:lnTo>
                    <a:pt x="6" y="35"/>
                  </a:lnTo>
                  <a:lnTo>
                    <a:pt x="4" y="1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5" name="Freeform 29"/>
            <p:cNvSpPr/>
            <p:nvPr/>
          </p:nvSpPr>
          <p:spPr>
            <a:xfrm>
              <a:off x="5557680" y="4454640"/>
              <a:ext cx="292320" cy="201600"/>
            </a:xfrm>
            <a:custGeom>
              <a:avLst/>
              <a:gdLst>
                <a:gd name="textAreaLeft" fmla="*/ 0 w 292320"/>
                <a:gd name="textAreaRight" fmla="*/ 292680 w 29232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369" h="255">
                  <a:moveTo>
                    <a:pt x="0" y="0"/>
                  </a:moveTo>
                  <a:lnTo>
                    <a:pt x="73" y="8"/>
                  </a:lnTo>
                  <a:lnTo>
                    <a:pt x="142" y="21"/>
                  </a:lnTo>
                  <a:lnTo>
                    <a:pt x="206" y="46"/>
                  </a:lnTo>
                  <a:lnTo>
                    <a:pt x="259" y="77"/>
                  </a:lnTo>
                  <a:lnTo>
                    <a:pt x="305" y="111"/>
                  </a:lnTo>
                  <a:lnTo>
                    <a:pt x="340" y="157"/>
                  </a:lnTo>
                  <a:lnTo>
                    <a:pt x="353" y="179"/>
                  </a:lnTo>
                  <a:lnTo>
                    <a:pt x="363" y="202"/>
                  </a:lnTo>
                  <a:lnTo>
                    <a:pt x="367" y="230"/>
                  </a:lnTo>
                  <a:lnTo>
                    <a:pt x="369" y="255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6" name="Freeform 30"/>
            <p:cNvSpPr/>
            <p:nvPr/>
          </p:nvSpPr>
          <p:spPr>
            <a:xfrm>
              <a:off x="7427880" y="4454640"/>
              <a:ext cx="309600" cy="172800"/>
            </a:xfrm>
            <a:custGeom>
              <a:avLst/>
              <a:gdLst>
                <a:gd name="textAreaLeft" fmla="*/ 0 w 309600"/>
                <a:gd name="textAreaRight" fmla="*/ 309960 w 30960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" h="219">
                  <a:moveTo>
                    <a:pt x="389" y="0"/>
                  </a:moveTo>
                  <a:lnTo>
                    <a:pt x="309" y="4"/>
                  </a:lnTo>
                  <a:lnTo>
                    <a:pt x="236" y="17"/>
                  </a:lnTo>
                  <a:lnTo>
                    <a:pt x="169" y="38"/>
                  </a:lnTo>
                  <a:lnTo>
                    <a:pt x="113" y="63"/>
                  </a:lnTo>
                  <a:lnTo>
                    <a:pt x="67" y="98"/>
                  </a:lnTo>
                  <a:lnTo>
                    <a:pt x="29" y="132"/>
                  </a:lnTo>
                  <a:lnTo>
                    <a:pt x="15" y="154"/>
                  </a:lnTo>
                  <a:lnTo>
                    <a:pt x="6" y="175"/>
                  </a:lnTo>
                  <a:lnTo>
                    <a:pt x="4" y="200"/>
                  </a:lnTo>
                  <a:lnTo>
                    <a:pt x="0" y="219"/>
                  </a:lnTo>
                </a:path>
              </a:pathLst>
            </a:custGeom>
            <a:noFill/>
            <a:ln w="25560">
              <a:solidFill>
                <a:srgbClr val="00395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7" name="Oval 31"/>
            <p:cNvSpPr/>
            <p:nvPr/>
          </p:nvSpPr>
          <p:spPr>
            <a:xfrm>
              <a:off x="5307120" y="2357280"/>
              <a:ext cx="279396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8" name="Oval 32"/>
            <p:cNvSpPr/>
            <p:nvPr/>
          </p:nvSpPr>
          <p:spPr>
            <a:xfrm>
              <a:off x="5281560" y="5208480"/>
              <a:ext cx="2787480" cy="817560"/>
            </a:xfrm>
            <a:prstGeom prst="ellipse">
              <a:avLst/>
            </a:prstGeom>
            <a:noFill/>
            <a:ln w="2556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Üleminek andmekogude kasutamisel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 ülemine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metaanalüüs (kaetus, definitsioonid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 detailanalüüs (andmekvaliteet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hõive korraldamine (leping, IT-lahendus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ekogumise ja andmetöötluse juurutamine (paralleelne toot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mi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heneb andmekogumise maht ja koormus isikutele või majandusüksust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struktuuri mu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töötluse maht suureneb tunduva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993240" indent="-3344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töötluse mahu muut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tunduvalt üksuste arv (kordades), mis suurendab andmekontrolli maht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matelt majandusüksustelt peab andmeid edasi kogum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eri andmeallikate andmete se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imputeerimise maht, sest ka andmekogudes on puuduvaid andme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ndub statistiliste näitajate moodustamise vaja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04" name="Object 2"/>
          <p:cNvGraphicFramePr/>
          <p:nvPr/>
        </p:nvGraphicFramePr>
        <p:xfrm>
          <a:off x="755640" y="598320"/>
          <a:ext cx="7632720" cy="588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98320"/>
                    <a:ext cx="7632720" cy="588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A arendused andmekogude andmete kasutuselevõtu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ektroonilise majandusaasta aruande (EMA) andmete kasutamine statistiliste aruannete eeltäit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äibemaksudeklaratsiooni andmete kasutamine statistikatöös “Müügitulu”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ne tulude andmeallikana Sotsiaaluuring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ttevalmistused registripõhiseks rahva ja eluruumide loendu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täidetavad aruanded EMA baasil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KOMAR, 26 aruannet (valimi suurus 10 631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llumajandus-, metsamajandus-, kalandus- ja jahindusettevõtete majandustegevus (1 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 (1 268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Korteri- ja elamuühistu (535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umitaotluseta organisatsioonid, lisa. Garaaži, aiandus-, vee-, majaomanike ja hooneühistu (9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Finantsvahendus ja finantsvahenduse abitegevus (3352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kasutuselevõtu kulud SA-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116000" y="2133720"/>
          <a:ext cx="7416720" cy="4064040"/>
        </p:xfrm>
        <a:graphic>
          <a:graphicData uri="http://schemas.openxmlformats.org/drawingml/2006/table">
            <a:tbl>
              <a:tblPr/>
              <a:tblGrid>
                <a:gridCol w="4081320"/>
                <a:gridCol w="1482840"/>
                <a:gridCol w="18525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ulu kirjeldus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tunnid, tuhat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ööjõukulu/Tee-nuse maksumus tuh EUR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3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aksonoomia elementide ja statistiliste näitajate seostamine (Eurostati poolt rahastatud gran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21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arendamine (SF rahastus, sisseostetud teenused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0,9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03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IT süsteemide edasiarendus 2012 (hinnang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2009-2011 (SA eelarvest)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4,1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A töötajate tööjõukulud (SA eelarvest), 2012 hinnang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0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OKKU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6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69,7</a:t>
                      </a:r>
                      <a:endParaRPr b="1" lang="en-US" sz="16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MA eeltäitmisest tulenev halduskoormuse vähen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MA baasil saab eeltäita maksimaalselt 43%-79% statistikaaruande lahtritest (EKOMAR 49%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uande täitmise keskmine aeg oli 2010. aastal vahemikus 75-445 minutit (EKOMAR 276 min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eeltäitmisega saavutatav tööaja kokkuhoid on 33 810 tundi (EKOMAR 23 962 tundi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vestuslik tööjõukulude kokkuhoid on kokku 247,5 tuhat eurot (EKOMAR 175,4 tuhat eurot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 on suures osas täide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obleeme on andmekogude “statistilise” kvaliteediga, sest Eesti inimese suhtumine andmekogude rolli on väga erinev Põhjamaa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suurimaks probleemiks on ressursside vähesus metoodika väljatöötamiseks ja juuruta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jätkab andmekogude kasutuselevõttu statistikatöödes vastavalt võimalustele, sh välisrahastuse abi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isu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dused andmekogude andmete kasutamiseks riiklikus statistika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mmud üleminekuks andmekogu kasutamise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SA-s andmekogude kasutuselevõt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jandusaasta aruande kasutuselevõt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eldused andmekogude kasutamiseks riikliku statistika tegemisel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eaduslik al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iigi seadusandlus peab toetama administratiivsete andmekogude andmete kasutamist statistilisel otstarbel, mis annab statistikaametile õigu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gipääsuks administratiivsetele üksikandmetele koos identifikaatorit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te linkimiseks erinevatest administratiivsetest andmeallikat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aitse reeglistik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Ühesuunalise liikluse printsiip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dministratiivsed andmed statistiliseks otstarb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ed andmed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l eesmärkid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adusuuringut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f47560"/>
                </a:solidFill>
                <a:latin typeface="Arial"/>
              </a:rPr>
              <a:t>Mitte kunagi administratiivsetel eesmärkidel</a:t>
            </a:r>
            <a:r>
              <a:rPr b="0" lang="en-GB" sz="1800" spc="-1" strike="noStrike">
                <a:solidFill>
                  <a:srgbClr val="b3a0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valik arvam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uline on positiivne avalik arva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htumine on erinevates riikides erinev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rivaatsuse rikkumine (Suur Vend teab kõike)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õ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sentraliseeritud süsteemis on andmed paremini kaitstu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 ei soovi andmeid anda dubleerivalt statistikaametile, kui need andmed on juba esitatud administratiivseteks eesmärki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õhjamaade prak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te kasutamise teema peab olema avalik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vatud diskussioonid ja avalik debat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nikaalsed identifikaator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nikaalsed numbrilised identifikaatorid andmesubjektid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sikud, ettevõtted, toimlad, aadressid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nkimine on võimalik ka ilma identifikaatoriteta, aga see on raske ja töömahukas</a:t>
            </a:r>
            <a:r>
              <a:rPr b="0" lang="en-GB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egistrite süsteem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gistrid, mida kasutavad paljud institutsioonid, on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äitajad, mis on olulised andmekogu pidajale, on üldiselt parema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“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dministratiivne” kvaliteet pole alati sarnane “statistilise” kvaliteedig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oostöö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vaheline koostöö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te ja statistikaameti vaheline koostöö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oostöö kõigil organisatsiooni tase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epoolne või riiklik foorum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kaamet vajab palju infot registrite koht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ulatsioonid ja registripidamise prakti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isu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stripidajad peavad informeerima tehtud muutustest</a:t>
            </a:r>
            <a:r>
              <a:rPr b="0" lang="en-GB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informeerib registrit kvaliteediprobleemide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valiselt mitte individuaal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ndmekogude kasutamise viis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elikult andmekogude andmet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koond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st üksikandm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saliselt andmekogudel põhinevad statistikatöö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innangute täpsustamiseks, imputeerimis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iksemate üksuste jaoks andm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atud tunnused andmekogud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üsimustiku eeltäitmis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ähteandmebaasi täiendamiseks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Kaja Sõstra</cp:lastModifiedBy>
  <dcterms:modified xsi:type="dcterms:W3CDTF">2012-02-14T16:38:39Z</dcterms:modified>
  <cp:revision>87</cp:revision>
  <dc:subject/>
  <dc:title>Slide 1</dc:title>
</cp:coreProperties>
</file>