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1B5A-EF96-498D-8DDA-C21823721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ndmetöötluse maht suureneb kahel põhjuse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Üksuste arv suureneb tunduvalt võrreldes valikuuringu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ndmekogust saadavad tunnused ei vasta statistilistele definitsioonidele, vaja on mudelite abil moodustada uusi näitajaid, mis toob kaasa lisatööd andmete kontrollimisel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9CB9-9727-4439-B545-8888025C7B3B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õige suurem lisakulu on ettevalmistuse osa, mis eeldab teatud aja paralleeltootm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C818-5C89-44AA-946A-4B4CF025067F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ui saame koondandmed, siis on meil kõige väiksem töömaht, eeldab definitsioonide täielikku sobiv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oondandmete kasutamisvõimalused on tänaseks juba ammendumas, puuduvad võimalused andmete linkimise abil statistikaametis andmetele lisaväärtust an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Osalise kasutuse korral on kindlasti vaja andmekogust saada üksikandmed. See on tulevikusu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F338-925D-4D5D-8002-3704E2CA39AD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560232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Ülevaade administratiivsete andmeallikate kasutamisest: olukord, probleemid, areng ja perspektiiv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304488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Kaja Sõstr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toodika osakonna juhat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5.02.2012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Administratiivsete andmete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kasutamine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statistikatöödes,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258920" y="2060640"/>
          <a:ext cx="6337440" cy="3535200"/>
        </p:xfrm>
        <a:graphic>
          <a:graphicData uri="http://schemas.openxmlformats.org/drawingml/2006/table">
            <a:tbl>
              <a:tblPr/>
              <a:tblGrid>
                <a:gridCol w="3776760"/>
                <a:gridCol w="1784160"/>
                <a:gridCol w="776520"/>
              </a:tblGrid>
              <a:tr h="452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tatistikatööde arv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52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Ei kasuta administratiivseid andmei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43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3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uginevad täielikult administratiivsetel andmetel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32,3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723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asutatakse osaliselt administratiivseid andmei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3,8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gumikud, metoodilised tööd, arendustööd, s.t andmekogumist ei toim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50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KK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dministratiivsest andmeallikast statistiliseks registri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deeri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vate väärtustega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egele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eo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atistiliste üksuste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ajate moodu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ne üldkog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5281560" y="2290680"/>
            <a:ext cx="2819520" cy="3801960"/>
            <a:chOff x="5281560" y="2290680"/>
            <a:chExt cx="2819520" cy="3801960"/>
          </a:xfrm>
        </p:grpSpPr>
        <p:sp>
          <p:nvSpPr>
            <p:cNvPr id="272" name="AutoShape 3"/>
            <p:cNvSpPr/>
            <p:nvPr/>
          </p:nvSpPr>
          <p:spPr>
            <a:xfrm>
              <a:off x="5281560" y="2290680"/>
              <a:ext cx="2819520" cy="38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3" name="Rectangle 7"/>
            <p:cNvSpPr/>
            <p:nvPr/>
          </p:nvSpPr>
          <p:spPr>
            <a:xfrm>
              <a:off x="5336640" y="23684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4" name="Rectangle 8"/>
            <p:cNvSpPr/>
            <p:nvPr/>
          </p:nvSpPr>
          <p:spPr>
            <a:xfrm>
              <a:off x="5651280" y="2662200"/>
              <a:ext cx="23022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5" name="Rectangle 9"/>
            <p:cNvSpPr/>
            <p:nvPr/>
          </p:nvSpPr>
          <p:spPr>
            <a:xfrm>
              <a:off x="5443920" y="2666880"/>
              <a:ext cx="25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Administra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iv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6" name="Rectangle 10"/>
            <p:cNvSpPr/>
            <p:nvPr/>
          </p:nvSpPr>
          <p:spPr>
            <a:xfrm>
              <a:off x="7980840" y="266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7" name="Rectangle 11"/>
            <p:cNvSpPr/>
            <p:nvPr/>
          </p:nvSpPr>
          <p:spPr>
            <a:xfrm>
              <a:off x="5608440" y="3843360"/>
              <a:ext cx="19861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8" name="Rectangle 12"/>
            <p:cNvSpPr/>
            <p:nvPr/>
          </p:nvSpPr>
          <p:spPr>
            <a:xfrm>
              <a:off x="568008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9" name="Rectangle 13"/>
            <p:cNvSpPr/>
            <p:nvPr/>
          </p:nvSpPr>
          <p:spPr>
            <a:xfrm>
              <a:off x="653400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0" name="Rectangle 14"/>
            <p:cNvSpPr/>
            <p:nvPr/>
          </p:nvSpPr>
          <p:spPr>
            <a:xfrm>
              <a:off x="659916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1" name="Rectangle 15"/>
            <p:cNvSpPr/>
            <p:nvPr/>
          </p:nvSpPr>
          <p:spPr>
            <a:xfrm>
              <a:off x="757296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2" name="Rectangle 16"/>
            <p:cNvSpPr/>
            <p:nvPr/>
          </p:nvSpPr>
          <p:spPr>
            <a:xfrm>
              <a:off x="5837040" y="4127400"/>
              <a:ext cx="14526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3" name="Rectangle 17"/>
            <p:cNvSpPr/>
            <p:nvPr/>
          </p:nvSpPr>
          <p:spPr>
            <a:xfrm>
              <a:off x="6036480" y="4132080"/>
              <a:ext cx="136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Andmetöötlus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4" name="Rectangle 18"/>
            <p:cNvSpPr/>
            <p:nvPr/>
          </p:nvSpPr>
          <p:spPr>
            <a:xfrm>
              <a:off x="7144200" y="4132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5" name="Rectangle 19"/>
            <p:cNvSpPr/>
            <p:nvPr/>
          </p:nvSpPr>
          <p:spPr>
            <a:xfrm>
              <a:off x="5848200" y="5511600"/>
              <a:ext cx="19036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6" name="Rectangle 20"/>
            <p:cNvSpPr/>
            <p:nvPr/>
          </p:nvSpPr>
          <p:spPr>
            <a:xfrm>
              <a:off x="5738760" y="5518080"/>
              <a:ext cx="200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Statis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li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7" name="Rectangle 21"/>
            <p:cNvSpPr/>
            <p:nvPr/>
          </p:nvSpPr>
          <p:spPr>
            <a:xfrm>
              <a:off x="7739640" y="551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6659640" y="4752720"/>
              <a:ext cx="108720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 flipH="1" flipV="1">
              <a:off x="5557320" y="4752720"/>
              <a:ext cx="110196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V="1">
              <a:off x="5557680" y="3270240"/>
              <a:ext cx="1800" cy="11844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1" name="Line 25"/>
            <p:cNvSpPr/>
            <p:nvPr/>
          </p:nvSpPr>
          <p:spPr>
            <a:xfrm>
              <a:off x="5557680" y="3270240"/>
              <a:ext cx="2176560" cy="144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2" name="Line 26"/>
            <p:cNvSpPr/>
            <p:nvPr/>
          </p:nvSpPr>
          <p:spPr>
            <a:xfrm>
              <a:off x="7726320" y="3289320"/>
              <a:ext cx="1440" cy="11700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3" name="Freeform 27"/>
            <p:cNvSpPr/>
            <p:nvPr/>
          </p:nvSpPr>
          <p:spPr>
            <a:xfrm>
              <a:off x="5557680" y="4649760"/>
              <a:ext cx="292320" cy="92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9" h="115">
                  <a:moveTo>
                    <a:pt x="0" y="115"/>
                  </a:moveTo>
                  <a:lnTo>
                    <a:pt x="73" y="111"/>
                  </a:lnTo>
                  <a:lnTo>
                    <a:pt x="142" y="103"/>
                  </a:lnTo>
                  <a:lnTo>
                    <a:pt x="206" y="94"/>
                  </a:lnTo>
                  <a:lnTo>
                    <a:pt x="259" y="80"/>
                  </a:lnTo>
                  <a:lnTo>
                    <a:pt x="305" y="63"/>
                  </a:lnTo>
                  <a:lnTo>
                    <a:pt x="340" y="46"/>
                  </a:lnTo>
                  <a:lnTo>
                    <a:pt x="353" y="34"/>
                  </a:lnTo>
                  <a:lnTo>
                    <a:pt x="363" y="25"/>
                  </a:lnTo>
                  <a:lnTo>
                    <a:pt x="367" y="9"/>
                  </a:lnTo>
                  <a:lnTo>
                    <a:pt x="369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4" name="Freeform 28"/>
            <p:cNvSpPr/>
            <p:nvPr/>
          </p:nvSpPr>
          <p:spPr>
            <a:xfrm>
              <a:off x="7427880" y="4622760"/>
              <a:ext cx="309600" cy="1332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89" h="167">
                  <a:moveTo>
                    <a:pt x="389" y="167"/>
                  </a:moveTo>
                  <a:lnTo>
                    <a:pt x="309" y="163"/>
                  </a:lnTo>
                  <a:lnTo>
                    <a:pt x="236" y="154"/>
                  </a:lnTo>
                  <a:lnTo>
                    <a:pt x="169" y="138"/>
                  </a:lnTo>
                  <a:lnTo>
                    <a:pt x="113" y="119"/>
                  </a:lnTo>
                  <a:lnTo>
                    <a:pt x="67" y="94"/>
                  </a:lnTo>
                  <a:lnTo>
                    <a:pt x="29" y="65"/>
                  </a:lnTo>
                  <a:lnTo>
                    <a:pt x="15" y="48"/>
                  </a:lnTo>
                  <a:lnTo>
                    <a:pt x="6" y="35"/>
                  </a:lnTo>
                  <a:lnTo>
                    <a:pt x="4" y="17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5" name="Freeform 29"/>
            <p:cNvSpPr/>
            <p:nvPr/>
          </p:nvSpPr>
          <p:spPr>
            <a:xfrm>
              <a:off x="5557680" y="4454640"/>
              <a:ext cx="292320" cy="2016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69" h="255">
                  <a:moveTo>
                    <a:pt x="0" y="0"/>
                  </a:moveTo>
                  <a:lnTo>
                    <a:pt x="73" y="8"/>
                  </a:lnTo>
                  <a:lnTo>
                    <a:pt x="142" y="21"/>
                  </a:lnTo>
                  <a:lnTo>
                    <a:pt x="206" y="46"/>
                  </a:lnTo>
                  <a:lnTo>
                    <a:pt x="259" y="77"/>
                  </a:lnTo>
                  <a:lnTo>
                    <a:pt x="305" y="111"/>
                  </a:lnTo>
                  <a:lnTo>
                    <a:pt x="340" y="157"/>
                  </a:lnTo>
                  <a:lnTo>
                    <a:pt x="353" y="179"/>
                  </a:lnTo>
                  <a:lnTo>
                    <a:pt x="363" y="202"/>
                  </a:lnTo>
                  <a:lnTo>
                    <a:pt x="367" y="230"/>
                  </a:lnTo>
                  <a:lnTo>
                    <a:pt x="369" y="255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6" name="Freeform 30"/>
            <p:cNvSpPr/>
            <p:nvPr/>
          </p:nvSpPr>
          <p:spPr>
            <a:xfrm>
              <a:off x="7427880" y="4454640"/>
              <a:ext cx="309600" cy="172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89" h="219">
                  <a:moveTo>
                    <a:pt x="389" y="0"/>
                  </a:moveTo>
                  <a:lnTo>
                    <a:pt x="309" y="4"/>
                  </a:lnTo>
                  <a:lnTo>
                    <a:pt x="236" y="17"/>
                  </a:lnTo>
                  <a:lnTo>
                    <a:pt x="169" y="38"/>
                  </a:lnTo>
                  <a:lnTo>
                    <a:pt x="113" y="63"/>
                  </a:lnTo>
                  <a:lnTo>
                    <a:pt x="67" y="98"/>
                  </a:lnTo>
                  <a:lnTo>
                    <a:pt x="29" y="132"/>
                  </a:lnTo>
                  <a:lnTo>
                    <a:pt x="15" y="154"/>
                  </a:lnTo>
                  <a:lnTo>
                    <a:pt x="6" y="175"/>
                  </a:lnTo>
                  <a:lnTo>
                    <a:pt x="4" y="200"/>
                  </a:lnTo>
                  <a:lnTo>
                    <a:pt x="0" y="219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7" name="Oval 31"/>
            <p:cNvSpPr/>
            <p:nvPr/>
          </p:nvSpPr>
          <p:spPr>
            <a:xfrm>
              <a:off x="5307120" y="2357280"/>
              <a:ext cx="279396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8" name="Oval 32"/>
            <p:cNvSpPr/>
            <p:nvPr/>
          </p:nvSpPr>
          <p:spPr>
            <a:xfrm>
              <a:off x="5281560" y="5208480"/>
              <a:ext cx="278748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Üleminek andmekogude kasutamisel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almistus ülemine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 metaanalüüs (kaetus, definitsioonid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 detailanalüüs (andmekvaliteet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hõive korraldamine (leping, IT-lahendus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ekogumise ja andmetöötluse juurutamine (paralleelne tootmine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mise struktuuri mu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heneb andmekogumise maht ja koormus isikutele või majandusüksust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öötluse struktuuri mu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öötluse maht suureneb tunduva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dmetöötluse mahu muut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tunduvalt üksuste arv (kordades), mis suurendab andmekontrolli maht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matelt majandusüksustelt peab andmeid edasi kogum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ndub eri andmeallikate andmete se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imputeerimise maht, sest ka andmekogudes on puuduvaid andm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ndub statistiliste näitajate moodustamise vajad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04" name="Object 2"/>
          <p:cNvGraphicFramePr/>
          <p:nvPr/>
        </p:nvGraphicFramePr>
        <p:xfrm>
          <a:off x="755640" y="598320"/>
          <a:ext cx="7632720" cy="58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98320"/>
                    <a:ext cx="7632720" cy="588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A arendused andmekogude andmete kasutuselevõtu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ektroonilise majandusaasta aruande (EMA) andmete kasutamine statistiliste aruannete eeltäit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äibemaksudeklaratsiooni andmete kasutamine statistikatöös “Müügitulu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kasutamine tulude andmeallikana Sotsiaaluuring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almistused registripõhiseks rahva ja eluruumide loendu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ltäidetavad aruanded EMA baasil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KOMAR, 26 aruannet (valimi suurus 10 631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õllumajandus-, metsamajandus-, kalandus- ja jahindusettevõtete majandustegevus (1 00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 (1 268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, lisa. Korteri- ja elamuühistu (535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, lisa. Garaaži, aiandus-, vee-, majaomanike ja hooneühistu (9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Finantsvahendus ja finantsvahenduse abitegevus (3352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MA kasutuselevõtu kulud SA-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116000" y="2133720"/>
          <a:ext cx="7416720" cy="4064040"/>
        </p:xfrm>
        <a:graphic>
          <a:graphicData uri="http://schemas.openxmlformats.org/drawingml/2006/table">
            <a:tbl>
              <a:tblPr/>
              <a:tblGrid>
                <a:gridCol w="4081320"/>
                <a:gridCol w="1482840"/>
                <a:gridCol w="185256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ulu kirjeldus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öötunnid, tuhat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ööjõukulu/Tee-nuse maksumus tuh EUR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73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aksonoomia elementide ja statistiliste näitajate seostamine (Eurostati poolt rahastatud grant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1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IT süsteemide arendamine (SF rahastus, sisseostetud teenused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80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IT süsteemide edasiarendus 2012 (hinnang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A töötajate tööjõukulud 2009-2011 (SA eelarvest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4,1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A töötajate tööjõukulud (SA eelarvest), 2012 hinnang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0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KK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69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MA eeltäitmisest tulenev halduskoormuse vähen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MA baasil saab eeltäita maksimaalselt 43%-79% statistikaaruande lahtritest (EKOMAR 49%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uande täitmise keskmine aeg oli 2010. aastal vahemikus 75-445 minutit (EKOMAR 276 min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vestuslik eeltäitmisega saavutatav tööaja kokkuhoid on 33 810 tundi (EKOMAR 23 962 tund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vestuslik tööjõukulude kokkuhoid on kokku 247,5 tuhat eurot (EKOMAR 175,4 tuhat eurot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dused andmekogude andmete kasutamiseks riiklikus statistikas on suures osas täide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obleeme on andmekogude “statistilise” kvaliteediga, sest Eesti inimese suhtumine andmekogude rolli on väga erinev Põhjamaa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suurimaks probleemiks on ressursside vähesus metoodika väljatöötamiseks ja juuru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jätkab andmekogude kasutuselevõttu statistikatöödes vastavalt võimalustele, sh välisrahastuse abi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is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dused andmekogude andmete kasutamiseks riiklikus statistik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kasutamise vii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mmud üleminekuks andmekogu kasutamis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endused SA-s andmekogude kasutuselevõt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aasta aruande kasutuselevõt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eldused andmekogude kasutamiseks riikliku statistika tegemisel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eaduslik al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ik arva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nikaalsed identifikaator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süsteem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töö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eaduslik al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gi seadusandlus peab toetama administratiivsete andmekogude andmete kasutamist statistilisel otstarbel, mis annab statistikaametile õigu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gipääsuks administratiivsetele üksikandmetele koos identifikaatoriteg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linkimiseks erinevatest administratiivsetest andmeallikat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aitse reeglistik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hesuunalise liikluse printsiip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andmed statistiliseks otstarb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andmed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l eesmärkid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dusuuringut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47560"/>
                </a:solidFill>
                <a:latin typeface="Arial"/>
              </a:rPr>
              <a:t>Mitte kunagi administratiivsetel eesmärkidel</a:t>
            </a:r>
            <a:r>
              <a:rPr b="0" lang="en-GB" sz="1800" spc="-1" strike="noStrike">
                <a:solidFill>
                  <a:srgbClr val="b3a0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valik arvam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uline on positiivne avalik arva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htumine on erinevates riikides erinev: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ivaatsuse rikkumine (Suur Vend teab kõike)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õ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sentraliseeritud süsteemis on andmed paremini kaitstud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sikud ei soovi andmeid anda dubleerivalt statistikaametile, kui need andmed on juba esitatud administratiivseteks eesmärki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õhjamaade praktik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kasutamise teema peab olema avalik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tud diskussioonid ja avalik debat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nikaalsed identifikaator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nikaalsed numbrilised identifikaatorid andmesubjektid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sikud, ettevõtted, toimlad, aadressid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nkimine on võimalik ka ilma identifikaatoriteta, aga see on raske ja töömahukas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te süsteem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d, mida kasutavad paljud institutsioonid, on parema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äitajad, mis on olulised andmekogu pidajale, on üldiselt parema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dministratiivne” kvaliteet pole alati sarnane “statistilise”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ostöö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te vaheline koostöö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te ja statistikaameti vaheline koostöö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öö kõigil organisatsiooni tasemet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hepoolne või riiklik foor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amet vajab palju infot registrite koht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ulatsioonid ja registripidamise praktik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isu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d peavad informeerima tehtud muutustest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informeerib registrit kvaliteediprobleemid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valiselt mitte individuaaltasem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dmekogude kasutamise viis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elikult andmekogude andmetel põhinevad statistikatöö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st koondandm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st üksikandm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saliselt andmekogudel põhinevad statistikatöö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nangute täpsustamiseks, imput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iksemate üksuste jaoks andmed andmekogu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tud tunnused andmekogu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üsimustiku eeltäitmis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ähteandmebaasi täiendamiseks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aja Sõstra</cp:lastModifiedBy>
  <dcterms:modified xsi:type="dcterms:W3CDTF">2012-02-14T16:38:39Z</dcterms:modified>
  <cp:revision>87</cp:revision>
  <dc:subject/>
  <dc:title>Slide 1</dc:title>
</cp:coreProperties>
</file>