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75153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47760" y="4355280"/>
            <a:ext cx="75153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4776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868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206064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9520" y="206064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47760" y="435528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5528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9520" y="435528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47760" y="2060640"/>
            <a:ext cx="75153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75153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58560" y="119664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4776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47760" y="2060640"/>
            <a:ext cx="75153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9868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47760" y="4355280"/>
            <a:ext cx="75153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75153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47760" y="4355280"/>
            <a:ext cx="75153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4776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9868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88640" y="206064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29520" y="206064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47760" y="435528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88640" y="435528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29520" y="435528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47760" y="2060640"/>
            <a:ext cx="75153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75153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75153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119664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4776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9868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47760" y="4355280"/>
            <a:ext cx="75153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75153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247760" y="4355280"/>
            <a:ext cx="75153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4776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9868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788640" y="206064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329520" y="206064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247760" y="435528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788640" y="435528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329520" y="435528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47760" y="2060640"/>
            <a:ext cx="75153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75153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119664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24776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9868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247760" y="4355280"/>
            <a:ext cx="75153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75153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247760" y="4355280"/>
            <a:ext cx="75153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24776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09868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788640" y="206064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329520" y="206064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247760" y="435528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788640" y="435528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329520" y="435528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247760" y="2060640"/>
            <a:ext cx="75153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75153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119664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4776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9868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247760" y="4355280"/>
            <a:ext cx="75153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75153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247760" y="4355280"/>
            <a:ext cx="75153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24776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09868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119664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788640" y="206064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329520" y="206064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247760" y="435528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788640" y="435528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329520" y="435528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247760" y="2060640"/>
            <a:ext cx="75153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75153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119664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4776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09868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247760" y="4355280"/>
            <a:ext cx="75153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4776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75153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247760" y="4355280"/>
            <a:ext cx="75153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24776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9868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788640" y="206064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329520" y="206064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247760" y="435528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788640" y="435528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329520" y="4355280"/>
            <a:ext cx="2419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8680" y="435528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4776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8680" y="2060640"/>
            <a:ext cx="36673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47760" y="4355280"/>
            <a:ext cx="75153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060640"/>
            <a:ext cx="75153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15.02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0532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Viive Aasa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914400" indent="517680" algn="ctr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3" marL="1371600" indent="603360" algn="ctr">
              <a:spcBef>
                <a:spcPts val="499"/>
              </a:spcBef>
              <a:buClr>
                <a:srgbClr val="00395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4" marL="1828800" indent="554040" algn="ctr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5" marL="1828800" indent="554040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6" marL="1828800" indent="554040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23.03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0532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Viive Aasa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83" name="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464184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951"/>
                </a:solidFill>
                <a:latin typeface="Arial"/>
              </a:rPr>
              <a:t>Ülevaade Statistikaameti 2013. aasta eelarveläbirääkimistest,  planeeritavad uued statistikatööd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99640" y="306864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Viive Aasa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Finantsjuht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58560" y="90792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elarve koostamise protses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47640" y="1557360"/>
            <a:ext cx="70948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Riigi eelarvestrateegia (RES) 2013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2016 koostamise lähtealused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(20.12.11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1. Konservatiivsus, pikaajaline jätkusuutlikkus ja efektiivsus- märksõnad, millest tuli lähtuda ka järgnevate aastate tegevuste kavandamis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2. Uute tegevuste alustamine eeldab valdkondade siseselt prioriteetide seadmist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3. Eelarvedistsipliin ja otsustusprotsessi selguse suurenda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3. Tegevuskulude kasvu kehtiv eelarvestrateegia eelolevateks aastateks ette ei näinud.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Avalike teenuste pakkumise kvaliteedi tõstmine ning samaaegselt ressursside kasutamise tõhususe suurenda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402920" y="1484280"/>
            <a:ext cx="698508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RES finantsplaani ja lisataotluste koostamine ja esitamine 20.01.12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1.   Statistikaprogrammi lisanduvate uute tööde vajaduse kirjelda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2.   Uute tegevuste kohta lisataotluse koostamine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Lisataotluste ülevaatamine STG töögrupis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Halduspoliitika valdkonna STG – 25.01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Rahandusministeeriumi valitsemisala STG – 15.02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2013. aasta eelarve täpsustamine – kuni 10.05 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6481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Statistikaameti lisataotlus 2013-2016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755640" y="1125360"/>
          <a:ext cx="8137440" cy="5399280"/>
        </p:xfrm>
        <a:graphic>
          <a:graphicData uri="http://schemas.openxmlformats.org/drawingml/2006/table">
            <a:tbl>
              <a:tblPr/>
              <a:tblGrid>
                <a:gridCol w="3854520"/>
                <a:gridCol w="998640"/>
                <a:gridCol w="1143000"/>
                <a:gridCol w="1133280"/>
                <a:gridCol w="1008000"/>
              </a:tblGrid>
              <a:tr h="330480"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3951"/>
                      </a:solidFill>
                    </a:lnL>
                    <a:lnR w="2880">
                      <a:solidFill>
                        <a:srgbClr val="003951"/>
                      </a:solidFill>
                    </a:lnR>
                    <a:lnT w="13680">
                      <a:solidFill>
                        <a:srgbClr val="003951"/>
                      </a:solidFill>
                    </a:lnT>
                    <a:lnB w="136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3951"/>
                      </a:solidFill>
                    </a:lnL>
                    <a:lnR w="2880">
                      <a:solidFill>
                        <a:srgbClr val="003951"/>
                      </a:solidFill>
                    </a:lnR>
                    <a:lnT w="13680">
                      <a:solidFill>
                        <a:srgbClr val="003951"/>
                      </a:solidFill>
                    </a:lnT>
                    <a:lnB w="136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3951"/>
                      </a:solidFill>
                    </a:lnL>
                    <a:lnR w="2880">
                      <a:solidFill>
                        <a:srgbClr val="003951"/>
                      </a:solidFill>
                    </a:lnR>
                    <a:lnT w="13680">
                      <a:solidFill>
                        <a:srgbClr val="003951"/>
                      </a:solidFill>
                    </a:lnT>
                    <a:lnB w="136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3951"/>
                      </a:solidFill>
                    </a:lnL>
                    <a:lnR w="2880">
                      <a:solidFill>
                        <a:srgbClr val="003951"/>
                      </a:solidFill>
                    </a:lnR>
                    <a:lnT w="13680">
                      <a:solidFill>
                        <a:srgbClr val="003951"/>
                      </a:solidFill>
                    </a:lnT>
                    <a:lnB w="136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13680">
                      <a:solidFill>
                        <a:srgbClr val="003951"/>
                      </a:solidFill>
                    </a:lnT>
                    <a:lnB w="1368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966600">
                <a:tc>
                  <a:txBody>
                    <a:bodyPr lIns="0" rIns="0" tIns="0" bIns="0" anchor="ctr">
                      <a:noAutofit/>
                    </a:bodyPr>
                    <a:p>
                      <a:pPr marL="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estile otsekohalduvate määruste täitmine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  <a:p>
                      <a:pPr marL="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8 uut statistikatööd, 9,5 ametikohta</a:t>
                      </a: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3951"/>
                      </a:solidFill>
                    </a:lnL>
                    <a:lnR w="2880">
                      <a:solidFill>
                        <a:srgbClr val="003951"/>
                      </a:solidFill>
                    </a:lnR>
                    <a:lnT w="13680">
                      <a:solidFill>
                        <a:srgbClr val="003951"/>
                      </a:solidFill>
                    </a:lnT>
                    <a:lnB w="2880">
                      <a:solidFill>
                        <a:srgbClr val="00395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60,5 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3951"/>
                      </a:solidFill>
                    </a:lnL>
                    <a:lnR w="2880">
                      <a:solidFill>
                        <a:srgbClr val="003951"/>
                      </a:solidFill>
                    </a:lnR>
                    <a:lnT w="13680">
                      <a:solidFill>
                        <a:srgbClr val="003951"/>
                      </a:solidFill>
                    </a:lnT>
                    <a:lnB w="2880">
                      <a:solidFill>
                        <a:srgbClr val="00395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60,5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3951"/>
                      </a:solidFill>
                    </a:lnL>
                    <a:lnR w="2880">
                      <a:solidFill>
                        <a:srgbClr val="003951"/>
                      </a:solidFill>
                    </a:lnR>
                    <a:lnT w="13680">
                      <a:solidFill>
                        <a:srgbClr val="003951"/>
                      </a:solidFill>
                    </a:lnT>
                    <a:lnB w="2880">
                      <a:solidFill>
                        <a:srgbClr val="00395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60,5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3951"/>
                      </a:solidFill>
                    </a:lnL>
                    <a:lnR w="2880">
                      <a:solidFill>
                        <a:srgbClr val="003951"/>
                      </a:solidFill>
                    </a:lnR>
                    <a:lnT w="13680">
                      <a:solidFill>
                        <a:srgbClr val="003951"/>
                      </a:solidFill>
                    </a:lnT>
                    <a:lnB w="2880">
                      <a:solidFill>
                        <a:srgbClr val="00395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60,5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13680">
                      <a:solidFill>
                        <a:srgbClr val="003951"/>
                      </a:solidFill>
                    </a:lnT>
                    <a:lnB w="2880">
                      <a:solidFill>
                        <a:srgbClr val="00395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4280">
                <a:tc>
                  <a:txBody>
                    <a:bodyPr lIns="0" rIns="0" tIns="0" bIns="0" anchor="ctr">
                      <a:noAutofit/>
                    </a:bodyPr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esti tarbijate poolt tellitavad uued statistikatööd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6 uut tööd, 4 ametikohta +küsitlejad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3951"/>
                      </a:solidFill>
                    </a:lnL>
                    <a:lnR w="2880">
                      <a:solidFill>
                        <a:srgbClr val="003951"/>
                      </a:solidFill>
                    </a:lnR>
                    <a:lnT w="2880">
                      <a:solidFill>
                        <a:srgbClr val="003951"/>
                      </a:solidFill>
                    </a:lnT>
                    <a:lnB w="28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82,0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3951"/>
                      </a:solidFill>
                    </a:lnL>
                    <a:lnR w="2880">
                      <a:solidFill>
                        <a:srgbClr val="003951"/>
                      </a:solidFill>
                    </a:lnR>
                    <a:lnT w="2880">
                      <a:solidFill>
                        <a:srgbClr val="003951"/>
                      </a:solidFill>
                    </a:lnT>
                    <a:lnB w="28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42,4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3951"/>
                      </a:solidFill>
                    </a:lnL>
                    <a:lnR w="2880">
                      <a:solidFill>
                        <a:srgbClr val="003951"/>
                      </a:solidFill>
                    </a:lnR>
                    <a:lnT w="2880">
                      <a:solidFill>
                        <a:srgbClr val="003951"/>
                      </a:solidFill>
                    </a:lnT>
                    <a:lnB w="28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42,4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3951"/>
                      </a:solidFill>
                    </a:lnL>
                    <a:lnR w="2880">
                      <a:solidFill>
                        <a:srgbClr val="003951"/>
                      </a:solidFill>
                    </a:lnR>
                    <a:lnT w="2880">
                      <a:solidFill>
                        <a:srgbClr val="003951"/>
                      </a:solidFill>
                    </a:lnT>
                    <a:lnB w="28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42,4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2880">
                      <a:solidFill>
                        <a:srgbClr val="003951"/>
                      </a:solidFill>
                    </a:lnT>
                    <a:lnB w="288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0" rIns="0" tIns="0" bIns="0" anchor="ctr">
                      <a:noAutofit/>
                    </a:bodyPr>
                    <a:p>
                      <a:pPr marL="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Investeeringute ja IT kulude lisavajadused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  <a:p>
                      <a:pPr marL="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8 arendust + tarkvara hooldused ja litsentsid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3951"/>
                      </a:solidFill>
                    </a:lnL>
                    <a:lnR w="2880">
                      <a:solidFill>
                        <a:srgbClr val="003951"/>
                      </a:solidFill>
                    </a:lnR>
                    <a:lnT w="2880">
                      <a:solidFill>
                        <a:srgbClr val="003951"/>
                      </a:solidFill>
                    </a:lnT>
                    <a:lnB w="28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 504,0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3951"/>
                      </a:solidFill>
                    </a:lnL>
                    <a:lnR w="2880">
                      <a:solidFill>
                        <a:srgbClr val="003951"/>
                      </a:solidFill>
                    </a:lnR>
                    <a:lnT w="2880">
                      <a:solidFill>
                        <a:srgbClr val="003951"/>
                      </a:solidFill>
                    </a:lnT>
                    <a:lnB w="28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 443,0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3951"/>
                      </a:solidFill>
                    </a:lnL>
                    <a:lnR w="2880">
                      <a:solidFill>
                        <a:srgbClr val="003951"/>
                      </a:solidFill>
                    </a:lnR>
                    <a:lnT w="2880">
                      <a:solidFill>
                        <a:srgbClr val="003951"/>
                      </a:solidFill>
                    </a:lnT>
                    <a:lnB w="28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 174,0 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3951"/>
                      </a:solidFill>
                    </a:lnL>
                    <a:lnR w="2880">
                      <a:solidFill>
                        <a:srgbClr val="003951"/>
                      </a:solidFill>
                    </a:lnR>
                    <a:lnT w="2880">
                      <a:solidFill>
                        <a:srgbClr val="003951"/>
                      </a:solidFill>
                    </a:lnT>
                    <a:lnB w="28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 157,0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2880">
                      <a:solidFill>
                        <a:srgbClr val="003951"/>
                      </a:solidFill>
                    </a:lnT>
                    <a:lnB w="288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0" rIns="0" tIns="0" bIns="0" anchor="ctr">
                      <a:noAutofit/>
                    </a:bodyPr>
                    <a:p>
                      <a:pPr marL="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Uude büroohoonesse kolimisega seotud lisavahendite vajadus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3951"/>
                      </a:solidFill>
                    </a:lnL>
                    <a:lnR w="2880">
                      <a:solidFill>
                        <a:srgbClr val="003951"/>
                      </a:solidFill>
                    </a:lnR>
                    <a:lnT w="2880">
                      <a:solidFill>
                        <a:srgbClr val="003951"/>
                      </a:solidFill>
                    </a:lnT>
                    <a:lnB w="28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889,8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3951"/>
                      </a:solidFill>
                    </a:lnL>
                    <a:lnR w="2880">
                      <a:solidFill>
                        <a:srgbClr val="003951"/>
                      </a:solidFill>
                    </a:lnR>
                    <a:lnT w="2880">
                      <a:solidFill>
                        <a:srgbClr val="003951"/>
                      </a:solidFill>
                    </a:lnT>
                    <a:lnB w="28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512,1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3951"/>
                      </a:solidFill>
                    </a:lnL>
                    <a:lnR w="2880">
                      <a:solidFill>
                        <a:srgbClr val="003951"/>
                      </a:solidFill>
                    </a:lnR>
                    <a:lnT w="2880">
                      <a:solidFill>
                        <a:srgbClr val="003951"/>
                      </a:solidFill>
                    </a:lnT>
                    <a:lnB w="28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512,1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3951"/>
                      </a:solidFill>
                    </a:lnL>
                    <a:lnR w="2880">
                      <a:solidFill>
                        <a:srgbClr val="003951"/>
                      </a:solidFill>
                    </a:lnR>
                    <a:lnT w="2880">
                      <a:solidFill>
                        <a:srgbClr val="003951"/>
                      </a:solidFill>
                    </a:lnT>
                    <a:lnB w="28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512,1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2880">
                      <a:solidFill>
                        <a:srgbClr val="003951"/>
                      </a:solidFill>
                    </a:lnT>
                    <a:lnB w="288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0" rIns="0" tIns="0" bIns="0" anchor="ctr">
                      <a:noAutofit/>
                    </a:bodyPr>
                    <a:p>
                      <a:pPr marL="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REGREL projekti tegevuste finantseerimine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3951"/>
                      </a:solidFill>
                    </a:lnL>
                    <a:lnR w="2880">
                      <a:solidFill>
                        <a:srgbClr val="003951"/>
                      </a:solidFill>
                    </a:lnR>
                    <a:lnT w="2880">
                      <a:solidFill>
                        <a:srgbClr val="003951"/>
                      </a:solidFill>
                    </a:lnT>
                    <a:lnB w="28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15,0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3951"/>
                      </a:solidFill>
                    </a:lnL>
                    <a:lnR w="2880">
                      <a:solidFill>
                        <a:srgbClr val="003951"/>
                      </a:solidFill>
                    </a:lnR>
                    <a:lnT w="2880">
                      <a:solidFill>
                        <a:srgbClr val="003951"/>
                      </a:solidFill>
                    </a:lnT>
                    <a:lnB w="28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08,6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3951"/>
                      </a:solidFill>
                    </a:lnL>
                    <a:lnR w="2880">
                      <a:solidFill>
                        <a:srgbClr val="003951"/>
                      </a:solidFill>
                    </a:lnR>
                    <a:lnT w="2880">
                      <a:solidFill>
                        <a:srgbClr val="003951"/>
                      </a:solidFill>
                    </a:lnT>
                    <a:lnB w="28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358,6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3951"/>
                      </a:solidFill>
                    </a:lnL>
                    <a:lnR w="2880">
                      <a:solidFill>
                        <a:srgbClr val="003951"/>
                      </a:solidFill>
                    </a:lnR>
                    <a:lnT w="2880">
                      <a:solidFill>
                        <a:srgbClr val="003951"/>
                      </a:solidFill>
                    </a:lnT>
                    <a:lnB w="28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358,6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2880">
                      <a:solidFill>
                        <a:srgbClr val="003951"/>
                      </a:solidFill>
                    </a:lnT>
                    <a:lnB w="288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Kokku lisataotlus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3951"/>
                      </a:solidFill>
                    </a:lnL>
                    <a:lnR w="2880">
                      <a:solidFill>
                        <a:srgbClr val="003951"/>
                      </a:solidFill>
                    </a:lnR>
                    <a:lnT w="2880">
                      <a:solidFill>
                        <a:srgbClr val="003951"/>
                      </a:solidFill>
                    </a:lnT>
                    <a:lnB w="136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 751,3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3951"/>
                      </a:solidFill>
                    </a:lnL>
                    <a:lnR w="2880">
                      <a:solidFill>
                        <a:srgbClr val="003951"/>
                      </a:solidFill>
                    </a:lnR>
                    <a:lnT w="2880">
                      <a:solidFill>
                        <a:srgbClr val="003951"/>
                      </a:solidFill>
                    </a:lnT>
                    <a:lnB w="136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 566,6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3951"/>
                      </a:solidFill>
                    </a:lnL>
                    <a:lnR w="2880">
                      <a:solidFill>
                        <a:srgbClr val="003951"/>
                      </a:solidFill>
                    </a:lnR>
                    <a:lnT w="2880">
                      <a:solidFill>
                        <a:srgbClr val="003951"/>
                      </a:solidFill>
                    </a:lnT>
                    <a:lnB w="136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 447,6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3951"/>
                      </a:solidFill>
                    </a:lnL>
                    <a:lnR w="2880">
                      <a:solidFill>
                        <a:srgbClr val="003951"/>
                      </a:solidFill>
                    </a:lnR>
                    <a:lnT w="2880">
                      <a:solidFill>
                        <a:srgbClr val="003951"/>
                      </a:solidFill>
                    </a:lnT>
                    <a:lnB w="136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 430,6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2880">
                      <a:solidFill>
                        <a:srgbClr val="003951"/>
                      </a:solidFill>
                    </a:lnT>
                    <a:lnB w="13680">
                      <a:solidFill>
                        <a:srgbClr val="00395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68000" y="981000"/>
            <a:ext cx="64803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2013. aasta eelarve </a:t>
            </a:r>
            <a:br>
              <a:rPr sz="2800"/>
            </a:b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uhat eurot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187280" y="2060640"/>
          <a:ext cx="7129800" cy="2749320"/>
        </p:xfrm>
        <a:graphic>
          <a:graphicData uri="http://schemas.openxmlformats.org/drawingml/2006/table">
            <a:tbl>
              <a:tblPr/>
              <a:tblGrid>
                <a:gridCol w="1729080"/>
                <a:gridCol w="1008000"/>
                <a:gridCol w="788760"/>
                <a:gridCol w="1420920"/>
                <a:gridCol w="1055880"/>
                <a:gridCol w="1127160"/>
              </a:tblGrid>
              <a:tr h="431640"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3951"/>
                      </a:solidFill>
                    </a:lnL>
                    <a:lnR w="1440">
                      <a:solidFill>
                        <a:srgbClr val="003951"/>
                      </a:solidFill>
                    </a:lnR>
                    <a:lnT w="13680">
                      <a:solidFill>
                        <a:srgbClr val="003951"/>
                      </a:solidFill>
                    </a:lnT>
                    <a:lnB w="136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A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3951"/>
                      </a:solidFill>
                    </a:lnL>
                    <a:lnR w="1440">
                      <a:solidFill>
                        <a:srgbClr val="003951"/>
                      </a:solidFill>
                    </a:lnR>
                    <a:lnT w="13680">
                      <a:solidFill>
                        <a:srgbClr val="003951"/>
                      </a:solidFill>
                    </a:lnT>
                    <a:lnB w="136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OT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3951"/>
                      </a:solidFill>
                    </a:lnL>
                    <a:lnR w="1440">
                      <a:solidFill>
                        <a:srgbClr val="003951"/>
                      </a:solidFill>
                    </a:lnR>
                    <a:lnT w="13680">
                      <a:solidFill>
                        <a:srgbClr val="003951"/>
                      </a:solidFill>
                    </a:lnT>
                    <a:lnB w="136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VÄ + KF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3951"/>
                      </a:solidFill>
                    </a:lnL>
                    <a:lnR w="1440">
                      <a:solidFill>
                        <a:srgbClr val="003951"/>
                      </a:solidFill>
                    </a:lnR>
                    <a:lnT w="13680">
                      <a:solidFill>
                        <a:srgbClr val="003951"/>
                      </a:solidFill>
                    </a:lnT>
                    <a:lnB w="136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EL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3951"/>
                      </a:solidFill>
                    </a:lnL>
                    <a:lnR w="1440">
                      <a:solidFill>
                        <a:srgbClr val="003951"/>
                      </a:solidFill>
                    </a:lnR>
                    <a:lnT w="13680">
                      <a:solidFill>
                        <a:srgbClr val="003951"/>
                      </a:solidFill>
                    </a:lnT>
                    <a:lnB w="136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REGREL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13680">
                      <a:solidFill>
                        <a:srgbClr val="003951"/>
                      </a:solidFill>
                    </a:lnT>
                    <a:lnB w="1368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012. aasta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3951"/>
                      </a:solidFill>
                    </a:lnL>
                    <a:lnR w="1440">
                      <a:solidFill>
                        <a:srgbClr val="003951"/>
                      </a:solidFill>
                    </a:lnR>
                    <a:lnT w="13680">
                      <a:solidFill>
                        <a:srgbClr val="003951"/>
                      </a:solidFill>
                    </a:lnT>
                    <a:lnB w="144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 005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3951"/>
                      </a:solidFill>
                    </a:lnL>
                    <a:lnR w="1440">
                      <a:solidFill>
                        <a:srgbClr val="003951"/>
                      </a:solidFill>
                    </a:lnR>
                    <a:lnT w="13680">
                      <a:solidFill>
                        <a:srgbClr val="003951"/>
                      </a:solidFill>
                    </a:lnT>
                    <a:lnB w="144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3951"/>
                      </a:solidFill>
                    </a:lnL>
                    <a:lnR w="1440">
                      <a:solidFill>
                        <a:srgbClr val="003951"/>
                      </a:solidFill>
                    </a:lnR>
                    <a:lnT w="13680">
                      <a:solidFill>
                        <a:srgbClr val="003951"/>
                      </a:solidFill>
                    </a:lnT>
                    <a:lnB w="144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92+96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3951"/>
                      </a:solidFill>
                    </a:lnL>
                    <a:lnR w="1440">
                      <a:solidFill>
                        <a:srgbClr val="003951"/>
                      </a:solidFill>
                    </a:lnR>
                    <a:lnT w="13680">
                      <a:solidFill>
                        <a:srgbClr val="003951"/>
                      </a:solidFill>
                    </a:lnT>
                    <a:lnB w="144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9 875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3951"/>
                      </a:solidFill>
                    </a:lnL>
                    <a:lnR w="1440">
                      <a:solidFill>
                        <a:srgbClr val="003951"/>
                      </a:solidFill>
                    </a:lnR>
                    <a:lnT w="13680">
                      <a:solidFill>
                        <a:srgbClr val="003951"/>
                      </a:solidFill>
                    </a:lnT>
                    <a:lnB w="144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13680">
                      <a:solidFill>
                        <a:srgbClr val="003951"/>
                      </a:solidFill>
                    </a:lnT>
                    <a:lnB w="144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013. aasta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3951"/>
                      </a:solidFill>
                    </a:lnL>
                    <a:lnR w="1440">
                      <a:solidFill>
                        <a:srgbClr val="003951"/>
                      </a:solidFill>
                    </a:lnR>
                    <a:lnT w="1440">
                      <a:solidFill>
                        <a:srgbClr val="003951"/>
                      </a:solidFill>
                    </a:lnT>
                    <a:lnB w="144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 005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3951"/>
                      </a:solidFill>
                    </a:lnL>
                    <a:lnR w="1440">
                      <a:solidFill>
                        <a:srgbClr val="003951"/>
                      </a:solidFill>
                    </a:lnR>
                    <a:lnT w="1440">
                      <a:solidFill>
                        <a:srgbClr val="003951"/>
                      </a:solidFill>
                    </a:lnT>
                    <a:lnB w="144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3951"/>
                      </a:solidFill>
                    </a:lnL>
                    <a:lnR w="1440">
                      <a:solidFill>
                        <a:srgbClr val="003951"/>
                      </a:solidFill>
                    </a:lnR>
                    <a:lnT w="1440">
                      <a:solidFill>
                        <a:srgbClr val="003951"/>
                      </a:solidFill>
                    </a:lnT>
                    <a:lnB w="144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00+85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3951"/>
                      </a:solidFill>
                    </a:lnL>
                    <a:lnR w="1440">
                      <a:solidFill>
                        <a:srgbClr val="003951"/>
                      </a:solidFill>
                    </a:lnR>
                    <a:lnT w="1440">
                      <a:solidFill>
                        <a:srgbClr val="003951"/>
                      </a:solidFill>
                    </a:lnT>
                    <a:lnB w="144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3951"/>
                      </a:solidFill>
                    </a:lnL>
                    <a:lnR w="1440">
                      <a:solidFill>
                        <a:srgbClr val="003951"/>
                      </a:solidFill>
                    </a:lnR>
                    <a:lnT w="1440">
                      <a:solidFill>
                        <a:srgbClr val="003951"/>
                      </a:solidFill>
                    </a:lnT>
                    <a:lnB w="144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926,7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1440">
                      <a:solidFill>
                        <a:srgbClr val="003951"/>
                      </a:solidFill>
                    </a:lnT>
                    <a:lnB w="144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sitatud l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sataotlused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3951"/>
                      </a:solidFill>
                    </a:lnL>
                    <a:lnR w="1440">
                      <a:solidFill>
                        <a:srgbClr val="003951"/>
                      </a:solidFill>
                    </a:lnR>
                    <a:lnT w="1440">
                      <a:solidFill>
                        <a:srgbClr val="003951"/>
                      </a:solidFill>
                    </a:lnT>
                    <a:lnB w="144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 751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3951"/>
                      </a:solidFill>
                    </a:lnL>
                    <a:lnR w="1440">
                      <a:solidFill>
                        <a:srgbClr val="003951"/>
                      </a:solidFill>
                    </a:lnR>
                    <a:lnT w="1440">
                      <a:solidFill>
                        <a:srgbClr val="003951"/>
                      </a:solidFill>
                    </a:lnT>
                    <a:lnB w="144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3951"/>
                      </a:solidFill>
                    </a:lnL>
                    <a:lnR w="1440">
                      <a:solidFill>
                        <a:srgbClr val="003951"/>
                      </a:solidFill>
                    </a:lnR>
                    <a:lnT w="1440">
                      <a:solidFill>
                        <a:srgbClr val="003951"/>
                      </a:solidFill>
                    </a:lnT>
                    <a:lnB w="144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3951"/>
                      </a:solidFill>
                    </a:lnL>
                    <a:lnR w="1440">
                      <a:solidFill>
                        <a:srgbClr val="003951"/>
                      </a:solidFill>
                    </a:lnR>
                    <a:lnT w="1440">
                      <a:solidFill>
                        <a:srgbClr val="003951"/>
                      </a:solidFill>
                    </a:lnT>
                    <a:lnB w="144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3951"/>
                      </a:solidFill>
                    </a:lnL>
                    <a:lnR w="1440">
                      <a:solidFill>
                        <a:srgbClr val="003951"/>
                      </a:solidFill>
                    </a:lnR>
                    <a:lnT w="1440">
                      <a:solidFill>
                        <a:srgbClr val="003951"/>
                      </a:solidFill>
                    </a:lnT>
                    <a:lnB w="144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15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1440">
                      <a:solidFill>
                        <a:srgbClr val="003951"/>
                      </a:solidFill>
                    </a:lnT>
                    <a:lnB w="144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Võimalikud lisavahendid seisuga 15.02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3951"/>
                      </a:solidFill>
                    </a:lnL>
                    <a:lnR w="1440">
                      <a:solidFill>
                        <a:srgbClr val="003951"/>
                      </a:solidFill>
                    </a:lnR>
                    <a:lnT w="1440">
                      <a:solidFill>
                        <a:srgbClr val="003951"/>
                      </a:solidFill>
                    </a:lnT>
                    <a:lnB w="136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 070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3951"/>
                      </a:solidFill>
                    </a:lnL>
                    <a:lnR w="1440">
                      <a:solidFill>
                        <a:srgbClr val="003951"/>
                      </a:solidFill>
                    </a:lnR>
                    <a:lnT w="1440">
                      <a:solidFill>
                        <a:srgbClr val="003951"/>
                      </a:solidFill>
                    </a:lnT>
                    <a:lnB w="136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3951"/>
                      </a:solidFill>
                    </a:lnL>
                    <a:lnR w="1440">
                      <a:solidFill>
                        <a:srgbClr val="003951"/>
                      </a:solidFill>
                    </a:lnR>
                    <a:lnT w="1440">
                      <a:solidFill>
                        <a:srgbClr val="003951"/>
                      </a:solidFill>
                    </a:lnT>
                    <a:lnB w="136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3951"/>
                      </a:solidFill>
                    </a:lnL>
                    <a:lnR w="1440">
                      <a:solidFill>
                        <a:srgbClr val="003951"/>
                      </a:solidFill>
                    </a:lnR>
                    <a:lnT w="1440">
                      <a:solidFill>
                        <a:srgbClr val="003951"/>
                      </a:solidFill>
                    </a:lnT>
                    <a:lnB w="136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3951"/>
                      </a:solidFill>
                    </a:lnL>
                    <a:lnR w="1440">
                      <a:solidFill>
                        <a:srgbClr val="003951"/>
                      </a:solidFill>
                    </a:lnR>
                    <a:lnT w="1440">
                      <a:solidFill>
                        <a:srgbClr val="003951"/>
                      </a:solidFill>
                    </a:lnT>
                    <a:lnB w="136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15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1440">
                      <a:solidFill>
                        <a:srgbClr val="003951"/>
                      </a:solidFill>
                    </a:lnT>
                    <a:lnB w="13680">
                      <a:solidFill>
                        <a:srgbClr val="00395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63280" y="1052280"/>
            <a:ext cx="6481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Lisavahendid, millest 15.02 STG räägitakse 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755640" y="1844640"/>
          <a:ext cx="8209080" cy="3718080"/>
        </p:xfrm>
        <a:graphic>
          <a:graphicData uri="http://schemas.openxmlformats.org/drawingml/2006/table">
            <a:tbl>
              <a:tblPr/>
              <a:tblGrid>
                <a:gridCol w="3672000"/>
                <a:gridCol w="1224000"/>
                <a:gridCol w="1152360"/>
                <a:gridCol w="1143000"/>
                <a:gridCol w="1017720"/>
              </a:tblGrid>
              <a:tr h="330120"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estile otsekohalduvate määruste täitmine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4 uut statistikatööd, 4 ametikohta                + lisatasu 1 töötajale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65,5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65,5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65,5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65,5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5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Uude büroohoonesse kolimisega seotud lisavahendite vajadus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889,8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512,1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512,1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512,1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REGREL projekti tegevuste finantseerimine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15,0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08,6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358,6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358,6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120"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Kokku 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 070,3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86,2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936,2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936,2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258920" y="2060640"/>
            <a:ext cx="75153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änan tähelepanu e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Viive Aasa</cp:lastModifiedBy>
  <dcterms:modified xsi:type="dcterms:W3CDTF">2012-02-14T14:46:13Z</dcterms:modified>
  <cp:revision>26</cp:revision>
  <dc:subject/>
  <dc:title>Slide 1</dc:title>
</cp:coreProperties>
</file>