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&lt;footer&gt;</a:t>
            </a: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t.ee/tarbijauuringud" TargetMode="External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509760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arbijauuringute korraldamise põhimõtted Statistikaametis </a:t>
            </a:r>
            <a:br>
              <a:rPr sz="2600"/>
            </a:br>
            <a:br>
              <a:rPr sz="2600"/>
            </a:b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iikliku statistika kasutamise </a:t>
            </a:r>
            <a:br>
              <a:rPr sz="2600"/>
            </a:b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uuring 2011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44956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951"/>
                </a:solidFill>
                <a:latin typeface="Arial"/>
              </a:rPr>
              <a:t>Birgit Hansson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951"/>
                </a:solidFill>
                <a:latin typeface="Arial"/>
              </a:rPr>
              <a:t>11.04.2012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Vastaj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3152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Statistikaametile kõige iseloomulikum roll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515080" cy="49532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515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3951"/>
                </a:solidFill>
                <a:latin typeface="Arial"/>
              </a:rPr>
              <a:t>Statistikaamet on statistilise info pakkujana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5828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3951"/>
                </a:solidFill>
                <a:latin typeface="Arial"/>
              </a:rPr>
              <a:t>Statistikaamet on statistilise info pakkujana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0916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Rahulolu Statistikaameti infoallikatega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79200" y="849240"/>
            <a:ext cx="961992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Riikliku statistika kasutamise eesmärgi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98520" y="990720"/>
            <a:ext cx="8710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3951"/>
                </a:solidFill>
                <a:latin typeface="Arial"/>
              </a:rPr>
              <a:t>Hinnang riikliku statistika kättesaadavusele ja selgusele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2804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Statistikaameti uued infokanali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150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951"/>
                </a:solidFill>
                <a:latin typeface="Arial"/>
              </a:rPr>
              <a:t>Sagedamini kasutatavad valdkonna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38200" y="836640"/>
            <a:ext cx="80676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489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951"/>
                </a:solidFill>
                <a:latin typeface="Arial"/>
              </a:rPr>
              <a:t>Hinnangud</a:t>
            </a: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 valdkondadele</a:t>
            </a:r>
            <a:r>
              <a:rPr b="0" lang="en-GB" sz="30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as …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95640" y="765000"/>
            <a:ext cx="6624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2773440"/>
                <a:tab algn="l" pos="484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…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metoodika on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…andmed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…andmed on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aldusv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ää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rne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on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äpse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jakoha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-47520" y="1268280"/>
            <a:ext cx="92408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arbijauuringu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936200" cy="37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1996. aastast 26 tarbijauuringut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rraldada igal aastal 1-2 uuringut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nguid tellib või korraldab statistika levi osakon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tleda nii olemasolevaid, kui ka potentsiaalseid kliente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kendada uuringutest saadud tulemuse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5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Millisest statistilisest infost tunnete kõige enam puudust?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197000"/>
            <a:ext cx="8294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Detailsem piirkondlik statistika (küla, linnaosa, ruuduandme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turg (N: töötamine välismaal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rvisestatis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tasud - detailsemad andmed, ametite järg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Detailsemad rahvastiku andmed (sh rän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iirem aval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i oska öelda, infot piisavalt – 6%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astama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– 5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9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9360" indent="-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82947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079640" indent="-363600">
              <a:lnSpc>
                <a:spcPct val="90000"/>
              </a:lnSpc>
              <a:spcBef>
                <a:spcPts val="11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ngud Statistikaametile kui info pakkujale on aastate jooksul paremaks läinu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11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Hinnangud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statistika leitavuse, arusaadavuse, selguse, detailsuse kohta on vähesel määral langenu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11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kasutamise eesmärgid on jäänud sama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11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ositiivsemaid hinnanguid andsid meedia, finants- ja kindlustusettevõtted, kriitilisemad olid KOV, maavalitused, ja muud ettev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11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Jätkuvalt soovitakse detailsemaid (piirkondlik) ja värskemaid andmeid.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dkondadest: rahvastik (ränne), töötasu, töötur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803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arbijauuringute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78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elgitada välja Statistikaameti maine ja tuntus tarbijate hulgas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da tarbijate eelistusi eri statistikatoodete kasutamisel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ha kindlaks info saamise vajadus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ada tootearenduseks vajalikku infot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kendada uuringute tulemusi tarbijate teenindamise ja statistikatoodete täiustamisel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ihtgru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47760" y="1196640"/>
            <a:ext cx="751536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tarbijad, sh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riigiasutuse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kohalikud omavalitsuse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dus- ja haridusasutused, raamatuko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meedi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äriühingud, liidud, sihtasutused jm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raisik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6985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Mida on tehtud tuginedes tarbijauuringute tulemustele?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35344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-3636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P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kume enam analüütilist väljundit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V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mistabelite avaldamine veebilehel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dame rohkem rahvusvahelist statistikat, riikide võrdlustabelid veebilehel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minud on “Piirkondliku statistika portaal”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dmebaasi on lisatud mõisted ja metoodika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J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ätkame trükiste avaldamist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tati aren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6985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ijauuringute tulem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-3636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kokkuvõtted on avaldatud veebis</a:t>
            </a:r>
            <a:br>
              <a:rPr sz="2400"/>
            </a:br>
            <a:r>
              <a:rPr b="0" lang="en-US" sz="2400" spc="-1" strike="noStrike" u="sng">
                <a:solidFill>
                  <a:srgbClr val="b3a0a6"/>
                </a:solidFill>
                <a:uFillTx/>
                <a:latin typeface="Arial"/>
                <a:hlinkClick r:id="rId1"/>
              </a:rPr>
              <a:t>http://www.stat.ee/tarbija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eavitame osalejaid tulemus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arbijauuringud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8631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REL2011 elanikkonna teadlikkuse monitoorin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L2011 väljundi uurin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rahulolu-uurin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04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kasutamise uurin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4901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Riikliku statistika </a:t>
            </a:r>
            <a:br>
              <a:rPr sz="3200"/>
            </a:b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kasutamise uuring,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uring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6784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Eesmärk: </a:t>
            </a: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välja selgitada, kas ja millisel määral ollakse rahul ja kursis riikliku statistika kvaliteediga.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Hinnangud Statistikaametile ja statistikavaldkondadele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Meetod: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veebiküsitlus, küsitlusaeg: 2.-25. nov 2011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Sihtrühm ja valim:  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ca 2000 statistilise info tarbija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sutused, kellega Statistikaamet kooskõlastab oma iga-aastast tööprogrammi 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Viimase aasta jooksul Statistikaameti tooteid ja teenuseid tellinud organisatsioonid 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salenud infopäevadel, konverentsidel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Vastajaid: 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510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h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475 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35 SA veebilehel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Birgith</cp:lastModifiedBy>
  <dcterms:modified xsi:type="dcterms:W3CDTF">2012-04-09T10:54:27Z</dcterms:modified>
  <cp:revision>85</cp:revision>
  <dc:subject/>
  <dc:title>Slide 1</dc:title>
</cp:coreProperties>
</file>