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  <p:sldId id="277" r:id="rId44"/>
    <p:sldId id="278" r:id="rId45"/>
    <p:sldId id="279" r:id="rId46"/>
    <p:sldId id="280" r:id="rId47"/>
    <p:sldId id="281" r:id="rId48"/>
    <p:sldId id="282" r:id="rId49"/>
    <p:sldId id="283" r:id="rId50"/>
    <p:sldId id="284" r:id="rId51"/>
    <p:sldId id="285" r:id="rId52"/>
    <p:sldId id="286" r:id="rId53"/>
    <p:sldId id="287" r:id="rId54"/>
    <p:sldId id="288" r:id="rId55"/>
    <p:sldId id="289" r:id="rId56"/>
    <p:sldId id="290" r:id="rId57"/>
    <p:sldId id="291" r:id="rId58"/>
    <p:sldId id="29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slide" Target="slides/slide22.xml"/><Relationship Id="rId45" Type="http://schemas.openxmlformats.org/officeDocument/2006/relationships/slide" Target="slides/slide23.xml"/><Relationship Id="rId46" Type="http://schemas.openxmlformats.org/officeDocument/2006/relationships/slide" Target="slides/slide24.xml"/><Relationship Id="rId47" Type="http://schemas.openxmlformats.org/officeDocument/2006/relationships/slide" Target="slides/slide25.xml"/><Relationship Id="rId48" Type="http://schemas.openxmlformats.org/officeDocument/2006/relationships/slide" Target="slides/slide26.xml"/><Relationship Id="rId49" Type="http://schemas.openxmlformats.org/officeDocument/2006/relationships/slide" Target="slides/slide27.xml"/><Relationship Id="rId50" Type="http://schemas.openxmlformats.org/officeDocument/2006/relationships/slide" Target="slides/slide28.xml"/><Relationship Id="rId51" Type="http://schemas.openxmlformats.org/officeDocument/2006/relationships/slide" Target="slides/slide29.xml"/><Relationship Id="rId52" Type="http://schemas.openxmlformats.org/officeDocument/2006/relationships/slide" Target="slides/slide30.xml"/><Relationship Id="rId53" Type="http://schemas.openxmlformats.org/officeDocument/2006/relationships/slide" Target="slides/slide31.xml"/><Relationship Id="rId54" Type="http://schemas.openxmlformats.org/officeDocument/2006/relationships/slide" Target="slides/slide32.xml"/><Relationship Id="rId55" Type="http://schemas.openxmlformats.org/officeDocument/2006/relationships/slide" Target="slides/slide33.xml"/><Relationship Id="rId56" Type="http://schemas.openxmlformats.org/officeDocument/2006/relationships/slide" Target="slides/slide34.xml"/><Relationship Id="rId57" Type="http://schemas.openxmlformats.org/officeDocument/2006/relationships/slide" Target="slides/slide35.xml"/><Relationship Id="rId58" Type="http://schemas.openxmlformats.org/officeDocument/2006/relationships/slide" Target="slides/slide36.xml"/><Relationship Id="rId59" Type="http://schemas.openxmlformats.org/officeDocument/2006/relationships/slide" Target="slides/slide37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F507-04AF-476D-81A1-7DA954EAFCB6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SA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avaldab rahandusministrile arvamust </a:t>
            </a: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RSP </a:t>
            </a:r>
            <a:r>
              <a:rPr b="0" lang="fi-FI" sz="1200" spc="-1" strike="noStrike">
                <a:solidFill>
                  <a:srgbClr val="000000"/>
                </a:solidFill>
                <a:latin typeface="Calibri"/>
              </a:rPr>
              <a:t>ja selle muudatuste kohta enne nende kinnitam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3A9FC-8763-48EA-8025-05208EE5A23C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7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dt" idx="1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806F-7FD9-458E-A5C3-91DF0467E6CA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dt" idx="1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07F5F-695E-4766-A7A6-64FA19D04EDF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ftr" idx="1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dt" idx="1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0608-63F9-45CA-8E00-63507E341812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ftr" idx="1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dt" idx="1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55C2-2D92-4A53-B168-5555C6D5B7A8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ftr" idx="1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dt" idx="18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514F-E3CF-4F52-AECC-0B27ABD1F2FF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1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dt" idx="2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134C-4307-41C1-BFCD-D8AF04CC066D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ftr" idx="2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dt" idx="2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983D-A2ED-46B0-87E3-C4BB0C1E2FBC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2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dt" idx="2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90B3-6386-4285-98DC-3A9C98B612AD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ftr" idx="2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dt" idx="2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C4D4-2700-484E-A32B-BD3C1AB94400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732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ftr" idx="2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dt" idx="28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CE54-9ACC-4AA8-BEE8-4F9CAF285B92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ftr" idx="2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3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dt" idx="3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7.06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77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29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dt" idx="30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F997-6960-4803-8AF0-BE629586C934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4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dt" idx="5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42A5-E5E1-46C8-93AC-F750B10E6B91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6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dt" idx="7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300B-D0E5-4580-8969-AEEBBEE3B288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8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itluse või esitleja n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8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8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040" y="898200"/>
            <a:ext cx="4498920" cy="15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SA 201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–201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7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 aasta statistikatööde loetelu projekti menetluses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012320" y="3284280"/>
            <a:ext cx="44960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eelis Somelar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iktoria Trasanov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gnes Naarits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ne Saareoj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Urve Kask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4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ööstustoodangu tootja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nne € üks ekspordi alamind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€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sutuselevõtuga seoses algas 2 indeksi tootmine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- eksport eurotsooni riikidesse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- eksport mitte-eurotsooni riikides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ma jagunemine tekkis ka impordihinnaindeksiss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4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57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58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3B1AA-D6AD-40AE-B430-48DAF7B498AE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8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9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0" name="Rectangle 2"/>
          <p:cNvSpPr/>
          <p:nvPr/>
        </p:nvSpPr>
        <p:spPr>
          <a:xfrm>
            <a:off x="755640" y="836640"/>
            <a:ext cx="252108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RFKA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826920" y="3189240"/>
            <a:ext cx="4496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Agnes Naarit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ahvamajanduse, finants- ja 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keskkonna arvepidamise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2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vamajanduse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e statistikatööna planeeritud juba 2012, kuid seni eelarvest väljas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Uue ESA andme­edastusprogrammi juurutamine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SA2010 uus andmeedastusprogramm detailsem, tähtajad lüheneva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telliitarvepidamine: teadus- ja arendustegev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edastustähtaeg: september 2014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rendused tehakse põhistatistika kõrvalt – edenemine aegla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5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Finants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Uus töö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07784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Kahjukindlustuse lisaandmed – EKSL tellim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larvest väljas nii 2012 kui 2013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077840" indent="-3618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ensionide satelliitkonto – andmeedastuse tähtaeg 2014!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Olemasolevate tööde arendus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Valitsemissektori võla- ja defitsiidiarvestus detailsemaks, lisandub avaliku sektori vaade (valitsemissektor + riigi ja KOV ettevõtted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ogumajanduse finantskonto detailsemaks – OECD vajadused rahuldamata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rendused tavaprogrammi kõrvalt, edenemine aeglane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konna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0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isaeelarvega 2013: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õllumajanduskeskkonna näitajad – PõM  tellim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Õhuemissioonide arvepidamine – uus EL määr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ahastus kolmest uuest kohustuslikust moodulist vaid üh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määruse eelnõu menetlemine käimas: veel kolm uut moodulit kohustusliku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Hetkel arendused rahastatud Eurostati pool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uud põhistatistika tööd alarahastat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1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eskkonna arvepida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395280" y="1336680"/>
          <a:ext cx="8280360" cy="4437000"/>
        </p:xfrm>
        <a:graphic>
          <a:graphicData uri="http://schemas.openxmlformats.org/drawingml/2006/table">
            <a:tbl>
              <a:tblPr/>
              <a:tblGrid>
                <a:gridCol w="863640"/>
                <a:gridCol w="2089080"/>
                <a:gridCol w="1224000"/>
                <a:gridCol w="1008000"/>
                <a:gridCol w="1079640"/>
                <a:gridCol w="1081080"/>
                <a:gridCol w="934920"/>
              </a:tblGrid>
              <a:tr h="43164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-töö nr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istikatöö nimi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us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hastamin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2f4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4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1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5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Põllumajanduskeskkonna näitaja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PõM tellimus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3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rendus</a:t>
                      </a: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: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arvepidamised</a:t>
                      </a: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: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406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õhuemissiooni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iigieelarve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6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aterjalivoog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4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3951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maks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jõustun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3951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3951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549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6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i-FI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tooteid ja –teenuseid tootev sektor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aotlus Eurostatile edastatu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urostat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3951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  <a:tr h="4320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1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konnakaitsekulutused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9"/>
                    </a:solidFill>
                  </a:tcPr>
                </a:tc>
              </a:tr>
              <a:tr h="431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10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80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nergiakonto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L määrus vastuvõtmisel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X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?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78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79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1080-9C02-4FDD-804A-FA4A1A7C623B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8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0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1" name="Rectangle 2"/>
          <p:cNvSpPr/>
          <p:nvPr/>
        </p:nvSpPr>
        <p:spPr>
          <a:xfrm>
            <a:off x="755640" y="836640"/>
            <a:ext cx="2736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E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826920" y="3500280"/>
            <a:ext cx="44960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Ene Saareoja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Ettevõtlusstatistika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3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märk – saada teavet äriteenindusettevõtete poolt osutatud teenuste müügistruktuuri kohta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eenuste liigitus CPA 6-kohaline koodi tasemel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ca 100 teenuse liiki)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identide ja mitteresidentide (sh EL ja ülejäänud riigid) lõik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Õiguslik alus – EP ja EN määrus (nr 295/2008, 11.03.2008) ettevõtluse struktuurstatistikast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2008.a. andmetest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3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leminekuaeg 3 aasta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kohustuse realiseerimin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3 arendustöö;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lates 2014 statistika korraline tegemine </a:t>
            </a:r>
            <a:br>
              <a:rPr sz="24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esimesed andmed 2013 aasta koht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 tegemine sõltuvalt äriteenindusettevõtete tegevusalast – kas iga aasta või üle aasta;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essurss – täiendavad vahendid SA eelarves 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 juhtivstatistiku tööle võtmiseks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gaaastane statistika arvuti-, reklaami- ja tööhõivealaste teenuste struktuuri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heaastane statistika õigusabi-, arvepidamis-, raamatupidamis-, auditeerimis-, maksu- ja juhtimislaste nõustamise, turu-uuringute, arhitektuurialaste, inseneriteenuste struktuuri kohta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nõue – uuringuga katta 20- ja enama töötajaga ettevõtted – ei anna Eesti äriteenuste turu kohta kvaliteetset andmestikku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uureneb andmeesitajate koormus, haldusandmeid teenuste müügistruktuurist ei ole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P menetlemin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8. jaanuar – saatsime välja kirja, kus teavitasime statistika tarbijaid, et SA on alustanud 2013.–2017. aasta statistikatööde kavandami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5. mai – tegime RSP kättesaadavaks Statistikanõukogu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1. juuli – RSP peab olema esitatud Rahandusministeeriumi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P 2013. a maksumus on 6 335 700 euro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4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4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ed äriteenuste liikidest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Õigusabiteenused: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õigusabi- ja esindusteenused kriminaalõiguse valla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äri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töö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riidilise nõustamise ja esindamise teenused tsiviilõigusega seotud kohtumenetlustes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atentide, autoriõiguse ja muu intellektuaalomandiõigusega seotud õigusabi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otariaalsed 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arbitraaži- ja lepi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nampakkumistega seotud õigusabi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õigusabiteenused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/>
          </p:nvPr>
        </p:nvSpPr>
        <p:spPr>
          <a:xfrm>
            <a:off x="684000" y="1699920"/>
            <a:ext cx="75150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Näited äriteenuste liikidest.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Juhtimisalased nõustamisteenused: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uhtekorraldus- ja teabevahetu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rateegilis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finantsjuhtimisalased nõustamisteenused (v.a ettevõtte tulumaksualased)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urundus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ersonali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ootmis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tarneahela ja muud juhtimis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äriprotsesside juhtimise 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projektijuhtimisteenused, v.a ehituse juhtimise alased 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uud ärialased nõustamisteenused;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lnSpc>
                <a:spcPct val="80000"/>
              </a:lnSpc>
              <a:spcBef>
                <a:spcPts val="451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kaubamärgid ja frantsiisid.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7" name="Rectangle 2"/>
          <p:cNvSpPr/>
          <p:nvPr/>
        </p:nvSpPr>
        <p:spPr>
          <a:xfrm>
            <a:off x="1258920" y="47628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Äriteenused (20327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(5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9" name="Object 5"/>
          <p:cNvGraphicFramePr/>
          <p:nvPr/>
        </p:nvGraphicFramePr>
        <p:xfrm>
          <a:off x="900000" y="1268280"/>
          <a:ext cx="770436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268280"/>
                    <a:ext cx="770436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2" name="Object 3"/>
          <p:cNvGraphicFramePr/>
          <p:nvPr/>
        </p:nvGraphicFramePr>
        <p:xfrm>
          <a:off x="1332000" y="1341360"/>
          <a:ext cx="698508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98508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1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5150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andmete laialdasem kasu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saressurss tagab kiirema edasiliikumise  maksustamisandmete jt andmekogude andmete kasutuselevõtul statistika tege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eldatav maksumus 100 000 eurot aastas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(sh IT arendus ca 50 000 euro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Halduskoormuse vähene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3352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A maine tõu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 2013 jätkatakse haldusandmete kasutuselevõtuga sisemise ressurssi toel, kuid edasiliikumise kiirus ei vasta andmeesitajate ootustel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7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2"/>
          <p:cNvSpPr/>
          <p:nvPr/>
        </p:nvSpPr>
        <p:spPr>
          <a:xfrm>
            <a:off x="1411200" y="628560"/>
            <a:ext cx="74898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2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394920" y="170028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Andmekogude andmete laialdasema kasutuselevõtuga seotud tegevus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 andmete ja andmekogude andmete ühilduvusanalüüs detailsel tasem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alüüsi tulemuste põhjal valdkonnastatistika tegemise metoodika (k.a mudelite) väljatööt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ndmekogude andmekoosseisu täiendamisettepanekute esitamine ( vajadu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töötatud metoodika testimine tehes statistikat paralleelselt kahe meetodi alu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estimise tulemuste analüüs, vajadusel metoodika täiendamine ning statistika tegemise meetodi valik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tatistiliste aruandevormide redisain (vajadu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44000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T süsteemide (andmete kogumine ja töötlemine) arendami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0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äliskülastajad Eestis (uuringu taasalustamine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iskülastajate kulutuste struktuuri ja reisi eesmärgi uuring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imus1-2 korda aastas, viimati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d EP (maksebilansi koostamiseks), SA (THHI ja SKP koostamiseks), MKM (turismi arendamisel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ksumus ca 35 000 eurot + üldkulud aasta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3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3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nnisvara üürihinnad (uuringu taasalustamine)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u- ja mitteeluhoonete ja ruumide rendihinnad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lenevalt hoonete ja ruumide asukohast, liigist ning kvaliteediklassist kinnisvarabüroode andmet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imus kvartaalselt, viimati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rbijad EP (EKP tellimus), SA (THI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Maksumus ca 8 000 eurot + üldkulud aastas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SP-st 2013 väljajäänud tööd </a:t>
            </a:r>
            <a:br>
              <a:rPr sz="28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ESO vastutusala)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      (4)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19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920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1EC5-0DC7-4B8A-8E01-E2FDCA0E5A4D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8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1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2" name="Rectangle 2"/>
          <p:cNvSpPr/>
          <p:nvPr/>
        </p:nvSpPr>
        <p:spPr>
          <a:xfrm>
            <a:off x="755640" y="836640"/>
            <a:ext cx="30956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RS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826920" y="3500280"/>
            <a:ext cx="449604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Urve Kask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ahvastiku- ja sotsiaalstatistik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4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377720" y="547560"/>
            <a:ext cx="578628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endustööd:</a:t>
            </a:r>
            <a:br>
              <a:rPr sz="2800"/>
            </a:br>
            <a:br>
              <a:rPr sz="6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br>
              <a:rPr sz="28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028880" y="1412640"/>
            <a:ext cx="77911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50640" indent="-350640"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Absoluutne vaesus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rinevate andmeallikate valideerimine leidmaks sobivad andmeallikad absoluutse vaesuse mõõtmiseks;absoluutse vaesuse indikaatorite väljatöötamine ja publitseerimine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Heaolu mõõtmine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heaolu kontseptsiooni koostamine; erinevate andmeallikate valideerimine leidmaks sobivad andmeallikad heaolu mõõtmiseks; heaolu indikaatorite väljatöötamine ja publitseerimin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Edukus tööturul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baseerub EHISE ja EMTA andmete linkimisel; eesmärgiks: õppurite, lõpetajate sisenemine tööturule; katkestajate edasine käekäik – indikaatorite väljatöötamine iga-aastaseks monitoorimiseks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0640" indent="-3506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Kohalike omavalitsuste sotsiaalse kaitse kulutuste klassifikaatori metoodika arendus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kohalike omavalitsuste poolt tehtavate kulutuste parem kajastamine sotsiaalse kaitse kulutuste arvepidamise süsteemis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0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2340000" y="404640"/>
            <a:ext cx="640872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tatistikatööde finantseerimine</a:t>
            </a:r>
            <a:br>
              <a:rPr sz="2800"/>
            </a:b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ja kulude liigendus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2013.aasta, tuhat eurot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27" name="Picture 7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7777440" cy="35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8" name=""/>
          <p:cNvGraphicFramePr/>
          <p:nvPr/>
        </p:nvGraphicFramePr>
        <p:xfrm>
          <a:off x="1258920" y="5013360"/>
          <a:ext cx="7489800" cy="1530360"/>
        </p:xfrm>
        <a:graphic>
          <a:graphicData uri="http://schemas.openxmlformats.org/drawingml/2006/table">
            <a:tbl>
              <a:tblPr/>
              <a:tblGrid>
                <a:gridCol w="2278080"/>
                <a:gridCol w="1382760"/>
                <a:gridCol w="1270080"/>
                <a:gridCol w="1663560"/>
                <a:gridCol w="895320"/>
              </a:tblGrid>
              <a:tr h="43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tseerimine/                                     kulu liigendus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igieelarve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matul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älisabi ja välisabi kaasfinantseerimine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K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333399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eering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,7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,7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993300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993300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ikul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817,3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066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44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808000"/>
                          </a:solidFill>
                          <a:latin typeface="Wingdings"/>
                          <a:ea typeface="Wingdings"/>
                        </a:rPr>
                        <a:t></a:t>
                      </a:r>
                      <a:r>
                        <a:rPr b="1" lang="et-EE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andamiskulud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0,5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t-E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0</a:t>
                      </a:r>
                      <a:endParaRPr b="1" lang="en-US" sz="1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44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KKU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31,5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2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5,0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t-EE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335,7</a:t>
                      </a:r>
                      <a:endParaRPr b="1" lang="en-US" sz="11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808080"/>
                      </a:solidFill>
                    </a:lnL>
                    <a:lnR w="1440">
                      <a:solidFill>
                        <a:srgbClr val="808080"/>
                      </a:solidFill>
                    </a:lnR>
                    <a:lnT w="13680">
                      <a:solidFill>
                        <a:srgbClr val="808080"/>
                      </a:solidFill>
                    </a:lnT>
                    <a:lnB w="1368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 txBox="1"/>
          <p:nvPr/>
        </p:nvSpPr>
        <p:spPr>
          <a:xfrm>
            <a:off x="1042560" y="1915920"/>
            <a:ext cx="777708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 u="sng">
                <a:solidFill>
                  <a:srgbClr val="003951"/>
                </a:solidFill>
                <a:uFillTx/>
                <a:latin typeface="Arial"/>
              </a:rPr>
              <a:t>Integreeritud sotsiaaluuringud 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(2013-2015)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eesmärgiks uuringute üleviimine mooduliteks; korduvate küsimuste vähendamine; täiendava informatsiooni saamine  läbi tausttunnuste erinevate moodulite seostamise; põhieesmärk - andmekogumise vähendamine; vajaliku informatsiooni kiirem saamine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377720" y="475920"/>
            <a:ext cx="578628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rendustööd (2): </a:t>
            </a:r>
            <a:br>
              <a:rPr sz="2800"/>
            </a:br>
            <a:br>
              <a:rPr sz="8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 Küsitlusstatistika </a:t>
            </a:r>
            <a:br>
              <a:rPr sz="28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Rahvastik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stikustatistika vanemate aastate sisestus (aastate 1945-1959 raames valitud aastate uussisestus regionaalsel tasandil rahvastikustruktuuri taastamise eesmärgil); (2013;2014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 ja eluruumide loendus (väljundi koostamine avaliku andmebaasi tarbeks) (2013; 2014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ahvastiku prognoosid MicMac prognoosimudeli alusel (2013)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Regionaalne haridusstatistika ( täiendavate hariduse indikaatorite publitseerimine regionaalsel tasandil) (2013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2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900000" y="1844280"/>
            <a:ext cx="824400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Sotsiaalelu</a:t>
            </a:r>
            <a:br>
              <a:rPr sz="2400"/>
            </a:br>
            <a:r>
              <a:rPr b="1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Sotsiaaluuringu moodulid: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Elamistingimused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andmete publitseerimine - 2013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Heaolu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3, publitseerimine 2014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“Sotsiaalne osalemine”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4,publitseerimine 2015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Leibkonna eelarve uuring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ublitseerimine 2013; ettevalmistustööd 2014; välitööd 2015; 2016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Tarbimiskulutuste prognoos </a:t>
            </a:r>
            <a:br>
              <a:rPr sz="20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katab kahte aastat 2013-2014, siis kui LEU-d ei toimu)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3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900000" y="1699920"/>
            <a:ext cx="73440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urismi ja kultuuritarbimise mooduluuring 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e läbiviimine 2013, andmete publitseerimine 2013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2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äiskasvanute koolituse uuring isiku tasandil 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 2016, välitööd 2017)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2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Nõukogu tervise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laneeritav aasta 2014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uroopa Nõukogu turvalisuse 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lükkub aastasse 2014)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357840" indent="-357840">
              <a:spcBef>
                <a:spcPts val="45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elu uuring</a:t>
            </a:r>
            <a:br>
              <a:rPr sz="24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planeeritud 2014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baregulaarsed tööd (4):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26920" y="1682640"/>
            <a:ext cx="84981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52520" indent="-45252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Tööjõu uuringu moodulid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:</a:t>
            </a:r>
            <a:br>
              <a:rPr sz="2400"/>
            </a:b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3951"/>
                </a:solidFill>
                <a:latin typeface="Arial"/>
              </a:rPr>
              <a:t>*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öölt pensionile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publitseerimine 2013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Tööõnnetused ja tööga seotud tervisehäired – 4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välitööd 2013 ja publitseerimine 2014)</a:t>
            </a:r>
            <a:br>
              <a:rPr sz="1800"/>
            </a:br>
            <a:br>
              <a:rPr sz="8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Immigrantrahvastik – 2013-2015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, välitööd -2013, andmetöötlus 2014 ja </a:t>
            </a:r>
            <a:br>
              <a:rPr sz="1800"/>
            </a:b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  publitseerimine 2015)</a:t>
            </a:r>
            <a:br>
              <a:rPr sz="1800"/>
            </a:b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lvl="2" marL="1425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* Töötaja kohanemine ja töökorraldus”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(ettevalmistustööd 2014; välitööd 2015; avaldamine 2016)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marL="452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1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57548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Planeeritavad analüütilised ja metoodilised kogumikud:</a:t>
            </a:r>
            <a:br>
              <a:rPr sz="2400"/>
            </a:b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900000" y="1969920"/>
            <a:ext cx="80647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otsiaaltrendid -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aste heaolu –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Leibkonna eelarve metoodikaraport – 2013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rahvastik läbi loendusprisma -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Puudega inimeste heaolu ja sotsiaalne integratsioon –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601"/>
              </a:spcAft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valdkond - 2014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rmAutofit/>
          </a:bodyPr>
          <a:p>
            <a:pPr marL="361800" indent="-3618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400" spc="-1" strike="noStrike">
                <a:solidFill>
                  <a:srgbClr val="003951"/>
                </a:solidFill>
                <a:latin typeface="Arial"/>
              </a:rPr>
              <a:t>Täname kuulamast!</a:t>
            </a:r>
            <a:endParaRPr b="0" lang="en-US" sz="4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8" name="Date Placeholder 10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DD30-A256-4A03-8793-C25AE04DAEEC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8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9" name="Footer Placeholder 11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Esitluse või esitleja nimi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950" name="Picture 5" descr="Eesti statistika_vahe_laim"/>
          <p:cNvPicPr/>
          <p:nvPr/>
        </p:nvPicPr>
        <p:blipFill>
          <a:blip r:embed="rId1"/>
          <a:stretch/>
        </p:blipFill>
        <p:spPr>
          <a:xfrm>
            <a:off x="-9360" y="-12600"/>
            <a:ext cx="9171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2590560" y="549000"/>
            <a:ext cx="644508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tatistikatööde maksumus </a:t>
            </a:r>
            <a:br>
              <a:rPr sz="3200"/>
            </a:b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valdkonniti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tuhat EUR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1" name="Picture 5" descr="Picture1.png"/>
          <p:cNvPicPr/>
          <p:nvPr/>
        </p:nvPicPr>
        <p:blipFill>
          <a:blip r:embed="rId1"/>
          <a:stretch/>
        </p:blipFill>
        <p:spPr>
          <a:xfrm>
            <a:off x="1692360" y="1557360"/>
            <a:ext cx="640872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2013.aasta statistikatööde maksumus valdkonniti ja liigiti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tuhat EUR)</a:t>
            </a:r>
            <a:endParaRPr b="1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3" name="Date Placeholder 3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4" name="Chart 4" descr=""/>
          <p:cNvPicPr/>
          <p:nvPr/>
        </p:nvPicPr>
        <p:blipFill>
          <a:blip r:embed="rId1"/>
          <a:stretch/>
        </p:blipFill>
        <p:spPr>
          <a:xfrm>
            <a:off x="749160" y="1481040"/>
            <a:ext cx="804096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37" name="Picture 5" descr="Eesti statistika_vahe_mereroh"/>
          <p:cNvPicPr/>
          <p:nvPr/>
        </p:nvPicPr>
        <p:blipFill>
          <a:blip r:embed="rId1"/>
          <a:stretch/>
        </p:blipFill>
        <p:spPr>
          <a:xfrm>
            <a:off x="-7920" y="-7920"/>
            <a:ext cx="9159840" cy="6877080"/>
          </a:xfrm>
          <a:prstGeom prst="rect">
            <a:avLst/>
          </a:prstGeom>
          <a:ln w="0">
            <a:noFill/>
          </a:ln>
        </p:spPr>
      </p:pic>
      <p:sp>
        <p:nvSpPr>
          <p:cNvPr id="838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0546-1ACC-4ED1-B5B3-7C2C00ED34C1}" type="datetime">
              <a:rPr b="0" lang="et-EE" sz="1200" spc="-1" strike="noStrike">
                <a:solidFill>
                  <a:srgbClr val="003951"/>
                </a:solidFill>
                <a:latin typeface="Arial"/>
              </a:rPr>
              <a:t>28.7.2026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39" name="Rectangle 71"/>
          <p:cNvSpPr/>
          <p:nvPr/>
        </p:nvSpPr>
        <p:spPr>
          <a:xfrm>
            <a:off x="539640" y="260280"/>
            <a:ext cx="5112000" cy="3673440"/>
          </a:xfrm>
          <a:prstGeom prst="rect">
            <a:avLst/>
          </a:prstGeom>
          <a:solidFill>
            <a:srgbClr val="0039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755640" y="836640"/>
            <a:ext cx="29527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ffffff"/>
                </a:solidFill>
                <a:latin typeface="Arial"/>
              </a:rPr>
              <a:t>HPSO tööd 2013-201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826920" y="3476520"/>
            <a:ext cx="44960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ffffff"/>
                </a:solidFill>
                <a:latin typeface="Arial"/>
              </a:rPr>
              <a:t>Viktoria Trasanov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t-EE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inna- ja palgastatistika osakonna juhataja</a:t>
            </a:r>
            <a:endParaRPr b="1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2" name="AutoShape 2"/>
          <p:cNvSpPr/>
          <p:nvPr/>
        </p:nvSpPr>
        <p:spPr>
          <a:xfrm>
            <a:off x="-7920" y="-7920"/>
            <a:ext cx="9159840" cy="68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4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eluaseme soetus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mist alustame 2012. aasta septembrist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 on arvatud makromajandusliku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asakaalustamatuse näitajate hulk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i tootmist nõudev EL määrus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on vastuvõtmis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5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394920" y="1412640"/>
            <a:ext cx="84978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omaniku poolt asustatud eluaseme kulutuste hinnain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äljatöötamisfaas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lisaks eluaseme soetusele peab katma ka muud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eluaseme soetamise ja omamisega seotud kulutused, kindlustuse ja kapitaalremondi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astuvõtmisel olev EL määrus nõuab indeksite </a:t>
            </a:r>
            <a:br>
              <a:rPr sz="2000"/>
            </a:b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valdamise alustamist 2014. aasta III kvartali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8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Uut hinnastatistikas (3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äriteenuste tootjahinnaindeksi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tootmisesse on juurutatud 11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3 on väljatöötamisel ja alustamata on tööd 7-ga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puudub ka EL majanduslike põhinäitajate hulka kuuluv koondindeks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indeksid on nõutavad EL määrusega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viimased juurutamistähtaegu puudutavad erandid Eestile lõppesid 11. augustil 2009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51" name="Date Placeholder 4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7.06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meelissoo</cp:lastModifiedBy>
  <dcterms:modified xsi:type="dcterms:W3CDTF">2012-06-26T10:22:56Z</dcterms:modified>
  <cp:revision>94</cp:revision>
  <dc:subject/>
  <dc:title>Slide 1</dc:title>
</cp:coreProperties>
</file>