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notesMasterIdLst>
    <p:notesMasterId r:id="rId22"/>
  </p:notes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  <p:sldId id="274" r:id="rId41"/>
    <p:sldId id="275" r:id="rId42"/>
    <p:sldId id="276" r:id="rId43"/>
    <p:sldId id="277" r:id="rId44"/>
    <p:sldId id="278" r:id="rId45"/>
    <p:sldId id="279" r:id="rId46"/>
    <p:sldId id="280" r:id="rId47"/>
    <p:sldId id="281" r:id="rId48"/>
    <p:sldId id="282" r:id="rId49"/>
    <p:sldId id="283" r:id="rId50"/>
    <p:sldId id="284" r:id="rId51"/>
    <p:sldId id="285" r:id="rId52"/>
    <p:sldId id="286" r:id="rId53"/>
    <p:sldId id="287" r:id="rId54"/>
    <p:sldId id="288" r:id="rId55"/>
    <p:sldId id="289" r:id="rId56"/>
    <p:sldId id="290" r:id="rId57"/>
    <p:sldId id="291" r:id="rId58"/>
    <p:sldId id="292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notesMaster" Target="notesMasters/notesMaster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slide" Target="slides/slide19.xml"/><Relationship Id="rId42" Type="http://schemas.openxmlformats.org/officeDocument/2006/relationships/slide" Target="slides/slide20.xml"/><Relationship Id="rId43" Type="http://schemas.openxmlformats.org/officeDocument/2006/relationships/slide" Target="slides/slide21.xml"/><Relationship Id="rId44" Type="http://schemas.openxmlformats.org/officeDocument/2006/relationships/slide" Target="slides/slide22.xml"/><Relationship Id="rId45" Type="http://schemas.openxmlformats.org/officeDocument/2006/relationships/slide" Target="slides/slide23.xml"/><Relationship Id="rId46" Type="http://schemas.openxmlformats.org/officeDocument/2006/relationships/slide" Target="slides/slide24.xml"/><Relationship Id="rId47" Type="http://schemas.openxmlformats.org/officeDocument/2006/relationships/slide" Target="slides/slide25.xml"/><Relationship Id="rId48" Type="http://schemas.openxmlformats.org/officeDocument/2006/relationships/slide" Target="slides/slide26.xml"/><Relationship Id="rId49" Type="http://schemas.openxmlformats.org/officeDocument/2006/relationships/slide" Target="slides/slide27.xml"/><Relationship Id="rId50" Type="http://schemas.openxmlformats.org/officeDocument/2006/relationships/slide" Target="slides/slide28.xml"/><Relationship Id="rId51" Type="http://schemas.openxmlformats.org/officeDocument/2006/relationships/slide" Target="slides/slide29.xml"/><Relationship Id="rId52" Type="http://schemas.openxmlformats.org/officeDocument/2006/relationships/slide" Target="slides/slide30.xml"/><Relationship Id="rId53" Type="http://schemas.openxmlformats.org/officeDocument/2006/relationships/slide" Target="slides/slide31.xml"/><Relationship Id="rId54" Type="http://schemas.openxmlformats.org/officeDocument/2006/relationships/slide" Target="slides/slide32.xml"/><Relationship Id="rId55" Type="http://schemas.openxmlformats.org/officeDocument/2006/relationships/slide" Target="slides/slide33.xml"/><Relationship Id="rId56" Type="http://schemas.openxmlformats.org/officeDocument/2006/relationships/slide" Target="slides/slide34.xml"/><Relationship Id="rId57" Type="http://schemas.openxmlformats.org/officeDocument/2006/relationships/slide" Target="slides/slide35.xml"/><Relationship Id="rId58" Type="http://schemas.openxmlformats.org/officeDocument/2006/relationships/slide" Target="slides/slide36.xml"/><Relationship Id="rId59" Type="http://schemas.openxmlformats.org/officeDocument/2006/relationships/slide" Target="slides/slide37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EDB1A-D1E0-431A-A255-21A15AC4E7F6}" type="slidenum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SA </a:t>
            </a: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avaldab rahandusministrile arvamust </a:t>
            </a: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RSP </a:t>
            </a: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ja selle muudatuste kohta enne nende kinnitam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1B06D-B4B5-47DC-B58D-532F9605B0FF}" type="slidenum">
              <a:rPr b="1" lang="et-EE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9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11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12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Eesti statistika_1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7.06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10" descr="Eesti statistika_2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ftr" idx="9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sitluse või esitleja ni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dt" idx="10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A5B38-50CA-478F-8BE7-434EE3E3C508}" type="datetime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9.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10" descr="Eesti statistika_2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ftr" idx="11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sitluse või esitleja ni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dt" idx="12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E007C-38D6-4FC7-B938-96B06987EF29}" type="datetime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9.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Picture 10" descr="Eesti statistika_2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ftr" idx="13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sitluse või esitleja ni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dt" idx="14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5BCD1-CA2A-4104-8957-1B16E6E741CB}" type="datetime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9.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Picture 10" descr="Eesti statistika_2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  <p:sp>
        <p:nvSpPr>
          <p:cNvPr id="486" name="PlaceHolder 1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ftr" idx="15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sitluse või esitleja ni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dt" idx="16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2FC44-39D8-48B8-98AF-8A01CF4AD750}" type="datetime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9.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Picture 10" descr="Eesti statistika_2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  <p:sp>
        <p:nvSpPr>
          <p:cNvPr id="527" name="PlaceHolder 1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ftr" idx="17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sitluse või esitleja ni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dt" idx="18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B8BB2-4BB0-430B-96D0-13C0514835BF}" type="datetime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9.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10" descr="Eesti statistika_2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  <p:sp>
        <p:nvSpPr>
          <p:cNvPr id="568" name="PlaceHolder 1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ftr" idx="19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sitluse või esitleja ni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dt" idx="20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DFE75-E3F2-45B1-9D81-CBAA4C92EA82}" type="datetime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9.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10" descr="Eesti statistika_2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  <p:sp>
        <p:nvSpPr>
          <p:cNvPr id="609" name="PlaceHolder 1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ftr" idx="21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sitluse või esitleja ni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dt" idx="22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1FFC6-15A9-4BD9-8386-96041897BFF6}" type="datetime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9.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Picture 10" descr="Eesti statistika_2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  <p:sp>
        <p:nvSpPr>
          <p:cNvPr id="650" name="PlaceHolder 1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 type="ftr" idx="23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sitluse või esitleja ni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 type="dt" idx="24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CDDAD-1373-4DB5-B1D8-6EF15971A713}" type="datetime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9.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Picture 10" descr="Eesti statistika_2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ftr" idx="25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sitluse või esitleja ni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dt" idx="26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90E5E-ADFC-48D3-BFC1-2E8CCFBD3960}" type="datetime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9.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Picture 10" descr="Eesti statistika_2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  <p:sp>
        <p:nvSpPr>
          <p:cNvPr id="732" name="PlaceHolder 1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 type="ftr" idx="27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sitluse või esitleja ni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 type="dt" idx="28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B56C0-69DE-4712-98C5-FB63D4098B2C}" type="datetime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9.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ftr" idx="2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sitluse või esitleja ni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43" name="Picture 10" descr="Eesti statistika_2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4"/>
          <p:cNvSpPr>
            <a:spLocks noGrp="1"/>
          </p:cNvSpPr>
          <p:nvPr>
            <p:ph type="dt" idx="3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7.06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2" name="Picture 10" descr="Eesti statistika_2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  <p:sp>
        <p:nvSpPr>
          <p:cNvPr id="773" name="PlaceHolder 1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 type="ftr" idx="29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sitluse või esitleja ni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 type="dt" idx="30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9EB41-7F88-458B-81F9-CEE9CF96E255}" type="datetime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9.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1" descr="Eesti statistika_vahe_mereroh"/>
          <p:cNvPicPr/>
          <p:nvPr/>
        </p:nvPicPr>
        <p:blipFill>
          <a:blip r:embed="rId2"/>
          <a:stretch/>
        </p:blipFill>
        <p:spPr>
          <a:xfrm>
            <a:off x="-17640" y="-7920"/>
            <a:ext cx="9168120" cy="6883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90"/>
          <p:cNvPicPr/>
          <p:nvPr/>
        </p:nvPicPr>
        <p:blipFill>
          <a:blip r:embed="rId3"/>
          <a:stretch/>
        </p:blipFill>
        <p:spPr>
          <a:xfrm>
            <a:off x="7356600" y="404640"/>
            <a:ext cx="1103040" cy="1063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Eesti statistika_vahe_laim"/>
          <p:cNvPicPr/>
          <p:nvPr/>
        </p:nvPicPr>
        <p:blipFill>
          <a:blip r:embed="rId2"/>
          <a:stretch/>
        </p:blipFill>
        <p:spPr>
          <a:xfrm>
            <a:off x="-9360" y="-9360"/>
            <a:ext cx="9171000" cy="6870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90"/>
          <p:cNvPicPr/>
          <p:nvPr/>
        </p:nvPicPr>
        <p:blipFill>
          <a:blip r:embed="rId3"/>
          <a:stretch/>
        </p:blipFill>
        <p:spPr>
          <a:xfrm>
            <a:off x="7342200" y="404640"/>
            <a:ext cx="1111320" cy="1071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9" descr="Eesti statistika_suur"/>
          <p:cNvPicPr/>
          <p:nvPr/>
        </p:nvPicPr>
        <p:blipFill>
          <a:blip r:embed="rId2"/>
          <a:stretch/>
        </p:blipFill>
        <p:spPr>
          <a:xfrm>
            <a:off x="-7920" y="-11160"/>
            <a:ext cx="9186840" cy="688176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6" descr="90"/>
          <p:cNvPicPr/>
          <p:nvPr/>
        </p:nvPicPr>
        <p:blipFill>
          <a:blip r:embed="rId3"/>
          <a:stretch/>
        </p:blipFill>
        <p:spPr>
          <a:xfrm>
            <a:off x="7346880" y="404640"/>
            <a:ext cx="1111320" cy="107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3" descr="Eesti statistika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8" descr="Eesti statistika_1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ftr" idx="4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sitluse või esitleja ni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dt" idx="5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0ECC7-02C6-44DD-91DE-AE21F130E524}" type="datetime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9.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8" descr="Eesti statistika_1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ftr" idx="6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sitluse või esitleja ni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dt" idx="7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A6E17-CBA3-4F8D-A197-934F8E0EA7A7}" type="datetime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9.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8" descr="Eesti statistika_1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ftr" idx="8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sitluse või esitleja ni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2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8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8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2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914040" y="898200"/>
            <a:ext cx="449892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3951"/>
                </a:solidFill>
                <a:latin typeface="Arial"/>
              </a:rPr>
              <a:t>SA 201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3</a:t>
            </a:r>
            <a:r>
              <a:rPr b="1" lang="fi-FI" sz="3200" spc="-1" strike="noStrike">
                <a:solidFill>
                  <a:srgbClr val="003951"/>
                </a:solidFill>
                <a:latin typeface="Arial"/>
              </a:rPr>
              <a:t>.–201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7</a:t>
            </a:r>
            <a:r>
              <a:rPr b="1" lang="fi-FI" sz="3200" spc="-1" strike="noStrike">
                <a:solidFill>
                  <a:srgbClr val="003951"/>
                </a:solidFill>
                <a:latin typeface="Arial"/>
              </a:rPr>
              <a:t>. aasta statistikatööde loetelu projekti menetluses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subTitle"/>
          </p:nvPr>
        </p:nvSpPr>
        <p:spPr>
          <a:xfrm>
            <a:off x="1012320" y="3284280"/>
            <a:ext cx="4496040" cy="15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Meelis Somelar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Viktoria Trasanov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Agnes Naarits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Ene Saareoja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Urve Kask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Uut hinnastatistikas (4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53" name=""/>
          <p:cNvSpPr txBox="1"/>
          <p:nvPr/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tööstustoodangu tootjahinnainde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enne € üks ekspordi alamindek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€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kasutuselevõtuga seoses algas 2 indeksi tootmine</a:t>
            </a:r>
            <a:br>
              <a:rPr sz="2000"/>
            </a:b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- eksport eurotsooni riikidesse</a:t>
            </a:r>
            <a:br>
              <a:rPr sz="2000"/>
            </a:b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- eksport mitte-eurotsooni riikidess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ama jagunemine tekkis ka impordihinnaindeksiss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54" name="Date Placeholder 4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t-EE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24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857" name="Picture 5" descr="Eesti statistika_vahe_mereroh"/>
          <p:cNvPicPr/>
          <p:nvPr/>
        </p:nvPicPr>
        <p:blipFill>
          <a:blip r:embed="rId1"/>
          <a:stretch/>
        </p:blipFill>
        <p:spPr>
          <a:xfrm>
            <a:off x="-7920" y="-7920"/>
            <a:ext cx="9159840" cy="6877080"/>
          </a:xfrm>
          <a:prstGeom prst="rect">
            <a:avLst/>
          </a:prstGeom>
          <a:ln w="0">
            <a:noFill/>
          </a:ln>
        </p:spPr>
      </p:pic>
      <p:sp>
        <p:nvSpPr>
          <p:cNvPr id="858" name="Date Placeholder 9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46CF3-C498-4518-BA6A-BB73EE2539EA}" type="datetime">
              <a:rPr b="0" lang="et-EE" sz="1200" spc="-1" strike="noStrike">
                <a:solidFill>
                  <a:srgbClr val="003951"/>
                </a:solidFill>
                <a:latin typeface="Arial"/>
              </a:rPr>
              <a:t>29.7.2026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59" name="Rectangle 71"/>
          <p:cNvSpPr/>
          <p:nvPr/>
        </p:nvSpPr>
        <p:spPr>
          <a:xfrm>
            <a:off x="539640" y="260280"/>
            <a:ext cx="5112000" cy="3673440"/>
          </a:xfrm>
          <a:prstGeom prst="rect">
            <a:avLst/>
          </a:prstGeom>
          <a:solidFill>
            <a:srgbClr val="003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60" name="Rectangle 2"/>
          <p:cNvSpPr/>
          <p:nvPr/>
        </p:nvSpPr>
        <p:spPr>
          <a:xfrm>
            <a:off x="755640" y="836640"/>
            <a:ext cx="25210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RFKAO tööd 2013-2017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61" name="Rectangle 3"/>
          <p:cNvSpPr/>
          <p:nvPr/>
        </p:nvSpPr>
        <p:spPr>
          <a:xfrm>
            <a:off x="826920" y="3189240"/>
            <a:ext cx="4496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Arial"/>
              </a:rPr>
              <a:t>Agnes Naarits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Rahvamajanduse, finants- ja </a:t>
            </a:r>
            <a:endParaRPr b="1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keskkonna arvepidamise osakonna juhataja</a:t>
            </a:r>
            <a:endParaRPr b="1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62" name="AutoShape 2"/>
          <p:cNvSpPr/>
          <p:nvPr/>
        </p:nvSpPr>
        <p:spPr>
          <a:xfrm>
            <a:off x="-7920" y="-7920"/>
            <a:ext cx="9159840" cy="68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ahvamajanduse arvepidamin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64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Uue statistikatööna planeeritud juba 2012, kuid seni eelarvest väljas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Uue ESA andme­edastusprogrammi juurutamine: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361800" indent="-3618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ESA2010 uus andmeedastusprogramm detailsem, tähtajad lühenevad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atelliitarvepidamine: teadus- ja arendustegevu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ndmeedastustähtaeg: september 2014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rendused tehakse põhistatistika kõrvalt – edenemine aegla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65" name="Date Placeholder 4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Finantsarvepidamin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Uus töö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07784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Kahjukindlustuse lisaandmed – EKSL tellimu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elarvest väljas nii 2012 kui 2013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07784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Pensionide satelliitkonto – andmeedastuse tähtaeg 2014!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Olemasolevate tööde arendused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361800" indent="-3618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Valitsemissektori võla- ja defitsiidiarvestus detailsemaks, lisandub avaliku sektori vaade (valitsemissektor + riigi ja KOV ettevõtted)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361800" indent="-3618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Kogumajanduse finantskonto detailsemaks – OECD vajadused rahuldamata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361800" indent="-3618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Arendused tavaprogrammi kõrvalt, edenemine aeglane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68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Keskkonna arvepidamin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70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Lisaeelarvega 2013: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Põllumajanduskeskkonna näitajad – PõM  tellimu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Õhuemissioonide arvepidamine – uus EL määru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ahastus kolmest uuest kohustuslikust moodulist vaid üh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L määruse eelnõu menetlemine käimas: veel kolm uut moodulit kohustusliku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Hetkel arendused rahastatud Eurostati pool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Muud põhistatistika tööd alarahastatu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71" name="Date Placeholder 4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Keskkonna arvepidamin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74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graphicFrame>
        <p:nvGraphicFramePr>
          <p:cNvPr id="875" name=""/>
          <p:cNvGraphicFramePr/>
          <p:nvPr/>
        </p:nvGraphicFramePr>
        <p:xfrm>
          <a:off x="395280" y="1336680"/>
          <a:ext cx="8280360" cy="4437000"/>
        </p:xfrm>
        <a:graphic>
          <a:graphicData uri="http://schemas.openxmlformats.org/drawingml/2006/table">
            <a:tbl>
              <a:tblPr/>
              <a:tblGrid>
                <a:gridCol w="863640"/>
                <a:gridCol w="2089080"/>
                <a:gridCol w="1224000"/>
                <a:gridCol w="1008000"/>
                <a:gridCol w="1079640"/>
                <a:gridCol w="1081080"/>
                <a:gridCol w="934920"/>
              </a:tblGrid>
              <a:tr h="43164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-töö nr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f44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istikatöö nimi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f44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us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f44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hastamine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f4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2012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2013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2014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2015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</a:tr>
              <a:tr h="431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0501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Põllumajanduskeskkonna näitajad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PõM tellimus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X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riigieelarve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riigieelarve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riigieelarve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</a:tr>
              <a:tr h="4334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Arendus</a:t>
                      </a: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: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Keskkonnaarvepidamised</a:t>
                      </a: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: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solidFill>
                      <a:srgbClr val="cbcdcf"/>
                    </a:solidFill>
                  </a:tcPr>
                </a:tc>
              </a:tr>
              <a:tr h="4320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0406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3951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õhuemissioonid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EL määrus jõustunud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Eurostat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riigieelarve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riigieelarve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riigieelarve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</a:tr>
              <a:tr h="431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0601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3951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materjalivoog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EL määrus jõustunud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Eurostat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Eurostat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?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?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</a:tr>
              <a:tr h="4320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0104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3951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keskkonnamaksud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EL määrus jõustunud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Eurostat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Eurostat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?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?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solidFill>
                      <a:srgbClr val="e7e8e9"/>
                    </a:solidFill>
                  </a:tcPr>
                </a:tc>
              </a:tr>
              <a:tr h="5490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0106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keskkonnatooteid ja –teenuseid tootev sektor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EL määrus vastuvõtmisel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X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taotlus Eurostatile edastatud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Eurostat?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?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</a:tr>
              <a:tr h="4320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0101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keskkonnakaitsekulutused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EL määrus vastuvõtmisel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X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?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?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?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</a:tr>
              <a:tr h="431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0105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energiakonto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EL määrus vastuvõtmisel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X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?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?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?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t-EE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24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878" name="Picture 5" descr="Eesti statistika_vahe_mereroh"/>
          <p:cNvPicPr/>
          <p:nvPr/>
        </p:nvPicPr>
        <p:blipFill>
          <a:blip r:embed="rId1"/>
          <a:stretch/>
        </p:blipFill>
        <p:spPr>
          <a:xfrm>
            <a:off x="-7920" y="-7920"/>
            <a:ext cx="9159840" cy="6877080"/>
          </a:xfrm>
          <a:prstGeom prst="rect">
            <a:avLst/>
          </a:prstGeom>
          <a:ln w="0">
            <a:noFill/>
          </a:ln>
        </p:spPr>
      </p:pic>
      <p:sp>
        <p:nvSpPr>
          <p:cNvPr id="879" name="Date Placeholder 9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B88D3-7415-49D6-B71C-D2AEC0A49015}" type="datetime">
              <a:rPr b="0" lang="et-EE" sz="1200" spc="-1" strike="noStrike">
                <a:solidFill>
                  <a:srgbClr val="003951"/>
                </a:solidFill>
                <a:latin typeface="Arial"/>
              </a:rPr>
              <a:t>29.7.2026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80" name="Rectangle 71"/>
          <p:cNvSpPr/>
          <p:nvPr/>
        </p:nvSpPr>
        <p:spPr>
          <a:xfrm>
            <a:off x="539640" y="260280"/>
            <a:ext cx="5112000" cy="3673440"/>
          </a:xfrm>
          <a:prstGeom prst="rect">
            <a:avLst/>
          </a:prstGeom>
          <a:solidFill>
            <a:srgbClr val="003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81" name="Rectangle 2"/>
          <p:cNvSpPr/>
          <p:nvPr/>
        </p:nvSpPr>
        <p:spPr>
          <a:xfrm>
            <a:off x="755640" y="836640"/>
            <a:ext cx="27367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ESO tööd 2013-2017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82" name="Rectangle 3"/>
          <p:cNvSpPr/>
          <p:nvPr/>
        </p:nvSpPr>
        <p:spPr>
          <a:xfrm>
            <a:off x="826920" y="3500280"/>
            <a:ext cx="44960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Arial"/>
              </a:rPr>
              <a:t>Ene Saareoja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ttevõtlusstatistika osakonna juhataja</a:t>
            </a:r>
            <a:endParaRPr b="1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83" name="AutoShape 2"/>
          <p:cNvSpPr/>
          <p:nvPr/>
        </p:nvSpPr>
        <p:spPr>
          <a:xfrm>
            <a:off x="-7920" y="-7920"/>
            <a:ext cx="9159840" cy="68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Äriteenused (20327)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(1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esmärk – saada teavet äriteenindusettevõtete poolt osutatud teenuste müügistruktuuri kohta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3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eenuste liigitus CPA 6-kohaline koodi tasemel </a:t>
            </a:r>
            <a:br>
              <a:rPr sz="2400"/>
            </a:b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(ca 100 teenuse liiki);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3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esidentide ja mitteresidentide (sh EL ja ülejäänud riigid) lõikes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Õiguslik alus – EP ja EN määrus (nr 295/2008, 11.03.2008) ettevõtluse struktuurstatistikast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3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lates 2008.a. andmetest;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3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üleminekuaeg 3 aastat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86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Äriteenused (20327)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(2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L kohustuse realiseerimine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2013 arendustöö;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lates 2014 statistika korraline tegemine </a:t>
            </a:r>
            <a:br>
              <a:rPr sz="2400"/>
            </a:b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(esimesed andmed 2013 aasta kohta)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 tegemine sõltuvalt äriteenindusettevõtete tegevusalast – kas iga aasta või üle aasta;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essurss – täiendavad vahendid SA eelarves </a:t>
            </a:r>
            <a:br>
              <a:rPr sz="2400"/>
            </a:b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1 juhtivstatistiku tööle võtmiseks.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89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Äriteenused (20327)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(3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Igaaastane statistika arvuti-, reklaami- ja tööhõivealaste teenuste struktuuri kohta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aheaastane statistika õigusabi-, arvepidamis-, raamatupidamis-, auditeerimis-, maksu- ja juhtimislaste nõustamise, turu-uuringute, arhitektuurialaste, inseneriteenuste struktuuri kohta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L nõue – uuringuga katta 20- ja enama töötajaga ettevõtted – ei anna Eesti äriteenuste turu kohta kvaliteetset andmestikku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uureneb andmeesitajate koormus, haldusandmeid teenuste müügistruktuurist ei ole.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2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SP menetlemin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18. jaanuar – saatsime välja kirja, kus teavitasime statistika tarbijaid, et SA on alustanud 2013.–2017. aasta statistikatööde kavandami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15. mai – tegime RSP kättesaadavaks Statistikanõukogul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1. juuli – RSP peab olema esitatud Rahandusministeeriumil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SP 2013. a maksumus on 6 335 700 euro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24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Äriteenused (20327)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(4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Näited äriteenuste liikidest.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Õigusabiteenused: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õigusabi- ja esindusteenused kriminaalõiguse vallas;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juriidilise nõustamise ja esindamise teenused äriõigusega seotud kohtumenetlustes;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juriidilise nõustamise ja esindamise teenused tööõigusega seotud kohtumenetlustes;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juriidilise nõustamise ja esindamise teenused tsiviilõigusega seotud kohtumenetlustes;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patentide, autoriõiguse ja muu intellektuaalomandiõigusega seotud õigusabiteenused;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notariaalsed teenused;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arbitraaži- ja lepitamisteenused;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enampakkumistega seotud õigusabiteenused;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muud õigusabiteenused.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5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/>
          </p:nvPr>
        </p:nvSpPr>
        <p:spPr>
          <a:xfrm>
            <a:off x="684000" y="1699920"/>
            <a:ext cx="75150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Näited äriteenuste liikidest.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Juhtimisalased nõustamisteenused: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suhtekorraldus- ja teabevahetusteenused;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strateegilise juhtimise alased nõustamisteenused;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finantsjuhtimisalased nõustamisteenused (v.a ettevõtte tulumaksualased);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turunduse juhtimise alased nõustamisteenused;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personalijuhtimise alased nõustamisteenused;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tootmisjuhtimise alased nõustamisteenused;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tarneahela ja muud juhtimisalased nõustamisteenused;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äriprotsesside juhtimise alased nõustamisteenused;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muud projektijuhtimisteenused, v.a ehituse juhtimise alased teenused;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muud ärialased nõustamisteenused;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kaubamärgid ja frantsiisid. 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7" name="Rectangle 2"/>
          <p:cNvSpPr/>
          <p:nvPr/>
        </p:nvSpPr>
        <p:spPr>
          <a:xfrm>
            <a:off x="1258920" y="476280"/>
            <a:ext cx="7489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Äriteenused (20327)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(5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8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9" name="Object 5"/>
          <p:cNvGraphicFramePr/>
          <p:nvPr/>
        </p:nvGraphicFramePr>
        <p:xfrm>
          <a:off x="900000" y="1268280"/>
          <a:ext cx="7704360" cy="4681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268280"/>
                    <a:ext cx="7704360" cy="46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1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2" name="Object 3"/>
          <p:cNvGraphicFramePr/>
          <p:nvPr/>
        </p:nvGraphicFramePr>
        <p:xfrm>
          <a:off x="1332000" y="1341360"/>
          <a:ext cx="6985080" cy="460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341360"/>
                    <a:ext cx="698508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4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RSP-st 2013 väljajäänud tööd </a:t>
            </a:r>
            <a:br>
              <a:rPr sz="2800"/>
            </a:b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(ESO vastutusala)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      (1)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684000" y="1773360"/>
            <a:ext cx="751500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kogude andmete laialdasem kasuta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43352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Lisaressurss tagab kiirema edasiliikumise  maksustamisandmete jt andmekogude andmete kasutuselevõtul statistika tegemis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43352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Eeldatav maksumus 100 000 eurot aastas </a:t>
            </a:r>
            <a:br>
              <a:rPr sz="2000"/>
            </a:b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  (sh IT arendus ca 50 000 euro)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43352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Halduskoormuse vähenemin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43352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A maine tõu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a 2013 jätkatakse haldusandmete kasutuselevõtuga sisemise ressurssi toel, kuid edasiliikumise kiirus ei vasta andmeesitajate ootustele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07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Rectangle 2"/>
          <p:cNvSpPr/>
          <p:nvPr/>
        </p:nvSpPr>
        <p:spPr>
          <a:xfrm>
            <a:off x="1411200" y="628560"/>
            <a:ext cx="7489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RSP-st 2013 väljajäänud tööd </a:t>
            </a:r>
            <a:br>
              <a:rPr sz="2800"/>
            </a:b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(ESO vastutusala)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      (2)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394920" y="1700280"/>
            <a:ext cx="8497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kogude andmete laialdasema kasutuselevõtuga seotud tegevused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44000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tatistiliste andmete ja andmekogude andmete ühilduvusanalüüs detailsel tasem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44000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nalüüsi tulemuste põhjal valdkonnastatistika tegemise metoodika (k.a mudelite) väljatöötamin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44000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ndmekogude andmekoosseisu täiendamisettepanekute esitamine ( vajadusel)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44000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väljatöötatud metoodika testimine tehes statistikat paralleelselt kahe meetodi alus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44000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estimise tulemuste analüüs, vajadusel metoodika täiendamine ning statistika tegemise meetodi valik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44000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tatistiliste aruandevormide redisain (vajadusel)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44000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IT süsteemide (andmete kogumine ja töötlemine) arendamin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0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/>
          </p:nvPr>
        </p:nvSpPr>
        <p:spPr>
          <a:xfrm>
            <a:off x="395280" y="191592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Väliskülastajad Eestis (uuringu taasalustamine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Väliskülastajate kulutuste struktuuri ja reisi eesmärgi uuring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oimus1-2 korda aastas, viimati 2009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arbijad EP (maksebilansi koostamiseks), SA (THHI ja SKP koostamiseks), MKM (turismi arendamisel)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Maksumus ca 35 000 eurot + üldkulud aasta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RSP-st 2013 väljajäänud tööd </a:t>
            </a:r>
            <a:br>
              <a:rPr sz="2800"/>
            </a:b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(ESO vastutusala)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      (3)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3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innisvara üürihinnad (uuringu taasalustamine)</a:t>
            </a:r>
            <a:br>
              <a:rPr sz="2400"/>
            </a:b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Elu- ja mitteeluhoonete ja ruumide rendihinnad </a:t>
            </a:r>
            <a:br>
              <a:rPr sz="2000"/>
            </a:b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olenevalt hoonete ja ruumide asukohast, liigist ning kvaliteediklassist kinnisvarabüroode andmet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oimus kvartaalselt, viimati 2009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arbijad EP (EKP tellimus), SA (THI)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Maksumus ca 8 000 eurot + üldkulud aastas.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RSP-st 2013 väljajäänud tööd </a:t>
            </a:r>
            <a:br>
              <a:rPr sz="2800"/>
            </a:b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(ESO vastutusala)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      (4)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6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t-EE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24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919" name="Picture 5" descr="Eesti statistika_vahe_mereroh"/>
          <p:cNvPicPr/>
          <p:nvPr/>
        </p:nvPicPr>
        <p:blipFill>
          <a:blip r:embed="rId1"/>
          <a:stretch/>
        </p:blipFill>
        <p:spPr>
          <a:xfrm>
            <a:off x="-7920" y="-7920"/>
            <a:ext cx="9159840" cy="6877080"/>
          </a:xfrm>
          <a:prstGeom prst="rect">
            <a:avLst/>
          </a:prstGeom>
          <a:ln w="0">
            <a:noFill/>
          </a:ln>
        </p:spPr>
      </p:pic>
      <p:sp>
        <p:nvSpPr>
          <p:cNvPr id="920" name="Date Placeholder 9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317F4-6676-494D-AFFA-828C18974467}" type="datetime">
              <a:rPr b="0" lang="et-EE" sz="1200" spc="-1" strike="noStrike">
                <a:solidFill>
                  <a:srgbClr val="003951"/>
                </a:solidFill>
                <a:latin typeface="Arial"/>
              </a:rPr>
              <a:t>29.7.2026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21" name="Rectangle 71"/>
          <p:cNvSpPr/>
          <p:nvPr/>
        </p:nvSpPr>
        <p:spPr>
          <a:xfrm>
            <a:off x="539640" y="260280"/>
            <a:ext cx="5112000" cy="3673440"/>
          </a:xfrm>
          <a:prstGeom prst="rect">
            <a:avLst/>
          </a:prstGeom>
          <a:solidFill>
            <a:srgbClr val="003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22" name="Rectangle 2"/>
          <p:cNvSpPr/>
          <p:nvPr/>
        </p:nvSpPr>
        <p:spPr>
          <a:xfrm>
            <a:off x="755640" y="836640"/>
            <a:ext cx="30956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RSSO tööd 2013-2017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23" name="Rectangle 3"/>
          <p:cNvSpPr/>
          <p:nvPr/>
        </p:nvSpPr>
        <p:spPr>
          <a:xfrm>
            <a:off x="826920" y="3500280"/>
            <a:ext cx="44960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Arial"/>
              </a:rPr>
              <a:t>Urve Kask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ahvastiku- ja sotsiaalstatistika</a:t>
            </a:r>
            <a:endParaRPr b="1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osakonna juhataja</a:t>
            </a:r>
            <a:endParaRPr b="1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24" name="AutoShape 2"/>
          <p:cNvSpPr/>
          <p:nvPr/>
        </p:nvSpPr>
        <p:spPr>
          <a:xfrm>
            <a:off x="-7920" y="-7920"/>
            <a:ext cx="9159840" cy="68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1377720" y="547560"/>
            <a:ext cx="578628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Arendustööd:</a:t>
            </a:r>
            <a:br>
              <a:rPr sz="2800"/>
            </a:br>
            <a:br>
              <a:rPr sz="600"/>
            </a:br>
            <a:r>
              <a:rPr b="1" lang="et-EE" sz="2400" spc="-1" strike="noStrike" u="sng">
                <a:solidFill>
                  <a:srgbClr val="003951"/>
                </a:solidFill>
                <a:uFillTx/>
                <a:latin typeface="Arial"/>
              </a:rPr>
              <a:t>Sotsiaalelu</a:t>
            </a:r>
            <a:br>
              <a:rPr sz="2800"/>
            </a:b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1028880" y="1412640"/>
            <a:ext cx="77911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50640" indent="-350640"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 u="sng">
                <a:solidFill>
                  <a:srgbClr val="003951"/>
                </a:solidFill>
                <a:uFillTx/>
                <a:latin typeface="Arial"/>
              </a:rPr>
              <a:t>Absoluutne vaesus </a:t>
            </a:r>
            <a:br>
              <a:rPr sz="20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erinevate andmeallikate valideerimine leidmaks sobivad andmeallikad absoluutse vaesuse mõõtmiseks;absoluutse vaesuse indikaatorite väljatöötamine ja publitseerimine)</a:t>
            </a:r>
            <a:br>
              <a:rPr sz="18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50640" indent="-35064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 u="sng">
                <a:solidFill>
                  <a:srgbClr val="003951"/>
                </a:solidFill>
                <a:uFillTx/>
                <a:latin typeface="Arial"/>
              </a:rPr>
              <a:t>Heaolu mõõtmine </a:t>
            </a:r>
            <a:br>
              <a:rPr sz="20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heaolu kontseptsiooni koostamine; erinevate andmeallikate valideerimine leidmaks sobivad andmeallikad heaolu mõõtmiseks; heaolu indikaatorite väljatöötamine ja publitseerimine)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50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951"/>
              </a:solidFill>
              <a:latin typeface="Arial"/>
            </a:endParaRPr>
          </a:p>
          <a:p>
            <a:pPr marL="350640" indent="-35064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 u="sng">
                <a:solidFill>
                  <a:srgbClr val="003951"/>
                </a:solidFill>
                <a:uFillTx/>
                <a:latin typeface="Arial"/>
              </a:rPr>
              <a:t>Edukus tööturul </a:t>
            </a:r>
            <a:br>
              <a:rPr sz="20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baseerub EHISE ja EMTA andmete linkimisel; eesmärgiks: õppurite, lõpetajate sisenemine tööturule; katkestajate edasine käekäik – indikaatorite väljatöötamine iga-aastaseks monitoorimiseks)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50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951"/>
              </a:solidFill>
              <a:latin typeface="Arial"/>
            </a:endParaRPr>
          </a:p>
          <a:p>
            <a:pPr marL="350640" indent="-35064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 u="sng">
                <a:solidFill>
                  <a:srgbClr val="003951"/>
                </a:solidFill>
                <a:uFillTx/>
                <a:latin typeface="Arial"/>
              </a:rPr>
              <a:t>Kohalike omavalitsuste sotsiaalse kaitse kulutuste klassifikaatori metoodika arendus</a:t>
            </a: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 </a:t>
            </a:r>
            <a:br>
              <a:rPr sz="20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kohalike omavalitsuste poolt tehtavate kulutuste parem kajastamine sotsiaalse kaitse kulutuste arvepidamise süsteemis)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50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0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0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2340000" y="404640"/>
            <a:ext cx="640872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Statistikatööde finantseerimine</a:t>
            </a:r>
            <a:br>
              <a:rPr sz="2800"/>
            </a:b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 ja kulude liigendus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(2013.aasta, tuhat eurot)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827" name="Picture 7" descr=""/>
          <p:cNvPicPr/>
          <p:nvPr/>
        </p:nvPicPr>
        <p:blipFill>
          <a:blip r:embed="rId1"/>
          <a:stretch/>
        </p:blipFill>
        <p:spPr>
          <a:xfrm>
            <a:off x="826920" y="1484280"/>
            <a:ext cx="7777440" cy="35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8" name=""/>
          <p:cNvGraphicFramePr/>
          <p:nvPr/>
        </p:nvGraphicFramePr>
        <p:xfrm>
          <a:off x="1258920" y="5013360"/>
          <a:ext cx="7489800" cy="1530360"/>
        </p:xfrm>
        <a:graphic>
          <a:graphicData uri="http://schemas.openxmlformats.org/drawingml/2006/table">
            <a:tbl>
              <a:tblPr/>
              <a:tblGrid>
                <a:gridCol w="2278080"/>
                <a:gridCol w="1382760"/>
                <a:gridCol w="1270080"/>
                <a:gridCol w="1663560"/>
                <a:gridCol w="895320"/>
              </a:tblGrid>
              <a:tr h="43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tseerimine/                                     kulu liigendus</a:t>
                      </a:r>
                      <a:endParaRPr b="1" lang="en-US" sz="11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igieelarve</a:t>
                      </a:r>
                      <a:endParaRPr b="1" lang="en-US" sz="11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atulu</a:t>
                      </a:r>
                      <a:endParaRPr b="1" lang="en-US" sz="11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älisabi ja välisabi kaasfinantseerimine</a:t>
                      </a:r>
                      <a:endParaRPr b="1" lang="en-US" sz="11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KKU</a:t>
                      </a:r>
                      <a:endParaRPr b="1" lang="en-US" sz="11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1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r>
                        <a:rPr b="1" lang="et-EE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t-E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steeringud</a:t>
                      </a:r>
                      <a:endParaRPr b="1" lang="en-US" sz="11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3,7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3,7</a:t>
                      </a:r>
                      <a:endParaRPr b="1" lang="en-US" sz="11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100" spc="-1" strike="noStrike">
                          <a:solidFill>
                            <a:srgbClr val="993300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r>
                        <a:rPr b="1" lang="et-EE" sz="11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   </a:t>
                      </a:r>
                      <a:r>
                        <a:rPr b="1" lang="et-E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alikulud</a:t>
                      </a:r>
                      <a:endParaRPr b="1" lang="en-US" sz="11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817,3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2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0,0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066,5</a:t>
                      </a:r>
                      <a:endParaRPr b="1" lang="en-US" sz="11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100" spc="-1" strike="noStrike">
                          <a:solidFill>
                            <a:srgbClr val="808000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r>
                        <a:rPr b="1" lang="et-EE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t-E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jandamiskulud</a:t>
                      </a:r>
                      <a:endParaRPr b="1" lang="en-US" sz="11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0,5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,0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5,5</a:t>
                      </a:r>
                      <a:endParaRPr b="1" lang="en-US" sz="11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KKU</a:t>
                      </a:r>
                      <a:endParaRPr b="1" lang="en-US" sz="11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031,5</a:t>
                      </a:r>
                      <a:endParaRPr b="1" lang="en-US" sz="11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2</a:t>
                      </a:r>
                      <a:endParaRPr b="1" lang="en-US" sz="11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5,0</a:t>
                      </a:r>
                      <a:endParaRPr b="1" lang="en-US" sz="11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335,7</a:t>
                      </a:r>
                      <a:endParaRPr b="1" lang="en-US" sz="11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"/>
          <p:cNvSpPr txBox="1"/>
          <p:nvPr/>
        </p:nvSpPr>
        <p:spPr>
          <a:xfrm>
            <a:off x="1042560" y="1915920"/>
            <a:ext cx="7777080" cy="448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 u="sng">
                <a:solidFill>
                  <a:srgbClr val="003951"/>
                </a:solidFill>
                <a:uFillTx/>
                <a:latin typeface="Arial"/>
              </a:rPr>
              <a:t>Integreeritud sotsiaaluuringud </a:t>
            </a: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200" spc="-1" strike="noStrike">
                <a:solidFill>
                  <a:srgbClr val="003951"/>
                </a:solidFill>
                <a:latin typeface="Arial"/>
              </a:rPr>
              <a:t>(2013-2015) </a:t>
            </a:r>
            <a:br>
              <a:rPr sz="2000"/>
            </a:b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(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eesmärgiks uuringute üleviimine mooduliteks; korduvate küsimuste vähendamine; täiendava informatsiooni saamine  läbi tausttunnuste erinevate moodulite seostamise; põhieesmärk - andmekogumise vähendamine; vajaliku informatsiooni kiirem saamine)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377720" y="475920"/>
            <a:ext cx="57862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Arendustööd (2): </a:t>
            </a:r>
            <a:br>
              <a:rPr sz="2800"/>
            </a:br>
            <a:br>
              <a:rPr sz="800"/>
            </a:br>
            <a:r>
              <a:rPr b="1" lang="et-EE" sz="2400" spc="-1" strike="noStrike" u="sng">
                <a:solidFill>
                  <a:srgbClr val="003951"/>
                </a:solidFill>
                <a:uFillTx/>
                <a:latin typeface="Arial"/>
              </a:rPr>
              <a:t> Küsitlusstatistika </a:t>
            </a:r>
            <a:br>
              <a:rPr sz="2800"/>
            </a:b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29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Ebaregulaarsed tööd: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 u="sng">
                <a:solidFill>
                  <a:srgbClr val="003951"/>
                </a:solidFill>
                <a:uFillTx/>
                <a:latin typeface="Arial"/>
              </a:rPr>
              <a:t>Rahvastik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ahvastikustatistika vanemate aastate sisestus (aastate 1945-1959 raames valitud aastate uussisestus regionaalsel tasandil rahvastikustruktuuri taastamise eesmärgil); (2013;2014)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ahva ja eluruumide loendus (väljundi koostamine avaliku andmebaasi tarbeks) (2013; 2014)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ahvastiku prognoosid MicMac prognoosimudeli alusel (2013)</a:t>
            </a:r>
            <a:br>
              <a:rPr sz="2000"/>
            </a:b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 u="sng">
                <a:solidFill>
                  <a:srgbClr val="003951"/>
                </a:solidFill>
                <a:uFillTx/>
                <a:latin typeface="Arial"/>
              </a:rPr>
              <a:t>Sotsiaalelu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egionaalne haridusstatistika ( täiendavate hariduse indikaatorite publitseerimine regionaalsel tasandil) (2013)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32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Ebaregulaarsed tööd (2):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824400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 u="sng">
                <a:solidFill>
                  <a:srgbClr val="003951"/>
                </a:solidFill>
                <a:uFillTx/>
                <a:latin typeface="Arial"/>
              </a:rPr>
              <a:t>Sotsiaalelu</a:t>
            </a:r>
            <a:br>
              <a:rPr sz="2400"/>
            </a:br>
            <a:r>
              <a:rPr b="1" lang="et-EE" sz="2400" spc="-1" strike="noStrike" u="sng">
                <a:solidFill>
                  <a:srgbClr val="003951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Sotsiaaluuringu moodulid: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 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* “Elamistingimused” 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andmete publitseerimine - 2013)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 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* “Heaolu” 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välitööd 2013, publitseerimine 2014)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 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* “Sotsiaalne osalemine” 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välitööd 2014,publitseerimine 2015)</a:t>
            </a:r>
            <a:br>
              <a:rPr sz="1800"/>
            </a:b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Leibkonna eelarve uuring </a:t>
            </a:r>
            <a:br>
              <a:rPr sz="20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publitseerimine 2013; ettevalmistustööd 2014; välitööd 2015; 2016)</a:t>
            </a:r>
            <a:br>
              <a:rPr sz="18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Tarbimiskulutuste prognoos </a:t>
            </a:r>
            <a:br>
              <a:rPr sz="20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katab kahte aastat 2013-2014, siis kui LEU-d ei toimu)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35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Ebaregulaarsed tööd (3):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900000" y="1699920"/>
            <a:ext cx="7344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57840" indent="-35784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urismi ja kultuuritarbimise mooduluuring </a:t>
            </a:r>
            <a:br>
              <a:rPr sz="24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välitööde läbiviimine 2013, andmete publitseerimine 2013)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57840" indent="-357840">
              <a:spcBef>
                <a:spcPts val="2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951"/>
              </a:solidFill>
              <a:latin typeface="Arial"/>
            </a:endParaRPr>
          </a:p>
          <a:p>
            <a:pPr marL="357840" indent="-35784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äiskasvanute koolituse uuring isiku tasandil </a:t>
            </a:r>
            <a:br>
              <a:rPr sz="24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ettevalmistustööd 2016, välitööd 2017) 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57840" indent="-357840">
              <a:spcBef>
                <a:spcPts val="2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951"/>
              </a:solidFill>
              <a:latin typeface="Arial"/>
            </a:endParaRPr>
          </a:p>
          <a:p>
            <a:pPr marL="357840" indent="-3578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uroopa Nõukogu terviseuuring</a:t>
            </a:r>
            <a:br>
              <a:rPr sz="24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planeeritav aasta 2014)</a:t>
            </a:r>
            <a:br>
              <a:rPr sz="18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57840" indent="-3578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uroopa Nõukogu turvalisuse uuring</a:t>
            </a:r>
            <a:br>
              <a:rPr sz="24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lükkub aastasse 2014)</a:t>
            </a:r>
            <a:br>
              <a:rPr sz="18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57840" indent="-35784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ööelu uuring</a:t>
            </a:r>
            <a:br>
              <a:rPr sz="24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välitööd planeeritud 2014)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38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Ebaregulaarsed tööd (4):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826920" y="1682640"/>
            <a:ext cx="849816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2520" indent="-45252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200" spc="-1" strike="noStrike">
                <a:solidFill>
                  <a:srgbClr val="003951"/>
                </a:solidFill>
                <a:latin typeface="Arial"/>
              </a:rPr>
              <a:t>Tööjõu uuringu moodulid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:</a:t>
            </a:r>
            <a:br>
              <a:rPr sz="2400"/>
            </a:b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425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3951"/>
                </a:solidFill>
                <a:latin typeface="Arial"/>
              </a:rPr>
              <a:t>*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öölt pensionile </a:t>
            </a:r>
            <a:br>
              <a:rPr sz="2000"/>
            </a:b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publitseerimine 2013)</a:t>
            </a:r>
            <a:br>
              <a:rPr sz="1800"/>
            </a:b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2" marL="1425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* Tööõnnetused ja tööga seotud tervisehäired – 4 </a:t>
            </a:r>
            <a:br>
              <a:rPr sz="2000"/>
            </a:b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välitööd 2013 ja publitseerimine 2014)</a:t>
            </a:r>
            <a:br>
              <a:rPr sz="1800"/>
            </a:br>
            <a:br>
              <a:rPr sz="800"/>
            </a:b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* Immigrantrahvastik – 2013-2015 </a:t>
            </a:r>
            <a:br>
              <a:rPr sz="2000"/>
            </a:b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ettevalmistustööd, välitööd -2013, andmetöötlus 2014 ja </a:t>
            </a:r>
            <a:br>
              <a:rPr sz="18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   publitseerimine 2015)</a:t>
            </a:r>
            <a:br>
              <a:rPr sz="1800"/>
            </a:b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2" marL="1425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* Töötaja kohanemine ja töökorraldus” </a:t>
            </a:r>
            <a:br>
              <a:rPr sz="2000"/>
            </a:b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ettevalmistustööd 2014; välitööd 2015; avaldamine 2016)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452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41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258560" y="404280"/>
            <a:ext cx="757548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Planeeritavad analüütilised ja metoodilised kogumikud:</a:t>
            </a:r>
            <a:br>
              <a:rPr sz="2400"/>
            </a:b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43" name=""/>
          <p:cNvSpPr txBox="1"/>
          <p:nvPr/>
        </p:nvSpPr>
        <p:spPr>
          <a:xfrm>
            <a:off x="900000" y="1969920"/>
            <a:ext cx="80647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otsiaaltrendid - 2013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Laste heaolu – 2013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Leibkonna eelarve metoodikaraport – 2013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esti rahvastik läbi loendusprisma - 2014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Puudega inimeste heaolu ja sotsiaalne integratsioon – 2014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öövaldkond - 2014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44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"/>
          <p:cNvSpPr txBox="1"/>
          <p:nvPr/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rmAutofit/>
          </a:bodyPr>
          <a:p>
            <a:pPr marL="361800" indent="-3618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400" spc="-1" strike="noStrike">
                <a:solidFill>
                  <a:srgbClr val="003951"/>
                </a:solidFill>
                <a:latin typeface="Arial"/>
              </a:rPr>
              <a:t>Täname kuulamast!</a:t>
            </a:r>
            <a:endParaRPr b="0" lang="en-US" sz="4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t-EE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48" name="Date Placeholder 10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6C433-A629-467F-8A63-12D85592C64E}" type="datetime">
              <a:rPr b="0" lang="et-EE" sz="1200" spc="-1" strike="noStrike">
                <a:solidFill>
                  <a:srgbClr val="003951"/>
                </a:solidFill>
                <a:latin typeface="Arial"/>
              </a:rPr>
              <a:t>29.7.2026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49" name="Footer Placeholder 11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Esitluse või esitleja nimi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950" name="Picture 5" descr="Eesti statistika_vahe_laim"/>
          <p:cNvPicPr/>
          <p:nvPr/>
        </p:nvPicPr>
        <p:blipFill>
          <a:blip r:embed="rId1"/>
          <a:stretch/>
        </p:blipFill>
        <p:spPr>
          <a:xfrm>
            <a:off x="-9360" y="-12600"/>
            <a:ext cx="917100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2590560" y="549000"/>
            <a:ext cx="64450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Statistikatööde maksumus </a:t>
            </a:r>
            <a:br>
              <a:rPr sz="3200"/>
            </a:b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valdkonniti 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(tuhat EUR)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831" name="Picture 5" descr="Picture1.png"/>
          <p:cNvPicPr/>
          <p:nvPr/>
        </p:nvPicPr>
        <p:blipFill>
          <a:blip r:embed="rId1"/>
          <a:stretch/>
        </p:blipFill>
        <p:spPr>
          <a:xfrm>
            <a:off x="1692360" y="1557360"/>
            <a:ext cx="6408720" cy="47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2411280" y="189000"/>
            <a:ext cx="655344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2013.aasta statistikatööde maksumus valdkonniti ja liigiti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(tuhat EUR)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33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834" name="Chart 4" descr=""/>
          <p:cNvPicPr/>
          <p:nvPr/>
        </p:nvPicPr>
        <p:blipFill>
          <a:blip r:embed="rId1"/>
          <a:stretch/>
        </p:blipFill>
        <p:spPr>
          <a:xfrm>
            <a:off x="749160" y="1481040"/>
            <a:ext cx="8040960" cy="46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t-EE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24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837" name="Picture 5" descr="Eesti statistika_vahe_mereroh"/>
          <p:cNvPicPr/>
          <p:nvPr/>
        </p:nvPicPr>
        <p:blipFill>
          <a:blip r:embed="rId1"/>
          <a:stretch/>
        </p:blipFill>
        <p:spPr>
          <a:xfrm>
            <a:off x="-7920" y="-7920"/>
            <a:ext cx="9159840" cy="6877080"/>
          </a:xfrm>
          <a:prstGeom prst="rect">
            <a:avLst/>
          </a:prstGeom>
          <a:ln w="0">
            <a:noFill/>
          </a:ln>
        </p:spPr>
      </p:pic>
      <p:sp>
        <p:nvSpPr>
          <p:cNvPr id="838" name="Date Placeholder 9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477B4-ED46-4303-9CE2-EFAB26E2051F}" type="datetime">
              <a:rPr b="0" lang="et-EE" sz="1200" spc="-1" strike="noStrike">
                <a:solidFill>
                  <a:srgbClr val="003951"/>
                </a:solidFill>
                <a:latin typeface="Arial"/>
              </a:rPr>
              <a:t>29.7.2026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39" name="Rectangle 71"/>
          <p:cNvSpPr/>
          <p:nvPr/>
        </p:nvSpPr>
        <p:spPr>
          <a:xfrm>
            <a:off x="539640" y="260280"/>
            <a:ext cx="5112000" cy="3673440"/>
          </a:xfrm>
          <a:prstGeom prst="rect">
            <a:avLst/>
          </a:prstGeom>
          <a:solidFill>
            <a:srgbClr val="003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40" name="Rectangle 2"/>
          <p:cNvSpPr/>
          <p:nvPr/>
        </p:nvSpPr>
        <p:spPr>
          <a:xfrm>
            <a:off x="755640" y="836640"/>
            <a:ext cx="29527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HPSO tööd 2013-2017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41" name="Rectangle 3"/>
          <p:cNvSpPr/>
          <p:nvPr/>
        </p:nvSpPr>
        <p:spPr>
          <a:xfrm>
            <a:off x="826920" y="3476520"/>
            <a:ext cx="44960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Arial"/>
              </a:rPr>
              <a:t>Viktoria Trasanov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inna- ja palgastatistika osakonna juhataja</a:t>
            </a:r>
            <a:endParaRPr b="1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42" name="AutoShape 2"/>
          <p:cNvSpPr/>
          <p:nvPr/>
        </p:nvSpPr>
        <p:spPr>
          <a:xfrm>
            <a:off x="-7920" y="-7920"/>
            <a:ext cx="9159840" cy="68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Uut hinnastatistika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44" name=""/>
          <p:cNvSpPr txBox="1"/>
          <p:nvPr/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eluaseme soetushinnainde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valdamist alustame 2012. aasta septembrist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indeks on arvatud makromajandusliku</a:t>
            </a:r>
            <a:r>
              <a:rPr b="0" lang="fi-FI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asakaalustamatuse näitajate hulka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indeksi tootmist nõudev EL määrus </a:t>
            </a:r>
            <a:br>
              <a:rPr sz="2000"/>
            </a:b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on vastuvõtmis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45" name="Date Placeholder 4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Uut hinnastatistikas (2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47" name=""/>
          <p:cNvSpPr txBox="1"/>
          <p:nvPr/>
        </p:nvSpPr>
        <p:spPr>
          <a:xfrm>
            <a:off x="394920" y="1412640"/>
            <a:ext cx="84978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omaniku poolt asustatud eluaseme kulutuste hinnainde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väljatöötamisfaasi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lisaks eluaseme soetusele peab katma ka muud </a:t>
            </a:r>
            <a:br>
              <a:rPr sz="2000"/>
            </a:b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eluaseme soetamise ja omamisega seotud kulutused, kindlustuse ja kapitaalremondi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vastuvõtmisel olev EL määrus nõuab indeksite </a:t>
            </a:r>
            <a:br>
              <a:rPr sz="2000"/>
            </a:b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valdamise alustamist 2014. aasta III kvartali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48" name="Date Placeholder 4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Uut hinnastatistikas (3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äriteenuste tootjahinnaindeksi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ootmisesse on juurutatud 11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3 on väljatöötamisel ja alustamata on tööd 7-ga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puudub ka EL majanduslike põhinäitajate hulka kuuluv koondindek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indeksid on nõutavad EL määrusega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viimased juurutamistähtaegu puudutavad erandid Eestile lõppesid 11. augustil 2009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51" name="Date Placeholder 4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06:06:14Z</dcterms:created>
  <dc:creator>user</dc:creator>
  <dc:description/>
  <dc:language>en-US</dc:language>
  <cp:lastModifiedBy>meelissoo</cp:lastModifiedBy>
  <dcterms:modified xsi:type="dcterms:W3CDTF">2012-06-26T10:22:56Z</dcterms:modified>
  <cp:revision>94</cp:revision>
  <dc:subject/>
  <dc:title>Slide 1</dc:title>
</cp:coreProperties>
</file>