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  <p:sldId id="290" r:id="rId57"/>
    <p:sldId id="291" r:id="rId58"/>
    <p:sldId id="29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slide" Target="slides/slide35.xml"/><Relationship Id="rId58" Type="http://schemas.openxmlformats.org/officeDocument/2006/relationships/slide" Target="slides/slide36.xml"/><Relationship Id="rId59" Type="http://schemas.openxmlformats.org/officeDocument/2006/relationships/slide" Target="slides/slide37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24AF-0B5D-4B78-BA36-4AF73E8F0872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SA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avaldab rahandusministrile arvamust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RSP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ja selle muudatuste kohta enne nende kinnitam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E5FF-A670-4524-BC4A-888B9D3B6D4C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7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dt" idx="1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BD40-A5B6-4F67-A368-F2DD225B8C91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dt" idx="1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425E-07FD-4D2D-A2DA-10187623C1DD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1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dt" idx="1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CE88-C37E-444D-9CA7-84314BCD433F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1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dt" idx="1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CD8A-7E07-41B2-9CB3-C6E54642A03F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1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dt" idx="18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FAA6-867E-409B-B919-84E4AD8637A4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1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dt" idx="2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F4BA-B904-4D31-BB7C-BBFF74FF70A4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ftr" idx="2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dt" idx="2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6C93-C40C-42B0-9066-E97C2023E0F2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2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dt" idx="2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45C2-BAD4-4C3C-91DD-94349F56877C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ftr" idx="2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dt" idx="2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56BD-67BD-46E3-A6FC-44904A60A59B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ftr" idx="2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dt" idx="28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E1D2-045D-420A-AA1A-999F7F00F0B8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2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3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dt" idx="3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7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77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ftr" idx="2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dt" idx="3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A774-7ACA-4206-8B3A-D5F97B0C9B6B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4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dt" idx="5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CBBC-530D-4D08-A381-147755CC5D51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6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dt" idx="7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D814-9C63-43B2-9922-C6A19C19FBA1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8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040" y="898200"/>
            <a:ext cx="449892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SA 201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–201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7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 aasta statistikatööde loetelu projekti menetlu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012320" y="3284280"/>
            <a:ext cx="44960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iktoria Trasanov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gnes Naarit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ne Saareoj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Urve Kask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4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ööstustoodangu tootja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nne € üks ekspordi alamind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€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sutuselevõtuga seoses algas 2 indeksi tootmine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- eksport eurotsooni riikidesse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- eksport mitte-eurotsooni riikides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ma jagunemine tekkis ka impordihinnaindeksis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4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57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58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9401-0546-4721-AE1D-BF3F8C954113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8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9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0" name="Rectangle 2"/>
          <p:cNvSpPr/>
          <p:nvPr/>
        </p:nvSpPr>
        <p:spPr>
          <a:xfrm>
            <a:off x="755640" y="836640"/>
            <a:ext cx="2521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RFKA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826920" y="3189240"/>
            <a:ext cx="4496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Agnes Naarit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ahvamajanduse, finants- ja 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keskkonna arvepidamise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2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majanduse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e statistikatööna planeeritud juba 2012, kuid seni eelarvest väljas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Uue ESA andme­edastusprogrammi juurutamine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SA2010 uus andmeedastusprogramm detailsem, tähtajad lüheneva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telliitarvepidamine: teadus- ja arendustegev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edastustähtaeg: september 2014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endused tehakse põhistatistika kõrvalt – edenemine aegla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5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Finants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s töö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07784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hjukindlustuse lisaandmed – EKSL tellim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arvest väljas nii 2012 kui 2013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07784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ensionide satelliitkonto – andmeedastuse tähtaeg 2014!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emasolevate tööde arendus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litsemissektori võla- ja defitsiidiarvestus detailsemaks, lisandub avaliku sektori vaade (valitsemissektor + riigi ja KOV ettevõtted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gumajanduse finantskonto detailsemaks – OECD vajadused rahuldamat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rendused tavaprogrammi kõrvalt, edenemine aegla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eskkonna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eelarvega 2013: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llumajanduskeskkonna näitajad – PõM  tellim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Õhuemissioonide arvepidamine – uus EL määr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astus kolmest uuest kohustuslikust moodulist vaid üh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määruse eelnõu menetlemine käimas: veel kolm uut moodulit kohustusli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etkel arendused rahastatud Eurostati poo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uud põhistatistika tööd alaraha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1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eskkonna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395280" y="1336680"/>
          <a:ext cx="8280360" cy="4437000"/>
        </p:xfrm>
        <a:graphic>
          <a:graphicData uri="http://schemas.openxmlformats.org/drawingml/2006/table">
            <a:tbl>
              <a:tblPr/>
              <a:tblGrid>
                <a:gridCol w="863640"/>
                <a:gridCol w="2089080"/>
                <a:gridCol w="1224000"/>
                <a:gridCol w="1008000"/>
                <a:gridCol w="1079640"/>
                <a:gridCol w="1081080"/>
                <a:gridCol w="934920"/>
              </a:tblGrid>
              <a:tr h="4316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-töö nr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katöö nimi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s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hastamin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4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5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Põllumajanduskeskkonna näitaja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PõM tellimus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3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rendus</a:t>
                      </a: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: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arvepidamised</a:t>
                      </a: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: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406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õhuemissiooni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6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aterjalivoog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4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maks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549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6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tooteid ja –teenuseid tootev sektor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aotlus Eurostatile edastat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kaitsekulutuse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nergiakonto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78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79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CE02-A6D6-48DC-88FB-963F3A076CFC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8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0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1" name="Rectangle 2"/>
          <p:cNvSpPr/>
          <p:nvPr/>
        </p:nvSpPr>
        <p:spPr>
          <a:xfrm>
            <a:off x="755640" y="836640"/>
            <a:ext cx="2736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E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826920" y="3500280"/>
            <a:ext cx="44960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Ene Saareoja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ttevõtlusstatistika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3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märk – saada teavet äriteenindusettevõtete poolt osutatud teenuste müügistruktuuri kohta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enuste liigitus CPA 6-kohaline koodi tasemel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ca 100 teenuse liiki)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identide ja mitteresidentide (sh EL ja ülejäänud riigid) lõik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lik alus – EP ja EN määrus (nr 295/2008, 11.03.2008) ettevõtluse struktuurstatistikast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ates 2008.a. andmetest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leminekuaeg 3 aasta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kohustuse realiseerimin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3 arendustöö;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ates 2014 statistika korraline tegemine </a:t>
            </a:r>
            <a:br>
              <a:rPr sz="24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esimesed andmed 2013 aasta koht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tegemine sõltuvalt äriteenindusettevõtete tegevusalast – kas iga aasta või üle aasta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surss – täiendavad vahendid SA eelarves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 juhtivstatistiku tööle võtmiseks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gaaastane statistika arvuti-, reklaami- ja tööhõivealaste teenuste struktuuri koht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heaastane statistika õigusabi-, arvepidamis-, raamatupidamis-, auditeerimis-, maksu- ja juhtimislaste nõustamise, turu-uuringute, arhitektuurialaste, inseneriteenuste struktuuri koht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nõue – uuringuga katta 20- ja enama töötajaga ettevõtted – ei anna Eesti äriteenuste turu kohta kvaliteetset andmestikku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andmeesitajate koormus, haldusandmeid teenuste müügistruktuurist ei ole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8. jaanuar – saatsime välja kirja, kus teavitasime statistika tarbijaid, et SA on alustanud 2013.–2017. aasta statistikatööde kavand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5. mai – tegime RSP kättesaadavaks Statistikanõukogu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. juuli – RSP peab olema esitatud Rahandusministeeriumi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P 2013. a maksumus on 6 335 700 euro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4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4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ed äriteenuste liikidest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Õigusabiteenused: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õigusabi- ja esindusteenused kriminaalõiguse valla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äri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töö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tsiviil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tentide, autoriõiguse ja muu intellektuaalomandiõigusega seotud õigusabi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otariaalsed 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rbitraaži- ja lepi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nampakkumistega seotud õigusabi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õigusabiteenused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684000" y="1699920"/>
            <a:ext cx="7515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ed äriteenuste liikidest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htimisalased nõustamisteenused: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uhtekorraldus- ja teabevahetu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rateegilis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finantsjuhtimisalased nõustamisteenused (v.a ettevõtte tulumaksualased)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urundus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ersonali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ootmis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arneahela ja muud juhtimis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äriprotsessid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projektijuhtimisteenused, v.a ehituse juhtimise alased 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äri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aubamärgid ja frantsiisid.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7" name="Rectangle 2"/>
          <p:cNvSpPr/>
          <p:nvPr/>
        </p:nvSpPr>
        <p:spPr>
          <a:xfrm>
            <a:off x="1258920" y="47628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5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9" name="Object 5"/>
          <p:cNvGraphicFramePr/>
          <p:nvPr/>
        </p:nvGraphicFramePr>
        <p:xfrm>
          <a:off x="900000" y="1268280"/>
          <a:ext cx="770436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68280"/>
                    <a:ext cx="770436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Object 3"/>
          <p:cNvGraphicFramePr/>
          <p:nvPr/>
        </p:nvGraphicFramePr>
        <p:xfrm>
          <a:off x="1332000" y="1341360"/>
          <a:ext cx="698508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98508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1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515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andmete laialdasem kasu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saressurss tagab kiirema edasiliikumise  maksustamisandmete jt andmekogude andmete kasutuselevõtul statistika tege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ldatav maksumus 100 000 eurot aastas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(sh IT arendus ca 50 000 euro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alduskoormuse vähene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maine tõ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 2013 jätkatakse haldusandmete kasutuselevõtuga sisemise ressurssi toel, kuid edasiliikumise kiirus ei vasta andmeesitajate ootustel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7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2"/>
          <p:cNvSpPr/>
          <p:nvPr/>
        </p:nvSpPr>
        <p:spPr>
          <a:xfrm>
            <a:off x="1411200" y="62856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2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94920" y="170028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andmete laialdasema kasutuselevõtuga seotud tegevus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 andmete ja andmekogude andmete ühilduvusanalüüs detailsel tasem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alüüsi tulemuste põhjal valdkonnastatistika tegemise metoodika (k.a mudelite) väljatööt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ogude andmekoosseisu täiendamisettepanekute esitamine ( vajadu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töötatud metoodika testimine tehes statistikat paralleelselt kahe meetodi alu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stimise tulemuste analüüs, vajadusel metoodika täiendamine ning statistika tegemise meetodi valik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 aruandevormide redisain (vajadu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T süsteemide (andmete kogumine ja töötlemine) aren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0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liskülastajad Eestis (uuringu taasalustamine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iskülastajate kulutuste struktuuri ja reisi eesmärgi uuring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imus1-2 korda aastas, viimati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d EP (maksebilansi koostamiseks), SA (THHI ja SKP koostamiseks), MKM (turismi arendami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ksumus ca 35 000 eurot + üldkulud aasta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3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3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nnisvara üürihinnad (uuringu taasalustamine)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u- ja mitteeluhoonete ja ruumide rendihinnad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lenevalt hoonete ja ruumide asukohast, liigist ning kvaliteediklassist kinnisvarabüroode andmet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imus kvartaalselt, viimati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d EP (EKP tellimus), SA (THI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ksumus ca 8 000 eurot + üldkulud aastas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4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919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920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84DB-7883-424C-9E38-7295EE92AE68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8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1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2" name="Rectangle 2"/>
          <p:cNvSpPr/>
          <p:nvPr/>
        </p:nvSpPr>
        <p:spPr>
          <a:xfrm>
            <a:off x="755640" y="836640"/>
            <a:ext cx="3095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RS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826920" y="3500280"/>
            <a:ext cx="44960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Urve Kask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ahvastiku- ja sotsiaalstatistik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4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77720" y="547560"/>
            <a:ext cx="57862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rendustööd:</a:t>
            </a:r>
            <a:br>
              <a:rPr sz="2800"/>
            </a:br>
            <a:br>
              <a:rPr sz="6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br>
              <a:rPr sz="28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028880" y="1412640"/>
            <a:ext cx="7791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Absoluutne vaesus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rinevate andmeallikate valideerimine leidmaks sobivad andmeallikad absoluutse vaesuse mõõtmiseks;absoluutse vaesuse indikaatorite väljatöötamine ja publitseerimine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Heaolu mõõtmine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heaolu kontseptsiooni koostamine; erinevate andmeallikate valideerimine leidmaks sobivad andmeallikad heaolu mõõtmiseks; heaolu indikaatorite väljatöötamine ja publitseerimin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Edukus tööturul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baseerub EHISE ja EMTA andmete linkimisel; eesmärgiks: õppurite, lõpetajate sisenemine tööturule; katkestajate edasine käekäik – indikaatorite väljatöötamine iga-aastaseks monitoorimiseks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Kohalike omavalitsuste sotsiaalse kaitse kulutuste klassifikaatori metoodika arendus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kohalike omavalitsuste poolt tehtavate kulutuste parem kajastamine sotsiaalse kaitse kulutuste arvepidamise süsteemis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340000" y="40464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atistikatööde finantseerimine</a:t>
            </a:r>
            <a:br>
              <a:rPr sz="2800"/>
            </a:b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ja kulude liigendus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2013.aasta, tuhat eurot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7" name="Picture 7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77744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8" name=""/>
          <p:cNvGraphicFramePr/>
          <p:nvPr/>
        </p:nvGraphicFramePr>
        <p:xfrm>
          <a:off x="1258920" y="5013360"/>
          <a:ext cx="7489800" cy="1530360"/>
        </p:xfrm>
        <a:graphic>
          <a:graphicData uri="http://schemas.openxmlformats.org/drawingml/2006/table">
            <a:tbl>
              <a:tblPr/>
              <a:tblGrid>
                <a:gridCol w="2278080"/>
                <a:gridCol w="1382760"/>
                <a:gridCol w="1270080"/>
                <a:gridCol w="1663560"/>
                <a:gridCol w="895320"/>
              </a:tblGrid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tseerimine/                                     kulu liigendus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igieelarve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atul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älisabi ja välisabi kaasfinantseerimine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KK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eering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,7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,7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993300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ikul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17,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66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808000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andamiskul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,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KK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31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,0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35,7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1042560" y="1915920"/>
            <a:ext cx="777708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Integreeritud sotsiaaluuringud 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(2013-2015)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esmärgiks uuringute üleviimine mooduliteks; korduvate küsimuste vähendamine; täiendava informatsiooni saamine  läbi tausttunnuste erinevate moodulite seostamise; põhieesmärk - andmekogumise vähendamine; vajaliku informatsiooni kiirem saamin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377720" y="475920"/>
            <a:ext cx="5786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rendustööd (2): </a:t>
            </a:r>
            <a:br>
              <a:rPr sz="2800"/>
            </a:br>
            <a:br>
              <a:rPr sz="8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 Küsitlusstatistika </a:t>
            </a:r>
            <a:br>
              <a:rPr sz="28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Rahvastik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stikustatistika vanemate aastate sisestus (aastate 1945-1959 raames valitud aastate uussisestus regionaalsel tasandil rahvastikustruktuuri taastamise eesmärgil); (2013;2014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 ja eluruumide loendus (väljundi koostamine avaliku andmebaasi tarbeks) (2013; 2014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stiku prognoosid MicMac prognoosimudeli alusel (2013)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onaalne haridusstatistika ( täiendavate hariduse indikaatorite publitseerimine regionaalsel tasandil) (2013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2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82440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br>
              <a:rPr sz="24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otsiaaluuringu moodulid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Elamistingimused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andmete publitseerimine - 2013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Heaolu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3, publitseerimine 2014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Sotsiaalne osalemine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4,publitseerimine 2015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eibkonna eelarve uuring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ublitseerimine 2013; ettevalmistustööd 2014; välitööd 2015; 2016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arbimiskulutuste prognoos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katab kahte aastat 2013-2014, siis kui LEU-d ei toimu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3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900000" y="1699920"/>
            <a:ext cx="7344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rismi ja kultuuritarbimise mooduluuring 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e läbiviimine 2013, andmete publitseerimine 2013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2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skasvanute koolituse uuring isiku tasandil 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 2016, välitööd 2017)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2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Nõukogu tervise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laneeritav aasta 2014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Nõukogu turvalisuse 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lükkub aastasse 2014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elu 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planeeritud 2014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4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26920" y="1682640"/>
            <a:ext cx="84981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Tööjõu uuringu moodulid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*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lt pensionile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ublitseerimine 2013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Tööõnnetused ja tööga seotud tervisehäired – 4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3 ja publitseerimine 2014)</a:t>
            </a:r>
            <a:br>
              <a:rPr sz="1800"/>
            </a:br>
            <a:br>
              <a:rPr sz="8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Immigrantrahvastik – 2013-2015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, välitööd -2013, andmetöötlus 2014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  publitseerimine 2015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Töötaja kohanemine ja töökorraldus”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 2014; välitööd 2015; avaldamine 2016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452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1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57548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Planeeritavad analüütilised ja metoodilised kogumikud:</a:t>
            </a:r>
            <a:br>
              <a:rPr sz="24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900000" y="1969920"/>
            <a:ext cx="8064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otsiaaltrendid -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aste heaolu –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eibkonna eelarve metoodikaraport –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rahvastik läbi loendusprisma -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uudega inimeste heaolu ja sotsiaalne integratsioon –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valdkond -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marL="361800" indent="-361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3951"/>
                </a:solidFill>
                <a:latin typeface="Arial"/>
              </a:rPr>
              <a:t>Täname kuulamast!</a:t>
            </a:r>
            <a:endParaRPr b="0" lang="en-US" sz="4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8" name="Date Placeholder 10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BEDB-37C9-47A8-9A73-15412758CA64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8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9" name="Footer Placeholder 11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Esitluse või esitleja nimi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950" name="Picture 5" descr="Eesti statistika_vahe_laim"/>
          <p:cNvPicPr/>
          <p:nvPr/>
        </p:nvPicPr>
        <p:blipFill>
          <a:blip r:embed="rId1"/>
          <a:stretch/>
        </p:blipFill>
        <p:spPr>
          <a:xfrm>
            <a:off x="-9360" y="-12600"/>
            <a:ext cx="9171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590560" y="549000"/>
            <a:ext cx="6445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tööde maksumus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aldkonniti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tuhat EUR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1" name="Picture 5" descr="Picture1.png"/>
          <p:cNvPicPr/>
          <p:nvPr/>
        </p:nvPicPr>
        <p:blipFill>
          <a:blip r:embed="rId1"/>
          <a:stretch/>
        </p:blipFill>
        <p:spPr>
          <a:xfrm>
            <a:off x="1692360" y="1557360"/>
            <a:ext cx="640872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2013.aasta statistikatööde maksumus valdkonniti ja liigiti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tuhat EUR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4" name="Chart 4" descr=""/>
          <p:cNvPicPr/>
          <p:nvPr/>
        </p:nvPicPr>
        <p:blipFill>
          <a:blip r:embed="rId1"/>
          <a:stretch/>
        </p:blipFill>
        <p:spPr>
          <a:xfrm>
            <a:off x="749160" y="1481040"/>
            <a:ext cx="80409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7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38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A1FB-A412-4F8F-8F88-D34C46729AB2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8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9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755640" y="836640"/>
            <a:ext cx="2952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HP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826920" y="3476520"/>
            <a:ext cx="44960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Viktoria Trasanov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inna- ja palgastatistika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2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eluaseme soetus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mist alustame 2012. aasta septembri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 on arvatud makromajandusliku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sakaalustamatuse näitajate hulk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i tootmist nõudev EL määrus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n vastuvõt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5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94920" y="1412640"/>
            <a:ext cx="84978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maniku poolt asustatud eluaseme kulutuste 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töötamisfaas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saks eluaseme soetusele peab katma ka muud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uaseme soetamise ja omamisega seotud kulutused, kindlustuse ja kapitaalremond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võtmisel olev EL määrus nõuab indeksite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mise alustamist 2014. aasta III kvartal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8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äriteenuste tootjahinnaindek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otmisesse on juurutatud 11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 on väljatöötamisel ja alustamata on tööd 7-g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uudub ka EL majanduslike põhinäitajate hulka kuuluv koondind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id on nõutavad EL määruseg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iimased juurutamistähtaegu puudutavad erandid Eestile lõppesid 11. augustil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1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meelissoo</cp:lastModifiedBy>
  <dcterms:modified xsi:type="dcterms:W3CDTF">2012-06-26T10:22:56Z</dcterms:modified>
  <cp:revision>94</cp:revision>
  <dc:subject/>
  <dc:title>Slide 1</dc:title>
</cp:coreProperties>
</file>