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008C-E6F4-459A-8C86-31FC9CD36EB0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A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avaldab rahandusministrile arvamust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RSP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ja selle muudatuste kohta enne nende kinnita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E876-E2BE-4392-9680-D119F7402DC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dt" idx="1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E45A-7223-4DE8-A377-79206EC27808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dt" idx="1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5083-809E-4DEA-8A02-6334751CAD67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1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dt" idx="1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CC69-8084-471F-AA31-8815C684F13A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1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dt" idx="1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1603-F575-4164-8560-451C1188005D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dt" idx="1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4921-3BAB-48F2-81C1-28E9294EF206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1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dt" idx="2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05F7-F18F-4323-BEA0-8750F406EF55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ftr" idx="2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dt" idx="2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8C1C-A053-4D7B-9DA8-360647B3F6FE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2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dt" idx="2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5552-1448-4C99-A432-B679D6A2C119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ftr" idx="2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dt" idx="2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58FE-A342-4C2C-BBDF-0F0B4C1808CA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ftr" idx="2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dt" idx="2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5005-F90A-4227-B92A-961F8032569F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2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2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dt" idx="3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DBD1-9882-4ACC-B0F6-B273B9BEC3D1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4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5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C79F-4D53-4D56-BCDA-561119A70878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6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7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DE02-AF45-4FD3-8C10-AF0832305B1C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040" y="898200"/>
            <a:ext cx="449892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SA 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–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 aasta statistikatööde loetelu projekti menetl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012320" y="3284280"/>
            <a:ext cx="44960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iktoria Trasanov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gnes Naarit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e Saareoj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Urve Kask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ööstustoodangu tootja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nne € üks ekspordi alam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€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sutuselevõtuga seoses algas 2 indeksi tootmin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eurotsooni riikidess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mitte-eurotsooni riikide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ma jagunemine tekkis ka impordihinnaindeksi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5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5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F821-F115-4686-B792-B1D1707A41C2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755640" y="836640"/>
            <a:ext cx="2521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FKA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826920" y="3189240"/>
            <a:ext cx="449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Agnes Naarit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ahvamajanduse, finants- ja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keskkonna arvepidamise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majanduse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 statistikatööna planeeritud juba 2012, kuid seni eelarvest välja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Uue ESA andme­edastusprogrammi juurutamine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SA2010 uus andmeedastusprogramm detailsem, tähtajad lüheneva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telliitarvepidamine: teadus- ja arendustegev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dastustähtaeg: september 2014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tehakse põhistatistika kõrvalt – edenemine aegla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Finants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s töö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jukindlustuse lisaandmed – EKSL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arvest väljas nii 2012 kui 2013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nsionide satelliitkonto – andmeedastuse tähtaeg 2014!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emasolevate tööde arend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litsemissektori võla- ja defitsiidiarvestus detailsemaks, lisandub avaliku sektori vaade (valitsemissektor + riigi ja KOV ettevõtted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gumajanduse finantskonto detailsemaks – OECD vajadused rahuldamat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endused tavaprogrammi kõrvalt, edenemine aegla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eelarvega 2013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keskkonna näitajad – PõM 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huemissioonide arvepidamine – uus EL määr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us kolmest uuest kohustuslikust moodulist vaid ü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e eelnõu menetlemine käimas: veel kolm uut moodulit kohustus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etkel arendused rahastatud Eurostati poo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põhistatistika tööd alaraha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395280" y="1336680"/>
          <a:ext cx="8280360" cy="4437000"/>
        </p:xfrm>
        <a:graphic>
          <a:graphicData uri="http://schemas.openxmlformats.org/drawingml/2006/table">
            <a:tbl>
              <a:tblPr/>
              <a:tblGrid>
                <a:gridCol w="863640"/>
                <a:gridCol w="2089080"/>
                <a:gridCol w="1224000"/>
                <a:gridCol w="1008000"/>
                <a:gridCol w="1079640"/>
                <a:gridCol w="1081080"/>
                <a:gridCol w="934920"/>
              </a:tblGrid>
              <a:tr h="431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-töö n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katöö nimi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hastamin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5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llumajanduskeskkonna näitaja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M tellim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rendus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arvepidamised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4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õhuemissiooni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6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aterjalivoog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maks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tooteid ja –teenuseid tootev sekto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aotlus Eurostatile edastat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kaitsekulutuse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nergiakonto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78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79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EBDF-521E-4229-8DDF-EAC4010F84E6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0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755640" y="836640"/>
            <a:ext cx="2736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E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Ene Saareoja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ttevõtlus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3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 – saada teavet äriteenindusettevõtete poolt osutatud teenuste müügistruktuuri kohta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nuste liigitus CPA 6-kohaline koodi tasemel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ca 100 teenuse liiki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identide ja mitteresidentide (sh EL ja ülejäänud riigid) lõik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ik alus – EP ja EN määrus (nr 295/2008, 11.03.2008) ettevõtluse struktuurstatistika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08.a. andmetest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leminekuaeg 3 aast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kohustuse realiseeri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3 arendustöö;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14 statistika korraline tegemine </a:t>
            </a:r>
            <a:br>
              <a:rPr sz="24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esimesed andmed 2013 aasta koht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tegemine sõltuvalt äriteenindusettevõtete tegevusalast – kas iga aasta või üle aasta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 – täiendavad vahendid SA eelarves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 juhtivstatistiku tööle võt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aastane statistika arvuti-, reklaami- ja tööhõivealaste 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heaastane statistika õigusabi-, arvepidamis-, raamatupidamis-, auditeerimis-, maksu- ja juhtimislaste nõustamise, turu-uuringute, arhitektuurialaste, inseneri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nõue – uuringuga katta 20- ja enama töötajaga ettevõtted – ei anna Eesti äriteenuste turu kohta kvaliteetset andmestikku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andmeesitajate koormus, haldusandmeid teenuste müügistruktuurist ei ole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8. jaanuar – saatsime välja kirja, kus teavitasime statistika tarbijaid, et SA on alustanud 2013.–2017. aasta statistikatööde kavan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5. mai – tegime RSP kättesaadavaks Statistikanõukogu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juuli – RSP peab olema esitatud Rahandusministeerium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P 2013. a maksumus on 6 335 700 euro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- ja esindusteenused kriminaalõiguse valla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äri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öö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siviil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tentide, autoriõiguse ja muu intellektuaalomandiõigus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otariaal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bitraaži- ja lepi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ampakkumist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õigusabiteenuse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7515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htimisalased nõustamis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uhtekorraldus- ja teabevahetu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rateegili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finantsjuhtimisalased nõustamisteenused (v.a ettevõtte tulumaksualased)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urundu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ersonali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ootmis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arneahela ja muud juhtimis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äriprotsessid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projektijuhtimisteenused, v.a ehituse juhtimise ala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äri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ubamärgid ja frantsiisid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7" name="Rectangle 2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5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9" name="Object 5"/>
          <p:cNvGraphicFramePr/>
          <p:nvPr/>
        </p:nvGraphicFramePr>
        <p:xfrm>
          <a:off x="900000" y="1268280"/>
          <a:ext cx="770436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68280"/>
                    <a:ext cx="770436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Object 3"/>
          <p:cNvGraphicFramePr/>
          <p:nvPr/>
        </p:nvGraphicFramePr>
        <p:xfrm>
          <a:off x="1332000" y="1341360"/>
          <a:ext cx="698508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850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515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 kasu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ressurss tagab kiirema edasiliikumise  maksustamisandmete jt andmekogude andmete kasutuselevõtul statistika tege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ldatav maksumus 100 000 eurot aasta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(sh IT arendus ca 50 000 euro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alduskoormuse väh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maine tõ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 2013 jätkatakse haldusandmete kasutuselevõtuga sisemise ressurssi toel, kuid edasiliikumise kiirus ei vasta andmeesitajate oot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1411200" y="62856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2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4920" y="170028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a kasutuselevõtuga seotud tegev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ndmete ja andmekogude andmete ühilduvusanalüüs detailsel 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 tulemuste põhjal valdkonnastatistika tegemise metoodika (k.a mudelite) väljatöö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de andmekoosseisu täiendamisettepanekute esitamine ( 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tud metoodika testimine tehes statistikat paralleelselt kahe meetodi alu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stimise tulemuste analüüs, vajadusel metoodika täiendamine ning statistika tegemise meetodi valik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ruandevormide redisain (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T süsteemide (andmete kogumine ja töötlemine) aren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liskülastajad Eestis (uuringu taasalusta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iskülastajate kulutuste struktuuri ja reisi eesmärgi uuring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1-2 korda aastas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maksebilansi koostamiseks), SA (THHI ja SKP koostamiseks), MKM (turismi arendami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35 000 eurot + üldkulud aast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3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3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svara üürihinnad (uuringu taasalustamine)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- ja mitteeluhoonete ja ruumide rendihinna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enevalt hoonete ja ruumide asukohast, liigist ning kvaliteediklassist kinnisvarabüroode and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 kvartaalselt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EKP tellimus), SA (THI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8 000 eurot + üldkulud aasta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4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19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920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0567-CD33-43EE-897D-47DB5893F015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1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755640" y="836640"/>
            <a:ext cx="3095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S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Urve Kask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ahvastiku- ja sotsiaalstatistik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4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77720" y="547560"/>
            <a:ext cx="57862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:</a:t>
            </a:r>
            <a:br>
              <a:rPr sz="2800"/>
            </a:br>
            <a:br>
              <a:rPr sz="6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28880" y="1412640"/>
            <a:ext cx="7791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Absoluutne vaesu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rinevate andmeallikate valideerimine leidmaks sobivad andmeallikad absoluutse vaesuse mõõtmiseks;absoluutse vaesuse indikaatorite väljatöötamine ja publitseerimine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Heaolu mõõtmine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heaolu kontseptsiooni koostamine; erinevate andmeallikate valideerimine leidmaks sobivad andmeallikad heaolu mõõtmiseks; heaolu indikaatorite väljatöötamine ja publitseeri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Edukus tööturul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baseerub EHISE ja EMTA andmete linkimisel; eesmärgiks: õppurite, lõpetajate sisenemine tööturule; katkestajate edasine käekäik – indikaatorite väljatöötamine iga-aastaseks monitoorimisek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Kohalike omavalitsuste sotsiaalse kaitse kulutuste klassifikaatori metoodika arendus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ohalike omavalitsuste poolt tehtavate kulutuste parem kajastamine sotsiaalse kaitse kulutuste arvepidamise süsteemi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340000" y="40464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atistikatööde finantseerimine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ja kulude liigendus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2013.aasta, tuhat euro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7" name="Picture 7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77744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8" name=""/>
          <p:cNvGraphicFramePr/>
          <p:nvPr/>
        </p:nvGraphicFramePr>
        <p:xfrm>
          <a:off x="1258920" y="5013360"/>
          <a:ext cx="7489800" cy="1530360"/>
        </p:xfrm>
        <a:graphic>
          <a:graphicData uri="http://schemas.openxmlformats.org/drawingml/2006/table">
            <a:tbl>
              <a:tblPr/>
              <a:tblGrid>
                <a:gridCol w="2278080"/>
                <a:gridCol w="1382760"/>
                <a:gridCol w="1270080"/>
                <a:gridCol w="1663560"/>
                <a:gridCol w="895320"/>
              </a:tblGrid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tseerimine/                                     kulu liigendus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igieelarv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atul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abi ja välisabi kaasfinantseerimin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eering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i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17,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66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8080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andamis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,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31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0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35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042560" y="1915920"/>
            <a:ext cx="777708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Integreeritud sotsiaaluuringud 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(2013-2015)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esmärgiks uuringute üleviimine mooduliteks; korduvate küsimuste vähendamine; täiendava informatsiooni saamine  läbi tausttunnuste erinevate moodulite seostamise; põhieesmärk - andmekogumise vähendamine; vajaliku informatsiooni kiirem saa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377720" y="475920"/>
            <a:ext cx="5786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 (2): </a:t>
            </a:r>
            <a:br>
              <a:rPr sz="2800"/>
            </a:br>
            <a:br>
              <a:rPr sz="8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Küsitlusstatistika 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Rahvasti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statistika vanemate aastate sisestus (aastate 1945-1959 raames valitud aastate uussisestus regionaalsel tasandil rahvastikustruktuuri taastamise eesmärgil); (2013;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 ja eluruumide loendus (väljundi koostamine avaliku andmebaasi tarbeks) (2013; 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 prognoosid MicMac prognoosimudeli alusel (2013)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onaalne haridusstatistika ( täiendavate hariduse indikaatorite publitseerimine regionaalsel tasandil) (2013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2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244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4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tsiaaluuringu moodulid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Elamistingimused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andmete publitseerimine - 2013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Heaolu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, publitseerimine 2014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Sotsiaalne osalemine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4,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eibkonna eelarve uuring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; ettevalmistustööd 2014; välitööd 2015; 2016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arbimiskulutuste prognoo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atab kahte aastat 2013-2014, siis kui LEU-d ei toimu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3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900000" y="1699920"/>
            <a:ext cx="73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rismi ja kultuuritarbimise mooduluuring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e läbiviimine 2013, andmete publitseerimine 2013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skasvanute koolituse uuring isiku tasandil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6, välitööd 2017)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ervise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laneeritav aasta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urvalisuse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lükkub aastasse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elu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planeeritud 2014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4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26920" y="1682640"/>
            <a:ext cx="84981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Tööjõu uuringu moodulid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*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lt pensionil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õnnetused ja tööga seotud tervisehäired – 4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 ja publitseerimine 2014)</a:t>
            </a:r>
            <a:br>
              <a:rPr sz="1800"/>
            </a:br>
            <a:br>
              <a:rPr sz="8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Immigrantrahvastik – 2013-2015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, välitööd -2013, andmetöötlus 2014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  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taja kohanemine ja töökorraldus”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4; välitööd 2015; avaldamine 2016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2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754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Planeeritavad analüütilised ja metoodilised kogumikud:</a:t>
            </a:r>
            <a:br>
              <a:rPr sz="24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900000" y="1969920"/>
            <a:ext cx="8064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otsiaaltrendid -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aste heaolu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eibkonna eelarve metoodikaraport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rahvastik läbi loendusprisma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ega inimeste heaolu ja sotsiaalne integratsioon –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valdkond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marL="361800" indent="-361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3951"/>
                </a:solidFill>
                <a:latin typeface="Arial"/>
              </a:rPr>
              <a:t>Täname kuulamast!</a:t>
            </a:r>
            <a:endParaRPr b="0" lang="en-US" sz="4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8" name="Date Placeholder 10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E2B9-4F34-4BA2-970C-9418705046AA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9" name="Footer Placeholder 11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Esitluse või esitle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50" name="Picture 5" descr="Eesti statistika_vahe_laim"/>
          <p:cNvPicPr/>
          <p:nvPr/>
        </p:nvPicPr>
        <p:blipFill>
          <a:blip r:embed="rId1"/>
          <a:stretch/>
        </p:blipFill>
        <p:spPr>
          <a:xfrm>
            <a:off x="-9360" y="-12600"/>
            <a:ext cx="9171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590560" y="549000"/>
            <a:ext cx="6445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tööde maksumu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ldkonniti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1" name="Picture 5" descr="Picture1.png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013.aasta statistikatööde maksumus valdkonniti ja liigiti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4" name="Chart 4" descr=""/>
          <p:cNvPicPr/>
          <p:nvPr/>
        </p:nvPicPr>
        <p:blipFill>
          <a:blip r:embed="rId1"/>
          <a:stretch/>
        </p:blipFill>
        <p:spPr>
          <a:xfrm>
            <a:off x="749160" y="1481040"/>
            <a:ext cx="80409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3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2BB7-8548-415F-A71F-B5D7D62CB8EE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755640" y="836640"/>
            <a:ext cx="2952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HP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826920" y="3476520"/>
            <a:ext cx="4496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Viktoria Trasanov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inna- ja palga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luaseme soetus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t alustame 2012. aasta septembri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 on arvatud makromajandusliku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sakaalustamatuse näitajate hul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 tootmist nõudev EL määru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n vastuvõ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94920" y="1412640"/>
            <a:ext cx="8497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maniku poolt asustatud eluaseme kulutuste 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misfaas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ks eluaseme soetusele peab katma ka muu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aseme soetamise ja omamisega seotud kulutused, kindlustuse ja kapitaalrem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võtmisel olev EL määrus nõuab indeksit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e alustamist 2014. aasta III kvartal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äriteenuste tootjahinnaindek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otmisesse on juurutatud 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 on väljatöötamisel ja alustamata on tööd 7-g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uudub ka EL majanduslike põhinäitajate hulka kuuluv koond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d on nõutavad EL määrus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imased juurutamistähtaegu puudutavad erandid Eestile lõppesid 11. augustil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meelissoo</cp:lastModifiedBy>
  <dcterms:modified xsi:type="dcterms:W3CDTF">2012-06-26T10:22:56Z</dcterms:modified>
  <cp:revision>94</cp:revision>
  <dc:subject/>
  <dc:title>Slide 1</dc:title>
</cp:coreProperties>
</file>