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244B-2FC5-4C06-A78A-5F988B4E39BF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B531-CC73-4E61-BB4D-0305C3F9594E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C3B7-A251-42D5-8AE3-2AB26E47E8EA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7C42-902D-40E2-A1DD-335074702DA2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4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8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dt" idx="9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99640" y="23490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Ressursside piisavus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899640" y="321264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</a:rPr>
              <a:t>Euroopa statistika tegevusjuhise  3. põhimõt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Tuulikki Sillajõ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ul,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2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Statistika ulatus, detailsus ja maksumus on vajadustega vastavus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määruste alusel tehtud statistikale  saadud tagasiside  on olnud positiiv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tarbija kasutab sama statistika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0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Hinnang S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 tarbijauuringut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41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5" name="Picture 8" descr="joonis 1.wmf"/>
          <p:cNvPicPr/>
          <p:nvPr/>
        </p:nvPicPr>
        <p:blipFill>
          <a:blip r:embed="rId2"/>
          <a:stretch/>
        </p:blipFill>
        <p:spPr>
          <a:xfrm>
            <a:off x="735120" y="1844640"/>
            <a:ext cx="76737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sti tunneb tarbija puudust,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3951"/>
                </a:solidFill>
                <a:latin typeface="Arial"/>
              </a:rPr>
              <a:t>Üle poole vastajatest sellele küsimusele ei vastanu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3951"/>
                </a:solidFill>
                <a:latin typeface="Arial"/>
              </a:rPr>
              <a:t>6% ei osanud nimetada, millist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infot nad sooviksid veel saada või leidsid, et avaldatud infot on piisaval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oovi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detailsem piirkondlik statistika (küla, linnaosa, ruuduandmed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ööturg (nt töötamine välismaal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ervisestatistika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öötasu detailsemad andmed (nt ametite järgi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d</a:t>
            </a:r>
            <a:r>
              <a:rPr b="0" lang="sv-SE" sz="2200" spc="-1" strike="noStrike">
                <a:solidFill>
                  <a:srgbClr val="003951"/>
                </a:solidFill>
                <a:latin typeface="Arial"/>
              </a:rPr>
              <a:t>etailsemad rahvastiku andmed (sh ränne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9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On olemas uue statistika nõudluse ja maksumuse võrdleva hindamise ja põhjendamise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menetlused</a:t>
            </a: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.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A-sisene juhis statistikatööde kava jaoks tehtavate ettepanekute läbivaatamise protsessi ja dokumentide liikumise kohta (sh veebipõhine ettepanekute esitamine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eda eesmärki täidab ka statistikaprogrammi eelnõu valitsusasutustega kooskõlastamise protses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nõukogu avaldab statistikaprogrammi kohta arvamus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tööde kaupa omahinna arvestus, mis tugineb tööaja jaotamisel statistika tegemise eri etappid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4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71280" y="2204640"/>
            <a:ext cx="7993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On olemas menetlused, mille kohaselt hinnatakse jätkuvat statistikavajadust, et selgitada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välja, kas mõne statistikatöö saab ära jätta või mõne töö mahtu vähendada ja seeläbi vahendeid vabastada</a:t>
            </a: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Eurostati eestvedamisel käib negatiivsete prioriteetide otsimine aastaid. Töötab</a:t>
            </a:r>
            <a:r>
              <a:rPr b="0" i="1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3951"/>
                </a:solidFill>
                <a:latin typeface="Arial"/>
              </a:rPr>
              <a:t>High Level Group on Priority-Setting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EL statistikaalase õigussüsteemi lihtsustamine, s.t luuakse valdkonna raamseaduste ja delegeeritud õigusaktide süsteem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Ressursside piiratus on sundinud statistikaprogrammis igal aastal vähendusi tegema, nt muutes uuringu toimumise  sagedust (LEU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änan tähelepanu eest!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-7920" y="-7920"/>
            <a:ext cx="9159840" cy="6877080"/>
            <a:chOff x="-7920" y="-7920"/>
            <a:chExt cx="9159840" cy="6877080"/>
          </a:xfrm>
        </p:grpSpPr>
        <p:pic>
          <p:nvPicPr>
            <p:cNvPr id="435" name="Picture 5" descr="Eesti statistika_vahe_mereroh"/>
            <p:cNvPicPr/>
            <p:nvPr/>
          </p:nvPicPr>
          <p:blipFill>
            <a:blip r:embed="rId1"/>
            <a:stretch/>
          </p:blipFill>
          <p:spPr>
            <a:xfrm>
              <a:off x="-7920" y="-7920"/>
              <a:ext cx="9159840" cy="68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6" descr="90"/>
            <p:cNvPicPr/>
            <p:nvPr/>
          </p:nvPicPr>
          <p:blipFill>
            <a:blip r:embed="rId2"/>
            <a:stretch/>
          </p:blipFill>
          <p:spPr>
            <a:xfrm>
              <a:off x="7356600" y="404640"/>
              <a:ext cx="110304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7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Footer Placeholder 10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Hindamisa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Quality Assurance Framework  (QAF)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— mis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rjeldab täpsemalt lahti, mida tegevusjuhise kohati üldiste ideede all konkreetselt oodatakse — seda põhimõtet veel ei ka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05. aasta enesehindamisküsimustik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Eksperdihinnang Euroopa statistika tegevusjuhise täitmise koht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2006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RO vastav dokument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uidelines for the template for a generic national quality assurance framework (NQAF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5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77708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3. põhimõte: R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ssursside piisavu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Statistikaasutuste käsutuses olevad ressursid on piisavad, e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täita Euroopa statistika nõu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NQAF9: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The financial, human, and technological (IT) resources available to statistical agencies should b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adequate both in magnitude and quality, and sufficient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to meet their needs with regard to th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development, production and dissemination of statistics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.1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89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Inim-, finants- ja infotehnoloogiliste ressursside hulk ja kvaliteet on piisavad, et täita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 statistika hetkevajadusi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täidab statistikaprogrammi täismah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seisuliste voolavus 6,7% (2011), 5,6% (2010, 2009), 16,6% (2008), 16,9% (200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oored professionaalid ei püsi, vanemad jäävad tasapisi pensionile — teadmuse järjepidevuse ja kad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fotehnoloogiliste ressurssidega varustatust on REL oluliselt  parandanud, s.t infosüsteemid on kasutatavad edaspidi teisteks statistikatöö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ulud 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(ei sisalda REL, REGREL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,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 välisabi)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, miljon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euro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386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88" name="Picture 10" descr="slaid 2.wmf"/>
          <p:cNvPicPr/>
          <p:nvPr/>
        </p:nvPicPr>
        <p:blipFill>
          <a:blip r:embed="rId2"/>
          <a:stretch/>
        </p:blipFill>
        <p:spPr>
          <a:xfrm>
            <a:off x="900000" y="1839960"/>
            <a:ext cx="734400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astamisallikad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(ei sisalda REL, REGREL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,  miljon euro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0" name="Content Placeholder 6" descr="slaid 3.wmf"/>
          <p:cNvPicPr/>
          <p:nvPr/>
        </p:nvPicPr>
        <p:blipFill>
          <a:blip r:embed="rId1"/>
          <a:stretch/>
        </p:blipFill>
        <p:spPr>
          <a:xfrm>
            <a:off x="1138320" y="1563840"/>
            <a:ext cx="6883200" cy="3965400"/>
          </a:xfrm>
          <a:prstGeom prst="rect">
            <a:avLst/>
          </a:prstGeom>
          <a:ln w="0">
            <a:noFill/>
          </a:ln>
        </p:spPr>
      </p:pic>
      <p:sp>
        <p:nvSpPr>
          <p:cNvPr id="391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ersonalikulu (miljon eurot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6" name="Date Placeholder 7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7" name="Picture 6" descr="slaid 4.wmf"/>
          <p:cNvPicPr/>
          <p:nvPr/>
        </p:nvPicPr>
        <p:blipFill>
          <a:blip r:embed="rId1"/>
          <a:stretch/>
        </p:blipFill>
        <p:spPr>
          <a:xfrm>
            <a:off x="395280" y="1657440"/>
            <a:ext cx="799164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larve struktuur, 2012 (miljon eurot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400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02" name="Picture 7" descr="slaid 5.wmf"/>
          <p:cNvPicPr/>
          <p:nvPr/>
        </p:nvPicPr>
        <p:blipFill>
          <a:blip r:embed="rId2"/>
          <a:stretch/>
        </p:blipFill>
        <p:spPr>
          <a:xfrm>
            <a:off x="2141640" y="1916280"/>
            <a:ext cx="45180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Eksperdihinnang Euroopa statistika tegevusjuhise täitmise koht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In general, despite some difficulties, the resources available at present are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considered to be adequate both in magnitude and in quality to meet current European Statistics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needs. However,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in the discussions with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e management and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major users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it became obvious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at the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rather low level of the salaries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(in particular for experienced specialists) – compared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with other institutions in the public sector and even more so in the private economy - is already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leading to quite a high turnover in skilled staff which, if not addressed, will cause problems for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e accomplishment of the tasks of the Office. Though salaries in Statistics Estonia increased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significantly during the last two years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there is still a substantial gap to the level in other public</a:t>
            </a:r>
            <a:r>
              <a:rPr b="0" i="1" lang="et-EE" sz="2000" spc="-1" strike="noStrike">
                <a:solidFill>
                  <a:srgbClr val="a72f1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services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. Further increases would therefore appear to be necessary.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tuulikkis</cp:lastModifiedBy>
  <dcterms:modified xsi:type="dcterms:W3CDTF">2012-09-28T04:39:21Z</dcterms:modified>
  <cp:revision>404</cp:revision>
  <dc:subject/>
  <dc:title>Slide 1</dc:title>
</cp:coreProperties>
</file>