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832B-B24C-4580-A1D2-F9F7F10A6953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6307-F966-42DB-A639-70B44B370A5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1C6F-640F-4A64-9E48-62B901A519D4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1C14-7C0F-4296-B315-45F774CC8FE2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9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99640" y="23490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essursside piisavus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9640" y="321264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</a:rPr>
              <a:t>Euroopa statistika tegevusjuhise  3. põhimõt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,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Statistika ulatus, detailsus ja maksumus on vajadustega vastavus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te alusel tehtud statistikale  saadud tagasiside  on olnud positiiv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tarbija kasutab sama statistik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Hinnang 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 tarbijauuringut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1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5" name="Picture 8" descr="joonis 1.wmf"/>
          <p:cNvPicPr/>
          <p:nvPr/>
        </p:nvPicPr>
        <p:blipFill>
          <a:blip r:embed="rId2"/>
          <a:stretch/>
        </p:blipFill>
        <p:spPr>
          <a:xfrm>
            <a:off x="735120" y="1844640"/>
            <a:ext cx="767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sti tunneb tarbija puudust,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Üle poole vastajatest sellele küsimusele ei vastan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6% ei osanud nimetada, millist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infot nad sooviksid veel saada või leidsid, et avaldatud infot on piisaval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oov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etailsem piirkondlik statistika (küla, linnaosa, ruuduandmed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urg (nt töötamine välismaal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ervisestatistik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asu detailsemad andmed (nt ametite järgi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</a:t>
            </a:r>
            <a:r>
              <a:rPr b="0" lang="sv-SE" sz="2200" spc="-1" strike="noStrike">
                <a:solidFill>
                  <a:srgbClr val="003951"/>
                </a:solidFill>
                <a:latin typeface="Arial"/>
              </a:rPr>
              <a:t>etailsemad rahvastiku andmed (sh rän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uue statistika nõudluse ja maksumuse võrdleva hindamise ja põhjendamise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menetlused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A-sisene juhis statistikatööde kava jaoks tehtavate ettepanekute läbivaatamise protsessi ja dokumentide liikumise kohta (sh veebipõhine ettepanekute esitami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eda eesmärki täidab ka statistikaprogrammi eelnõu valitsusasutustega kooskõlastamise protses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nõukogu avaldab statistikaprogrammi kohta arvamu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tööde kaupa omahinna arvestus, mis tugineb tööaja jaotamisel statistika tegemise eri etapp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993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menetlused, mille kohaselt hinnatakse jätkuvat statistikavajadust, et selgitad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välja, kas mõne statistikatöö saab ära jätta või mõne töö mahtu vähendada ja seeläbi vahendeid vabastada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urostati eestvedamisel käib negatiivsete prioriteetide otsimine aastaid. Töötab</a:t>
            </a:r>
            <a:r>
              <a:rPr b="0" i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3951"/>
                </a:solidFill>
                <a:latin typeface="Arial"/>
              </a:rPr>
              <a:t>High Level Group on Priority-Setting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L statistikaalase õigussüsteemi lihtsustamine, s.t luuakse valdkonna raamseaduste ja delegeeritud õigusaktide süsteem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essursside piiratus on sundinud statistikaprogrammis igal aastal vähendusi tegema, nt muutes uuringu toimumise  sagedust (LEU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435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Footer Placeholder 10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Hindamis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Quality Assurance Framework  (QAF)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— mi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rjeldab täpsemalt lahti, mida tegevusjuhise kohati üldiste ideede all konkreetselt oodatakse — seda põhimõtet veel ei k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05. aasta enesehindamisküsimustik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200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RO vastav dokument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idelines for the template for a generic national quality assurance framework (NQAF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777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3. põhimõte: R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ssursside piisav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Statistikaasutuste käsutuses olevad ressursid on piisavad, e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täita Euroopa statistika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NQAF9: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he financial, human, and technological (IT) resources available to statistical agencies should b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adequate both in magnitude and quality, and sufficient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o meet their needs with regard to th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development, production and dissemination of statistics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1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89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Inim-, finants- ja infotehnoloogiliste ressursside hulk ja kvaliteet on piisavad, et täit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 statistika hetkevajadus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täidab statistikaprogrammi täismah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liste voolavus 6,7% (2011), 5,6% (2010, 2009), 16,6% (2008), 16,9% (2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oored professionaalid ei püsi, vanemad jäävad tasapisi pensionile — teadmuse järjepidevuse ja ka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tehnoloogiliste ressurssidega varustatust on REL oluliselt  parandanud, s.t infosüsteemid on kasutatavad edaspidi teisteks statistikatöö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ulud 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(ei sisalda REL, REGREL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,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välisabi)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, miljo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8" name="Picture 10" descr="slaid 2.wmf"/>
          <p:cNvPicPr/>
          <p:nvPr/>
        </p:nvPicPr>
        <p:blipFill>
          <a:blip r:embed="rId2"/>
          <a:stretch/>
        </p:blipFill>
        <p:spPr>
          <a:xfrm>
            <a:off x="900000" y="1839960"/>
            <a:ext cx="73440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astamisallikad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(ei sisalda REL, REGREL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,  miljon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0" name="Content Placeholder 6" descr="slaid 3.wmf"/>
          <p:cNvPicPr/>
          <p:nvPr/>
        </p:nvPicPr>
        <p:blipFill>
          <a:blip r:embed="rId1"/>
          <a:stretch/>
        </p:blipFill>
        <p:spPr>
          <a:xfrm>
            <a:off x="1138320" y="1563840"/>
            <a:ext cx="6883200" cy="3965400"/>
          </a:xfrm>
          <a:prstGeom prst="rect">
            <a:avLst/>
          </a:prstGeom>
          <a:ln w="0">
            <a:noFill/>
          </a:ln>
        </p:spPr>
      </p:pic>
      <p:sp>
        <p:nvSpPr>
          <p:cNvPr id="39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sonalikulu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Date Placeholder 7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7" name="Picture 6" descr="slaid 4.wmf"/>
          <p:cNvPicPr/>
          <p:nvPr/>
        </p:nvPicPr>
        <p:blipFill>
          <a:blip r:embed="rId1"/>
          <a:stretch/>
        </p:blipFill>
        <p:spPr>
          <a:xfrm>
            <a:off x="395280" y="1657440"/>
            <a:ext cx="7991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arve struktuur, 2012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02" name="Picture 7" descr="slaid 5.wmf"/>
          <p:cNvPicPr/>
          <p:nvPr/>
        </p:nvPicPr>
        <p:blipFill>
          <a:blip r:embed="rId2"/>
          <a:stretch/>
        </p:blipFill>
        <p:spPr>
          <a:xfrm>
            <a:off x="2141640" y="1916280"/>
            <a:ext cx="4518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n general, despite some difficulties, the resources available at present are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considered to be adequate both in magnitude and in quality to meet current European Statistic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needs. However,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in the discussions with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management and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major user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t became obviou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at the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rather low level of the salarie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(in particular for experienced specialists) – compar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with other institutions in the public sector and even more so in the private economy - is already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leading to quite a high turnover in skilled staff which, if not addressed, will cause problems for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accomplishment of the tasks of the Office. Though salaries in Statistics Estonia increas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significantly during the last two years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there is still a substantial gap to the level in other public</a:t>
            </a:r>
            <a:r>
              <a:rPr b="0" i="1" lang="et-EE" sz="2000" spc="-1" strike="noStrike">
                <a:solidFill>
                  <a:srgbClr val="a72f1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services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. Further increases would therefore appear to be necessary.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tuulikkis</cp:lastModifiedBy>
  <dcterms:modified xsi:type="dcterms:W3CDTF">2012-09-28T04:39:21Z</dcterms:modified>
  <cp:revision>404</cp:revision>
  <dc:subject/>
  <dc:title>Slide 1</dc:title>
</cp:coreProperties>
</file>