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864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329520" y="213336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4776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8864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329520" y="4362120"/>
            <a:ext cx="24195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47760" y="1371600"/>
            <a:ext cx="7515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98680" y="436212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47760" y="1341000"/>
            <a:ext cx="751536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4776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98680" y="2133360"/>
            <a:ext cx="366732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47760" y="4362120"/>
            <a:ext cx="7515360" cy="20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7968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47760" y="1371600"/>
            <a:ext cx="7515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247760" y="2133360"/>
            <a:ext cx="75153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1" marL="76212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2" marL="11811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95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951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2585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30532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t-EE" sz="1200" spc="-1" strike="noStrike">
                <a:solidFill>
                  <a:srgbClr val="003951"/>
                </a:solidFill>
                <a:latin typeface="Arial"/>
              </a:rPr>
              <a:t>Ülle Valgma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898560"/>
            <a:ext cx="4498920" cy="85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3951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00395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77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8277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39640" y="1197000"/>
            <a:ext cx="8277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8277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2771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39640" y="1125360"/>
            <a:ext cx="82774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1T10:30:13Z</dcterms:created>
  <dc:creator>uku</dc:creator>
  <dc:description/>
  <dc:language>en-US</dc:language>
  <cp:lastModifiedBy>RM</cp:lastModifiedBy>
  <cp:lastPrinted>2001-03-09T09:19:09Z</cp:lastPrinted>
  <dcterms:modified xsi:type="dcterms:W3CDTF">2010-03-08T15:07:11Z</dcterms:modified>
  <cp:revision>38</cp:revision>
  <dc:subject/>
  <dc:title>PowerPoint Presentation</dc:title>
</cp:coreProperties>
</file>