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952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4776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952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58560" y="119664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8864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2952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24776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8864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2952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258560" y="119664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78864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32952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24776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78864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32952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258560" y="119664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78864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32952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24776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78864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32952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119664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119664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78864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32952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24776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78864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32952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58560" y="119664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78864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32952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24776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78864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32952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ikoon2"/>
          <p:cNvPicPr/>
          <p:nvPr/>
        </p:nvPicPr>
        <p:blipFill>
          <a:blip r:embed="rId2"/>
          <a:stretch/>
        </p:blipFill>
        <p:spPr>
          <a:xfrm>
            <a:off x="0" y="0"/>
            <a:ext cx="247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3.11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364000" y="6453360"/>
            <a:ext cx="3384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Intrastati aruande elektrooniline esitamin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3.11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435640" y="645336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Intrastati aruande elektrooniline esitamine 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4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6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sini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kolla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punane_est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Untitled-1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71640" y="1197000"/>
            <a:ext cx="464328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Intrastati aruande elektrooniline esita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971640" y="2636640"/>
            <a:ext cx="449568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oolitusseminar Statistikaametis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18.12.2012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Tarmo Vilk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Väliskaubandusstatistika talitus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58560" y="112536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lektrooniline andmeesit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5153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32640" indent="-3326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lektrooniline aruandevorm Intrastat.xls (põhineb MS Excelil) http://www.stat.ee/17140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nternetikeskkond eSTAT (kasutusel alates veebruarist 2006) https://estat.stat.ee/login/login.jsp?language=E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õimalus genereerida sobivas formaadis fail ise (raamatupidamistarkvarast) 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http://www.stat.ee/public/vv_vk/elektrooniline_formaat.doc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ruandefailide saatmismoodul https://www.stat.ee/aruandevormi-esi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8.12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Elektrooniline aruanne vs paberaruanne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7280" y="191592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lektroonilise aruande täitmine ja edastamine on kiirem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ruande elektroonilisel täitmisel kontrollitakse sisestatud andmeid (väheneb kodeerimis- ja sisestamisvigade tekkimise tõenäosus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aob vajadus paberimajanduse järele (sh võimalus arhiveerida esitatud aruandeid elektrooniliselt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uuduvad postikulud ja kulud pabervormide trükkimiseks või paljunda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agasiside aruande laekumise ja esinenud vigade kohta on kiirem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8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8.12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86920" y="980640"/>
            <a:ext cx="7705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Intrastati aruannete esitamine, september 2012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250" name="Object 3"/>
          <p:cNvGraphicFramePr/>
          <p:nvPr/>
        </p:nvGraphicFramePr>
        <p:xfrm>
          <a:off x="1116000" y="1531800"/>
          <a:ext cx="8028000" cy="506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531800"/>
                    <a:ext cx="8028000" cy="506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8.12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980640"/>
            <a:ext cx="78850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Vigaste kirjete % meedia järgi, september 2012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254" name="Object 7"/>
          <p:cNvGraphicFramePr/>
          <p:nvPr/>
        </p:nvGraphicFramePr>
        <p:xfrm>
          <a:off x="755640" y="1638360"/>
          <a:ext cx="8388360" cy="47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638360"/>
                    <a:ext cx="838836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8.12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kollane_est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258" name="Footer Placeholder 2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Tarmo Vilk</cp:lastModifiedBy>
  <dcterms:modified xsi:type="dcterms:W3CDTF">2012-12-18T10:33:00Z</dcterms:modified>
  <cp:revision>44</cp:revision>
  <dc:subject/>
  <dc:title>Slide 1</dc:title>
</cp:coreProperties>
</file>