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824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360"/>
            <a:ext cx="297036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811680" y="-360"/>
            <a:ext cx="297000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9720" y="756720"/>
            <a:ext cx="4960800" cy="372132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914400" y="4704840"/>
            <a:ext cx="4952880" cy="1181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9640440"/>
            <a:ext cx="297036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811680" y="9640440"/>
            <a:ext cx="297000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D332E5-D10F-4A53-9C6F-EA41A1569416}"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9720" y="757080"/>
            <a:ext cx="4960800" cy="3721320"/>
          </a:xfrm>
          <a:prstGeom prst="rect">
            <a:avLst/>
          </a:prstGeom>
          <a:ln w="0">
            <a:noFill/>
          </a:ln>
        </p:spPr>
      </p:sp>
      <p:sp>
        <p:nvSpPr>
          <p:cNvPr id="149" name="PlaceHolder 2"/>
          <p:cNvSpPr>
            <a:spLocks noGrp="1"/>
          </p:cNvSpPr>
          <p:nvPr>
            <p:ph type="body"/>
          </p:nvPr>
        </p:nvSpPr>
        <p:spPr>
          <a:xfrm>
            <a:off x="914400" y="4705200"/>
            <a:ext cx="4952880" cy="19857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tatistikaamet võrdleb Intrastati saabumise ja lähetamise käibeid ettevõtete tasemel KMD lahtritega 6.1 ja 3.1.1. Kui on suuri erinevusi, siis võetakse ettevõtetega ühendust, et erinevuste põhjused välja selgit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amuti kasutab SA neid andmeid aruandekohustuslaste nimekirjade koostamisel. Tihtipeale on KMD-l teenus märgitud kogemata kauba lahtrisse. Sellisel juhul võib ettevõte ekslikult sattuda kohustuslaste nimekir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iis peaks meid sellest teavitama ja parandama ka KMD deklaratsioon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lt;footer&gt;</a:t>
            </a:r>
            <a:r>
              <a:rPr b="0" lang="et-EE" sz="1200" spc="-1" strike="noStrike">
                <a:solidFill>
                  <a:srgbClr val="003951"/>
                </a:solidFill>
                <a:latin typeface="Times New Roman"/>
              </a:rPr>
              <a:t>27.02.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Intrastati täitmin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stat.ee/15782"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stat.ee/andmete-esitamise-kohustus"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tat.ee/15784"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tat.ee/39768"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stat.ee/15782"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 andmeväljad ja eritehingute kajastamine aruandes</a:t>
            </a:r>
            <a:endParaRPr b="0" lang="en-US" sz="2400" spc="-1" strike="noStrike">
              <a:solidFill>
                <a:srgbClr val="003951"/>
              </a:solidFill>
              <a:latin typeface="Arial"/>
            </a:endParaRPr>
          </a:p>
        </p:txBody>
      </p:sp>
      <p:sp>
        <p:nvSpPr>
          <p:cNvPr id="88" name="PlaceHolder 2"/>
          <p:cNvSpPr>
            <a:spLocks noGrp="1"/>
          </p:cNvSpPr>
          <p:nvPr>
            <p:ph type="subTitle"/>
          </p:nvPr>
        </p:nvSpPr>
        <p:spPr>
          <a:xfrm>
            <a:off x="914400" y="1980720"/>
            <a:ext cx="4495680" cy="175284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Koolitusseminar Statistikaametis</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18.12.2012</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Dina Kazakova</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Väliskaubandusstatistika talituse juhtivstatistik</a:t>
            </a: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arneklausel ja koht</a:t>
            </a:r>
            <a:endParaRPr b="1" lang="en-US" sz="2800" spc="-1" strike="noStrike">
              <a:solidFill>
                <a:srgbClr val="003951"/>
              </a:solidFill>
              <a:latin typeface="Arial"/>
            </a:endParaRPr>
          </a:p>
        </p:txBody>
      </p:sp>
      <p:sp>
        <p:nvSpPr>
          <p:cNvPr id="10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arneklausel</a:t>
            </a:r>
            <a:r>
              <a:rPr b="0" lang="et-EE" sz="2400" spc="-1" strike="noStrike">
                <a:solidFill>
                  <a:srgbClr val="003951"/>
                </a:solidFill>
                <a:latin typeface="Arial"/>
              </a:rPr>
              <a:t> on müügilepingu säte, millega kehtestatakse nii müüja kui ka ostja kohustused.</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uandesse märgitakse tarneklausli kolmetäheline kood vastavalt Rahvusvahelise Kaubanduskoja tarneklauslite </a:t>
            </a:r>
            <a:r>
              <a:rPr b="0" i="1" lang="et-EE" sz="2400" spc="-1" strike="noStrike">
                <a:solidFill>
                  <a:srgbClr val="003951"/>
                </a:solidFill>
                <a:latin typeface="Arial"/>
              </a:rPr>
              <a:t>Incoterms </a:t>
            </a:r>
            <a:r>
              <a:rPr b="0" lang="et-EE" sz="2400" spc="-1" strike="noStrike">
                <a:solidFill>
                  <a:srgbClr val="003951"/>
                </a:solidFill>
                <a:latin typeface="Arial"/>
              </a:rPr>
              <a:t>järgi</a:t>
            </a:r>
            <a:r>
              <a:rPr b="0" i="1" lang="et-EE" sz="2400" spc="-1" strike="noStrike">
                <a:solidFill>
                  <a:srgbClr val="003951"/>
                </a:solidFill>
                <a:latin typeface="Arial"/>
              </a:rPr>
              <a:t> </a:t>
            </a:r>
            <a:r>
              <a:rPr b="0" lang="et-EE" sz="2400" spc="-1" strike="noStrike">
                <a:solidFill>
                  <a:srgbClr val="003951"/>
                </a:solidFill>
                <a:latin typeface="Arial"/>
              </a:rPr>
              <a:t>ja koha nimi (linn, sadam), kus lõpevad müüja või ostja tarnekohustused.</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äide, tarneklausel “CIF” ja koht “Tallinn”</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15776</a:t>
            </a:r>
            <a:r>
              <a:rPr b="0" lang="et-EE" sz="2400" spc="-1" strike="noStrike">
                <a:solidFill>
                  <a:srgbClr val="003951"/>
                </a:solidFill>
                <a:latin typeface="Arial"/>
              </a:rPr>
              <a:t> ja põhjalikum info Intrastati käsiraamatu lisas B.</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B! Kohustuslik täita vaid suurema käibega ettevõtetel!</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247760" y="1773360"/>
            <a:ext cx="7515360" cy="462744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transpordiliigi 1-kohaline kood. Oluline on transpordiliik, millega ületatakse Eesti piir.</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kaupa veetakse näiteks autoga, mis paigutatakse laevale, siis aktiivseks transpordivahendiks märgitakse meretransport (kood 1).</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ostisaadetiste koodi (5) tuleks kasutada ka siis, kui saadetise tegelik transpordiviis on tead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eliikuvate transpordivahendite koodi (9) tuleks kasutada juhul kui transpordivahend on ise kaubandustehingu objektiks ja ületab piiri omal jõul. </a:t>
            </a:r>
            <a:r>
              <a:rPr b="0" lang="en-GB" sz="2400" spc="-1" strike="noStrike" u="sng">
                <a:solidFill>
                  <a:srgbClr val="ff0000"/>
                </a:solidFill>
                <a:uFillTx/>
                <a:latin typeface="Arial"/>
                <a:hlinkClick r:id="rId1"/>
              </a:rPr>
              <a:t>http://www.stat.ee/15776</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B! Kohustuslik täita vaid suurema käibega ettevõtetel!</a:t>
            </a:r>
            <a:endParaRPr b="0" lang="en-US" sz="2400" spc="-1" strike="noStrike">
              <a:solidFill>
                <a:srgbClr val="003951"/>
              </a:solidFill>
              <a:latin typeface="Arial"/>
            </a:endParaRPr>
          </a:p>
        </p:txBody>
      </p:sp>
      <p:sp>
        <p:nvSpPr>
          <p:cNvPr id="108" name="PlaceHolder 2"/>
          <p:cNvSpPr>
            <a:spLocks noGrp="1"/>
          </p:cNvSpPr>
          <p:nvPr>
            <p:ph type="title"/>
          </p:nvPr>
        </p:nvSpPr>
        <p:spPr>
          <a:xfrm>
            <a:off x="1247400" y="980640"/>
            <a:ext cx="6953400" cy="7923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ranspordil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247760" y="1483920"/>
            <a:ext cx="7515360" cy="4916520"/>
          </a:xfrm>
          <a:prstGeom prst="rect">
            <a:avLst/>
          </a:prstGeom>
          <a:noFill/>
          <a:ln w="0">
            <a:noFill/>
          </a:ln>
        </p:spPr>
        <p:txBody>
          <a:bodyPr lIns="0" rIns="0" tIns="0" bIns="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tatistiline väärtus on kauba väärtus Eesti piiril</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a:t>
            </a:r>
            <a:r>
              <a:rPr b="0" lang="et-EE" sz="1800" spc="-1" strike="noStrike" u="sng">
                <a:solidFill>
                  <a:srgbClr val="003951"/>
                </a:solidFill>
                <a:uFillTx/>
                <a:latin typeface="Arial"/>
              </a:rPr>
              <a:t>lähetamise</a:t>
            </a:r>
            <a:r>
              <a:rPr b="0" lang="et-EE" sz="1800" spc="-1" strike="noStrike">
                <a:solidFill>
                  <a:srgbClr val="003951"/>
                </a:solidFill>
                <a:latin typeface="Arial"/>
              </a:rPr>
              <a:t> puhul märgitakse kauba </a:t>
            </a:r>
            <a:r>
              <a:rPr b="0" lang="et-EE" sz="1800" spc="-1" strike="noStrike" u="sng">
                <a:solidFill>
                  <a:srgbClr val="003951"/>
                </a:solidFill>
                <a:uFillTx/>
                <a:latin typeface="Arial"/>
              </a:rPr>
              <a:t>FOB-tüüpi väärtus </a:t>
            </a:r>
            <a:r>
              <a:rPr b="0" lang="et-EE" sz="1800" spc="-1" strike="noStrike">
                <a:solidFill>
                  <a:srgbClr val="003951"/>
                </a:solidFill>
                <a:latin typeface="Arial"/>
              </a:rPr>
              <a:t>ja kasutatud valuuta kood. FOB-tüüpi väärtus on kauba maksumus, mis sisaldab kauba hinda ja neid kulusid, mis on seotud kauba veo ja kindlustusega </a:t>
            </a:r>
            <a:r>
              <a:rPr b="1" lang="et-EE" sz="1800" spc="-1" strike="noStrike">
                <a:solidFill>
                  <a:srgbClr val="003951"/>
                </a:solidFill>
                <a:latin typeface="Arial"/>
              </a:rPr>
              <a:t>lähetava maa riigipiirini</a:t>
            </a:r>
            <a:r>
              <a:rPr b="0" lang="et-EE" sz="1800" spc="-1" strike="noStrike">
                <a:solidFill>
                  <a:srgbClr val="003951"/>
                </a:solidFill>
                <a:latin typeface="Arial"/>
              </a:rPr>
              <a:t>, olenemata sellest, kes kaupa veab (müüja, ostja, transportfirma vms).</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a:t>
            </a:r>
            <a:r>
              <a:rPr b="0" lang="et-EE" sz="1800" spc="-1" strike="noStrike" u="sng">
                <a:solidFill>
                  <a:srgbClr val="003951"/>
                </a:solidFill>
                <a:uFillTx/>
                <a:latin typeface="Arial"/>
              </a:rPr>
              <a:t>saabumise</a:t>
            </a:r>
            <a:r>
              <a:rPr b="0" lang="et-EE" sz="1800" spc="-1" strike="noStrike">
                <a:solidFill>
                  <a:srgbClr val="003951"/>
                </a:solidFill>
                <a:latin typeface="Arial"/>
              </a:rPr>
              <a:t> puhul märgitakse kauba </a:t>
            </a:r>
            <a:r>
              <a:rPr b="0" lang="et-EE" sz="1800" spc="-1" strike="noStrike" u="sng">
                <a:solidFill>
                  <a:srgbClr val="003951"/>
                </a:solidFill>
                <a:uFillTx/>
                <a:latin typeface="Arial"/>
              </a:rPr>
              <a:t>CIF-tüüpi väärtus.</a:t>
            </a:r>
            <a:r>
              <a:rPr b="0" lang="et-EE" sz="1800" spc="-1" strike="noStrike">
                <a:solidFill>
                  <a:srgbClr val="003951"/>
                </a:solidFill>
                <a:latin typeface="Arial"/>
              </a:rPr>
              <a:t> CIF-tüüpi väärtus on kauba maksumus, mis sisaldab kauba hinda ja neid kulusid, mis on seotud kauba veo ja kindlustusega </a:t>
            </a:r>
            <a:r>
              <a:rPr b="1" lang="et-EE" sz="1800" spc="-1" strike="noStrike">
                <a:solidFill>
                  <a:srgbClr val="003951"/>
                </a:solidFill>
                <a:latin typeface="Arial"/>
              </a:rPr>
              <a:t>kauba saanud maa riigipiirini</a:t>
            </a:r>
            <a:r>
              <a:rPr b="0" lang="et-EE" sz="1800" spc="-1" strike="noStrike">
                <a:solidFill>
                  <a:srgbClr val="003951"/>
                </a:solidFill>
                <a:latin typeface="Arial"/>
              </a:rPr>
              <a:t>, olenemata sellest, kes kaupa veab (müüja, ostja, transportfirma vms).</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tatistilist väärtust tuleks arvutada vastavalt tarnetingimustele (vt Intrastati käsiraamat, peatükk “Stat väärtus”)</a:t>
            </a:r>
            <a:endParaRPr b="0" lang="en-US" sz="1800" spc="-1" strike="noStrike">
              <a:solidFill>
                <a:srgbClr val="00395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Võib esitada eurodes või muudes valuutades, mis on välja toodud </a:t>
            </a:r>
            <a:r>
              <a:rPr b="1" lang="et-EE" sz="1800" spc="-1" strike="noStrike">
                <a:solidFill>
                  <a:srgbClr val="003951"/>
                </a:solidFill>
                <a:latin typeface="Arial"/>
              </a:rPr>
              <a:t>Intrastati Valuutade ja fondide klassifikaatoris</a:t>
            </a:r>
            <a:r>
              <a:rPr b="0" lang="et-EE" sz="1800" spc="-1" strike="noStrike">
                <a:solidFill>
                  <a:srgbClr val="003951"/>
                </a:solidFill>
                <a:latin typeface="Arial"/>
              </a:rPr>
              <a:t> (</a:t>
            </a:r>
            <a:r>
              <a:rPr b="0" lang="et-EE" sz="1800" spc="-1" strike="noStrike" u="sng">
                <a:solidFill>
                  <a:srgbClr val="ff0000"/>
                </a:solidFill>
                <a:uFillTx/>
                <a:latin typeface="Arial"/>
                <a:hlinkClick r:id="rId1"/>
              </a:rPr>
              <a:t>http://www.stat.ee/15782</a:t>
            </a:r>
            <a:r>
              <a:rPr b="0" lang="et-EE" sz="1800" spc="-1" strike="noStrike">
                <a:solidFill>
                  <a:srgbClr val="003951"/>
                </a:solidFill>
                <a:latin typeface="Arial"/>
              </a:rPr>
              <a:t>).</a:t>
            </a:r>
            <a:r>
              <a:rPr b="0" lang="et-EE" sz="2400" spc="-1" strike="noStrike">
                <a:solidFill>
                  <a:srgbClr val="003951"/>
                </a:solidFill>
                <a:latin typeface="Arial"/>
              </a:rPr>
              <a:t> </a:t>
            </a:r>
            <a:endParaRPr b="0" lang="en-US" sz="24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urodesse ümberarvestuse puhul kasutatakse aruandekuu keskmist, aruandekuule eelnenud kuu viimase päeva või raamatupidamislausendi koostamisel kasutatud kurssi. </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NB! Kohustuslik täita vaid suurema käibega ettevõtetel!</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110" name="PlaceHolder 2"/>
          <p:cNvSpPr>
            <a:spLocks noGrp="1"/>
          </p:cNvSpPr>
          <p:nvPr>
            <p:ph type="title"/>
          </p:nvPr>
        </p:nvSpPr>
        <p:spPr>
          <a:xfrm>
            <a:off x="1247400" y="907560"/>
            <a:ext cx="6953400" cy="5763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tatistiline väärtus</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 aruandes ei pea iga kaubaarvet eraldi kajastama. Kui ettevõte on sama aruandekuu jooksul lähetanud ühte ja sama kaupa (ühesuguse 8-kohalise kaubakoodiga) ühte ja samasse ELi riiki või saanud seda ühest ja samast ELi riigist, siis võib mitme arve peal märgitud netokaalud, kogused, kaubaarve summad kokku liita ja näidata aruandes ühe reaga.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mmeerimine on lubatud vaid siis, kui sellised näitajad nagu kaubakood, tehinguliik, saatja- või sihtliikmesriik, päritoluriik, transpordiliik ja tarneklausel on erinevatel arvetel ühed ja samad. </a:t>
            </a:r>
            <a:endParaRPr b="0" lang="en-US" sz="2400" spc="-1" strike="noStrike">
              <a:solidFill>
                <a:srgbClr val="003951"/>
              </a:solidFill>
              <a:latin typeface="Arial"/>
            </a:endParaRPr>
          </a:p>
        </p:txBody>
      </p:sp>
      <p:sp>
        <p:nvSpPr>
          <p:cNvPr id="11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ummeeri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Töötlemine on tegevus lepingu alusel, millega luuakse uusi tooteid või muudetakse oluliselt kauba omadusi.</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aup lähetatakse või saabub töötlemisele, siis on tehinguliigiks 41 või 42 ning Intrastatis näidatakse kauba omahinda.</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aup lähetatakse või saabub pärast töötlemist, siis on tehinguliigiks 51 või 52 ja kaubaarve summa on kauba algne hind + osutatud teenuse maksumus + lisatud materjali maksumus.</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inguliike 41 ja 51 kasutatakse siis, kui kaubad tagastatakse lähteriiki ja 42 ja 52 – kui kaupa ei tagastata lähteriiki</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ba omahinda näidatakse ka siis, kui töötlev firma kauba eest midagi ei maksa. Kui hind ei ole teada, määratakse see hinnanguliselt.</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1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se näited 1</a:t>
            </a:r>
            <a:endParaRPr b="1" lang="en-US" sz="2800" spc="-1" strike="noStrike">
              <a:solidFill>
                <a:srgbClr val="003951"/>
              </a:solidFill>
              <a:latin typeface="Arial"/>
            </a:endParaRPr>
          </a:p>
        </p:txBody>
      </p:sp>
      <p:sp>
        <p:nvSpPr>
          <p:cNvPr id="11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Soomest saadeti Eestisse kangas rõivaste õmblemise eesmärgil. Kangas saadeti Eestisse tasuta (ei esitata arvet). Eestis õmmeldakse rõivad valmis ja saadetakse Soome tagasi. Intrastati aruandes näitab Eesti ettevõte kanga saabumist Eestisse tehinguliigiga 41, märkides kanga turuväärtuse ja rõivaste lähetamise Soome tehinguliigiga 51, märkides väärtuse järgmiselt: kanga maksumus + teenuse hind + lisatud materjali hind.</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bakoodid saabumisel ja lähetamisel on erinevad. Saabumisel – kanga kood ja lähetamisel – valmisrõivaste kood.</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se näited 2</a:t>
            </a:r>
            <a:endParaRPr b="1" lang="en-US" sz="2800" spc="-1" strike="noStrike">
              <a:solidFill>
                <a:srgbClr val="003951"/>
              </a:solidFill>
              <a:latin typeface="Arial"/>
            </a:endParaRPr>
          </a:p>
        </p:txBody>
      </p:sp>
      <p:sp>
        <p:nvSpPr>
          <p:cNvPr id="11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antsusmaa saadab Eestisse vaatides veini pudelitesse villimise eesmärgil. Villitud vein saadetakse edasi Saksamaal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s näitab Eesti ettevõte veini saabumist Prantsusmaalt tehinguliigiga 42 ja veini lähetamist Saksamaale tehinguliigiga 52, arvestades hinna sisse ka kõik villimisega lisandunud kulutuse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bakood jääb samaks – nii saabumisel kui ka lähetamisel märgitakse veini koo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tandardne tarkvara infokandjal (näit Windows XP) – kajastatakse koguväärtus (tarkvara + kasutajatugi + litsents) ning kodeeritakse infokandja (CD-ROM, DVD) koodi alusel.</a:t>
            </a:r>
            <a:endParaRPr b="0" lang="en-US" sz="2400" spc="-1" strike="noStrike">
              <a:solidFill>
                <a:srgbClr val="003951"/>
              </a:solidFill>
              <a:latin typeface="Arial"/>
            </a:endParaRPr>
          </a:p>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ritarkvara (välja töötatud spetsiaalselt antud kliendile) – ei kajastata Intrastatis</a:t>
            </a:r>
            <a:endParaRPr b="0" lang="en-US" sz="2400" spc="-1" strike="noStrike">
              <a:solidFill>
                <a:srgbClr val="003951"/>
              </a:solidFill>
              <a:latin typeface="Arial"/>
            </a:endParaRPr>
          </a:p>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arkvara täiendused ja uuendused – kajastatakse juhul kui tehinguga kaasneb füüsilise infokandja edastamine (CD-ROM vms)  </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B! Tarkvara ja selle täiendusi, mis saadetakse Interneti teel, ei pea Intrastatis kajastama (käsitletakse teenusen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arkvara ja infokandja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58920" y="2133360"/>
            <a:ext cx="7515360" cy="4267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u="sng">
                <a:solidFill>
                  <a:srgbClr val="003951"/>
                </a:solidFill>
                <a:uFillTx/>
                <a:latin typeface="Arial"/>
              </a:rPr>
              <a:t>Finantsliisinguga</a:t>
            </a:r>
            <a:r>
              <a:rPr b="0" lang="et-EE" sz="2000" spc="-1" strike="noStrike">
                <a:solidFill>
                  <a:srgbClr val="003951"/>
                </a:solidFill>
                <a:latin typeface="Arial"/>
              </a:rPr>
              <a:t> on tegemist juhul, kui liisingumaksed moodustavad kogu kauba väärtuse ja lepingu lõppedes muutub liisija kauba tegelikuks omanikuks. </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Finantsliisingut tuleb kajastada Intrastatis tehinguliigi koodiga 14.</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u="sng">
                <a:solidFill>
                  <a:srgbClr val="003951"/>
                </a:solidFill>
                <a:uFillTx/>
                <a:latin typeface="Arial"/>
              </a:rPr>
              <a:t>Kasutusliisingut või renti</a:t>
            </a:r>
            <a:r>
              <a:rPr b="0" lang="et-EE" sz="2000" spc="-1" strike="noStrike">
                <a:solidFill>
                  <a:srgbClr val="003951"/>
                </a:solidFill>
                <a:latin typeface="Arial"/>
              </a:rPr>
              <a:t> (liisija ei saa kauba omanikuks), kajastatakse Intrastatis vaid juhul, kui sõlmitud lepingu kestus on rohkem kui 2 aastat (tehinguliigi kood 91).</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up tuleb kajastada selle kuu aruandes, kui kaup saabus või lähetati, sõltumata sellest kuidas on korraldatud liisingumaksete tasumine.</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uba väärtus on lepingus märgitud kauba kogusumma.</a:t>
            </a:r>
            <a:endParaRPr b="0" lang="en-US" sz="2000" spc="-1" strike="noStrike">
              <a:solidFill>
                <a:srgbClr val="003951"/>
              </a:solidFill>
              <a:latin typeface="Arial"/>
            </a:endParaRPr>
          </a:p>
        </p:txBody>
      </p:sp>
      <p:sp>
        <p:nvSpPr>
          <p:cNvPr id="12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Liising</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ajastatakse Intrastatis selles kuus, kui kaup tagastati või asendati.</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ui kaup tagastatakse samas kuus, kui see saabus ning saabumise kohta ei ole veel aruannet esitatud, siis pole vaja näidata kumbagi tehingut.</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aupade tagastamisel tehinguliik 21</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gastatud kauba asendamisel tehinguliik 22</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gastamata kauba asendamisel tehinguliik 23</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ettevõte peab esitama ainult ühte voogu, ei pea näitama tagastamist, kui see on teine voog. </a:t>
            </a:r>
            <a:endParaRPr b="0" lang="en-US" sz="2400" spc="-1" strike="noStrike">
              <a:solidFill>
                <a:srgbClr val="003951"/>
              </a:solidFill>
              <a:latin typeface="Arial"/>
            </a:endParaRPr>
          </a:p>
        </p:txBody>
      </p:sp>
      <p:sp>
        <p:nvSpPr>
          <p:cNvPr id="12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pade tagastamine ja asenda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ohustuslikud andmeväljad </a:t>
            </a:r>
            <a:r>
              <a:rPr b="0" lang="et-EE" sz="1800" spc="-1" strike="noStrike">
                <a:solidFill>
                  <a:srgbClr val="003951"/>
                </a:solidFill>
                <a:latin typeface="Arial"/>
              </a:rPr>
              <a:t>- kaubakood, siht- ja saatjaliikmesriik, päritoluriik, tehinguliik, netomass (kg), kogus ja lisamõõtühik (juhul kui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KN-s</a:t>
            </a:r>
            <a:r>
              <a:rPr b="0" lang="et-EE" sz="1800" spc="-1" strike="noStrike">
                <a:solidFill>
                  <a:srgbClr val="003951"/>
                </a:solidFill>
                <a:latin typeface="Arial"/>
              </a:rPr>
              <a:t> on märgitud täiendav mõõtühik), kaubaarve summa ja valuut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Mittekohustuslikud andmeväljad (täidavad vaid suurema käibega ettevõtted) </a:t>
            </a:r>
            <a:r>
              <a:rPr b="0" lang="et-EE" sz="1800" spc="-1" strike="noStrike">
                <a:solidFill>
                  <a:srgbClr val="003951"/>
                </a:solidFill>
                <a:latin typeface="Arial"/>
              </a:rPr>
              <a:t>-</a:t>
            </a:r>
            <a:r>
              <a:rPr b="1" lang="et-EE" sz="1800" spc="-1" strike="noStrike">
                <a:solidFill>
                  <a:srgbClr val="003951"/>
                </a:solidFill>
                <a:latin typeface="Arial"/>
              </a:rPr>
              <a:t> </a:t>
            </a:r>
            <a:r>
              <a:rPr b="0" lang="et-EE" sz="1800" spc="-1" strike="noStrike">
                <a:solidFill>
                  <a:srgbClr val="003951"/>
                </a:solidFill>
                <a:latin typeface="Arial"/>
              </a:rPr>
              <a:t>statistiline väärtus, tarneklausel ja koht, transpordiliik. </a:t>
            </a:r>
            <a:r>
              <a:rPr b="1" lang="fi-FI" sz="1800" spc="-1" strike="noStrike">
                <a:solidFill>
                  <a:srgbClr val="003951"/>
                </a:solidFill>
                <a:latin typeface="Arial"/>
              </a:rPr>
              <a:t>Ettevõtted saavad Intrastatis aruandmise kohustuse ulatuse kohta infot Statistikaameti veebilehelt </a:t>
            </a:r>
            <a:r>
              <a:rPr b="0" lang="fi-FI" sz="1800" spc="-1" strike="noStrike" u="sng">
                <a:solidFill>
                  <a:srgbClr val="ff0000"/>
                </a:solidFill>
                <a:uFillTx/>
                <a:latin typeface="Arial"/>
                <a:hlinkClick r:id="rId1"/>
              </a:rPr>
              <a:t>http://www.stat.ee/andmete-esitamise-kohustus</a:t>
            </a:r>
            <a:r>
              <a:rPr b="1" lang="et-EE" sz="1800" spc="-1" strike="noStrike">
                <a:solidFill>
                  <a:srgbClr val="003951"/>
                </a:solidFill>
                <a:latin typeface="Arial"/>
              </a:rPr>
              <a:t> (Veerg “Märkus”)</a:t>
            </a:r>
            <a:r>
              <a:rPr b="1" lang="fi-FI" sz="1800" spc="-1" strike="noStrike">
                <a:solidFill>
                  <a:srgbClr val="003951"/>
                </a:solidFill>
                <a:latin typeface="Arial"/>
              </a:rPr>
              <a:t>.</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odeeritavad andmeväljad (kasutatakse klassifikaatoreid)</a:t>
            </a:r>
            <a:r>
              <a:rPr b="0" lang="et-EE" sz="1800" spc="-1" strike="noStrike">
                <a:solidFill>
                  <a:srgbClr val="003951"/>
                </a:solidFill>
                <a:latin typeface="Arial"/>
              </a:rPr>
              <a:t> – kaubakood, siht- ja saatjaliikmesriik, päritoluriik, tehinguliik, lisamõõtühik, tarneklausel, valuuta, transpordiliik</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Väärtuselised andmeväljad</a:t>
            </a:r>
            <a:r>
              <a:rPr b="0" lang="et-EE" sz="1800" spc="-1" strike="noStrike">
                <a:solidFill>
                  <a:srgbClr val="003951"/>
                </a:solidFill>
                <a:latin typeface="Arial"/>
              </a:rPr>
              <a:t> – kaubaarve summa, statistiline väärtus, netomass, kogus</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auba kirjeldus</a:t>
            </a:r>
            <a:r>
              <a:rPr b="0" lang="et-EE" sz="1800" spc="-1" strike="noStrike">
                <a:solidFill>
                  <a:srgbClr val="003951"/>
                </a:solidFill>
                <a:latin typeface="Arial"/>
              </a:rPr>
              <a:t> on vabatahtlik, aga vägagi soovitatav (aitab kontrollida kaubakoodi õigsust).</a:t>
            </a:r>
            <a:endParaRPr b="0" lang="en-US" sz="18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Intrastati andmevälja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reeditarve puhul tuleks parandada esialgset kirjet, mille kohta kreeditarve on esitatud.</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reeditarve parandus konkreetse kaubakoodi kohta jääb alla 320 euro, siis ei ole vaja Intrastatis korrigeerida</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reeditarve esitatakse seoses kauba tagastamisega ning kauba tagastamist on juba Intrastatis kajastatud, siis ei tuleks kreeditarve parandust enam teha (muidu on topelt).</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kreeditarve on seotud hinna muutusega, mis tehakse aasta lõpus ja mis ei ole seotud konkreetse kaubaga, vaid puudutab ettevõtte kogu saabumise või lähetamise käivet, siis seda Intrastatis ei kajastata.</a:t>
            </a:r>
            <a:endParaRPr b="0" lang="en-US" sz="2000" spc="-1" strike="noStrike">
              <a:solidFill>
                <a:srgbClr val="003951"/>
              </a:solidFill>
              <a:latin typeface="Arial"/>
            </a:endParaRPr>
          </a:p>
        </p:txBody>
      </p:sp>
      <p:sp>
        <p:nvSpPr>
          <p:cNvPr id="126"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 (näide 1)</a:t>
            </a:r>
            <a:endParaRPr b="1" lang="en-US" sz="2800" spc="-1" strike="noStrike">
              <a:solidFill>
                <a:srgbClr val="003951"/>
              </a:solidFill>
              <a:latin typeface="Arial"/>
            </a:endParaRPr>
          </a:p>
        </p:txBody>
      </p:sp>
      <p:sp>
        <p:nvSpPr>
          <p:cNvPr id="12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3951"/>
                </a:solidFill>
                <a:latin typeface="Arial"/>
              </a:rPr>
              <a:t>Märtsi lõpus</a:t>
            </a:r>
            <a:r>
              <a:rPr b="0" i="1" lang="et-EE" sz="2400" spc="-1" strike="noStrike">
                <a:solidFill>
                  <a:srgbClr val="003951"/>
                </a:solidFill>
                <a:latin typeface="Arial"/>
              </a:rPr>
              <a:t> saatis Eesti ettevõte Soome kaupa, mille väärtus arve järgi oli 10 000 eurot. Mõned kaubad said transportimisel kahjustada. Seda kaupa ei tagastatud, aga Eesti ettevõte väljastas </a:t>
            </a:r>
            <a:r>
              <a:rPr b="1" i="1" lang="et-EE" sz="2400" spc="-1" strike="noStrike">
                <a:solidFill>
                  <a:srgbClr val="003951"/>
                </a:solidFill>
                <a:latin typeface="Arial"/>
              </a:rPr>
              <a:t>mais</a:t>
            </a:r>
            <a:r>
              <a:rPr b="0" i="1" lang="et-EE" sz="2400" spc="-1" strike="noStrike">
                <a:solidFill>
                  <a:srgbClr val="003951"/>
                </a:solidFill>
                <a:latin typeface="Arial"/>
              </a:rPr>
              <a:t> kreeditarve 1 000 euro väärtuses.</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3951"/>
                </a:solidFill>
                <a:latin typeface="Arial"/>
              </a:rPr>
              <a:t>Eesti ettevõte peab tegema paranduse </a:t>
            </a:r>
            <a:r>
              <a:rPr b="1" i="1" lang="et-EE" sz="2400" spc="-1" strike="noStrike">
                <a:solidFill>
                  <a:srgbClr val="003951"/>
                </a:solidFill>
                <a:latin typeface="Arial"/>
              </a:rPr>
              <a:t>märtsi aruandes</a:t>
            </a:r>
            <a:r>
              <a:rPr b="0" i="1" lang="et-EE" sz="2400" spc="-1" strike="noStrike">
                <a:solidFill>
                  <a:srgbClr val="003951"/>
                </a:solidFill>
                <a:latin typeface="Arial"/>
              </a:rPr>
              <a:t> ja näitama kauba väärtuseks – 9 000 eurot.</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 (näide 2)</a:t>
            </a:r>
            <a:endParaRPr b="1" lang="en-US" sz="2800" spc="-1" strike="noStrike">
              <a:solidFill>
                <a:srgbClr val="003951"/>
              </a:solidFill>
              <a:latin typeface="Arial"/>
            </a:endParaRPr>
          </a:p>
        </p:txBody>
      </p:sp>
      <p:sp>
        <p:nvSpPr>
          <p:cNvPr id="13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3951"/>
                </a:solidFill>
                <a:latin typeface="Arial"/>
              </a:rPr>
              <a:t>Aasta jooksul on Eesti ettevõte ostnud Rootsist erinevaid kaupu. Aasta lõpus tehakse hinnaalandust kogu kaubale, mis on aasta jooksul Rootsist saabunud. Kuna selline parandus ei ole seotud konkreetse kaubaga, siis ei ole vaja Intrastatis parandust teha.</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700"/>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800" spc="-1" strike="noStrike">
                <a:solidFill>
                  <a:srgbClr val="003951"/>
                </a:solidFill>
                <a:latin typeface="Arial"/>
                <a:ea typeface="Times New Roman"/>
              </a:rPr>
              <a:t>on kaubatehing kolme osapoole vahel, kus kahe või kolme liikmesriigi ettevõtted on aktiivsed pooled. </a:t>
            </a:r>
            <a:endParaRPr b="0" lang="en-US" sz="2800" spc="-1" strike="noStrike">
              <a:solidFill>
                <a:srgbClr val="003951"/>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ea typeface="Times New Roman"/>
              </a:rPr>
              <a:t>Põhireegel</a:t>
            </a:r>
            <a:r>
              <a:rPr b="1" lang="et-EE" sz="2400" spc="-1" strike="noStrike">
                <a:solidFill>
                  <a:srgbClr val="003951"/>
                </a:solidFill>
                <a:latin typeface="Arial"/>
              </a:rPr>
              <a:t>.</a:t>
            </a:r>
            <a:r>
              <a:rPr b="0" lang="et-EE" sz="2400" spc="-1" strike="noStrike">
                <a:solidFill>
                  <a:srgbClr val="003951"/>
                </a:solidFill>
                <a:latin typeface="Arial"/>
                <a:ea typeface="Times New Roman"/>
              </a:rPr>
              <a:t> </a:t>
            </a:r>
            <a:r>
              <a:rPr b="0" lang="et-EE" sz="2400" spc="-1" strike="noStrike">
                <a:solidFill>
                  <a:srgbClr val="003951"/>
                </a:solidFill>
                <a:latin typeface="Arial"/>
              </a:rPr>
              <a:t>S</a:t>
            </a:r>
            <a:r>
              <a:rPr b="0" lang="et-EE" sz="2400" spc="-1" strike="noStrike">
                <a:solidFill>
                  <a:srgbClr val="003951"/>
                </a:solidFill>
                <a:latin typeface="Arial"/>
                <a:ea typeface="Times New Roman"/>
              </a:rPr>
              <a:t>õltumata sellest, kuidas on korraldatud arvete esitamine ja tasumine, tuleb I</a:t>
            </a:r>
            <a:r>
              <a:rPr b="0" lang="et-EE" sz="2400" spc="-1" strike="noStrike">
                <a:solidFill>
                  <a:srgbClr val="003951"/>
                </a:solidFill>
                <a:latin typeface="Arial"/>
              </a:rPr>
              <a:t>ntrastati </a:t>
            </a:r>
            <a:r>
              <a:rPr b="0" lang="et-EE" sz="2400" spc="-1" strike="noStrike">
                <a:solidFill>
                  <a:srgbClr val="003951"/>
                </a:solidFill>
                <a:latin typeface="Arial"/>
                <a:ea typeface="Times New Roman"/>
              </a:rPr>
              <a:t>aruandesse märkida ainult </a:t>
            </a:r>
            <a:r>
              <a:rPr b="1" lang="et-EE" sz="2400" spc="-1" strike="noStrike">
                <a:solidFill>
                  <a:srgbClr val="003951"/>
                </a:solidFill>
                <a:latin typeface="Arial"/>
                <a:ea typeface="Times New Roman"/>
              </a:rPr>
              <a:t>tegelik kauba</a:t>
            </a:r>
            <a:r>
              <a:rPr b="0" lang="et-EE" sz="2400" spc="-1" strike="noStrike">
                <a:solidFill>
                  <a:srgbClr val="003951"/>
                </a:solidFill>
                <a:latin typeface="Arial"/>
                <a:ea typeface="Times New Roman"/>
              </a:rPr>
              <a:t> </a:t>
            </a:r>
            <a:r>
              <a:rPr b="1" lang="et-EE" sz="2400" spc="-1" strike="noStrike">
                <a:solidFill>
                  <a:srgbClr val="003951"/>
                </a:solidFill>
                <a:latin typeface="Arial"/>
                <a:ea typeface="Times New Roman"/>
              </a:rPr>
              <a:t>liikumine</a:t>
            </a:r>
            <a:r>
              <a:rPr b="0" lang="et-EE" sz="2400" spc="-1" strike="noStrike">
                <a:solidFill>
                  <a:srgbClr val="003951"/>
                </a:solidFill>
                <a:latin typeface="Arial"/>
                <a:ea typeface="Times New Roman"/>
              </a:rPr>
              <a:t>. Kui kaup ei ole tegelikult liikmesriiki sisenenud või sealt lahkunud</a:t>
            </a:r>
            <a:r>
              <a:rPr b="0" lang="et-EE" sz="2400" spc="-1" strike="noStrike">
                <a:solidFill>
                  <a:srgbClr val="003951"/>
                </a:solidFill>
                <a:latin typeface="Arial"/>
              </a:rPr>
              <a:t>, </a:t>
            </a:r>
            <a:r>
              <a:rPr b="0" lang="et-EE" sz="2400" spc="-1" strike="noStrike">
                <a:solidFill>
                  <a:srgbClr val="003951"/>
                </a:solidFill>
                <a:latin typeface="Arial"/>
                <a:ea typeface="Times New Roman"/>
              </a:rPr>
              <a:t>ei tule seda ka aruande</a:t>
            </a:r>
            <a:r>
              <a:rPr b="0" lang="et-EE" sz="2400" spc="-1" strike="noStrike">
                <a:solidFill>
                  <a:srgbClr val="003951"/>
                </a:solidFill>
                <a:latin typeface="Arial"/>
              </a:rPr>
              <a:t>s</a:t>
            </a:r>
            <a:r>
              <a:rPr b="0" lang="et-EE" sz="2400" spc="-1" strike="noStrike">
                <a:solidFill>
                  <a:srgbClr val="003951"/>
                </a:solidFill>
                <a:latin typeface="Arial"/>
                <a:ea typeface="Times New Roman"/>
              </a:rPr>
              <a:t> näidata.</a:t>
            </a:r>
            <a:endParaRPr b="0" lang="en-US" sz="2400" spc="-1" strike="noStrike">
              <a:solidFill>
                <a:srgbClr val="003951"/>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Times New Roman"/>
              </a:rPr>
              <a:t>Aruande peavad esitama tegelik kauba saatja- ja sihtliikmesriik.</a:t>
            </a:r>
            <a:endParaRPr b="0" lang="en-US" sz="2400" spc="-1" strike="noStrike">
              <a:solidFill>
                <a:srgbClr val="003951"/>
              </a:solidFill>
              <a:latin typeface="Arial"/>
            </a:endParaRPr>
          </a:p>
        </p:txBody>
      </p:sp>
      <p:sp>
        <p:nvSpPr>
          <p:cNvPr id="13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lmnurktehingu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47760" y="764640"/>
            <a:ext cx="7515360" cy="576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lmnurktehing (näide 1)</a:t>
            </a:r>
            <a:endParaRPr b="1" lang="en-US" sz="3200" spc="-1" strike="noStrike">
              <a:solidFill>
                <a:srgbClr val="003951"/>
              </a:solidFill>
              <a:latin typeface="Arial"/>
            </a:endParaRPr>
          </a:p>
        </p:txBody>
      </p:sp>
      <p:sp>
        <p:nvSpPr>
          <p:cNvPr id="134" name="PlaceHolder 2"/>
          <p:cNvSpPr>
            <a:spLocks noGrp="1"/>
          </p:cNvSpPr>
          <p:nvPr>
            <p:ph/>
          </p:nvPr>
        </p:nvSpPr>
        <p:spPr>
          <a:xfrm>
            <a:off x="1247760" y="1699920"/>
            <a:ext cx="7515360" cy="47005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ved tehakse Eesti ja Soome ning Soome ja Rootsi vahel, kuid 2000 eurot maksev kaup saadetakse Eestist otse Rootsi. Niisiis peavad aruanded esitama:</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ettevõte: Rootsi saadetud 2000 EUR</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ootsi ettevõte: Eestist saadud 2000 EUR</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35" name=""/>
          <p:cNvSpPr/>
          <p:nvPr/>
        </p:nvSpPr>
        <p:spPr>
          <a:xfrm>
            <a:off x="3276720" y="3933720"/>
            <a:ext cx="914400" cy="914400"/>
          </a:xfrm>
          <a:prstGeom prst="ellipse">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47760" y="907560"/>
            <a:ext cx="7515360" cy="576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lmnurktehing (näide 1)</a:t>
            </a:r>
            <a:endParaRPr b="1" lang="en-US" sz="3200" spc="-1" strike="noStrike">
              <a:solidFill>
                <a:srgbClr val="003951"/>
              </a:solidFill>
              <a:latin typeface="Arial"/>
            </a:endParaRPr>
          </a:p>
        </p:txBody>
      </p:sp>
      <p:pic>
        <p:nvPicPr>
          <p:cNvPr id="137" name="" descr=""/>
          <p:cNvPicPr/>
          <p:nvPr/>
        </p:nvPicPr>
        <p:blipFill>
          <a:blip r:embed="rId1"/>
          <a:stretch/>
        </p:blipFill>
        <p:spPr>
          <a:xfrm>
            <a:off x="1332000" y="1484280"/>
            <a:ext cx="7056360" cy="484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47760" y="1125000"/>
            <a:ext cx="7515360" cy="574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olmnurktehing (näide 2)</a:t>
            </a:r>
            <a:endParaRPr b="1" lang="en-US" sz="2400" spc="-1" strike="noStrike">
              <a:solidFill>
                <a:srgbClr val="003951"/>
              </a:solidFill>
              <a:latin typeface="Arial"/>
            </a:endParaRPr>
          </a:p>
        </p:txBody>
      </p:sp>
      <p:pic>
        <p:nvPicPr>
          <p:cNvPr id="139" name="" descr=""/>
          <p:cNvPicPr/>
          <p:nvPr/>
        </p:nvPicPr>
        <p:blipFill>
          <a:blip r:embed="rId1"/>
          <a:stretch/>
        </p:blipFill>
        <p:spPr>
          <a:xfrm>
            <a:off x="900000" y="2116080"/>
            <a:ext cx="7417080" cy="365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Intrastatis kajastatakse tehinguid vastavalt kaupade liikumisele, KMD-l kajastatakse tehinguid vastavalt arve esitamisele. Seega periood võib olla erinev.</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Töötlemise puhul kajastatakse Intrastatis kogu kaupade väärtust (k.a teenuse maksumus), KMD-l kajastatakse töötlemine teenusena (lähetamine, lahter 3.1 ja soetamine, lahter 6)</a:t>
            </a:r>
            <a:endParaRPr b="0" lang="en-US" sz="2000" spc="-1" strike="noStrike">
              <a:solidFill>
                <a:srgbClr val="003951"/>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NB! KMD-s kajastatakse lahtris 3.1.1 “kauba ühendusesisene käive” kauba lähetamist ELi riikidesse ja lahtris 6.1 “kauba ühendusesisene soetamine” – kauba saabumist ELi riikidest.</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reeditarveid kajastatakse KMD-l eraldi miinusmärgiga, Intrastatis korrigeeritakse eelnevalt esitatud kirjet</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olmnurktehinguid kajastatakse erinevalt (Intrastatis on tähtis kaupade tegelik liikumine, aga KMD-l on oluline arvete liikumine)</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pade eest maksmist osade kaupa kajastatakse KMD-l iga kuu, aga Intrastatis üks kord – kuus, mil kaup on tegelikult saabunud või lähetatud.</a:t>
            </a:r>
            <a:endParaRPr b="0" lang="en-US" sz="2000" spc="-1" strike="noStrike">
              <a:solidFill>
                <a:srgbClr val="003951"/>
              </a:solidFill>
              <a:latin typeface="Arial"/>
            </a:endParaRPr>
          </a:p>
        </p:txBody>
      </p:sp>
      <p:sp>
        <p:nvSpPr>
          <p:cNvPr id="141"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Intrastati ja KMD erinevuse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äidetud aruande näidis</a:t>
            </a:r>
            <a:endParaRPr b="1" lang="en-US" sz="2800" spc="-1" strike="noStrike">
              <a:solidFill>
                <a:srgbClr val="003951"/>
              </a:solidFill>
              <a:latin typeface="Arial"/>
            </a:endParaRPr>
          </a:p>
        </p:txBody>
      </p:sp>
      <p:graphicFrame>
        <p:nvGraphicFramePr>
          <p:cNvPr id="143" name=""/>
          <p:cNvGraphicFramePr/>
          <p:nvPr/>
        </p:nvGraphicFramePr>
        <p:xfrm>
          <a:off x="611280" y="981000"/>
          <a:ext cx="8532720" cy="5419800"/>
        </p:xfrm>
        <a:graphic>
          <a:graphicData uri="http://schemas.openxmlformats.org/presentationml/2006/ole">
            <p:oleObj r:id="rId1" spid="">
              <p:embed/>
              <p:pic>
                <p:nvPicPr>
                  <p:cNvPr id="144" name="" descr=""/>
                  <p:cNvPicPr/>
                  <p:nvPr/>
                </p:nvPicPr>
                <p:blipFill>
                  <a:blip r:embed="rId2"/>
                  <a:stretch/>
                </p:blipFill>
                <p:spPr>
                  <a:xfrm>
                    <a:off x="611280" y="981000"/>
                    <a:ext cx="8532720" cy="541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561960" y="765000"/>
          <a:ext cx="8020080" cy="5832720"/>
        </p:xfrm>
        <a:graphic>
          <a:graphicData uri="http://schemas.openxmlformats.org/presentationml/2006/ole">
            <p:oleObj r:id="rId1" spid="">
              <p:embed/>
              <p:pic>
                <p:nvPicPr>
                  <p:cNvPr id="146" name="" descr=""/>
                  <p:cNvPicPr/>
                  <p:nvPr/>
                </p:nvPicPr>
                <p:blipFill>
                  <a:blip r:embed="rId2"/>
                  <a:stretch/>
                </p:blipFill>
                <p:spPr>
                  <a:xfrm>
                    <a:off x="561960" y="765000"/>
                    <a:ext cx="8020080" cy="583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sestatakse kauba 8-kohaline kood vastavalt kombineeritud nomenklatuurile (näiteks, tomatid – 07020000)</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i tohi olla lühem või ainult jaotise/grupi number (nt I jaotis või grupp 27)</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d peab vastama aruandeaastal kehtivale kombineeritud nomenklatuurile. KNi muudetakse Euroopa Liidus iga aasta. Kombineeritud nomenklatuuri täisversioon ja muu sellega kaasnev info (nt info muudatuste kohta) asub veebilehel </a:t>
            </a:r>
            <a:r>
              <a:rPr b="0" lang="et-EE" sz="2000" spc="-1" strike="noStrike" u="sng">
                <a:solidFill>
                  <a:srgbClr val="ff0000"/>
                </a:solidFill>
                <a:uFillTx/>
                <a:latin typeface="Arial"/>
                <a:hlinkClick r:id="rId1"/>
              </a:rPr>
              <a:t>http://www.stat.ee/15784</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bi õige kaubakoodi leidmisel saab HS tähestikulisest sisunäitajast, Seletavast KN-st või helistades telefonil 6259 185 (metoodika osakond).</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9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bakoo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ihtliikmesriik</a:t>
            </a:r>
            <a:r>
              <a:rPr b="0" lang="et-EE" sz="2400" spc="-1" strike="noStrike">
                <a:solidFill>
                  <a:srgbClr val="003951"/>
                </a:solidFill>
                <a:latin typeface="Arial"/>
              </a:rPr>
              <a:t> on Euroopa Liidu liikmesriik, kuhu kaup veetakse. Kui ei ole teada, siis märgitakse ostjarii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aatjaliikmesriik</a:t>
            </a:r>
            <a:r>
              <a:rPr b="0" lang="et-EE" sz="2400" spc="-1" strike="noStrike">
                <a:solidFill>
                  <a:srgbClr val="003951"/>
                </a:solidFill>
                <a:latin typeface="Arial"/>
              </a:rPr>
              <a:t> on Euroopa Liidu liikmesriik, kust kaup saabus.</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partnerriigi 2-täheline kood vastavalt riikide ja territooriumide klassifikaatorile (GEONOM).</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15776</a:t>
            </a:r>
            <a:br>
              <a:rPr sz="2400"/>
            </a:br>
            <a:endParaRPr b="0" lang="en-US" sz="2400" spc="-1" strike="noStrike">
              <a:solidFill>
                <a:srgbClr val="003951"/>
              </a:solidFill>
              <a:latin typeface="Arial"/>
            </a:endParaRPr>
          </a:p>
        </p:txBody>
      </p:sp>
      <p:sp>
        <p:nvSpPr>
          <p:cNvPr id="9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iht- ja saatjaliikmesriik (partnerr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Päritoluriik</a:t>
            </a:r>
            <a:r>
              <a:rPr b="0" lang="et-EE" sz="2400" spc="-1" strike="noStrike">
                <a:solidFill>
                  <a:srgbClr val="003951"/>
                </a:solidFill>
                <a:latin typeface="Arial"/>
              </a:rPr>
              <a:t> on riik, kus kaup on toodetud või kus toimus kauba viimane majanduslikult põhjendatud töötlemi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päritoluriigi 2-täheline kood vastavalt riikide ja territooriumide klassifikaatorile (GEONOM).</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äritoluriik võib olla igasugune riik – nii ELi liikmesriik kui ka ELi mittekuuluv rii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päritoluriik ei ole täpselt teada, võib märkida koodiks EU (toodetud Euroopa Liidus) või </a:t>
            </a:r>
            <a:r>
              <a:rPr b="1" lang="et-EE" sz="2400" spc="-1" strike="noStrike">
                <a:solidFill>
                  <a:srgbClr val="003951"/>
                </a:solidFill>
                <a:latin typeface="Arial"/>
              </a:rPr>
              <a:t>äärmisel juhul</a:t>
            </a:r>
            <a:r>
              <a:rPr b="0" lang="et-EE" sz="2400" spc="-1" strike="noStrike">
                <a:solidFill>
                  <a:srgbClr val="003951"/>
                </a:solidFill>
                <a:latin typeface="Arial"/>
              </a:rPr>
              <a:t> XX (päritolu teadmata). Aga see pole soovitatav.</a:t>
            </a:r>
            <a:endParaRPr b="0" lang="en-US" sz="2400" spc="-1" strike="noStrike">
              <a:solidFill>
                <a:srgbClr val="003951"/>
              </a:solidFill>
              <a:latin typeface="Arial"/>
            </a:endParaRPr>
          </a:p>
        </p:txBody>
      </p:sp>
      <p:sp>
        <p:nvSpPr>
          <p:cNvPr id="96"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Päritolur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247760" y="1844640"/>
            <a:ext cx="7515360" cy="45561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ehing </a:t>
            </a:r>
            <a:r>
              <a:rPr b="0" lang="et-EE" sz="2400" spc="-1" strike="noStrike">
                <a:solidFill>
                  <a:srgbClr val="003951"/>
                </a:solidFill>
                <a:latin typeface="Arial"/>
              </a:rPr>
              <a:t>on mis tahes äri- või muu toiming, mille tulemuseks on liikmesriikidevaheline kaupade liikumi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uandesse märgitakse lepingus või mõnes muus dokumendis märgitud kahekohaline tehingu liigi kood tehingu liikide klassifikaatori järgi.</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39768</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8"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ehingul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247760" y="1915920"/>
            <a:ext cx="7515360" cy="4484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sestatakse kauba netomass (kaal) ilma pakendita kilogrammides. Netomass tuleb esitada kogu sama koodiga kauba kohta, mitte iga ühiku kohta eraldi. Näiteks, kui on sisse veetud 3 autot, siis tuleb märkida kolme auto kaal kokku.</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Netomass on soovitav ümardada täisarvudeks, v.a. mõnede kaupade puhul (ravimid, kemikaalid jne). </a:t>
            </a:r>
            <a:r>
              <a:rPr b="0" lang="et-EE" sz="2000" spc="-1" strike="noStrike" u="sng">
                <a:solidFill>
                  <a:srgbClr val="003951"/>
                </a:solidFill>
                <a:uFillTx/>
                <a:latin typeface="Arial"/>
              </a:rPr>
              <a:t>Netomass ei tohi olla null!</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netomass on teadmata, tuleks see määrata hinnanguliselt.</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kaubasaadetis sisaldab erinevaid kaupu, aga netomass on märgitud kogu kaubasaadetise kohta, tuleb aruande täitjal jagada netomass kaupade vahel hinnanguliselt.</a:t>
            </a:r>
            <a:endParaRPr b="0" lang="en-US" sz="2000" spc="-1" strike="noStrike">
              <a:solidFill>
                <a:srgbClr val="003951"/>
              </a:solidFill>
              <a:latin typeface="Arial"/>
            </a:endParaRPr>
          </a:p>
        </p:txBody>
      </p:sp>
      <p:sp>
        <p:nvSpPr>
          <p:cNvPr id="100" name="PlaceHolder 2"/>
          <p:cNvSpPr>
            <a:spLocks noGrp="1"/>
          </p:cNvSpPr>
          <p:nvPr>
            <p:ph type="title"/>
          </p:nvPr>
        </p:nvSpPr>
        <p:spPr>
          <a:xfrm>
            <a:off x="1247400" y="1125360"/>
            <a:ext cx="6953400" cy="648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etomass</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kauba kogus ja lisamõõtühiku 3-täheline kood. Pabervormil võib kasutada ka mõõtühiku lühendit, näiteks m3, m2 j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s tuleb täita juhul, kui konkreetsel kaubakoodil on märgitud KN-s lisamõõtühik. Näiteks, linnumunad – KNi kood 04070030 ja lisamõõtühik 1000 tk (MIL)</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s peab kindlasti vastama KN-s märgitud lisamõõtühikule. </a:t>
            </a:r>
            <a:endParaRPr b="0" lang="en-US" sz="2400" spc="-1" strike="noStrike">
              <a:solidFill>
                <a:srgbClr val="003951"/>
              </a:solidFill>
              <a:latin typeface="Arial"/>
            </a:endParaRPr>
          </a:p>
        </p:txBody>
      </p:sp>
      <p:sp>
        <p:nvSpPr>
          <p:cNvPr id="10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s ja lisamõõtüh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väärtus, mis on märgitud arvele (võib esitada eurodes või muudes valuutades, mis on välja toodud </a:t>
            </a:r>
            <a:r>
              <a:rPr b="1" lang="et-EE" sz="1800" spc="-1" strike="noStrike">
                <a:solidFill>
                  <a:srgbClr val="003951"/>
                </a:solidFill>
                <a:latin typeface="Arial"/>
              </a:rPr>
              <a:t>Intrastati Valuutade ja fondide klassifikaatoris</a:t>
            </a:r>
            <a:r>
              <a:rPr b="0" lang="et-EE" sz="1800" spc="-1" strike="noStrike">
                <a:solidFill>
                  <a:srgbClr val="003951"/>
                </a:solidFill>
                <a:latin typeface="Arial"/>
              </a:rPr>
              <a:t> (</a:t>
            </a:r>
            <a:r>
              <a:rPr b="0" lang="et-EE" sz="1800" spc="-1" strike="noStrike" u="sng">
                <a:solidFill>
                  <a:srgbClr val="ff0000"/>
                </a:solidFill>
                <a:uFillTx/>
                <a:latin typeface="Arial"/>
                <a:hlinkClick r:id="rId1"/>
              </a:rPr>
              <a:t>http://www.stat.ee/15782</a:t>
            </a:r>
            <a:r>
              <a:rPr b="0" lang="et-EE" sz="1800" spc="-1" strike="noStrike">
                <a:solidFill>
                  <a:srgbClr val="003951"/>
                </a:solidFill>
                <a:latin typeface="Arial"/>
              </a:rPr>
              <a:t>).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urodesse ümberarvestuse puhul kasutatakse aruandekuu keskmist, aruandekuule eelnenud kuu viimase päeva või raamatupidamislausendi koostamisel kasutatud kurssi.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sitatakse ilma maksudeta (käibemaks, aktsiis).</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oovitav esitada täisarvudena ja mitte kasutada tuhande eraldajana koma või punkti.</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aubaarve sisaldab transporti ja kindlustust, siis esitada Intrastatis kogu summ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indlustuse või transpordi kohta on eraldi arve, siis seda mitte näidata (käsitletav teenusen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auba hind ei ole teada (nt töötlemisele tasuta saabunud kaubad vms) määratakse see hinnanguliselt (turuhind, analoogse toote hind).</a:t>
            </a:r>
            <a:endParaRPr b="0" lang="en-US" sz="1800" spc="-1" strike="noStrike">
              <a:solidFill>
                <a:srgbClr val="003951"/>
              </a:solidFill>
              <a:latin typeface="Arial"/>
            </a:endParaRPr>
          </a:p>
        </p:txBody>
      </p:sp>
      <p:sp>
        <p:nvSpPr>
          <p:cNvPr id="10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baarve summa</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Dina Kazakova</cp:lastModifiedBy>
  <cp:lastPrinted>2001-03-09T09:19:09Z</cp:lastPrinted>
  <dcterms:modified xsi:type="dcterms:W3CDTF">2012-12-17T12:49:48Z</dcterms:modified>
  <cp:revision>55</cp:revision>
  <dc:subject/>
  <dc:title>PowerPoint Presentation</dc:title>
</cp:coreProperties>
</file>