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0668-0761-48AE-B66E-CD4FC88FA57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BA0-125D-41AC-95F7-3C329D5CAED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D6C-283C-4326-BB06-D0E404E8835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24C-BCCE-426E-AFA5-178F98BB68E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6160-F57B-4CAB-B843-6E4D5F83D73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419-8901-4DE6-8477-E721F5E36F5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C8D4-C868-4B20-97E3-39B92B6DE2E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662-529E-4F3A-8DC2-8F999A0BB84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4AD4-113D-4F80-935F-AE7DECDA491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FA1-FA4C-4B87-B117-955EED247B1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F5F-159A-464E-A486-4BE202446F4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A0A-6924-49D6-8F4E-49A0A5EB2E5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B7B9-7CCD-4863-9ADE-5272AF08FA2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012A-1BAD-4812-BE4C-2BB44F0AB5E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27F7F-047C-4A35-95B5-C2DFA40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866C7-3230-4556-9967-8A9D2E02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84750-5041-4A71-8BF2-1B6872A9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E166-6CF2-4C6C-BAE3-A2A5A71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6A67B-677B-4AC7-B91C-6188BCAD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263E-A09F-4BB6-A0C7-7BCFD0D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676D-4F8D-42BD-964B-1CACD06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C478-6DF7-4A52-857E-0AE796C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241AB-8ACD-4EA1-9CC6-DC8F4A9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27ECD-FECE-42BE-B06C-55A253E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ED718-4EB1-470E-8149-666EF98B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DEE0C-76B6-4463-A26C-294A4CF7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351F8-2923-478B-BD6A-C518F48F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33A9E-6F0B-443D-AC83-CD280F5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328DF-D304-4D5E-8A69-E05BAFFA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1F515-F0F8-4CD8-8F85-1BFABA38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7B76F-15EC-47D9-9437-02D2A64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8389C-0018-4705-83F3-6F7A98ED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B08C-AD63-4372-A9CE-9139D37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5E903-85A5-4788-9264-46783C1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A6417-7CC2-4C8E-B79F-7969C19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688BE-AA6C-4EF3-97E8-EDF713D3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ED25E-2325-4658-A4D3-C6267C45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639A3-AB8D-4070-BA2E-6C0BDA50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9.03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6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0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1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3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3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4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7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5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2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6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6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17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0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18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4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1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REL_logo_RGB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EL_vahe_1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REL_vahe_2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EDA3-F393-407C-803F-63C50C087628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EL_vahe_33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BD1B-F9BF-46B3-8C5D-F9E60EEB51D2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REL_vahe_4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8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REL_logo_RGB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2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EL 2011 tulemused Eluruumide andm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alüüti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lisriigi elanikele kuuluvad eluruum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arva-Jõesuu: 12,8% (240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hnu vald: 9,3% (4 eluruumi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üssi linn: 7,9% (58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seri vald: 7,7% (85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stjala vald: 7,2% (36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llinn, kesklinna linnaosa: 7% (1960 eluruum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6" name="Content Placeholder 6" descr="eluruumi_keskmine_pind_REL2011_esitlus.png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5856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sustatud eluruumid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mine tubade arv elanik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9" name="Picture 6" descr=""/>
          <p:cNvPicPr/>
          <p:nvPr/>
        </p:nvPicPr>
        <p:blipFill>
          <a:blip r:embed="rId1"/>
          <a:stretch/>
        </p:blipFill>
        <p:spPr>
          <a:xfrm>
            <a:off x="425520" y="1762200"/>
            <a:ext cx="82915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3" name="Picture 4" descr="REL_vahe_1"/>
          <p:cNvPicPr/>
          <p:nvPr/>
        </p:nvPicPr>
        <p:blipFill>
          <a:blip r:embed="rId1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luruumide üldandm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98" name="Picture 40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5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0" name="Picture 2" descr="elamud_pärast_200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uhu on eluruume juurde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hitatud ja kus jäänud vähemaks?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826920" y="1413000"/>
            <a:ext cx="7515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nna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lla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õige vähem, kõigest 43 eluruumi, asub Ruhnu vallas, järgneb 90 eluruumiga Piirissaare val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4" name="Picture 5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53520" cy="1544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1" descr=""/>
          <p:cNvPicPr/>
          <p:nvPr/>
        </p:nvPicPr>
        <p:blipFill>
          <a:blip r:embed="rId2"/>
          <a:stretch/>
        </p:blipFill>
        <p:spPr>
          <a:xfrm>
            <a:off x="826920" y="3971880"/>
            <a:ext cx="75535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8" name="Picture 3" descr="tavaeluruumideta_kylad.png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uutus eluruumide ja elanike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vudes kahe loenduse vahelisel aja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5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1" name="Picture 8" descr=""/>
          <p:cNvPicPr/>
          <p:nvPr/>
        </p:nvPicPr>
        <p:blipFill>
          <a:blip r:embed="rId1"/>
          <a:stretch/>
        </p:blipFill>
        <p:spPr>
          <a:xfrm>
            <a:off x="453960" y="1700280"/>
            <a:ext cx="8234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sustatud eluruumid v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üsielaniketa eluruum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258920" y="1537920"/>
            <a:ext cx="7515360" cy="41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õige suurem osakaal asustatud eluruum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9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üsielaniketa eluruumid?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5" name="Picture 25" descr=""/>
          <p:cNvPicPr/>
          <p:nvPr/>
        </p:nvPicPr>
        <p:blipFill>
          <a:blip r:embed="rId1"/>
          <a:stretch/>
        </p:blipFill>
        <p:spPr>
          <a:xfrm>
            <a:off x="1676520" y="2060640"/>
            <a:ext cx="38322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7" name="Content Placeholder 5" descr="asustamata_eluruumid.pn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oonete ja eluruumid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hitusaeg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0" name="Picture 6" descr=""/>
          <p:cNvPicPr/>
          <p:nvPr/>
        </p:nvPicPr>
        <p:blipFill>
          <a:blip r:embed="rId1"/>
          <a:stretch/>
        </p:blipFill>
        <p:spPr>
          <a:xfrm>
            <a:off x="909720" y="1376280"/>
            <a:ext cx="7323120" cy="500544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900000" y="981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3951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anuo</cp:lastModifiedBy>
  <dcterms:modified xsi:type="dcterms:W3CDTF">2013-03-19T07:07:36Z</dcterms:modified>
  <cp:revision>232</cp:revision>
  <dc:subject/>
  <dc:title>Slide 1</dc:title>
</cp:coreProperties>
</file>