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3.wmf" ContentType="image/x-wmf"/>
  <Override PartName="/ppt/media/image5.wmf" ContentType="image/x-wmf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79E1-9B5F-403C-B45D-F2F6DA263992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6F63-25D9-40B5-9899-9FD58467462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354F-667A-4C6E-AB7B-57C43A77B4F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8066-BB61-44C9-A12E-438E7CE8A34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0210-6B32-4D74-B9D9-31EF1F8F187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49F4-285C-46ED-BF61-AF09D504608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A38F-012C-462A-B511-7D504225FAD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37C3-53CF-4A16-A15F-1CF81684324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AEF4-1E0C-480C-805C-3E99133B63C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985A-A59A-4274-A110-06EB0CA1123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7216-B042-42DE-AA47-32E184697F4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C59-6DE6-4769-BDC2-70CA0439414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8F60-2762-4E24-8C31-570D1348F1D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ABF2-432B-4513-A4CC-27777A088B3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ED45D-8A07-456E-B741-8A721109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79F01-E727-4395-988C-710C7C24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2423D-9183-42D7-8F57-F7B3AE47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4493A-9FB0-4373-B8F6-D666BEE6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5EABB-97A0-4322-BB38-DDF0E4BA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7416A-611A-4000-8521-18306102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D0B00-CD60-4000-92BE-A6819C85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6BDCE-BFC0-4F94-BF04-E6BA7808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8D21F-CF1D-4C47-AA76-275BB72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283B0-EDEB-4A49-84D6-48AA4700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27B18-3D34-47BB-98D8-C4412F58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5A618-7117-4ED3-BC36-3630BBA8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A4980-9BE2-4481-ADC4-42449862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FA49C-5A1D-444B-8819-C25A95D4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974DE-5D24-48A7-8BB8-48D3B233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CB5B2-1E3C-4CC7-92A5-238911B2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B535F-288D-44A3-9D75-7B8FF78B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4B832-CC7A-4571-9FD5-5C6CF004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DDCA5-13E4-477C-A8A0-598622E8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5F6D7-2C62-436B-B19D-FD9DD69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16C6C-5513-424E-9488-2E068718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321B9-A6D2-4AC3-B304-896FAEC1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77FCA-93BD-45D4-8C90-FE7EEDD7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F2478-EB7F-4596-B336-EB72869D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9.03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69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0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1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3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1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9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3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3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14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79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5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621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16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663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ftr" idx="17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70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ftr" idx="18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74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ftr" idx="19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REL_logo_RGB"/>
          <p:cNvPicPr/>
          <p:nvPr/>
        </p:nvPicPr>
        <p:blipFill>
          <a:blip r:embed="rId3"/>
          <a:stretch/>
        </p:blipFill>
        <p:spPr>
          <a:xfrm>
            <a:off x="7093080" y="271440"/>
            <a:ext cx="167004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REL_vahe_1"/>
          <p:cNvPicPr/>
          <p:nvPr/>
        </p:nvPicPr>
        <p:blipFill>
          <a:blip r:embed="rId2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REL_vahe_2"/>
          <p:cNvPicPr/>
          <p:nvPr/>
        </p:nvPicPr>
        <p:blipFill>
          <a:blip r:embed="rId2"/>
          <a:stretch/>
        </p:blipFill>
        <p:spPr>
          <a:xfrm>
            <a:off x="-6480" y="-9360"/>
            <a:ext cx="9176040" cy="687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ED8A-143F-4558-8C05-FB6156476267}" type="slidenum"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REL_vahe_33"/>
          <p:cNvPicPr/>
          <p:nvPr/>
        </p:nvPicPr>
        <p:blipFill>
          <a:blip r:embed="rId2"/>
          <a:stretch/>
        </p:blipFill>
        <p:spPr>
          <a:xfrm>
            <a:off x="-7920" y="-7920"/>
            <a:ext cx="917244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BE3A-50D7-4A6F-9E77-F1742AA0642C}" type="slidenum"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7" descr="REL_vahe_4"/>
          <p:cNvPicPr/>
          <p:nvPr/>
        </p:nvPicPr>
        <p:blipFill>
          <a:blip r:embed="rId2"/>
          <a:stretch/>
        </p:blipFill>
        <p:spPr>
          <a:xfrm>
            <a:off x="-9360" y="-9360"/>
            <a:ext cx="916776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69560" cy="6869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8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REL_logo_RGB"/>
          <p:cNvPicPr/>
          <p:nvPr/>
        </p:nvPicPr>
        <p:blipFill>
          <a:blip r:embed="rId3"/>
          <a:stretch/>
        </p:blipFill>
        <p:spPr>
          <a:xfrm>
            <a:off x="900000" y="3473280"/>
            <a:ext cx="3816360" cy="1295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2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9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EL 2011 tulemused Eluruumide andmed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nalüüti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älisriigi elanikele kuuluvad eluruum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arva-Jõesuu: 12,8% (240 eluruum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uhnu vald: 9,3% (4 eluruumi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üssi linn: 7,9% (58 eluruum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seri vald: 7,7% (85 eluruum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stjala vald: 7,2% (36 eluruum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llinn, kesklinna linnaosa: 7% (1960 eluruum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6" name="Content Placeholder 6" descr="eluruumi_keskmine_pind_REL2011_esitlus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58560" y="693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sustatud eluruumide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mine tubade arv elaniku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9" name="Picture 6" descr=""/>
          <p:cNvPicPr/>
          <p:nvPr/>
        </p:nvPicPr>
        <p:blipFill>
          <a:blip r:embed="rId1"/>
          <a:stretch/>
        </p:blipFill>
        <p:spPr>
          <a:xfrm>
            <a:off x="425520" y="1762200"/>
            <a:ext cx="829152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1.01.2006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3" name="Picture 4" descr="REL_vahe_1"/>
          <p:cNvPicPr/>
          <p:nvPr/>
        </p:nvPicPr>
        <p:blipFill>
          <a:blip r:embed="rId1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luruumide üldandm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798" name="Picture 40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44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5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0" name="Picture 2" descr="elamud_pärast_200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uhu on eluruume juurde 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hitatud ja kus jäänud vähemaks?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826920" y="1413000"/>
            <a:ext cx="7515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nna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lla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õige vähem, kõigest 43 eluruumi, asub Ruhnu vallas, järgneb 90 eluruumiga Piirissaare vald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4" name="Picture 52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553520" cy="1544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1" descr=""/>
          <p:cNvPicPr/>
          <p:nvPr/>
        </p:nvPicPr>
        <p:blipFill>
          <a:blip r:embed="rId2"/>
          <a:stretch/>
        </p:blipFill>
        <p:spPr>
          <a:xfrm>
            <a:off x="826920" y="3971880"/>
            <a:ext cx="755352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7" name="Footer Placeholder 2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1.01.2006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8" name="Picture 3" descr="tavaeluruumideta_kylad.pn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5856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uutus eluruumide ja elanike 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vudes kahe loenduse vahelisel ajal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0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5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1" name="Picture 8" descr=""/>
          <p:cNvPicPr/>
          <p:nvPr/>
        </p:nvPicPr>
        <p:blipFill>
          <a:blip r:embed="rId1"/>
          <a:stretch/>
        </p:blipFill>
        <p:spPr>
          <a:xfrm>
            <a:off x="453960" y="1700280"/>
            <a:ext cx="82342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sustatud eluruumid v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üsielaniketa eluruum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1258920" y="1537920"/>
            <a:ext cx="751536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õige suurem osakaal asustatud eluruum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9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üsielaniketa eluruumid?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5" name="Picture 25" descr=""/>
          <p:cNvPicPr/>
          <p:nvPr/>
        </p:nvPicPr>
        <p:blipFill>
          <a:blip r:embed="rId1"/>
          <a:stretch/>
        </p:blipFill>
        <p:spPr>
          <a:xfrm>
            <a:off x="1676520" y="2060640"/>
            <a:ext cx="38322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7" name="Content Placeholder 5" descr="asustamata_eluruumid.png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Hoonete ja eluruumide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hitusaeg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0" name="Picture 6" descr=""/>
          <p:cNvPicPr/>
          <p:nvPr/>
        </p:nvPicPr>
        <p:blipFill>
          <a:blip r:embed="rId1"/>
          <a:stretch/>
        </p:blipFill>
        <p:spPr>
          <a:xfrm>
            <a:off x="909720" y="1376280"/>
            <a:ext cx="7323120" cy="500544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900000" y="9810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3951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anuo</cp:lastModifiedBy>
  <dcterms:modified xsi:type="dcterms:W3CDTF">2013-03-19T07:07:36Z</dcterms:modified>
  <cp:revision>232</cp:revision>
  <dc:subject/>
  <dc:title>Slide 1</dc:title>
</cp:coreProperties>
</file>