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EAED-3AF7-4345-882F-5014472B2497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A272-0387-46F9-B45A-E1CEC056CA0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5377-DF2E-4A1F-968D-628B8E9A9A9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E645-6816-4722-9B2D-D37E3EEEDCF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EDC6-3ACE-45AE-9AF4-6F30F09BCAB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FEA9-6504-483E-BB0F-1DFED566E1FE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BA33-D573-468A-B0F5-EF97D3F9611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5C7D-DB8E-4A61-AEA5-B6230437D4D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27C1-D510-4BCE-95C5-56E01F8CD82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3F17-4108-4C6F-8F20-DE84D8DF29F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3FD8-7905-4BBE-A046-0D2945D2110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EAB1-7FF6-4A80-989C-16B0D1EBFEB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21003-9047-4BBC-9EDC-E0C62B93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7CD69-4A83-4C69-9444-EE8F54C4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F264A-F61E-447D-90FA-509A33F4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AD1C7-61AC-40C8-A7E5-093054A2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8533B-A998-4957-9F3A-016A761F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F0B39-5BDF-48CA-B172-A74E3110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7A188-570A-4F55-95E7-FAF10F9F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3A385-BA80-40C5-88C7-0DEE4117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D8333-CAF4-469A-94A7-98328EC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97A0E-504C-4608-8196-F878BBD0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BFE7E-9756-4CBD-A782-FB1EB705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C487C-453C-4455-B4D9-8BB5829D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D6FAB-856E-48B7-A81B-6372AE99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96AAC-DB4B-43DE-8D2A-54B8B5BB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A462D-59E8-418F-AF76-318CD8D8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55C3F-9D1F-44F8-B479-5C2BEA0C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695BE-CF7B-451F-887E-3565EA41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8871E-2632-4741-9FA3-65647EE4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6A2D9-D008-40F3-9DF7-414C606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C1167-A25E-4C8E-A12D-240A0C5B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6A9E0-50B1-4363-B0C4-0C05B488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E90AC-2FF4-47DE-A639-E08303B2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F1ED1-FC71-4DCB-9059-90ADD655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AC84D-ED59-4601-AFC7-4B090B12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9.03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69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0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1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3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1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9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3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3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14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79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5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621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16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663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ftr" idx="17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70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ftr" idx="18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74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ftr" idx="19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REL_logo_RGB"/>
          <p:cNvPicPr/>
          <p:nvPr/>
        </p:nvPicPr>
        <p:blipFill>
          <a:blip r:embed="rId3"/>
          <a:stretch/>
        </p:blipFill>
        <p:spPr>
          <a:xfrm>
            <a:off x="7093080" y="271440"/>
            <a:ext cx="167004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REL_vahe_1"/>
          <p:cNvPicPr/>
          <p:nvPr/>
        </p:nvPicPr>
        <p:blipFill>
          <a:blip r:embed="rId2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REL_vahe_2"/>
          <p:cNvPicPr/>
          <p:nvPr/>
        </p:nvPicPr>
        <p:blipFill>
          <a:blip r:embed="rId2"/>
          <a:stretch/>
        </p:blipFill>
        <p:spPr>
          <a:xfrm>
            <a:off x="-6480" y="-9360"/>
            <a:ext cx="9176040" cy="687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2824-A066-4070-BD30-0DD0E5CB2BEE}" type="slidenum"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REL_vahe_33"/>
          <p:cNvPicPr/>
          <p:nvPr/>
        </p:nvPicPr>
        <p:blipFill>
          <a:blip r:embed="rId2"/>
          <a:stretch/>
        </p:blipFill>
        <p:spPr>
          <a:xfrm>
            <a:off x="-7920" y="-7920"/>
            <a:ext cx="917244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12DA-59A1-4C52-8898-679E593342D2}" type="slidenum"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7" descr="REL_vahe_4"/>
          <p:cNvPicPr/>
          <p:nvPr/>
        </p:nvPicPr>
        <p:blipFill>
          <a:blip r:embed="rId2"/>
          <a:stretch/>
        </p:blipFill>
        <p:spPr>
          <a:xfrm>
            <a:off x="-9360" y="-9360"/>
            <a:ext cx="916776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69560" cy="6869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8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REL_logo_RGB"/>
          <p:cNvPicPr/>
          <p:nvPr/>
        </p:nvPicPr>
        <p:blipFill>
          <a:blip r:embed="rId3"/>
          <a:stretch/>
        </p:blipFill>
        <p:spPr>
          <a:xfrm>
            <a:off x="900000" y="3473280"/>
            <a:ext cx="3816360" cy="1295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2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9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EL 2011 tulemused:</a:t>
            </a:r>
            <a:br>
              <a:rPr sz="2600"/>
            </a:b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Perekonnaseis.</a:t>
            </a:r>
            <a:br>
              <a:rPr sz="2600"/>
            </a:b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Naised ja lapsed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nalüüti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Pressikonverent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58560" y="693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1" name="Picture 3" descr="synnitatud_lapse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331640" y="477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ünnitatud laste arv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rekonnaseisu ja rahvuse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järg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4" name="Picture 5" descr=""/>
          <p:cNvPicPr/>
          <p:nvPr/>
        </p:nvPicPr>
        <p:blipFill>
          <a:blip r:embed="rId1"/>
          <a:stretch/>
        </p:blipFill>
        <p:spPr>
          <a:xfrm>
            <a:off x="216000" y="1957320"/>
            <a:ext cx="88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aise vanus esimese lapse sünnitamise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6" name="Chart 4" descr=""/>
          <p:cNvPicPr/>
          <p:nvPr/>
        </p:nvPicPr>
        <p:blipFill>
          <a:blip r:embed="rId1"/>
          <a:stretch/>
        </p:blipFill>
        <p:spPr>
          <a:xfrm>
            <a:off x="463680" y="1657440"/>
            <a:ext cx="8508960" cy="4657680"/>
          </a:xfrm>
          <a:prstGeom prst="rect">
            <a:avLst/>
          </a:prstGeom>
          <a:ln w="0">
            <a:noFill/>
          </a:ln>
        </p:spPr>
      </p:pic>
      <p:sp>
        <p:nvSpPr>
          <p:cNvPr id="827" name="TextBox 5"/>
          <p:cNvSpPr/>
          <p:nvPr/>
        </p:nvSpPr>
        <p:spPr>
          <a:xfrm flipH="1">
            <a:off x="826200" y="1484280"/>
            <a:ext cx="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3951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1.01.2006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1" name="Picture 4" descr="REL_vahe_1"/>
          <p:cNvPicPr/>
          <p:nvPr/>
        </p:nvPicPr>
        <p:blipFill>
          <a:blip r:embed="rId1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Perekonnaseisu üldandmed, 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EL2011 ja REL2000 (%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468360" y="1413000"/>
          <a:ext cx="8310600" cy="4752720"/>
        </p:xfrm>
        <a:graphic>
          <a:graphicData uri="http://schemas.openxmlformats.org/drawingml/2006/table">
            <a:tbl>
              <a:tblPr/>
              <a:tblGrid>
                <a:gridCol w="5091120"/>
                <a:gridCol w="1647720"/>
                <a:gridCol w="1571760"/>
              </a:tblGrid>
              <a:tr h="623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EL2011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(1 094 564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EL200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(1 121 582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oselus  seadusliku abikaasag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4,5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9,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abaabielus vastassoost partnerig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5,5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,9*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abaabielus samasoolise partnerig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,04 (428)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eaduslikust abikaasast lahus, partneri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,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,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i ole seaduslikus abielus olnud, partneri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5,4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,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ahutatud, partneri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,8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3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732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sk, partneri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,6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,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eaduslik perekonnaseis teadmata, partneri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,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,5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eeste perekonnaseis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sõltuvalt van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0" name="Footer Placeholder 2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343080" y="2033640"/>
            <a:ext cx="85500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aiste perekonnasei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õltuvalt van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3" name="Footer Placeholder 2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1.01.2006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4" name="Picture 2" descr=""/>
          <p:cNvPicPr/>
          <p:nvPr/>
        </p:nvPicPr>
        <p:blipFill>
          <a:blip r:embed="rId1"/>
          <a:stretch/>
        </p:blipFill>
        <p:spPr>
          <a:xfrm>
            <a:off x="333360" y="2060640"/>
            <a:ext cx="8559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329840" y="259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rekonnaseis rahvuste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järg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6" name="Footer Placeholder 2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7" name="Picture 6" descr=""/>
          <p:cNvPicPr/>
          <p:nvPr/>
        </p:nvPicPr>
        <p:blipFill>
          <a:blip r:embed="rId1"/>
          <a:stretch/>
        </p:blipFill>
        <p:spPr>
          <a:xfrm>
            <a:off x="177840" y="1484280"/>
            <a:ext cx="87868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20–49-aastaste perekonnaseis </a:t>
            </a:r>
            <a:br>
              <a:rPr sz="3000"/>
            </a:b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hariduse järgi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9" name="Footer Placeholder 2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0" name="Picture 7" descr=""/>
          <p:cNvPicPr/>
          <p:nvPr/>
        </p:nvPicPr>
        <p:blipFill>
          <a:blip r:embed="rId1"/>
          <a:stretch/>
        </p:blipFill>
        <p:spPr>
          <a:xfrm>
            <a:off x="235080" y="1413000"/>
            <a:ext cx="867384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ünnitatud laste arv erineva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nuses naiste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2" name="Picture 5" descr=""/>
          <p:cNvPicPr/>
          <p:nvPr/>
        </p:nvPicPr>
        <p:blipFill>
          <a:blip r:embed="rId1"/>
          <a:stretch/>
        </p:blipFill>
        <p:spPr>
          <a:xfrm>
            <a:off x="819000" y="1268280"/>
            <a:ext cx="7504200" cy="5288040"/>
          </a:xfrm>
          <a:prstGeom prst="rect">
            <a:avLst/>
          </a:prstGeom>
          <a:ln w="0">
            <a:noFill/>
          </a:ln>
        </p:spPr>
      </p:pic>
      <p:sp>
        <p:nvSpPr>
          <p:cNvPr id="81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29840" y="333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mine laste arv naise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hta sõltuvalt naise van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6" name="Picture 4" descr=""/>
          <p:cNvPicPr/>
          <p:nvPr/>
        </p:nvPicPr>
        <p:blipFill>
          <a:blip r:embed="rId1"/>
          <a:stretch/>
        </p:blipFill>
        <p:spPr>
          <a:xfrm>
            <a:off x="858960" y="1628640"/>
            <a:ext cx="74246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ähemalt 4 last sünnitanud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aiste arv vanuserühmit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468360" y="1700280"/>
          <a:ext cx="8310600" cy="4236840"/>
        </p:xfrm>
        <a:graphic>
          <a:graphicData uri="http://schemas.openxmlformats.org/drawingml/2006/table">
            <a:tbl>
              <a:tblPr/>
              <a:tblGrid>
                <a:gridCol w="2232000"/>
                <a:gridCol w="1727280"/>
                <a:gridCol w="1512720"/>
                <a:gridCol w="1368360"/>
                <a:gridCol w="1470240"/>
              </a:tblGrid>
              <a:tr h="623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5–24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5–34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5–4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0 ja vanema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91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016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97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1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3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564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15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59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5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14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624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1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7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8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732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 ja rohkem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2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anuo</cp:lastModifiedBy>
  <dcterms:modified xsi:type="dcterms:W3CDTF">2013-04-24T04:56:21Z</dcterms:modified>
  <cp:revision>377</cp:revision>
  <dc:subject/>
  <dc:title>Slide 1</dc:title>
</cp:coreProperties>
</file>