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png" ContentType="image/png"/>
  <Override PartName="/ppt/media/image18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dt" idx="2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ftr" idx="2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 type="sldNum" idx="2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CAA3-DAEF-4B57-BD9F-B4B2BB7CFFC9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E95C-EF43-4F73-9344-FB090171DC92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A020-7EC3-4084-80E2-4B04E0434F24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940A-807F-4CDF-B3A0-AB41E841D699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CD3E-3E39-46F0-8CD2-ADBEEC9C4726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06EB-ADE8-4A5E-BEF3-95DEE8C8E03D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4104-828B-4623-87C3-913235F0C27B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FE14-47D4-4DBE-A7B2-708177C5352C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2D91-02D4-41D9-A369-BE24160FD5FE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BCF4-6D3C-4800-9808-B8146759D67A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FB1E-086E-4F8C-AFBD-6573279AB430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4EE9-5BC8-4364-AD4A-5C8A1B45C90D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6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FDAB1-9153-46B8-AB38-223025D42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CA8A06-8FB4-4FFF-BA77-4A4B9574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7EDCCC-4BF9-4427-8BA4-DD51BC05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30089-A7E8-4F73-820F-D6B13065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29CC6-A394-4E97-AE9B-F8C8A033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AE335F-D30E-4705-B065-B81449A6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CCDD5E-EF94-43C8-983B-081DF953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29991B-69A0-45E8-BEF9-02BDB691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B997A5-F151-4B09-BADA-F4EA6B72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FA06E-4332-493E-8DFD-B2B27163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80FCD-1312-40A2-879C-2FB59EC39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4ABB3-2FDC-4A1D-83FA-1D90E079C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8291AD-B266-4CEF-A8B3-EE969CD61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76A318-DF0E-4C24-BB91-C3B68C21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CE2C40-17C7-4CA6-BA77-4EAE2077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B94C28-5FF0-459E-9B90-8E93BAD4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D7D3E2-9758-4D58-903A-DC54E64A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16AFAB-C4A0-46BD-8FDF-93C4AB83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92C346-9DA0-49FD-87F7-2FD3F456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4E6874-2BAC-423B-A4FA-11086B6B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CFBE95-2B1E-4768-950A-D9AA6D08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4FA350-4E25-45DA-8C6A-DEEB3DAA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AFF32D-A68B-4E15-B23E-20A422CA1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1B027F-6428-49AA-BE01-4BCE8DCFF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19.03.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Anu Tõnuri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5" name="Picture 16" descr="REL_logo_RGB"/>
          <p:cNvPicPr/>
          <p:nvPr/>
        </p:nvPicPr>
        <p:blipFill>
          <a:blip r:embed="rId3"/>
          <a:stretch/>
        </p:blipFill>
        <p:spPr>
          <a:xfrm>
            <a:off x="6362640" y="279360"/>
            <a:ext cx="2400480" cy="81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17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Anu Tõnuri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369" name="Picture 16" descr="REL_logo_RGB"/>
          <p:cNvPicPr/>
          <p:nvPr/>
        </p:nvPicPr>
        <p:blipFill>
          <a:blip r:embed="rId3"/>
          <a:stretch/>
        </p:blipFill>
        <p:spPr>
          <a:xfrm>
            <a:off x="6362640" y="279360"/>
            <a:ext cx="2400480" cy="81432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ftr" idx="10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5.06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17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Anu Tõnuri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11" name="Picture 16" descr="REL_logo_RGB"/>
          <p:cNvPicPr/>
          <p:nvPr/>
        </p:nvPicPr>
        <p:blipFill>
          <a:blip r:embed="rId3"/>
          <a:stretch/>
        </p:blipFill>
        <p:spPr>
          <a:xfrm>
            <a:off x="6362640" y="279360"/>
            <a:ext cx="2400480" cy="81432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1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5.06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17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Anu Tõnuri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53" name="Picture 16" descr="REL_logo_RGB"/>
          <p:cNvPicPr/>
          <p:nvPr/>
        </p:nvPicPr>
        <p:blipFill>
          <a:blip r:embed="rId3"/>
          <a:stretch/>
        </p:blipFill>
        <p:spPr>
          <a:xfrm>
            <a:off x="6362640" y="279360"/>
            <a:ext cx="2400480" cy="81432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ftr" idx="1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5.06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17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494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Anu Tõnuri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95" name="Picture 16" descr="REL_logo_RGB"/>
          <p:cNvPicPr/>
          <p:nvPr/>
        </p:nvPicPr>
        <p:blipFill>
          <a:blip r:embed="rId3"/>
          <a:stretch/>
        </p:blipFill>
        <p:spPr>
          <a:xfrm>
            <a:off x="6362640" y="279360"/>
            <a:ext cx="2400480" cy="81432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ftr" idx="13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5.06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17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536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Anu Tõnuri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537" name="Picture 16" descr="REL_logo_RGB"/>
          <p:cNvPicPr/>
          <p:nvPr/>
        </p:nvPicPr>
        <p:blipFill>
          <a:blip r:embed="rId3"/>
          <a:stretch/>
        </p:blipFill>
        <p:spPr>
          <a:xfrm>
            <a:off x="6362640" y="279360"/>
            <a:ext cx="2400480" cy="81432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ftr" idx="14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5.06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17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Anu Tõnuri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579" name="Picture 16" descr="REL_logo_RGB"/>
          <p:cNvPicPr/>
          <p:nvPr/>
        </p:nvPicPr>
        <p:blipFill>
          <a:blip r:embed="rId3"/>
          <a:stretch/>
        </p:blipFill>
        <p:spPr>
          <a:xfrm>
            <a:off x="6362640" y="279360"/>
            <a:ext cx="2400480" cy="81432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ftr" idx="15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5.06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17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620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Anu Tõnuri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621" name="Picture 16" descr="REL_logo_RGB"/>
          <p:cNvPicPr/>
          <p:nvPr/>
        </p:nvPicPr>
        <p:blipFill>
          <a:blip r:embed="rId3"/>
          <a:stretch/>
        </p:blipFill>
        <p:spPr>
          <a:xfrm>
            <a:off x="6362640" y="279360"/>
            <a:ext cx="2400480" cy="81432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ftr" idx="16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5.06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17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662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Anu Tõnuri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663" name="Picture 16" descr="REL_logo_RGB"/>
          <p:cNvPicPr/>
          <p:nvPr/>
        </p:nvPicPr>
        <p:blipFill>
          <a:blip r:embed="rId3"/>
          <a:stretch/>
        </p:blipFill>
        <p:spPr>
          <a:xfrm>
            <a:off x="6362640" y="279360"/>
            <a:ext cx="2400480" cy="814320"/>
          </a:xfrm>
          <a:prstGeom prst="rect">
            <a:avLst/>
          </a:prstGeom>
          <a:ln w="0">
            <a:noFill/>
          </a:ln>
        </p:spPr>
      </p:pic>
      <p:sp>
        <p:nvSpPr>
          <p:cNvPr id="664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ftr" idx="17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5.06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Picture 17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704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Anu Tõnuri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705" name="Picture 16" descr="REL_logo_RGB"/>
          <p:cNvPicPr/>
          <p:nvPr/>
        </p:nvPicPr>
        <p:blipFill>
          <a:blip r:embed="rId3"/>
          <a:stretch/>
        </p:blipFill>
        <p:spPr>
          <a:xfrm>
            <a:off x="6362640" y="279360"/>
            <a:ext cx="2400480" cy="81432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ftr" idx="18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5.06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17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746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Anu Tõnuri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747" name="Picture 16" descr="REL_logo_RGB"/>
          <p:cNvPicPr/>
          <p:nvPr/>
        </p:nvPicPr>
        <p:blipFill>
          <a:blip r:embed="rId3"/>
          <a:stretch/>
        </p:blipFill>
        <p:spPr>
          <a:xfrm>
            <a:off x="6362640" y="279360"/>
            <a:ext cx="2400480" cy="814320"/>
          </a:xfrm>
          <a:prstGeom prst="rect">
            <a:avLst/>
          </a:prstGeom>
          <a:ln w="0">
            <a:noFill/>
          </a:ln>
        </p:spPr>
      </p:pic>
      <p:sp>
        <p:nvSpPr>
          <p:cNvPr id="748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 type="ftr" idx="19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5.06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01.01.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5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REL_logo_RGB"/>
          <p:cNvPicPr/>
          <p:nvPr/>
        </p:nvPicPr>
        <p:blipFill>
          <a:blip r:embed="rId3"/>
          <a:stretch/>
        </p:blipFill>
        <p:spPr>
          <a:xfrm>
            <a:off x="7093080" y="271440"/>
            <a:ext cx="1670040" cy="56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6" descr="REL_vahe_1"/>
          <p:cNvPicPr/>
          <p:nvPr/>
        </p:nvPicPr>
        <p:blipFill>
          <a:blip r:embed="rId2"/>
          <a:stretch/>
        </p:blipFill>
        <p:spPr>
          <a:xfrm>
            <a:off x="-12600" y="-11160"/>
            <a:ext cx="9169200" cy="687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2" descr="REL_vahe_2"/>
          <p:cNvPicPr/>
          <p:nvPr/>
        </p:nvPicPr>
        <p:blipFill>
          <a:blip r:embed="rId2"/>
          <a:stretch/>
        </p:blipFill>
        <p:spPr>
          <a:xfrm>
            <a:off x="-6480" y="-9360"/>
            <a:ext cx="9176040" cy="687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1127-8AC6-4A7C-8EE1-9E81054401A9}" type="slidenum">
              <a:rPr b="0" lang="et-E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7" descr="REL_vahe_33"/>
          <p:cNvPicPr/>
          <p:nvPr/>
        </p:nvPicPr>
        <p:blipFill>
          <a:blip r:embed="rId2"/>
          <a:stretch/>
        </p:blipFill>
        <p:spPr>
          <a:xfrm>
            <a:off x="-7920" y="-7920"/>
            <a:ext cx="917244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8DE4-F55F-40A2-98AB-3186D39FB598}" type="slidenum">
              <a:rPr b="0" lang="et-E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7" descr="REL_vahe_4"/>
          <p:cNvPicPr/>
          <p:nvPr/>
        </p:nvPicPr>
        <p:blipFill>
          <a:blip r:embed="rId2"/>
          <a:stretch/>
        </p:blipFill>
        <p:spPr>
          <a:xfrm>
            <a:off x="-9360" y="-9360"/>
            <a:ext cx="9167760" cy="686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9" descr="Eesti statistika_suur"/>
          <p:cNvPicPr/>
          <p:nvPr/>
        </p:nvPicPr>
        <p:blipFill>
          <a:blip r:embed="rId2"/>
          <a:stretch/>
        </p:blipFill>
        <p:spPr>
          <a:xfrm>
            <a:off x="-7920" y="-11160"/>
            <a:ext cx="9169560" cy="68691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90"/>
          <p:cNvPicPr/>
          <p:nvPr/>
        </p:nvPicPr>
        <p:blipFill>
          <a:blip r:embed="rId3"/>
          <a:stretch/>
        </p:blipFill>
        <p:spPr>
          <a:xfrm>
            <a:off x="7346880" y="404640"/>
            <a:ext cx="1111320" cy="10702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18" descr="Eesti statistika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7" descr="REL_logo_RGB"/>
          <p:cNvPicPr/>
          <p:nvPr/>
        </p:nvPicPr>
        <p:blipFill>
          <a:blip r:embed="rId3"/>
          <a:stretch/>
        </p:blipFill>
        <p:spPr>
          <a:xfrm>
            <a:off x="900000" y="3473280"/>
            <a:ext cx="3816360" cy="129564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17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Anu Tõnuri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327" name="Picture 16" descr="REL_logo_RGB"/>
          <p:cNvPicPr/>
          <p:nvPr/>
        </p:nvPicPr>
        <p:blipFill>
          <a:blip r:embed="rId3"/>
          <a:stretch/>
        </p:blipFill>
        <p:spPr>
          <a:xfrm>
            <a:off x="6362640" y="279360"/>
            <a:ext cx="2400480" cy="81432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ftr" idx="9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5.06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914040" y="898560"/>
            <a:ext cx="449892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REL 2011 tulemused:</a:t>
            </a:r>
            <a:br>
              <a:rPr sz="2600"/>
            </a:b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Perekonnaseis.</a:t>
            </a:r>
            <a:br>
              <a:rPr sz="2600"/>
            </a:b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Naised ja lapsed</a:t>
            </a:r>
            <a:endParaRPr b="1" lang="en-US" sz="2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914400" y="1981080"/>
            <a:ext cx="44956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Anu Tõnuris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Analüütik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Pressikonverents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24.04.2013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258560" y="6933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0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9.03.2013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21" name="Picture 3" descr="synnitatud_lapsed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331640" y="4773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ünnitatud laste arv </a:t>
            </a:r>
            <a:br>
              <a:rPr sz="3200"/>
            </a:b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erekonnaseisu ja rahvuse </a:t>
            </a:r>
            <a:br>
              <a:rPr sz="3200"/>
            </a:b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järgi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3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4.04.2013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24" name="Picture 5" descr=""/>
          <p:cNvPicPr/>
          <p:nvPr/>
        </p:nvPicPr>
        <p:blipFill>
          <a:blip r:embed="rId1"/>
          <a:stretch/>
        </p:blipFill>
        <p:spPr>
          <a:xfrm>
            <a:off x="216000" y="1957320"/>
            <a:ext cx="88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Naise vanus esimese lapse sünnitamisel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26" name="Chart 4" descr=""/>
          <p:cNvPicPr/>
          <p:nvPr/>
        </p:nvPicPr>
        <p:blipFill>
          <a:blip r:embed="rId1"/>
          <a:stretch/>
        </p:blipFill>
        <p:spPr>
          <a:xfrm>
            <a:off x="463680" y="1657440"/>
            <a:ext cx="8508960" cy="4657680"/>
          </a:xfrm>
          <a:prstGeom prst="rect">
            <a:avLst/>
          </a:prstGeom>
          <a:ln w="0">
            <a:noFill/>
          </a:ln>
        </p:spPr>
      </p:pic>
      <p:sp>
        <p:nvSpPr>
          <p:cNvPr id="827" name="TextBox 5"/>
          <p:cNvSpPr/>
          <p:nvPr/>
        </p:nvSpPr>
        <p:spPr>
          <a:xfrm flipH="1">
            <a:off x="826200" y="1484280"/>
            <a:ext cx="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3951"/>
                </a:solidFill>
                <a:latin typeface="Arial"/>
              </a:rPr>
              <a:t>%</a:t>
            </a: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01.01.2006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31" name="Picture 4" descr="REL_vahe_1"/>
          <p:cNvPicPr/>
          <p:nvPr/>
        </p:nvPicPr>
        <p:blipFill>
          <a:blip r:embed="rId1"/>
          <a:stretch/>
        </p:blipFill>
        <p:spPr>
          <a:xfrm>
            <a:off x="-12600" y="-11160"/>
            <a:ext cx="91692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Perekonnaseisu üldandmed, </a:t>
            </a:r>
            <a:br>
              <a:rPr sz="2800"/>
            </a:b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EL2011 ja REL2000 (%)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7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4.04.2013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468360" y="1413000"/>
          <a:ext cx="8310600" cy="4752720"/>
        </p:xfrm>
        <a:graphic>
          <a:graphicData uri="http://schemas.openxmlformats.org/drawingml/2006/table">
            <a:tbl>
              <a:tblPr/>
              <a:tblGrid>
                <a:gridCol w="5091120"/>
                <a:gridCol w="1647720"/>
                <a:gridCol w="1571760"/>
              </a:tblGrid>
              <a:tr h="623880">
                <a:tc>
                  <a:txBody>
                    <a:bodyPr lIns="83160" rIns="8316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EL2011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(1 094 564)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EL2000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(1 121 582)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</a:tr>
              <a:tr h="515880">
                <a:tc>
                  <a:txBody>
                    <a:bodyPr lIns="83160" rIns="8316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Kooselus  seadusliku abikaasaga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34,5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39,9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83160" rIns="8316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Vabaabielus vastassoost partneriga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5,5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,9*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</a:tr>
              <a:tr h="515880">
                <a:tc>
                  <a:txBody>
                    <a:bodyPr lIns="83160" rIns="8316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Vabaabielus samasoolise partneriga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0,04 (428)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-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83160" rIns="8316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Seaduslikust abikaasast lahus, partnerita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3,9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5,0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</a:tr>
              <a:tr h="515880">
                <a:tc>
                  <a:txBody>
                    <a:bodyPr lIns="83160" rIns="8316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i ole seaduslikus abielus olnud, partnerita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5,4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4,0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83160" rIns="8316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Lahutatud, partnerita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9,8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8,3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</a:tr>
              <a:tr h="517320">
                <a:tc>
                  <a:txBody>
                    <a:bodyPr lIns="83160" rIns="8316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Lesk, partnerita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9,6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,2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83160" rIns="8316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Seaduslik perekonnaseis teadmata, partnerita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,2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,5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Meeste perekonnaseis</a:t>
            </a:r>
            <a:br>
              <a:rPr sz="3200"/>
            </a:b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 sõltuvalt vanuses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0" name="Footer Placeholder 2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4.04.2013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01" name="Picture 3" descr=""/>
          <p:cNvPicPr/>
          <p:nvPr/>
        </p:nvPicPr>
        <p:blipFill>
          <a:blip r:embed="rId1"/>
          <a:stretch/>
        </p:blipFill>
        <p:spPr>
          <a:xfrm>
            <a:off x="343080" y="2033640"/>
            <a:ext cx="855000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Naiste perekonnaseis </a:t>
            </a:r>
            <a:br>
              <a:rPr sz="3200"/>
            </a:b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õltuvalt vanuses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3" name="Footer Placeholder 2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01.01.2006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04" name="Picture 2" descr=""/>
          <p:cNvPicPr/>
          <p:nvPr/>
        </p:nvPicPr>
        <p:blipFill>
          <a:blip r:embed="rId1"/>
          <a:stretch/>
        </p:blipFill>
        <p:spPr>
          <a:xfrm>
            <a:off x="333360" y="2060640"/>
            <a:ext cx="855972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329840" y="259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erekonnaseis rahvuste </a:t>
            </a:r>
            <a:br>
              <a:rPr sz="3200"/>
            </a:b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järgi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6" name="Footer Placeholder 2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4.04.2013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07" name="Picture 6" descr=""/>
          <p:cNvPicPr/>
          <p:nvPr/>
        </p:nvPicPr>
        <p:blipFill>
          <a:blip r:embed="rId1"/>
          <a:stretch/>
        </p:blipFill>
        <p:spPr>
          <a:xfrm>
            <a:off x="177840" y="1484280"/>
            <a:ext cx="878688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003951"/>
                </a:solidFill>
                <a:latin typeface="Arial"/>
              </a:rPr>
              <a:t>20–49-aastaste perekonnaseis </a:t>
            </a:r>
            <a:br>
              <a:rPr sz="3000"/>
            </a:br>
            <a:r>
              <a:rPr b="1" lang="et-EE" sz="3000" spc="-1" strike="noStrike">
                <a:solidFill>
                  <a:srgbClr val="003951"/>
                </a:solidFill>
                <a:latin typeface="Arial"/>
              </a:rPr>
              <a:t>hariduse järgi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9" name="Footer Placeholder 2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4.04.2013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10" name="Picture 7" descr=""/>
          <p:cNvPicPr/>
          <p:nvPr/>
        </p:nvPicPr>
        <p:blipFill>
          <a:blip r:embed="rId1"/>
          <a:stretch/>
        </p:blipFill>
        <p:spPr>
          <a:xfrm>
            <a:off x="235080" y="1413000"/>
            <a:ext cx="867384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258560" y="40464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ünnitatud laste arv erinevas </a:t>
            </a:r>
            <a:br>
              <a:rPr sz="3200"/>
            </a:b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vanuses naistel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12" name="Picture 5" descr=""/>
          <p:cNvPicPr/>
          <p:nvPr/>
        </p:nvPicPr>
        <p:blipFill>
          <a:blip r:embed="rId1"/>
          <a:stretch/>
        </p:blipFill>
        <p:spPr>
          <a:xfrm>
            <a:off x="819000" y="1268280"/>
            <a:ext cx="7504200" cy="5288040"/>
          </a:xfrm>
          <a:prstGeom prst="rect">
            <a:avLst/>
          </a:prstGeom>
          <a:ln w="0">
            <a:noFill/>
          </a:ln>
        </p:spPr>
      </p:pic>
      <p:sp>
        <p:nvSpPr>
          <p:cNvPr id="813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4.04.2013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329840" y="33300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eskmine laste arv naise </a:t>
            </a:r>
            <a:br>
              <a:rPr sz="3200"/>
            </a:b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ohta sõltuvalt naise vanuses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5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4.04.2013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16" name="Picture 4" descr=""/>
          <p:cNvPicPr/>
          <p:nvPr/>
        </p:nvPicPr>
        <p:blipFill>
          <a:blip r:embed="rId1"/>
          <a:stretch/>
        </p:blipFill>
        <p:spPr>
          <a:xfrm>
            <a:off x="858960" y="1628640"/>
            <a:ext cx="742464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Vähemalt 4 last sünnitanud </a:t>
            </a:r>
            <a:br>
              <a:rPr sz="3200"/>
            </a:b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naiste arv vanuserühmiti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818" name=""/>
          <p:cNvGraphicFramePr/>
          <p:nvPr/>
        </p:nvGraphicFramePr>
        <p:xfrm>
          <a:off x="468360" y="1700280"/>
          <a:ext cx="8310600" cy="4236840"/>
        </p:xfrm>
        <a:graphic>
          <a:graphicData uri="http://schemas.openxmlformats.org/drawingml/2006/table">
            <a:tbl>
              <a:tblPr/>
              <a:tblGrid>
                <a:gridCol w="2232000"/>
                <a:gridCol w="1727280"/>
                <a:gridCol w="1512720"/>
                <a:gridCol w="1368360"/>
                <a:gridCol w="1470240"/>
              </a:tblGrid>
              <a:tr h="623880">
                <a:tc>
                  <a:txBody>
                    <a:bodyPr lIns="83160" rIns="8316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5–24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5–34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35–49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50 ja vanemad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</a:tr>
              <a:tr h="515880">
                <a:tc>
                  <a:txBody>
                    <a:bodyPr lIns="83160" rIns="8316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4 last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4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791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5016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9972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83160" rIns="8316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5 last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0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10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639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4564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</a:tr>
              <a:tr h="515880">
                <a:tc>
                  <a:txBody>
                    <a:bodyPr lIns="83160" rIns="8316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6 last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60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515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592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83160" rIns="8316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7 last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0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9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45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714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</a:tr>
              <a:tr h="516240">
                <a:tc>
                  <a:txBody>
                    <a:bodyPr lIns="83160" rIns="8316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8 last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0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9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12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370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83160" rIns="8316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9 last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0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59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82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e381"/>
                    </a:solidFill>
                  </a:tcPr>
                </a:tc>
              </a:tr>
              <a:tr h="517320">
                <a:tc>
                  <a:txBody>
                    <a:bodyPr lIns="83160" rIns="83160" tIns="41400" bIns="41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 ja rohkem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0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62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3160" rIns="83160" tIns="41400" bIns="414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20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8:03:18Z</dcterms:created>
  <dc:creator>user</dc:creator>
  <dc:description/>
  <dc:language>en-US</dc:language>
  <cp:lastModifiedBy>anuo</cp:lastModifiedBy>
  <dcterms:modified xsi:type="dcterms:W3CDTF">2013-04-24T04:56:21Z</dcterms:modified>
  <cp:revision>377</cp:revision>
  <dc:subject/>
  <dc:title>Slide 1</dc:title>
</cp:coreProperties>
</file>